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53C03-BDCC-4480-B079-423ED957D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2DBC7-2C67-4FAC-9512-8AA46C2D7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AE7C7-E4DF-4504-9C0D-9802D2208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7D0E0-4ABE-41AD-894E-8E41321FD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0612E-30F8-4734-BC7E-A06F79144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25ABF-2F41-4F6A-BE07-BE77404C0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0627F-8F7C-434A-ACB7-42FD65F0E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7E457-7A0D-418A-BD08-32018CE29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F75AD-2774-4E5E-93AD-C5BD235AF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3F08B-E052-4BDF-92FA-D62FD3534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BFAFD-07C2-4EF0-A52E-0C8F60719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792D8-47BD-4285-8D17-BC88560AA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A47D2-1425-4986-B8E5-E249F22CC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78366-AD68-4E7A-8AF3-04B254984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FFA7C-34FE-4392-8207-B74180C63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CA06F-6800-4519-AB6F-DAF616B79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1B2A5-7F51-4E5E-98CA-0482F55E7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BCB32-A60F-4AD7-9299-ED5068EE3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E673F-68B1-4946-A7EE-6F3F7F45E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3A6CD-B1ED-4409-AAA6-A38496201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24B9C-7FB7-43D8-81E4-F15D0B70A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F2F73-B890-44C5-AAD8-6298F7C3B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44340-8236-4D83-883C-74589270C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3988E-CD23-41B5-8324-6DA56A832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38B3E-5EE9-41B5-B4EC-8EE013CB4845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CBDE9-1B88-43C1-B87F-DDC8A00B5B3E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WordArt 5"/>
          <p:cNvSpPr txBox="1"/>
          <p:nvPr/>
        </p:nvSpPr>
        <p:spPr>
          <a:xfrm rot="338400">
            <a:off x="539280" y="1196640"/>
            <a:ext cx="7921800" cy="216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395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4704000"/>
                </a:gradFill>
                <a:effectLst>
                  <a:outerShdw dist="17819" dir="2700000" blurRad="0" rotWithShape="0">
                    <a:srgbClr val="3d007a"/>
                  </a:outerShdw>
                </a:effectLst>
                <a:latin typeface="Arial"/>
              </a:rPr>
              <a:t>С.А.Есенин (1895-1925)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4704000"/>
              </a:gradFill>
              <a:effectLst>
                <a:outerShdw dist="17819" dir="2700000" blurRad="0" rotWithShape="0">
                  <a:srgbClr val="3d007a"/>
                </a:outerShdw>
              </a:effectLst>
              <a:latin typeface="Arial"/>
              <a:ea typeface="Arial"/>
            </a:endParaRPr>
          </a:p>
        </p:txBody>
      </p:sp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200" spc="-1" strike="noStrike" u="sng">
                <a:solidFill>
                  <a:srgbClr val="ffffff"/>
                </a:solidFill>
                <a:uFillTx/>
                <a:latin typeface="Arial"/>
              </a:rPr>
              <a:t>Метаморфоз.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Но поэт верил, что настанет такое время, когда все люди станут братьями. Отсюда стремление о всеобщей гармонии, к единству всего сущего на земле. Поэтому один из законов мира Есенина — это всеобщий метаморфоз (что позже привело поэта к имажинистам) . Люди, животные, растения, стихи и предметы — все это, по Есенину, дети одной матери-природы. Он очеловечивает природ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200" spc="-1" strike="noStrike" u="sng">
                <a:solidFill>
                  <a:srgbClr val="ffffff"/>
                </a:solidFill>
                <a:uFillTx/>
                <a:latin typeface="Arial"/>
              </a:rPr>
              <a:t>Первый сборник.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Первый сборник пленяет не только свежестью и лиризмом, живым ощущением природы, но и образной яркостью. Книга пропитана фольклорной поэтикой (песня, духовный стих) , ее язык обнаруживает немало областей, местных слов и выражений, что тоже составляет одну из особенностей поэтического стиля Есенина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8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8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8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8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200" spc="-1" strike="noStrike" u="sng">
                <a:solidFill>
                  <a:srgbClr val="ffffff"/>
                </a:solidFill>
                <a:uFillTx/>
                <a:latin typeface="Arial"/>
              </a:rPr>
              <a:t>“</a:t>
            </a:r>
            <a:r>
              <a:rPr b="1" i="1" lang="ru-RU" sz="4200" spc="-1" strike="noStrike" u="sng">
                <a:solidFill>
                  <a:srgbClr val="ffffff"/>
                </a:solidFill>
                <a:uFillTx/>
                <a:latin typeface="Arial"/>
              </a:rPr>
              <a:t>Голубень” .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63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Во второй половине 1916 года поэт готовит новый стихотворный сборник “Голубень” . В новых стихах уже немало подлинных лирических шедевров, таковы его стихи о светлой, нежной любви, окрашенные в чувственные тона, — “Не бродить, не мять в кустах багряных” (1916) , “Запели тесаные дроги” (1016) 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200" spc="-1" strike="noStrike" u="sng">
                <a:solidFill>
                  <a:srgbClr val="ffffff"/>
                </a:solidFill>
                <a:uFillTx/>
                <a:latin typeface="Arial"/>
              </a:rPr>
              <a:t>Каторжная Русь.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Но уже отчетливей проступают приметы другой — каторжной Руси, по которой бредут “люди в кандалах” . Меняется герой есенинской лирики — он то “нежный отрок” , “смиренный инок” , то “грешник” , “бродяга и вор” , “разбойник с кистенем” и т.д. Эта же двойственность определяет и образ “нежно хулигана” в стихах Есенина периода “Москвы кабацкой” (1924) 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182" dur="2000" fill="hold"/>
                                        <p:tgtEl>
                                          <p:spTgt spid="1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200" spc="-1" strike="noStrike" u="sng">
                <a:solidFill>
                  <a:srgbClr val="ffffff"/>
                </a:solidFill>
                <a:uFillTx/>
                <a:latin typeface="Arial"/>
              </a:rPr>
              <a:t>1917 год.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События 1917 года вызвали резкий перелом в творчестве поэта, ему казалось, что наступает эпоха великого духовного обновления, “преображения” жизни, переоценки всех ценностей. В это время он создает цикл из 10 небольших поэм; в них он воспевает “буйственную Русь” и славит “красное лето” 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200" spc="-1" strike="noStrike" u="sng">
                <a:solidFill>
                  <a:srgbClr val="ffffff"/>
                </a:solidFill>
                <a:uFillTx/>
                <a:latin typeface="Arial"/>
              </a:rPr>
              <a:t>Переезд.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Весной 1918 года Есенин переехал из Петрограда в Москву. Там наконец-то выходит сборник “Голубень” , вобравший в себя стихи 1916 –1917 годов. Затем поэт выпускает сборники стихотворений “Преображение” (1918) , “Сельский часослов” (1918) . В 1919 году “Ключи Марии” , в которой Есенин сформулировал свой взгляд на искусство, его суть и цель. Эта работа была принята как манифест имажинистов, объединение которых произошло в 1918 — 1919 года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u"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200" spc="-1" strike="noStrike" u="sng">
                <a:solidFill>
                  <a:srgbClr val="ffffff"/>
                </a:solidFill>
                <a:uFillTx/>
                <a:latin typeface="Arial"/>
              </a:rPr>
              <a:t>Лучший поэт.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000000"/>
                </a:solidFill>
                <a:uFillTx/>
                <a:latin typeface="Arial"/>
              </a:rPr>
              <a:t>Наиболее значительные произведения Есенина, принесшие ему славу одного из лучших поэтов, созданы в 1920-е годы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200" spc="-1" strike="noStrike" u="sng">
                <a:solidFill>
                  <a:srgbClr val="ffffff"/>
                </a:solidFill>
                <a:uFillTx/>
                <a:latin typeface="Arial"/>
              </a:rPr>
              <a:t>Философская лирика.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Как всякий великий поэт, Есенин не бездумный певец своих чувств и переживаний, а поэт-философ. Как всякая поэзия, его лирика философична. Философская лирика — это стихи, в которых поэт говорит о вечных проблемах человеческого бытия, ведет поэтический диалог с человеком, природой, землей, Вселенно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d"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0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0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5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200" spc="-1" strike="noStrike" u="sng">
                <a:solidFill>
                  <a:srgbClr val="ffffff"/>
                </a:solidFill>
                <a:uFillTx/>
                <a:latin typeface="Arial"/>
              </a:rPr>
              <a:t>“</a:t>
            </a:r>
            <a:r>
              <a:rPr b="1" i="1" lang="ru-RU" sz="4200" spc="-1" strike="noStrike" u="sng">
                <a:solidFill>
                  <a:srgbClr val="ffffff"/>
                </a:solidFill>
                <a:uFillTx/>
                <a:latin typeface="Arial"/>
              </a:rPr>
              <a:t>Зеленая прическа”.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Примером полного взаимопроникновения природы и человека может служить стихотворение “Зеленая прическа” (1918) . Оно развивается в двух планах: береза — девушка. Читатель так и не узнает о ком это стихотворение — о березе или о девушке. Потому что человек здесь уподоблен дереву — красавице русского леса, а она — человеку. Берёзка в русской поэзии — символ красоты, стойкости, юности; она светла и целомудренн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0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241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898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200" spc="-1" strike="noStrike" u="sng">
                <a:solidFill>
                  <a:srgbClr val="ffffff"/>
                </a:solidFill>
                <a:uFillTx/>
                <a:latin typeface="Arial"/>
              </a:rPr>
              <a:t>Поэзия природы.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63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Поэзией природы, мифологией древних славян проникнуты такие стихотворения 1918 года, как “Серебристая дорога...” , "Песни, песни, о чем вы кричите? ", "Я покину. родимый дом... ", "Закружилась листва золотая... " и т.д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0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200" spc="-1" strike="noStrike" u="sng">
                <a:solidFill>
                  <a:srgbClr val="ffffff"/>
                </a:solidFill>
                <a:uFillTx/>
                <a:latin typeface="Arial"/>
              </a:rPr>
              <a:t>Детские годы.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Родился Есенин в крестьянской семье. С 1904 по 1912 год учился в Константиновском земском училище и в Спас-клепевской школе. За это время им было написано более 30 стихотворений, составлен рукописный сборник “Больные думы” (1912) , который он пытался опубликовать в Рязан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200" spc="-1" strike="noStrike" u="sng">
                <a:solidFill>
                  <a:srgbClr val="ffffff"/>
                </a:solidFill>
                <a:uFillTx/>
                <a:latin typeface="Arial"/>
              </a:rPr>
              <a:t>Система ценностей.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Поэзия Есенина последних, самых трагических лет (1922—1925) отмечена стремлением к гармоническому мироощущению. Чаше всего в лирике ощущается глубоко осмысление себя и Вселенн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Система ценностей в поэзии Есенина едина и неделима; в ней все взаимосвязано, все образует единую картину “родины любимой" во всем многообразии ее оттенков. Это и является высшим идеалом поэт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0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200" spc="-1" strike="noStrike" u="sng">
                <a:solidFill>
                  <a:srgbClr val="ffffff"/>
                </a:solidFill>
                <a:uFillTx/>
                <a:latin typeface="Arial"/>
              </a:rPr>
              <a:t>” </a:t>
            </a:r>
            <a:r>
              <a:rPr b="1" i="1" lang="ru-RU" sz="4200" spc="-1" strike="noStrike" u="sng">
                <a:solidFill>
                  <a:srgbClr val="ffffff"/>
                </a:solidFill>
                <a:uFillTx/>
                <a:latin typeface="Arial"/>
              </a:rPr>
              <a:t>Русь уходящая” .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Поэт понимал, что близкая его сердцу деревня — это” Русь уходящая” . 06 этом свидетельствует его поэма “Сорокоуст” (1920) , сборники стихотворений” Трерядница” (1920) , “Исповедь хулигана” (1921) , "Стихи скандалиста" (1923) ,” Москва кабацкая” (1924) , “Русь Советская” (1925) “Страна Советская" (1925) , "Персидские мотивы" (1925) 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4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ffffff"/>
                </a:solidFill>
                <a:uFillTx/>
                <a:latin typeface="Arial"/>
              </a:rPr>
              <a:t>"Анна Снегина"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000000"/>
                </a:solidFill>
                <a:uFillTx/>
                <a:latin typeface="Arial"/>
              </a:rPr>
              <a:t>Поэма "Анна Снегина" (1925) стала во многом итоговым произведением, в котором личная судьба поэта осмыслена с судьбой народной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0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898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898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200" spc="-1" strike="noStrike" u="sng">
                <a:solidFill>
                  <a:srgbClr val="ffffff"/>
                </a:solidFill>
                <a:uFillTx/>
                <a:latin typeface="Arial"/>
              </a:rPr>
              <a:t>Поэтическое наследство.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Уйдя из жизни в 30 лет, С. А. Есенин оставил нам чудесное поэтическое наследство. И пока живет земля, Есенину — поэту суждено жить с нами и воспевать всем существом в поэте шестую часть земли с названьем кратким “Русы”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0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609480" y="1628640"/>
            <a:ext cx="7925040" cy="43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Я последний поэт деревни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кромен в песнях дощатый мост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За прощальной стою обедне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адящих листвой берез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Догорит золотистым пламенем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з телесного воска свеча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 луны часы деревянны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охрипят мой двенадцатый час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а тропу голубого пол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коро выйдет железный гость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Злак овсяный, зарею пролитый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оберет его черная горсть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е живые, чужие ладони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Этим песням при вас не жить!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Только будут колосья-кон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 хозяине старом тужить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Будет ветер сосать их ржанье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анихидный справляя пляс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коро, скоро часы деревянны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охрипят мой двенадцатый час! (192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1" dur="8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2" dur="8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3" dur="8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8" dur="8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9" dur="8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0" dur="8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5" dur="8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6" dur="8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7" dur="8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2" dur="8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4" dur="8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9" dur="8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0" dur="8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1" dur="8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6" dur="80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7" dur="80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8" dur="80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3" dur="80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4" dur="80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5" dur="80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0" dur="80"/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1" dur="80"/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2" dur="80"/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7" dur="80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8" dur="80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9" dur="80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4" dur="80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5" dur="80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6" dur="80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1" dur="80"/>
                                        <p:tgtEl>
                                          <p:spTgt spid="1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2" dur="80"/>
                                        <p:tgtEl>
                                          <p:spTgt spid="1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3" dur="80"/>
                                        <p:tgtEl>
                                          <p:spTgt spid="1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8" dur="80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9" dur="80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0" dur="80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5" dur="80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6" dur="80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7" dur="80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2" dur="80"/>
                                        <p:tgtEl>
                                          <p:spTgt spid="13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3" dur="80"/>
                                        <p:tgtEl>
                                          <p:spTgt spid="13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4" dur="80"/>
                                        <p:tgtEl>
                                          <p:spTgt spid="13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9" dur="80"/>
                                        <p:tgtEl>
                                          <p:spTgt spid="13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0" dur="80"/>
                                        <p:tgtEl>
                                          <p:spTgt spid="13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1" dur="80"/>
                                        <p:tgtEl>
                                          <p:spTgt spid="13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6" dur="80"/>
                                        <p:tgtEl>
                                          <p:spTgt spid="13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7" dur="80"/>
                                        <p:tgtEl>
                                          <p:spTgt spid="13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8" dur="80"/>
                                        <p:tgtEl>
                                          <p:spTgt spid="13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3" dur="80"/>
                                        <p:tgtEl>
                                          <p:spTgt spid="13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4" dur="80"/>
                                        <p:tgtEl>
                                          <p:spTgt spid="13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5" dur="80"/>
                                        <p:tgtEl>
                                          <p:spTgt spid="13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0" dur="80"/>
                                        <p:tgtEl>
                                          <p:spTgt spid="13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1" dur="80"/>
                                        <p:tgtEl>
                                          <p:spTgt spid="13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2" dur="80"/>
                                        <p:tgtEl>
                                          <p:spTgt spid="13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7" dur="80"/>
                                        <p:tgtEl>
                                          <p:spTgt spid="13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8" dur="80"/>
                                        <p:tgtEl>
                                          <p:spTgt spid="13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9" dur="80"/>
                                        <p:tgtEl>
                                          <p:spTgt spid="13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4" dur="80"/>
                                        <p:tgtEl>
                                          <p:spTgt spid="13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5" dur="80"/>
                                        <p:tgtEl>
                                          <p:spTgt spid="13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6" dur="80"/>
                                        <p:tgtEl>
                                          <p:spTgt spid="13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mph" presetID="5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80" dur="indefinite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481" dur="indefinite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482" dur="indefinite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mph" presetID="5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86" dur="indefinite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487" dur="indefinite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488" dur="indefinite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mph" presetID="5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92" dur="indefinite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493" dur="indefinite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494" dur="indefinite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mph" presetID="5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98" dur="indefinite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499" dur="indefinite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500" dur="indefinite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mph" presetID="5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04" dur="indefinite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505" dur="indefinite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506" dur="indefinite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mph" presetID="5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10" dur="indefinite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511" dur="indefinite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512" dur="indefinite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mph" presetID="5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16" dur="indefinite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517" dur="indefinite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518" dur="indefinite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mph" presetID="5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22" dur="indefinite"/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523" dur="indefinite"/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524" dur="indefinite"/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mph" presetID="5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28" dur="indefinite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529" dur="indefinite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530" dur="indefinite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mph" presetID="5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34" dur="indefinite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535" dur="indefinite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536" dur="indefinite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mph" presetID="5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40" dur="indefinite"/>
                                        <p:tgtEl>
                                          <p:spTgt spid="1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541" dur="indefinite"/>
                                        <p:tgtEl>
                                          <p:spTgt spid="1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542" dur="indefinite"/>
                                        <p:tgtEl>
                                          <p:spTgt spid="1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mph" presetID="5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46" dur="indefinite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547" dur="indefinite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548" dur="indefinite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mph" presetID="5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2" dur="indefinite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553" dur="indefinite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554" dur="indefinite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mph" presetID="5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8" dur="indefinite"/>
                                        <p:tgtEl>
                                          <p:spTgt spid="13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559" dur="indefinite"/>
                                        <p:tgtEl>
                                          <p:spTgt spid="13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560" dur="indefinite"/>
                                        <p:tgtEl>
                                          <p:spTgt spid="13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mph" presetID="5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64" dur="indefinite"/>
                                        <p:tgtEl>
                                          <p:spTgt spid="13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565" dur="indefinite"/>
                                        <p:tgtEl>
                                          <p:spTgt spid="13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566" dur="indefinite"/>
                                        <p:tgtEl>
                                          <p:spTgt spid="13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mph" presetID="5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70" dur="indefinite"/>
                                        <p:tgtEl>
                                          <p:spTgt spid="13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571" dur="indefinite"/>
                                        <p:tgtEl>
                                          <p:spTgt spid="13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572" dur="indefinite"/>
                                        <p:tgtEl>
                                          <p:spTgt spid="13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mph" presetID="5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76" dur="indefinite"/>
                                        <p:tgtEl>
                                          <p:spTgt spid="13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577" dur="indefinite"/>
                                        <p:tgtEl>
                                          <p:spTgt spid="13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578" dur="indefinite"/>
                                        <p:tgtEl>
                                          <p:spTgt spid="13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mph" presetID="5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2" dur="indefinite"/>
                                        <p:tgtEl>
                                          <p:spTgt spid="13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583" dur="indefinite"/>
                                        <p:tgtEl>
                                          <p:spTgt spid="13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584" dur="indefinite"/>
                                        <p:tgtEl>
                                          <p:spTgt spid="13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mph" presetID="5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8" dur="indefinite"/>
                                        <p:tgtEl>
                                          <p:spTgt spid="13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589" dur="indefinite"/>
                                        <p:tgtEl>
                                          <p:spTgt spid="13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590" dur="indefinite"/>
                                        <p:tgtEl>
                                          <p:spTgt spid="13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mph" presetID="5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94" dur="indefinite"/>
                                        <p:tgtEl>
                                          <p:spTgt spid="13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595" dur="indefinite"/>
                                        <p:tgtEl>
                                          <p:spTgt spid="13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596" dur="indefinite"/>
                                        <p:tgtEl>
                                          <p:spTgt spid="13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200" spc="-1" strike="noStrike" u="sng">
                <a:solidFill>
                  <a:srgbClr val="ffffff"/>
                </a:solidFill>
                <a:uFillTx/>
                <a:latin typeface="Arial"/>
              </a:rPr>
              <a:t>Формирование поэта.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Русская деревня, природа средней полосы России, устное народное творчество, а главное — русская классическая литература оказали сильное влияние на формирование юного поэта, направляли его природный талант. Сам Есенин в разное время называл разные источники, питавшие его творчество: песни, частушки, сказки, духовные стихи, “Слово о полку Игоревн” , поэзию Лермонтова, Никитина и Надсона. Позднее на него оказали влияние Блок, Клюев, Белый, Гоголь, Пушкин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200" spc="-1" strike="noStrike" u="sng">
                <a:solidFill>
                  <a:srgbClr val="ffffff"/>
                </a:solidFill>
                <a:uFillTx/>
                <a:latin typeface="Arial"/>
              </a:rPr>
              <a:t>Отражение сложной жизни.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Из писем Есенина 1911-1913 годов вырисовывается сложная жизнь поэта. Все это нашло отражение в поэтическом мире его лирики 1910 — 1913 годов, когда им было написано более 60 стихотворений и поэм. Здесь выражена его любовь ко всему живому, к жизни, к родин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200" spc="-1" strike="noStrike" u="sng">
                <a:solidFill>
                  <a:srgbClr val="ffffff"/>
                </a:solidFill>
                <a:uFillTx/>
                <a:latin typeface="Arial"/>
              </a:rPr>
              <a:t>Темы Родины и революции.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С первых же стихов в поэзию Есенина входят темы Родины и революции. Поэтический мир становится более сложным, многомерным, значительное место в нем начинают занимать библейские образы, христианские мотив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200" spc="-1" strike="noStrike" u="sng">
                <a:solidFill>
                  <a:srgbClr val="ffffff"/>
                </a:solidFill>
                <a:uFillTx/>
                <a:latin typeface="Arial"/>
              </a:rPr>
              <a:t>Встреча с Блоком.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В 1915 году Есенин приезжает в Петроград, встречается с Блоком, который оценил “свежие, чистые, голосистые” , хотя и “многословные” стихи “талантливого крестьянского поэта-самородка” , помог ему, познакомил с писателями и издателям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u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5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0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200" spc="-1" strike="noStrike" u="sng">
                <a:solidFill>
                  <a:srgbClr val="ffffff"/>
                </a:solidFill>
                <a:uFillTx/>
                <a:latin typeface="Arial"/>
              </a:rPr>
              <a:t>Слава.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1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 u="sng">
                <a:solidFill>
                  <a:srgbClr val="000000"/>
                </a:solidFill>
                <a:uFillTx/>
                <a:latin typeface="Arial"/>
              </a:rPr>
              <a:t>Есенин становится знаменитым, его приглашают на поэтические вечера и в литературные салоны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200" spc="-1" strike="noStrike" u="sng">
                <a:solidFill>
                  <a:srgbClr val="ffffff"/>
                </a:solidFill>
                <a:uFillTx/>
                <a:latin typeface="Arial"/>
              </a:rPr>
              <a:t>Есенинская Русь.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В начале 1916года выходит первая книга “Радуница” , в которую входят стихи, написанные Есениным в 1910-1915 годах. Творчество поэта 1914-1917 годов сложно и противоречиво. Основой есенинского мировоззрения является изба со всеми ее атрибутами. Избы, окруженные плетнями и связанные друг с другом дорогой, образуют деревню. А деревня, ограниченная околицей, — это и есть есенинская Русь, которая отрезана от большого мира лесами и болотам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101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898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200" spc="-1" strike="noStrike" u="sng">
                <a:solidFill>
                  <a:srgbClr val="ffffff"/>
                </a:solidFill>
                <a:uFillTx/>
                <a:latin typeface="Arial"/>
              </a:rPr>
              <a:t>“</a:t>
            </a:r>
            <a:r>
              <a:rPr b="1" i="1" lang="ru-RU" sz="4200" spc="-1" strike="noStrike" u="sng">
                <a:solidFill>
                  <a:srgbClr val="ffffff"/>
                </a:solidFill>
                <a:uFillTx/>
                <a:latin typeface="Arial"/>
              </a:rPr>
              <a:t>Преображение” России.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В дореволюционном поэтическом мире Есенина Русь многолика: “задумчивая и нежная” , смиренная и буйственная, нищая и веселая, справляющая “праздники победные” . В стихотворении “Не в моего ты бога верила” (1916) поэт зовет Русь — “царевною сонную” , к “веселой вере” , которой теперь привержен он сам. В стихотворении “Тучи с ожереби…” (1916) поэт как будто предсказывает революцию — “преображение” России “через муки и крест” и гражданскую войн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898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898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2T13:37:06Z</dcterms:created>
  <dc:creator>Викусик</dc:creator>
  <dc:description/>
  <dc:language>en-US</dc:language>
  <cp:lastModifiedBy>Admin</cp:lastModifiedBy>
  <dcterms:modified xsi:type="dcterms:W3CDTF">2012-12-14T03:29:57Z</dcterms:modified>
  <cp:revision>4</cp:revision>
  <dc:subject/>
  <dc:title>Слайд 1</dc:title>
</cp:coreProperties>
</file>