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6B7-C090-48F3-B646-FEBA8F23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0BC-0A65-4214-8394-2E358CED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513-3E2B-4EE8-A047-C37B8376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9A7E-3DE6-407D-AA38-C026C1C4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B70A-53BA-4D29-A4B1-CE2C1568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8621-1DBC-4BE4-A669-D0E6543B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C8E3-7349-4A28-841D-66A8573A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EFDD-FE7E-4FB7-B388-D84C0ED9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BE0A-5A1B-48BA-8E93-2B752161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F014-B72C-4122-A76A-11A65569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1CC5-9CED-4D07-9A97-C2262AE2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705-87FC-4160-AC9B-CD2F71B6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3760-1AA7-4F4F-B101-ED1B4F76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D192-07FE-4221-BEA6-11C98359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A032-575E-4EC5-B526-844F05DF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A549-A7CE-4EF7-8F03-6A8193AD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5B5A-248A-48E6-8A29-E19FA285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965-00BC-45A8-B879-F5B49E99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3F7-B596-48EE-8D13-F813E757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200-7F2C-4F20-8D34-D7CD89A3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616-2BED-4A9B-BC40-51DA37C0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D96-8619-4B11-B706-C5F3E54A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4A6-41FB-499F-9C29-2C44E011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754-C26A-4E5C-9C73-DAC6EE75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1090-A687-48A5-BE26-F7B2F0E861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880D-2218-4614-A253-AA0BFC53DC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5"/>
          <p:cNvSpPr txBox="1"/>
          <p:nvPr/>
        </p:nvSpPr>
        <p:spPr>
          <a:xfrm rot="338400">
            <a:off x="539280" y="1196640"/>
            <a:ext cx="792180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704000"/>
                </a:gradFill>
                <a:effectLst>
                  <a:outerShdw dist="17819" dir="2700000" blurRad="0" rotWithShape="0">
                    <a:srgbClr val="3d007a"/>
                  </a:outerShdw>
                </a:effectLst>
                <a:latin typeface="Arial"/>
              </a:rPr>
              <a:t>С.А.Есенин (1895-1925)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704000"/>
              </a:gradFill>
              <a:effectLst>
                <a:outerShdw dist="17819" dir="2700000" blurRad="0" rotWithShape="0">
                  <a:srgbClr val="3d007a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Метаморфоз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о поэт верил, что настанет такое время, когда все люди станут братьями. Отсюда стремление о всеобщей гармонии, к единству всего сущего на земле. Поэтому один из законов мира Есенина — это всеобщий метаморфоз (что позже привело поэта к имажинистам) . Люди, животные, растения, стихи и предметы — все это, по Есенину, дети одной матери-природы. Он очеловечивает прир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Первый сборник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ый сборник пленяет не только свежестью и лиризмом, живым ощущением природы, но и образной яркостью. Книга пропитана фольклорной поэтикой (песня, духовный стих) , ее язык обнаруживает немало областей, местных слов и выражений, что тоже составляет одну из особенностей поэтического стиля Есенин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Голубень” 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о второй половине 1916 года поэт готовит новый стихотворный сборник “Голубень” . В новых стихах уже немало подлинных лирических шедевров, таковы его стихи о светлой, нежной любви, окрашенные в чувственные тона, — “Не бродить, не мять в кустах багряных” (1916) , “Запели тесаные дроги” (1016)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Каторжная Русь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о уже отчетливей проступают приметы другой — каторжной Руси, по которой бредут “люди в кандалах” . Меняется герой есенинской лирики — он то “нежный отрок” , “смиренный инок” , то “грешник” , “бродяга и вор” , “разбойник с кистенем” и т.д. Эта же двойственность определяет и образ “нежно хулигана” в стихах Есенина периода “Москвы кабацкой” (1924)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1917 г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бытия 1917 года вызвали резкий перелом в творчестве поэта, ему казалось, что наступает эпоха великого духовного обновления, “преображения” жизни, переоценки всех ценностей. В это время он создает цикл из 10 небольших поэм; в них он воспевает “буйственную Русь” и славит “красное лето” 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Переез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есной 1918 года Есенин переехал из Петрограда в Москву. Там наконец-то выходит сборник “Голубень” , вобравший в себя стихи 1916 –1917 годов. Затем поэт выпускает сборники стихотворений “Преображение” (1918) , “Сельский часослов” (1918) . В 1919 году “Ключи Марии” , в которой Есенин сформулировал свой взгляд на искусство, его суть и цель. Эта работа была принята как манифест имажинистов, объединение которых произошло в 1918 — 1919 год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Лучший поэт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Наиболее значительные произведения Есенина, принесшие ему славу одного из лучших поэтов, созданы в 1920-е год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Философская лирик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к всякий великий поэт, Есенин не бездумный певец своих чувств и переживаний, а поэт-философ. Как всякая поэзия, его лирика философична. Философская лирика — это стихи, в которых поэт говорит о вечных проблемах человеческого бытия, ведет поэтический диалог с человеком, природой, землей, Вселе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Зеленая прическа”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мером полного взаимопроникновения природы и человека может служить стихотворение “Зеленая прическа” (1918) . Оно развивается в двух планах: береза — девушка. Читатель так и не узнает о ком это стихотворение — о березе или о девушке. Потому что человек здесь уподоблен дереву — красавице русского леса, а она — человеку. Берёзка в русской поэзии — символ красоты, стойкости, юности; она светла и целомудрен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Поэзия природ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эзией природы, мифологией древних славян проникнуты такие стихотворения 1918 года, как “Серебристая дорога...” , "Песни, песни, о чем вы кричите? ", "Я покину. родимый дом... ", "Закружилась листва золотая... "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Детские год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одился Есенин в крестьянской семье. С 1904 по 1912 год учился в Константиновском земском училище и в Спас-клепевской школе. За это время им было написано более 30 стихотворений, составлен рукописный сборник “Больные думы” (1912) , который он пытался опубликовать в Ряза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Система ценност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эзия Есенина последних, самых трагических лет (1922—1925) отмечена стремлением к гармоническому мироощущению. Чаше всего в лирике ощущается глубоко осмысление себя и Всел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стема ценностей в поэзии Есенина едина и неделима; в ней все взаимосвязано, все образует единую картину “родины любимой" во всем многообразии ее оттенков. Это и является высшим идеалом поэ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” </a:t>
            </a: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Русь уходящая” 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эт понимал, что близкая его сердцу деревня — это” Русь уходящая” . 06 этом свидетельствует его поэма “Сорокоуст” (1920) , сборники стихотворений” Трерядница” (1920) , “Исповедь хулигана” (1921) , "Стихи скандалиста" (1923) ,” Москва кабацкая” (1924) , “Русь Советская” (1925) “Страна Советская" (1925) , "Персидские мотивы" (1925)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"Анна Снегина"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эма "Анна Снегина" (1925) стала во многом итоговым произведением, в котором личная судьба поэта осмыслена с судьбой народно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Поэтическое наследство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йдя из жизни в 30 лет, С. А. Есенин оставил нам чудесное поэтическое наследство. И пока живет земля, Есенину — поэту суждено жить с нами и воспевать всем существом в поэте шестую часть земли с названьем кратким “Русы”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9250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следний поэт деревн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ромен в песнях дощатый мос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 прощальной стою обед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дящих листвой бере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горит золотистым пламен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телесного воска свеч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луны часы деревя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хрипят мой двенадцатый ча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тропу голубого по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оро выйдет железный г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лак овсяный, зарею пролит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ерет его черная гор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живые, чужие ладон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тим песням при вас не жить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лько будут колосья-ко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хозяине старом тужи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удет ветер сосать их ржа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нихидный справляя пля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оро, скоро часы деревя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хрипят мой двенадцатый час! (19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indefinite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81" dur="indefinite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2" dur="indefinite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6" dur="indefinite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87" dur="indefinite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8" dur="indefinite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indefinite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3" dur="indefinite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94" dur="indefinite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indefinite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9" dur="indefinite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0" dur="indefinite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4" dur="indefinite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05" dur="indefinite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6" dur="indefinite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0" dur="indefinite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1" dur="indefinite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12" dur="indefinite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6" dur="indefinite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7" dur="indefinite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18" dur="indefinite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2" dur="indefinite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23" dur="indefinite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24" dur="indefinite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indefinite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29" dur="indefinite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30" dur="indefinite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4" dur="indefinite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5" dur="indefinite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36" dur="indefinite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0" dur="indefinite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41" dur="indefinite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2" dur="indefinite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6" dur="indefinite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47" dur="indefinite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8" dur="indefinite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2" dur="indefinite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3" dur="indefinite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54" dur="indefinite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8" dur="indefinite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9" dur="indefinite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0" dur="indefinite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4" dur="indefinite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65" dur="indefinite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6" dur="indefinite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0" dur="indefinite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1" dur="indefinite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72" dur="indefinite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6" dur="indefinite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7" dur="indefinite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78" dur="indefinite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2" dur="indefinite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83" dur="indefinite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4" dur="indefinite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indefinite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89" dur="indefinite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90" dur="indefinite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indefinite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5" dur="indefinite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96" dur="indefinite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 поэт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усская деревня, природа средней полосы России, устное народное творчество, а главное — русская классическая литература оказали сильное влияние на формирование юного поэта, направляли его природный талант. Сам Есенин в разное время называл разные источники, питавшие его творчество: песни, частушки, сказки, духовные стихи, “Слово о полку Игоревн” , поэзию Лермонтова, Никитина и Надсона. Позднее на него оказали влияние Блок, Клюев, Белый, Гоголь, Пушк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Отражение сложной жизн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 писем Есенина 1911-1913 годов вырисовывается сложная жизнь поэта. Все это нашло отражение в поэтическом мире его лирики 1910 — 1913 годов, когда им было написано более 60 стихотворений и поэм. Здесь выражена его любовь ко всему живому, к жизни, к роди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Темы Родины и революци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 первых же стихов в поэзию Есенина входят темы Родины и революции. Поэтический мир становится более сложным, многомерным, значительное место в нем начинают занимать библейские образы, христианские мотив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Встреча с Блоком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1915 году Есенин приезжает в Петроград, встречается с Блоком, который оценил “свежие, чистые, голосистые” , хотя и “многословные” стихи “талантливого крестьянского поэта-самородка” , помог ему, познакомил с писателями и издател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Слав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Есенин становится знаменитым, его приглашают на поэтические вечера и в литературные салон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Есенинская Русь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начале 1916года выходит первая книга “Радуница” , в которую входят стихи, написанные Есениным в 1910-1915 годах. Творчество поэта 1914-1917 годов сложно и противоречиво. Основой есенинского мировоззрения является изба со всеми ее атрибутами. Избы, окруженные плетнями и связанные друг с другом дорогой, образуют деревню. А деревня, ограниченная околицей, — это и есть есенинская Русь, которая отрезана от большого мира лесами и боло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Преображение” Росси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дореволюционном поэтическом мире Есенина Русь многолика: “задумчивая и нежная” , смиренная и буйственная, нищая и веселая, справляющая “праздники победные” . В стихотворении “Не в моего ты бога верила” (1916) поэт зовет Русь — “царевною сонную” , к “веселой вере” , которой теперь привержен он сам. В стихотворении “Тучи с ожереби…” (1916) поэт как будто предсказывает революцию — “преображение” России “через муки и крест” и гражданскую во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3:37:06Z</dcterms:created>
  <dc:creator>Викусик</dc:creator>
  <dc:description/>
  <dc:language>en-US</dc:language>
  <cp:lastModifiedBy>Admin</cp:lastModifiedBy>
  <dcterms:modified xsi:type="dcterms:W3CDTF">2012-12-14T03:29:57Z</dcterms:modified>
  <cp:revision>4</cp:revision>
  <dc:subject/>
  <dc:title>Слайд 1</dc:title>
</cp:coreProperties>
</file>