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75F-2403-41E4-9E62-5F9084AF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0F3-A9B8-42EA-8264-92E2C803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9AB-0CE8-4940-A8D2-8D0B6F5D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0B4-2E80-48CF-9C01-4FEDE860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26A-134B-4B69-8FAF-3280DF87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713-0ADA-4B0E-9F37-D80DDEE5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DCA-C356-49C1-948D-791A4629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34B-3CDD-4D44-BCBC-B68FEB65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3C5-25F8-40A4-9CE9-5DFB63A1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739-E49D-48B8-8035-8510F2EC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450-C65A-44FB-B009-EF8A88A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978-7140-47D5-996A-7AFB6F8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4954-1EDF-4360-8D10-A73DD43E4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рий Алексеевич Гагар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ерёд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звёзда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http://shkolala.ru/wp-content/uploads/bfi_thumb/miniatyura_obrazets_751x338-5-n6xfdztqjfyvifixl7j7uz1f28s7fpg58p76bhczqe.jpg"/>
          <p:cNvPicPr/>
          <p:nvPr/>
        </p:nvPicPr>
        <p:blipFill>
          <a:blip r:embed="rId2"/>
          <a:stretch/>
        </p:blipFill>
        <p:spPr>
          <a:xfrm>
            <a:off x="900000" y="2852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http://www.sanqld.com/star06.gif"/>
          <p:cNvPicPr/>
          <p:nvPr/>
        </p:nvPicPr>
        <p:blipFill>
          <a:blip r:embed="rId3"/>
          <a:stretch/>
        </p:blipFill>
        <p:spPr>
          <a:xfrm>
            <a:off x="971640" y="285264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2178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мимо Ю.Гагарина в первый космический отряд попало ещё 19 лётч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ни с марта 1960 года переехали на постоянное место подготовки в городок под названием Звёзд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разу же обозначились три основных лидера, из которых впоследствии и делали выбор. Это были Гагарин, Титов и Нелю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https://ds03.infourok.ru/uploads/ex/06c5/00028b4c-0792c3dc/img10.jpg"/>
          <p:cNvPicPr/>
          <p:nvPr/>
        </p:nvPicPr>
        <p:blipFill>
          <a:blip r:embed="rId2"/>
          <a:stretch/>
        </p:blipFill>
        <p:spPr>
          <a:xfrm>
            <a:off x="1547640" y="199692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1566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еред космонавтом была поставлена задача на высоте 180-230 выполнить один оборот вокруг Земли за полтора часа и за это время проверить,  как работает в невесомости оборудование, наладить связь с Землей и удачно приземлиться. Во время полёта Гагарин под позывным «Кедр» сообщал о своих наблюдениях, видя в иллюминатор планету и восхищаясь её красотой, все ощущения записывал на аудиоплё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s://fs00.infourok.ru/images/doc/184/210662/img7.jpg"/>
          <p:cNvPicPr/>
          <p:nvPr/>
        </p:nvPicPr>
        <p:blipFill>
          <a:blip r:embed="rId2"/>
          <a:stretch/>
        </p:blipFill>
        <p:spPr>
          <a:xfrm>
            <a:off x="1403280" y="221292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0" y="211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делав один оборот вокруг Земли, на 108-й минуте космический кораб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Восток» завершил свой пол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0" y="9079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з-за сбоя в системе торможения «Восток» приземлился немного не там, где планировалось: не около Сталинграда, а в Смолен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оме того, Гагарину «светило» упасть в ледяные воды Волги, но его отличная подготовка помогла справиться со стропами парашю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приземление-гагарина"/>
          <p:cNvPicPr/>
          <p:nvPr/>
        </p:nvPicPr>
        <p:blipFill>
          <a:blip r:embed="rId2"/>
          <a:stretch/>
        </p:blipFill>
        <p:spPr>
          <a:xfrm>
            <a:off x="250920" y="2421000"/>
            <a:ext cx="86421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%D0%97%D0%B0%D0%BF%D0%B8%D1%81%D0%BA%D0%B0_%D0%93%D0%B0%D0%B3%D0%B0%D1%80%D0%B8%D0%BD%D0%B0"/>
          <p:cNvPicPr/>
          <p:nvPr/>
        </p:nvPicPr>
        <p:blipFill>
          <a:blip r:embed="rId2"/>
          <a:srcRect l="4554" t="0" r="0" b="12246"/>
          <a:stretch/>
        </p:blipFill>
        <p:spPr>
          <a:xfrm>
            <a:off x="0" y="0"/>
            <a:ext cx="5256360" cy="30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42 из 9592"/>
          <p:cNvPicPr/>
          <p:nvPr/>
        </p:nvPicPr>
        <p:blipFill>
          <a:blip r:embed="rId3"/>
          <a:stretch/>
        </p:blipFill>
        <p:spPr>
          <a:xfrm>
            <a:off x="5435640" y="620640"/>
            <a:ext cx="3457440" cy="5140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гагарина-встречают-на-земле"/>
          <p:cNvPicPr/>
          <p:nvPr/>
        </p:nvPicPr>
        <p:blipFill>
          <a:blip r:embed="rId4"/>
          <a:stretch/>
        </p:blipFill>
        <p:spPr>
          <a:xfrm>
            <a:off x="0" y="3357720"/>
            <a:ext cx="51847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images.myshared.ru/6/601650/slide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0" y="333360"/>
            <a:ext cx="46432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Юрий Гагарин первым из землян совершил космический полет на корабле "Восток". За этот подвиг ему было присвоено звание Героя Советского Союза, а день полета Гагарина в космос был объявлен праздником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нём космонавти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bucharsky.ru/UserFiles/photos/48fc7f79b7.jpg"/>
          <p:cNvPicPr/>
          <p:nvPr/>
        </p:nvPicPr>
        <p:blipFill>
          <a:blip r:embed="rId2"/>
          <a:stretch/>
        </p:blipFill>
        <p:spPr>
          <a:xfrm>
            <a:off x="4643280" y="260280"/>
            <a:ext cx="4321440" cy="576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plam.ru/hist/kuzkina_mat_hronika_velikogo_desjatilenija/i_044.jpg"/>
          <p:cNvPicPr/>
          <p:nvPr/>
        </p:nvPicPr>
        <p:blipFill>
          <a:blip r:embed="rId3"/>
          <a:stretch/>
        </p:blipFill>
        <p:spPr>
          <a:xfrm>
            <a:off x="179280" y="3141720"/>
            <a:ext cx="417672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1" descr=""/>
          <p:cNvPicPr/>
          <p:nvPr/>
        </p:nvPicPr>
        <p:blipFill>
          <a:blip r:embed="rId2"/>
          <a:stretch/>
        </p:blipFill>
        <p:spPr>
          <a:xfrm>
            <a:off x="317520" y="5162400"/>
            <a:ext cx="8710560" cy="14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:\Users\Вера\Desktop\вера.jpg"/>
          <p:cNvPicPr/>
          <p:nvPr/>
        </p:nvPicPr>
        <p:blipFill>
          <a:blip r:embed="rId3"/>
          <a:stretch/>
        </p:blipFill>
        <p:spPr>
          <a:xfrm>
            <a:off x="539640" y="476280"/>
            <a:ext cx="3000600" cy="410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mtdata.ru/u19/photo5E0A/20955751709-0/original.jpg"/>
          <p:cNvPicPr/>
          <p:nvPr/>
        </p:nvPicPr>
        <p:blipFill>
          <a:blip r:embed="rId4"/>
          <a:stretch/>
        </p:blipFill>
        <p:spPr>
          <a:xfrm>
            <a:off x="5003640" y="549360"/>
            <a:ext cx="34340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1418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ете, каким он парнем был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т, кто тропку звёздную откры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s://pbs.twimg.com/media/CCYGfuYWEAAvbXH.jpg"/>
          <p:cNvPicPr/>
          <p:nvPr/>
        </p:nvPicPr>
        <p:blipFill>
          <a:blip r:embed="rId2"/>
          <a:stretch/>
        </p:blipFill>
        <p:spPr>
          <a:xfrm>
            <a:off x="179280" y="1628640"/>
            <a:ext cx="3816360" cy="5088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http://ourspace.do.am/_si/0/98968668.jpg"/>
          <p:cNvPicPr/>
          <p:nvPr/>
        </p:nvPicPr>
        <p:blipFill>
          <a:blip r:embed="rId3"/>
          <a:stretch/>
        </p:blipFill>
        <p:spPr>
          <a:xfrm>
            <a:off x="5003640" y="1700280"/>
            <a:ext cx="3672000" cy="489744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5076720" y="1916280"/>
            <a:ext cx="20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ос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http://images.helionews.ru/1388534760000/1394540298000/maloizvestnye-fakty-o-polete-uriya-gagarina-rarsyo.jpg"/>
          <p:cNvPicPr/>
          <p:nvPr/>
        </p:nvPicPr>
        <p:blipFill>
          <a:blip r:embed="rId2"/>
          <a:stretch/>
        </p:blipFill>
        <p:spPr>
          <a:xfrm>
            <a:off x="250920" y="907920"/>
            <a:ext cx="360684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1403280" y="-37440"/>
            <a:ext cx="7561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лся маленький Гагарин в 1934 году 9 мар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деревушке Клушино, что находится в                                               Смоленской обла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берегу реки Дуб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imgB"/>
          <p:cNvPicPr/>
          <p:nvPr/>
        </p:nvPicPr>
        <p:blipFill>
          <a:blip r:embed="rId3"/>
          <a:stretch/>
        </p:blipFill>
        <p:spPr>
          <a:xfrm>
            <a:off x="4284720" y="3357720"/>
            <a:ext cx="468000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79280" y="189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ец Гагарина был плотником, а мать – работницей молочной фермы. Своё беззаботное  детство он провёл в деревне, отправившись в шесть лет в школу. Закончить ему удалось лишь первый класс – началась война, деревню оккупировали немцы. Лишь после освобождения поселения в 1943 году его школьная учёба возобнови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i042.radikal.ru/1104/18/b27815b5815b.jpg"/>
          <p:cNvPicPr/>
          <p:nvPr/>
        </p:nvPicPr>
        <p:blipFill>
          <a:blip r:embed="rId2"/>
          <a:stretch/>
        </p:blipFill>
        <p:spPr>
          <a:xfrm>
            <a:off x="250920" y="2637000"/>
            <a:ext cx="84564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-33120"/>
            <a:ext cx="914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e3e"/>
                </a:solidFill>
                <a:latin typeface="PT Sans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 войны родители переехали в Гжатск (ныне Гагарин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 вспоминали об ученике Гагарине как способном и любознательн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торый пытался заниматься всем, чем м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амкружок, кружок по фото, хоркружок – мне петь охота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»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в действительности можно было сказать про будущего космонав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 как Юрий осваивал музыку и любил фотогра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ttp://gvardiya.ru/mediacontent/newspictures/2014/8/th1200_1200_ce24d7b14327dd42e412a80458bd02a7.jpg"/>
          <p:cNvPicPr/>
          <p:nvPr/>
        </p:nvPicPr>
        <p:blipFill>
          <a:blip r:embed="rId2"/>
          <a:stretch/>
        </p:blipFill>
        <p:spPr>
          <a:xfrm>
            <a:off x="5292720" y="2205000"/>
            <a:ext cx="3456000" cy="435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://cn13.nevsedoma.com.ua/photo/532/56_files/zvezdi_v_molodosti_06.jpg"/>
          <p:cNvPicPr/>
          <p:nvPr/>
        </p:nvPicPr>
        <p:blipFill>
          <a:blip r:embed="rId3"/>
          <a:stretch/>
        </p:blipFill>
        <p:spPr>
          <a:xfrm>
            <a:off x="539640" y="2205000"/>
            <a:ext cx="30369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356000" y="26028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сле окончания 6 классов Юрий Гагарин поступил одновременно в Люберецкое ремесленное училище и школу рабочей молоде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июне 1951 года Ю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 отличием окончил училище по специальности формовщик-литейщ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инка 4 из 48"/>
          <p:cNvPicPr/>
          <p:nvPr/>
        </p:nvPicPr>
        <p:blipFill>
          <a:blip r:embed="rId2"/>
          <a:stretch/>
        </p:blipFill>
        <p:spPr>
          <a:xfrm>
            <a:off x="250920" y="333360"/>
            <a:ext cx="3889440" cy="6099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megabook.ru/stream/mediapreview?Key=%D0%93%D0%B0%D0%B3%D0%B0%D1%80%D0%B8%D0%BD%20%D0%AE%D1%80%D0%B8%D0%B9%20%D0%90%D0%BB%D0%B5%D0%BA%D1%81%D0%B5%D0%B5%D0%B2%D0%B8%D1%87%20(%D0%B2%20%D0%BB%D0%B8%D1%82%D0%B5%D0%B9%D0%BD%D0%BE%D0%BC%20%D1%86%D0%B5%D1%85%D0%B5)&amp;Height=150"/>
          <p:cNvPicPr/>
          <p:nvPr/>
        </p:nvPicPr>
        <p:blipFill>
          <a:blip r:embed="rId3"/>
          <a:stretch/>
        </p:blipFill>
        <p:spPr>
          <a:xfrm>
            <a:off x="6084720" y="3573360"/>
            <a:ext cx="2808360" cy="3143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24000" y="33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вая профессия Гаг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s02.yapfiles.ru/files/646798/bollywood_fzplrdxe.gif"/>
          <p:cNvPicPr/>
          <p:nvPr/>
        </p:nvPicPr>
        <p:blipFill>
          <a:blip r:embed="rId4"/>
          <a:stretch/>
        </p:blipFill>
        <p:spPr>
          <a:xfrm>
            <a:off x="4356000" y="4005360"/>
            <a:ext cx="144000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0" y="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августе 1951 г. Ю.Гагарин поступает в Сара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дустриальный техникум, а в 1955г. заканчивает его с отлич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1954 году он впервые пришёл в Саратовский аэроклуб,   где совершил первый самостоятельный полёт на самолёте ЯК-18.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 в его сердце поселилась мечта полететь далеко за пределы Земли, и кто бы мог подумать, что этому суждено было сбы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Картинка 5 из 91"/>
          <p:cNvPicPr/>
          <p:nvPr/>
        </p:nvPicPr>
        <p:blipFill>
          <a:blip r:embed="rId2"/>
          <a:stretch/>
        </p:blipFill>
        <p:spPr>
          <a:xfrm>
            <a:off x="4140360" y="2781360"/>
            <a:ext cx="5003640" cy="37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s://s15.stc.all.kpcdn.net/share/i/4/772376/wx1080.jpg"/>
          <p:cNvPicPr/>
          <p:nvPr/>
        </p:nvPicPr>
        <p:blipFill>
          <a:blip r:embed="rId3"/>
          <a:stretch/>
        </p:blipFill>
        <p:spPr>
          <a:xfrm>
            <a:off x="0" y="2781360"/>
            <a:ext cx="50101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0" y="42300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 прохождении армейской службы в Чкаловском военном училище авиации курсант Гагарин мог почти всё, но посадить самолёт у него не получалось: самолет постоянно клевал носом в землю. Оказалось всё просто: маленький рост Гагарина не даёт ему достаточного обзора при посадке, и когда при очередном полёте ему приподняли высоту сиденья, Гагарин посадил самолёт без «сучка и задоринки». Училище он окончил с отличием и стал служить в Мурманске в авиационном полку истребительной дивизии Северного ф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http://new.xn----7sbcihbeb4bpnff2adr5a5tg.xn--p1ai/wp-content/uploads/2016/04/%D0%9A%D1%83%D1%80%D1%81%D0%B0%D0%BD%D1%82-%D0%BB%D0%B5%D1%82%D0%BD%D0%BE%D0%B3%D0%BE-%D1%83%D1%87%D0%B8%D0%BB%D0%B8%D1%89%D0%B0.jpeg"/>
          <p:cNvPicPr/>
          <p:nvPr/>
        </p:nvPicPr>
        <p:blipFill>
          <a:blip r:embed="rId2"/>
          <a:stretch/>
        </p:blipFill>
        <p:spPr>
          <a:xfrm>
            <a:off x="5940360" y="2708280"/>
            <a:ext cx="2859120" cy="388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epizodsspace.airbase.ru/bibl/gagarin/viju-zeml76/p12.jpg"/>
          <p:cNvPicPr/>
          <p:nvPr/>
        </p:nvPicPr>
        <p:blipFill>
          <a:blip r:embed="rId3"/>
          <a:stretch/>
        </p:blipFill>
        <p:spPr>
          <a:xfrm>
            <a:off x="179280" y="2924280"/>
            <a:ext cx="54882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9 декабря 1959 года, Гагарин написал заявление с просьбой зачислить его в группу кандидатов в космонавты. 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же через неделю его вызвали в Москву для прохождения всестороннего медицинского обследования. 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результате старший лейтенант Гагарин был признан годным для космических полетов. 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 марта 1960 года Ю.Гагарин был зачислен в группу  кандидатов в космонавт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ekatb.ru/wp-content/uploads/2016/03/YUrij-Gagarin.jpg"/>
          <p:cNvPicPr/>
          <p:nvPr/>
        </p:nvPicPr>
        <p:blipFill>
          <a:blip r:embed="rId2"/>
          <a:stretch/>
        </p:blipFill>
        <p:spPr>
          <a:xfrm>
            <a:off x="539640" y="2565360"/>
            <a:ext cx="8064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49:53Z</dcterms:created>
  <dc:creator>Люсенька</dc:creator>
  <dc:description/>
  <dc:language>en-US</dc:language>
  <cp:lastModifiedBy>Сергей</cp:lastModifiedBy>
  <dcterms:modified xsi:type="dcterms:W3CDTF">2017-08-04T10:10:25Z</dcterms:modified>
  <cp:revision>42</cp:revision>
  <dc:subject/>
  <dc:title>Слайд 1</dc:title>
</cp:coreProperties>
</file>