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13.gif" ContentType="image/gif"/>
  <Override PartName="/ppt/media/image16.jpeg" ContentType="image/jpeg"/>
  <Override PartName="/ppt/media/image4.jpeg" ContentType="image/jpeg"/>
  <Override PartName="/ppt/media/image25.jpeg" ContentType="image/jpeg"/>
  <Override PartName="/ppt/media/image3.gif" ContentType="image/gif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3D16-3AB3-4D6C-824B-5A8294AC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01BF-0836-41FE-8085-7B1EA9B3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6BA9-2DC1-4434-8E7D-8D8CE999E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F516-A779-4207-9115-66069E577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A3B9-D9D2-4447-9D9F-F5797FFA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3A3D-F9B4-434D-88BD-E06183CE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0677-61B2-438B-A03A-698E58E0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F24D-7075-43C8-BD66-B48ED785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0BB3-C0DE-4C71-A639-4DCE01D2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9AF4-F634-454F-9EF2-69EDA82D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6526-B30E-4152-8FE8-9CA6049B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A242-B105-488A-8135-18252469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BA5A-3CE7-4152-8214-715A0E1583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0" y="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Юрий Алексеевич Гагари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перёд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 звёздам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3" descr="http://shkolala.ru/wp-content/uploads/bfi_thumb/miniatyura_obrazets_751x338-5-n6xfdztqjfyvifixl7j7uz1f28s7fpg58p76bhczqe.jpg"/>
          <p:cNvPicPr/>
          <p:nvPr/>
        </p:nvPicPr>
        <p:blipFill>
          <a:blip r:embed="rId2"/>
          <a:stretch/>
        </p:blipFill>
        <p:spPr>
          <a:xfrm>
            <a:off x="900000" y="2852640"/>
            <a:ext cx="7417080" cy="3816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http://www.sanqld.com/star06.gif"/>
          <p:cNvPicPr/>
          <p:nvPr/>
        </p:nvPicPr>
        <p:blipFill>
          <a:blip r:embed="rId3"/>
          <a:stretch/>
        </p:blipFill>
        <p:spPr>
          <a:xfrm>
            <a:off x="971640" y="2852640"/>
            <a:ext cx="761760" cy="7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0" y="21780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омимо Ю.Гагарина в первый космический отряд попало ещё 19 лётч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Они с марта 1960 года переехали на постоянное место подготовки в городок под названием Звёздны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разу же обозначились три основных лидера, из которых впоследствии и делали выбор. Это были Гагарин, Титов и Нелюб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https://ds03.infourok.ru/uploads/ex/06c5/00028b4c-0792c3dc/img10.jpg"/>
          <p:cNvPicPr/>
          <p:nvPr/>
        </p:nvPicPr>
        <p:blipFill>
          <a:blip r:embed="rId2"/>
          <a:stretch/>
        </p:blipFill>
        <p:spPr>
          <a:xfrm>
            <a:off x="1547640" y="1996920"/>
            <a:ext cx="6480360" cy="48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0" y="15660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еред космонавтом была поставлена задача на высоте 180-230 выполнить один оборот вокруг Земли за полтора часа и за это время проверить,  как работает в невесомости оборудование, наладить связь с Землей и удачно приземлиться. Во время полёта Гагарин под позывным «Кедр» сообщал о своих наблюдениях, видя в иллюминатор планету и восхищаясь её красотой, все ощущения записывал на аудиоплё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https://fs00.infourok.ru/images/doc/184/210662/img7.jpg"/>
          <p:cNvPicPr/>
          <p:nvPr/>
        </p:nvPicPr>
        <p:blipFill>
          <a:blip r:embed="rId2"/>
          <a:stretch/>
        </p:blipFill>
        <p:spPr>
          <a:xfrm>
            <a:off x="1403280" y="2212920"/>
            <a:ext cx="6193080" cy="46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0" y="211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делав один оборот вокруг Земли, на 108-й минуте космический кораб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«Восток» завершил свой полё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0" y="90792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Из-за сбоя в системе торможения «Восток» приземлился немного не там, где планировалось: не около Сталинграда, а в Смоленской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роме того, Гагарину «светило» упасть в ледяные воды Волги, но его отличная подготовка помогла справиться со стропами парашю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" descr="приземление-гагарина"/>
          <p:cNvPicPr/>
          <p:nvPr/>
        </p:nvPicPr>
        <p:blipFill>
          <a:blip r:embed="rId2"/>
          <a:stretch/>
        </p:blipFill>
        <p:spPr>
          <a:xfrm>
            <a:off x="250920" y="2421000"/>
            <a:ext cx="864216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%D0%97%D0%B0%D0%BF%D0%B8%D1%81%D0%BA%D0%B0_%D0%93%D0%B0%D0%B3%D0%B0%D1%80%D0%B8%D0%BD%D0%B0"/>
          <p:cNvPicPr/>
          <p:nvPr/>
        </p:nvPicPr>
        <p:blipFill>
          <a:blip r:embed="rId2"/>
          <a:srcRect l="4554" t="0" r="0" b="12246"/>
          <a:stretch/>
        </p:blipFill>
        <p:spPr>
          <a:xfrm>
            <a:off x="0" y="0"/>
            <a:ext cx="5256360" cy="3095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Картинка 42 из 9592"/>
          <p:cNvPicPr/>
          <p:nvPr/>
        </p:nvPicPr>
        <p:blipFill>
          <a:blip r:embed="rId3"/>
          <a:stretch/>
        </p:blipFill>
        <p:spPr>
          <a:xfrm>
            <a:off x="5435640" y="620640"/>
            <a:ext cx="3457440" cy="51404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3" descr="гагарина-встречают-на-земле"/>
          <p:cNvPicPr/>
          <p:nvPr/>
        </p:nvPicPr>
        <p:blipFill>
          <a:blip r:embed="rId4"/>
          <a:stretch/>
        </p:blipFill>
        <p:spPr>
          <a:xfrm>
            <a:off x="0" y="3357720"/>
            <a:ext cx="5184720" cy="35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images.myshared.ru/6/601650/slide_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0" y="333360"/>
            <a:ext cx="464328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 </a:t>
            </a:r>
            <a:r>
              <a:rPr b="1" lang="ru-RU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Юрий Гагарин первым из землян совершил космический полет на корабле "Восток". За этот подвиг ему было присвоено звание Героя Советского Союза, а день полета Гагарина в космос был объявлен праздником 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Днём космонавтик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http://bucharsky.ru/UserFiles/photos/48fc7f79b7.jpg"/>
          <p:cNvPicPr/>
          <p:nvPr/>
        </p:nvPicPr>
        <p:blipFill>
          <a:blip r:embed="rId2"/>
          <a:stretch/>
        </p:blipFill>
        <p:spPr>
          <a:xfrm>
            <a:off x="4643280" y="260280"/>
            <a:ext cx="4321440" cy="5761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://www.plam.ru/hist/kuzkina_mat_hronika_velikogo_desjatilenija/i_044.jpg"/>
          <p:cNvPicPr/>
          <p:nvPr/>
        </p:nvPicPr>
        <p:blipFill>
          <a:blip r:embed="rId3"/>
          <a:stretch/>
        </p:blipFill>
        <p:spPr>
          <a:xfrm>
            <a:off x="179280" y="3141720"/>
            <a:ext cx="4176720" cy="27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Прямоугольник 1" descr=""/>
          <p:cNvPicPr/>
          <p:nvPr/>
        </p:nvPicPr>
        <p:blipFill>
          <a:blip r:embed="rId2"/>
          <a:stretch/>
        </p:blipFill>
        <p:spPr>
          <a:xfrm>
            <a:off x="317520" y="5162400"/>
            <a:ext cx="8710560" cy="1457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" descr="C:\Users\Вера\Desktop\вера.jpg"/>
          <p:cNvPicPr/>
          <p:nvPr/>
        </p:nvPicPr>
        <p:blipFill>
          <a:blip r:embed="rId3"/>
          <a:stretch/>
        </p:blipFill>
        <p:spPr>
          <a:xfrm>
            <a:off x="539640" y="476280"/>
            <a:ext cx="3000600" cy="4106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http://mtdata.ru/u19/photo5E0A/20955751709-0/original.jpg"/>
          <p:cNvPicPr/>
          <p:nvPr/>
        </p:nvPicPr>
        <p:blipFill>
          <a:blip r:embed="rId4"/>
          <a:stretch/>
        </p:blipFill>
        <p:spPr>
          <a:xfrm>
            <a:off x="5003640" y="549360"/>
            <a:ext cx="343404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14184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наете, каким он парнем был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т, кто тропку звёздную открыл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https://pbs.twimg.com/media/CCYGfuYWEAAvbXH.jpg"/>
          <p:cNvPicPr/>
          <p:nvPr/>
        </p:nvPicPr>
        <p:blipFill>
          <a:blip r:embed="rId2"/>
          <a:stretch/>
        </p:blipFill>
        <p:spPr>
          <a:xfrm>
            <a:off x="179280" y="1628640"/>
            <a:ext cx="3816360" cy="5088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http://ourspace.do.am/_si/0/98968668.jpg"/>
          <p:cNvPicPr/>
          <p:nvPr/>
        </p:nvPicPr>
        <p:blipFill>
          <a:blip r:embed="rId3"/>
          <a:stretch/>
        </p:blipFill>
        <p:spPr>
          <a:xfrm>
            <a:off x="5003640" y="1700280"/>
            <a:ext cx="3672000" cy="4897440"/>
          </a:xfrm>
          <a:prstGeom prst="rect">
            <a:avLst/>
          </a:prstGeom>
          <a:ln w="0">
            <a:noFill/>
          </a:ln>
        </p:spPr>
      </p:pic>
      <p:sp>
        <p:nvSpPr>
          <p:cNvPr id="47" name="TextBox 8"/>
          <p:cNvSpPr/>
          <p:nvPr/>
        </p:nvSpPr>
        <p:spPr>
          <a:xfrm>
            <a:off x="5076720" y="1916280"/>
            <a:ext cx="20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смиче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аб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Вост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http://images.helionews.ru/1388534760000/1394540298000/maloizvestnye-fakty-o-polete-uriya-gagarina-rarsyo.jpg"/>
          <p:cNvPicPr/>
          <p:nvPr/>
        </p:nvPicPr>
        <p:blipFill>
          <a:blip r:embed="rId2"/>
          <a:stretch/>
        </p:blipFill>
        <p:spPr>
          <a:xfrm>
            <a:off x="250920" y="907920"/>
            <a:ext cx="3606840" cy="52578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"/>
          <p:cNvSpPr/>
          <p:nvPr/>
        </p:nvSpPr>
        <p:spPr>
          <a:xfrm>
            <a:off x="1403280" y="-37440"/>
            <a:ext cx="7561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дился маленький Гагарин в 1934 году 9 март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деревушке Клушино, что находится в                                               Смоленской област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берегу реки Дубн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imgB"/>
          <p:cNvPicPr/>
          <p:nvPr/>
        </p:nvPicPr>
        <p:blipFill>
          <a:blip r:embed="rId3"/>
          <a:stretch/>
        </p:blipFill>
        <p:spPr>
          <a:xfrm>
            <a:off x="4284720" y="3357720"/>
            <a:ext cx="4680000" cy="32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179280" y="189000"/>
            <a:ext cx="864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ец Гагарина был плотником, а мать – работницей молочной фермы. Своё беззаботное  детство он провёл в деревне, отправившись в шесть лет в школу. Закончить ему удалось лишь первый класс – началась война, деревню оккупировали немцы. Лишь после освобождения поселения в 1943 году его школьная учёба возобновилас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i042.radikal.ru/1104/18/b27815b5815b.jpg"/>
          <p:cNvPicPr/>
          <p:nvPr/>
        </p:nvPicPr>
        <p:blipFill>
          <a:blip r:embed="rId2"/>
          <a:stretch/>
        </p:blipFill>
        <p:spPr>
          <a:xfrm>
            <a:off x="250920" y="2637000"/>
            <a:ext cx="845640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0" y="-33120"/>
            <a:ext cx="9144000" cy="22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e3e3e"/>
                </a:solidFill>
                <a:latin typeface="PT Sans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ле войны родители переехали в Гжатск (ныне Гагарин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дагоги вспоминали об ученике Гагарине как способном и любознательн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торый пытался заниматься всем, чем мо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рамкружок, кружок по фото, хоркружок – мне петь охота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…» 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о в действительности можно было сказать про будущего космонав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к как Юрий осваивал музыку и любил фотограф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http://gvardiya.ru/mediacontent/newspictures/2014/8/th1200_1200_ce24d7b14327dd42e412a80458bd02a7.jpg"/>
          <p:cNvPicPr/>
          <p:nvPr/>
        </p:nvPicPr>
        <p:blipFill>
          <a:blip r:embed="rId2"/>
          <a:stretch/>
        </p:blipFill>
        <p:spPr>
          <a:xfrm>
            <a:off x="5292720" y="2205000"/>
            <a:ext cx="3456000" cy="4356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http://cn13.nevsedoma.com.ua/photo/532/56_files/zvezdi_v_molodosti_06.jpg"/>
          <p:cNvPicPr/>
          <p:nvPr/>
        </p:nvPicPr>
        <p:blipFill>
          <a:blip r:embed="rId3"/>
          <a:stretch/>
        </p:blipFill>
        <p:spPr>
          <a:xfrm>
            <a:off x="539640" y="2205000"/>
            <a:ext cx="303696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4356000" y="260280"/>
            <a:ext cx="478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сле окончания 6 классов Юрий Гагарин поступил одновременно в Люберецкое ремесленное училище и школу рабочей молоде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В июне 1951 года Ю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с отличием окончил училище по специальности формовщик-литейщ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Картинка 4 из 48"/>
          <p:cNvPicPr/>
          <p:nvPr/>
        </p:nvPicPr>
        <p:blipFill>
          <a:blip r:embed="rId2"/>
          <a:stretch/>
        </p:blipFill>
        <p:spPr>
          <a:xfrm>
            <a:off x="250920" y="333360"/>
            <a:ext cx="3889440" cy="6099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http://megabook.ru/stream/mediapreview?Key=%D0%93%D0%B0%D0%B3%D0%B0%D1%80%D0%B8%D0%BD%20%D0%AE%D1%80%D0%B8%D0%B9%20%D0%90%D0%BB%D0%B5%D0%BA%D1%81%D0%B5%D0%B5%D0%B2%D0%B8%D1%87%20(%D0%B2%20%D0%BB%D0%B8%D1%82%D0%B5%D0%B9%D0%BD%D0%BE%D0%BC%20%D1%86%D0%B5%D1%85%D0%B5)&amp;Height=150"/>
          <p:cNvPicPr/>
          <p:nvPr/>
        </p:nvPicPr>
        <p:blipFill>
          <a:blip r:embed="rId3"/>
          <a:stretch/>
        </p:blipFill>
        <p:spPr>
          <a:xfrm>
            <a:off x="6084720" y="3573360"/>
            <a:ext cx="2808360" cy="314352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324000" y="3333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ервая профессия Гага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http://s02.yapfiles.ru/files/646798/bollywood_fzplrdxe.gif"/>
          <p:cNvPicPr/>
          <p:nvPr/>
        </p:nvPicPr>
        <p:blipFill>
          <a:blip r:embed="rId4"/>
          <a:stretch/>
        </p:blipFill>
        <p:spPr>
          <a:xfrm>
            <a:off x="4356000" y="4005360"/>
            <a:ext cx="144000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0" y="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В августе 1951 г. Ю.Гагарин поступает в Сарат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индустриальный техникум, а в 1955г. заканчивает его с отлич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В 1954 году он впервые пришёл в Саратовский аэроклуб,   где совершил первый самостоятельный полёт на самолёте ЯК-18.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к в его сердце поселилась мечта полететь далеко за пределы Земли, и кто бы мог подумать, что этому суждено было сбыть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Картинка 5 из 91"/>
          <p:cNvPicPr/>
          <p:nvPr/>
        </p:nvPicPr>
        <p:blipFill>
          <a:blip r:embed="rId2"/>
          <a:stretch/>
        </p:blipFill>
        <p:spPr>
          <a:xfrm>
            <a:off x="4140360" y="2781360"/>
            <a:ext cx="5003640" cy="3709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https://s15.stc.all.kpcdn.net/share/i/4/772376/wx1080.jpg"/>
          <p:cNvPicPr/>
          <p:nvPr/>
        </p:nvPicPr>
        <p:blipFill>
          <a:blip r:embed="rId3"/>
          <a:stretch/>
        </p:blipFill>
        <p:spPr>
          <a:xfrm>
            <a:off x="0" y="2781360"/>
            <a:ext cx="501012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0" y="423000"/>
            <a:ext cx="9144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ри прохождении армейской службы в Чкаловском военном училище авиации курсант Гагарин мог почти всё, но посадить самолёт у него не получалось: самолет постоянно клевал носом в землю. Оказалось всё просто: маленький рост Гагарина не даёт ему достаточного обзора при посадке, и когда при очередном полёте ему приподняли высоту сиденья, Гагарин посадил самолёт без «сучка и задоринки». Училище он окончил с отличием и стал служить в Мурманске в авиационном полку истребительной дивизии Северного фл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http://new.xn----7sbcihbeb4bpnff2adr5a5tg.xn--p1ai/wp-content/uploads/2016/04/%D0%9A%D1%83%D1%80%D1%81%D0%B0%D0%BD%D1%82-%D0%BB%D0%B5%D1%82%D0%BD%D0%BE%D0%B3%D0%BE-%D1%83%D1%87%D0%B8%D0%BB%D0%B8%D1%89%D0%B0.jpeg"/>
          <p:cNvPicPr/>
          <p:nvPr/>
        </p:nvPicPr>
        <p:blipFill>
          <a:blip r:embed="rId2"/>
          <a:stretch/>
        </p:blipFill>
        <p:spPr>
          <a:xfrm>
            <a:off x="5940360" y="2708280"/>
            <a:ext cx="2859120" cy="3889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http://epizodsspace.airbase.ru/bibl/gagarin/viju-zeml76/p12.jpg"/>
          <p:cNvPicPr/>
          <p:nvPr/>
        </p:nvPicPr>
        <p:blipFill>
          <a:blip r:embed="rId3"/>
          <a:stretch/>
        </p:blipFill>
        <p:spPr>
          <a:xfrm>
            <a:off x="179280" y="2924280"/>
            <a:ext cx="548820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0" y="0"/>
            <a:ext cx="914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9 декабря 1959 года, Гагарин написал заявление с просьбой зачислить его в группу кандидатов в космонавты. </a:t>
            </a:r>
            <a:br>
              <a:rPr sz="2000"/>
            </a:br>
            <a:r>
              <a:rPr b="1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Уже через неделю его вызвали в Москву для прохождения всестороннего медицинского обследования. </a:t>
            </a:r>
            <a:br>
              <a:rPr sz="2000"/>
            </a:br>
            <a:r>
              <a:rPr b="1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В результате старший лейтенант Гагарин был признан годным для космических полетов. </a:t>
            </a:r>
            <a:br>
              <a:rPr sz="2000"/>
            </a:br>
            <a:r>
              <a:rPr b="1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3 марта 1960 года Ю.Гагарин был зачислен в группу  кандидатов в космонавты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ekatb.ru/wp-content/uploads/2016/03/YUrij-Gagarin.jpg"/>
          <p:cNvPicPr/>
          <p:nvPr/>
        </p:nvPicPr>
        <p:blipFill>
          <a:blip r:embed="rId2"/>
          <a:stretch/>
        </p:blipFill>
        <p:spPr>
          <a:xfrm>
            <a:off x="539640" y="2565360"/>
            <a:ext cx="8064720" cy="4032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13:49:53Z</dcterms:created>
  <dc:creator>Люсенька</dc:creator>
  <dc:description/>
  <dc:language>en-US</dc:language>
  <cp:lastModifiedBy>Сергей</cp:lastModifiedBy>
  <dcterms:modified xsi:type="dcterms:W3CDTF">2017-08-04T10:10:25Z</dcterms:modified>
  <cp:revision>42</cp:revision>
  <dc:subject/>
  <dc:title>Слайд 1</dc:title>
</cp:coreProperties>
</file>