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E91-F5A7-4E20-95C2-F4A69A3EA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D53B-C271-4716-8235-8B1CF70154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1F8-5324-41EE-A5AA-93907280AB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1F0C-33C6-4E87-8D9D-9D851D1FC8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BE33-2DDA-4BD2-99DB-4B6FAFC9EA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2267-6716-4072-AC0E-59608B1873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F7D0-6E74-466F-A88B-6BAFEBB14B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827F-EB74-4CEB-BDE7-9B841BE1F3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DEF-602D-4587-AE58-B53FB7B8E9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926-6865-4976-9A09-2A7C921052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FE9-951F-484F-893E-5F1E22B1E1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F505-32AF-49BA-A3E1-62FC76A7C2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025-A4E6-4411-B852-D991081586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530F-DA26-4B4A-990B-95E1DB33D4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9D4-82DE-4E01-B291-D010C9DA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EE4-6001-4003-BFEE-02AFAA5E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EB4-692F-4E64-A112-E513C32D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6C2-3A31-420D-BB09-D8978616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5B8-0D03-4294-BDD2-BDDCD54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4C4-06FE-4E41-A0EE-F00261A3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7F6-658B-464E-8BBF-A7C02BFB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A40-5A36-46FD-8284-5A80838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611-D3CA-4471-AA1A-69D1BF4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1BB-6600-4064-9C01-0A1650E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E7D-A625-41E6-8BBC-F185696C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7B3-54F4-4FE2-AE75-88AB81B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92A6-C07E-441F-885A-21BA97E582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Методы семейного воспит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3352680"/>
            <a:ext cx="58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У ребенка одна модель мужчины и женщины – его отец и мать.</a:t>
            </a:r>
            <a:br>
              <a:rPr sz="2800"/>
            </a:b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Всегда, в течение всей жизни, сыновьи глаза взирают на наши души”.</a:t>
            </a:r>
            <a:br>
              <a:rPr sz="2800"/>
            </a:b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(Э. Базен, французский писатель</a:t>
            </a: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Untitled"/>
          <p:cNvPicPr/>
          <p:nvPr/>
        </p:nvPicPr>
        <p:blipFill>
          <a:blip r:embed="rId1"/>
          <a:stretch/>
        </p:blipFill>
        <p:spPr>
          <a:xfrm>
            <a:off x="380880" y="3848040"/>
            <a:ext cx="28195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ст: Какой вы родитель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981080"/>
          <a:ext cx="8229600" cy="4145040"/>
        </p:xfrm>
        <a:graphic>
          <a:graphicData uri="http://schemas.openxmlformats.org/drawingml/2006/table">
            <a:tbl>
              <a:tblPr/>
              <a:tblGrid>
                <a:gridCol w="6829560"/>
                <a:gridCol w="140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. Сколько раз тебе повторять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2. Посоветуй мне, пожалуйст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3. Не знаю, что бы я без тебя делал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4. И в кого ты только такой уродился?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5. Какие у тебя замечательные друзь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6. Ну на кого ты похож(а)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7. </a:t>
                      </a:r>
                      <a:r>
                        <a:rPr b="0" i="1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Я </a:t>
                      </a: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в твои годы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914400"/>
          <a:ext cx="8229600" cy="3657600"/>
        </p:xfrm>
        <a:graphic>
          <a:graphicData uri="http://schemas.openxmlformats.org/drawingml/2006/table">
            <a:tbl>
              <a:tblPr/>
              <a:tblGrid>
                <a:gridCol w="7719840"/>
                <a:gridCol w="5097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8. Ты моя опора и помощник(ца)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9. Ну что за друзья у тебя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0. О чем ты только думаешь?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1. Какая (какой) ты у меня умница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2. А как ты считаешь, сынок (доченька)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3. У всех дети, как дети, а ты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ffff"/>
                          </a:solidFill>
                          <a:latin typeface="Arial"/>
                        </a:rPr>
                        <a:t>14. Какой ты у меня сообразительный(ая)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cc00"/>
                      </a:solidFill>
                    </a:lnL>
                    <a:lnR w="4320">
                      <a:solidFill>
                        <a:srgbClr val="ffcc00"/>
                      </a:solidFill>
                    </a:lnR>
                    <a:lnT w="4320">
                      <a:solidFill>
                        <a:srgbClr val="ffcc00"/>
                      </a:solidFill>
                    </a:lnT>
                    <a:lnB w="43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75"/>
          <p:cNvSpPr/>
          <p:nvPr/>
        </p:nvSpPr>
        <p:spPr>
          <a:xfrm>
            <a:off x="533520" y="4876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ерь подсчитайте общее количество балл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люч к тест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 5 до 7 баллов.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2f637"/>
                </a:solidFill>
                <a:latin typeface="Tahoma"/>
              </a:rPr>
              <a:t>Вы живете с ребенком душа в душу. Вы уважаете ребенка, и он искренне любит и уважает Вас. Ваши отношения способствуют становлению его 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 8 до 10 баллов.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мечаются некоторые сложности во взаимоотношениях с ребенком, непонимание его проблем, попытки перенести вину за недостатки в его развитии на самого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1 баллов и выше.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Вы непоследовательны в общении с ребенком. Он уважает Вас, хотя и не всегда с Вами откровенен. Его развитие подвержено влиянию случайных обстоятель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Tahoma"/>
              </a:rPr>
              <a:t>Спасибо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Tahoma"/>
              </a:rPr>
              <a:t>за внимание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banner2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тод воспитания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– это способ воздействия на сознание, чувства ребёнка с целью формирования убеждений, волевых свойств личности, опыта нравственного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%D1%81%D0%B5%D0%BC%D1%8C%D1%8F"/>
          <p:cNvPicPr/>
          <p:nvPr/>
        </p:nvPicPr>
        <p:blipFill>
          <a:blip r:embed="rId1"/>
          <a:stretch/>
        </p:blipFill>
        <p:spPr>
          <a:xfrm>
            <a:off x="2286000" y="3324240"/>
            <a:ext cx="47782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пецифика методов воспит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 Unicode MS"/>
              </a:rPr>
              <a:t>влияние на ребенка осуществляется исключительно индивидуально и основывается на его конкретных действиях и поступках, а также приспособлении к его психическим и личностным особенностя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 Unicode MS"/>
              </a:rPr>
              <a:t>выбор методов зависит от педагогической культуры родителей: понимания цели воспитания, родительской роли, представлений о ценностях, стиля отношений в семье, особенностей воспитательного взаимодействия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т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убежд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поощр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метод совместной практической деятель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метод принуждения (наказани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9ffff"/>
                </a:solidFill>
                <a:uFillTx/>
                <a:latin typeface="Tahoma"/>
              </a:rPr>
              <a:t>Метод убежд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едусматривает педагогическое взаимодействие родителей с целью формирования у ребенка внутреннего согласия с предъявляемыми к нему требованиями. В качестве его средств преимущественно используются объяснение, внушение и со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8" descr="tta"/>
          <p:cNvPicPr/>
          <p:nvPr/>
        </p:nvPicPr>
        <p:blipFill>
          <a:blip r:embed="rId1"/>
          <a:stretch/>
        </p:blipFill>
        <p:spPr>
          <a:xfrm>
            <a:off x="6629400" y="4510080"/>
            <a:ext cx="25146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29ffff"/>
                </a:solidFill>
                <a:uFillTx/>
                <a:latin typeface="Tahoma"/>
              </a:rPr>
              <a:t>Метод поощрения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дполагает использование системы педагогически целесообразных средств (похвала, подарки, формирование перспективы) с целью побуждения ребенка к формированию у себя желаемых свойств и качеств личности или привычек повед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_-3_1_~1"/>
          <p:cNvPicPr/>
          <p:nvPr/>
        </p:nvPicPr>
        <p:blipFill>
          <a:blip r:embed="rId1"/>
          <a:stretch/>
        </p:blipFill>
        <p:spPr>
          <a:xfrm>
            <a:off x="6819840" y="4343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29ffff"/>
                </a:solidFill>
                <a:uFillTx/>
                <a:latin typeface="Tahoma"/>
              </a:rPr>
              <a:t>Метод совместной практической деятельности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разумевает участие родителей и детей в одних и тех же мероприятиях воспитательной направленности (посещение музеев, театров; семейные выезды на природу, и д.р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8111"/>
          <p:cNvPicPr/>
          <p:nvPr/>
        </p:nvPicPr>
        <p:blipFill>
          <a:blip r:embed="rId1"/>
          <a:stretch/>
        </p:blipFill>
        <p:spPr>
          <a:xfrm>
            <a:off x="5791320" y="4603680"/>
            <a:ext cx="2819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6933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ffff"/>
                </a:solidFill>
                <a:uFillTx/>
                <a:latin typeface="Tahoma"/>
              </a:rPr>
              <a:t>Метод принуждения (наказания</a:t>
            </a: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применение по отношению к ребенку системы специальных не унижающих его личностного достоинства средств, с целью формирования у него отказа от нежелательных действий, поступков, суждений и др. Как правило, в качестве средств наказания используется лишение его определенного перечня значимых для него удовольствий – просмотра телевизора, прогулки с друзьями, использования компьютера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2020~1"/>
          <p:cNvPicPr/>
          <p:nvPr/>
        </p:nvPicPr>
        <p:blipFill>
          <a:blip r:embed="rId1"/>
          <a:stretch/>
        </p:blipFill>
        <p:spPr>
          <a:xfrm>
            <a:off x="7010280" y="0"/>
            <a:ext cx="17240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Условия выбора методов воспит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е родителями своих детей и учет их положительных и отрицательных качеств: что читают, чем интересуются, какие домашние и общественные поручения выполняют, какие трудности испытывают и др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ый опыт родителей, их авторитет, характер отношений в семье, стремление и способность воспитывать детей личным пример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лучае предпочтения детьми общения с родителями приоритет отдается методу совместной практическ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уровня педагогической культуры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5:41:00Z</dcterms:created>
  <dc:creator>иван</dc:creator>
  <dc:description/>
  <dc:language>en-US</dc:language>
  <cp:lastModifiedBy>Пользователь</cp:lastModifiedBy>
  <dcterms:modified xsi:type="dcterms:W3CDTF">2017-09-13T12:51:55Z</dcterms:modified>
  <cp:revision>7</cp:revision>
  <dc:subject/>
  <dc:title>Слайд 1</dc:title>
</cp:coreProperties>
</file>