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9.gif" ContentType="image/gif"/>
  <Override PartName="/ppt/media/image5.png" ContentType="image/png"/>
  <Override PartName="/ppt/media/image2.png" ContentType="image/png"/>
  <Override PartName="/ppt/media/image1.jpeg" ContentType="image/jpeg"/>
  <Override PartName="/ppt/media/image4.gif" ContentType="image/gif"/>
  <Override PartName="/ppt/media/image10.gif" ContentType="image/gif"/>
  <Override PartName="/ppt/media/image13.png" ContentType="image/png"/>
  <Override PartName="/ppt/media/image3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F00-4C58-4D31-AA9C-92EFAEBF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5AA-E0E1-4503-8647-E8135894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B4F-67D2-48B6-B74A-89093EFB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7C9-B6C0-4616-BBF6-8139D970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E9E-B532-4E35-837B-DF868AE2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419-6D79-44E1-ABF6-05EDFE5B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FC8-A902-49D2-B7F0-CA21E0F4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6BD-5BBD-41EB-97B0-119EFF19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EEF-67A8-4FA7-B30A-0B1F63A0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B29-4839-402E-99F8-19654054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288-5265-4F97-8E8E-6C5D0971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CB2-605F-473B-95BB-9F30A6B9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1389-A0A1-4F41-BDAA-39162269A3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1760" y="2857680"/>
            <a:ext cx="7200720" cy="14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Gabriola"/>
              </a:rPr>
              <a:t>Нестандартные формы организации занятий                            в студии раннего развития «Малышок»                                      по программе «Математическое воображение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5960" y="4142880"/>
            <a:ext cx="692928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Автор: Клименко Ксения Федоровн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педагог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ст.Кавказск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643040" y="285840"/>
            <a:ext cx="7201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Муниципальное бюджетное образовательное учреждение дополнительного образования Дом детского твор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муниципального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Кавказский рай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1" descr="Копия логотип ддт_нов"/>
          <p:cNvPicPr/>
          <p:nvPr/>
        </p:nvPicPr>
        <p:blipFill>
          <a:blip r:embed="rId1"/>
          <a:stretch/>
        </p:blipFill>
        <p:spPr>
          <a:xfrm>
            <a:off x="4857840" y="1571760"/>
            <a:ext cx="8586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нятия-иг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1643040" y="2000160"/>
            <a:ext cx="70437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гровой форме проводятся все занятия в студии раннего развит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есть такие настольные игры, дидактические игры которые помогают детям бегло считать, логически рассуждать, просчитывать варианты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ы: домино, математическое и геометрическое лото, пазлы, геометрические фигуры, лабиринты, головоломки,  ребусы, танграм, судоку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D:\Мои рисунки\АНИМАЦИЯ\АНИМАЦИЯ\Анимации\Предметы\60r1.gif"/>
          <p:cNvPicPr/>
          <p:nvPr/>
        </p:nvPicPr>
        <p:blipFill>
          <a:blip r:embed="rId1"/>
          <a:stretch/>
        </p:blipFill>
        <p:spPr>
          <a:xfrm>
            <a:off x="4786200" y="5500800"/>
            <a:ext cx="12589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нятия - путеше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1643040" y="2000160"/>
            <a:ext cx="6715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- путешеств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очень увлекательны, дают   эмоциональный подъем, дети хорошо запоминают материа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тешествия бывают очные (меняется место проведения занятия) и заочные (с показом мультипликационных фильмов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в студии раннего развития «Малышок» проводятся занят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Лесная школа»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Игра-путешествие «Клад кота Леопольда»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олёт в космос»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Карта Мира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D:\Мои рисунки\АНИМАЦИЯ\АНИМАЦИЯ\Анимации\Планеты звёзды явления природы\Астрономия\globe019.gif"/>
          <p:cNvPicPr/>
          <p:nvPr/>
        </p:nvPicPr>
        <p:blipFill>
          <a:blip r:embed="rId1"/>
          <a:stretch/>
        </p:blipFill>
        <p:spPr>
          <a:xfrm rot="2136600">
            <a:off x="6428880" y="4429080"/>
            <a:ext cx="18036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2000160" y="2844720"/>
            <a:ext cx="64296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Учебная деятельность, основанная на  нестандартных, оригинальных формах занятий активизирующих всех учащихс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вышает интерес к занятия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и вместе с тем обеспечивает быстроту запоминания, понимания и усвоения учебного материала с учетом возраста и способностей дошколь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F:\картинки\клипарт\a24ea32653fe.png"/>
          <p:cNvPicPr/>
          <p:nvPr/>
        </p:nvPicPr>
        <p:blipFill>
          <a:blip r:embed="rId1"/>
          <a:stretch/>
        </p:blipFill>
        <p:spPr>
          <a:xfrm>
            <a:off x="3929040" y="714240"/>
            <a:ext cx="2571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2786040" y="1785960"/>
            <a:ext cx="3786120" cy="38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F:\картинки\клипарт\a24ea32653fe.png"/>
          <p:cNvPicPr/>
          <p:nvPr/>
        </p:nvPicPr>
        <p:blipFill>
          <a:blip r:embed="rId2"/>
          <a:stretch/>
        </p:blipFill>
        <p:spPr>
          <a:xfrm>
            <a:off x="6215040" y="500040"/>
            <a:ext cx="2571840" cy="1476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rain.png"/>
          <p:cNvPicPr/>
          <p:nvPr/>
        </p:nvPicPr>
        <p:blipFill>
          <a:blip r:embed="rId3"/>
          <a:stretch/>
        </p:blipFill>
        <p:spPr>
          <a:xfrm>
            <a:off x="2786040" y="428760"/>
            <a:ext cx="5715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058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00000"/>
                </a:solidFill>
                <a:latin typeface="Times New Roman"/>
              </a:rPr>
              <a:t>Нестандартные занятия имеют такие признак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915920"/>
            <a:ext cx="712944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и несут элементы нового, изменяются внешние рамки, места прове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уется внепрограммный материал, организуется коллективная деятельность в сочетании с индивидуальной работо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влекаются для организации  занятия люди разных професс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стигается эмоциональный подъем учащихся через оформление кабинета, используются  цифровые образовательные ресурс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яются творческие зад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здается временная инициативная группа из учащихся для подготовки  занят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ируется   занятие заране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яются чётко три дидактические задач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50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Gabriola"/>
              </a:rPr>
              <a:t>Нестандартные формы организации занятий                            в студии раннего развития «Малышок»                                      по программе «Математическое воображение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692360" y="1628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643120" y="2357280"/>
          <a:ext cx="4929120" cy="3711600"/>
        </p:xfrm>
        <a:graphic>
          <a:graphicData uri="http://schemas.openxmlformats.org/drawingml/2006/table">
            <a:tbl>
              <a:tblPr/>
              <a:tblGrid>
                <a:gridCol w="642960"/>
                <a:gridCol w="4286160"/>
              </a:tblGrid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 marL="1584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84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-интерв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marL="1584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84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 - соревн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marL="1584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84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Театрализованные  зан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омпьютерные зан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marL="5400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400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 творч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marL="5400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400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 - аукци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marL="5400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400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 - иг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marL="15840"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840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Занятия - путеше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840" indent="0" algn="ctr">
              <a:lnSpc>
                <a:spcPct val="107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Занятия-интерв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D:\Мои рисунки\АНИМАЦИЯ\АНИМАЦИЯ\Анимации\Люди\Наука и професии\62r2.gif"/>
          <p:cNvPicPr/>
          <p:nvPr/>
        </p:nvPicPr>
        <p:blipFill>
          <a:blip r:embed="rId1"/>
          <a:stretch/>
        </p:blipFill>
        <p:spPr>
          <a:xfrm>
            <a:off x="7929720" y="5000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1643040" y="1423440"/>
            <a:ext cx="664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243e"/>
                </a:solidFill>
                <a:latin typeface="Times New Roman"/>
              </a:rPr>
              <a:t>Занятие-интервью  проводится  на вводных занятиях с целью знакомства с детьми, выявления их интересов, желаний и возможност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243e"/>
                </a:solidFill>
                <a:latin typeface="Times New Roman"/>
              </a:rPr>
              <a:t>Проводится  коммуникативная игра  «Давайте  знакомиться». Каждый ребёнок называет  своё имя и спрашивает имя соседа. Проводить эту игру можно при помощи образовательной игрушки (мяча,  куклы Незнайки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243e"/>
                </a:solidFill>
                <a:latin typeface="Times New Roman"/>
              </a:rPr>
              <a:t>  </a:t>
            </a:r>
            <a:r>
              <a:rPr b="1" lang="ru-RU" sz="2200" spc="-1" strike="noStrike">
                <a:solidFill>
                  <a:srgbClr val="0f243e"/>
                </a:solidFill>
                <a:latin typeface="Times New Roman"/>
              </a:rPr>
              <a:t>На этом же занятии  каждый ребёнок имеет возможность подержать в руках микрофон и дать  публичное  интервью о том, что нравится ребёнку или что он любит делать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3040" y="274680"/>
            <a:ext cx="70437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Занятия - соревнов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1571760" y="1857240"/>
            <a:ext cx="66150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нятия – соревнования проводятся как закрепляющие или итогов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акие соревнования ка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*Кто первый преодолеет переправу, перепрыгнет с кочки на кочку по порядку чисел, нарисованных на коч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*Какая команда первой соберёт цифры по порядк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*Какая команда быстрее соберёт пазлы с цифрам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* Кто первым  построит из кубиков заданный рисунок 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D:\Мои рисунки\АНИМАЦИЯ\АНИМАЦИЯ\Анимации\Люди\Спорт\3443a60c4cbbbbea155f6f1b32e7445e.gif"/>
          <p:cNvPicPr/>
          <p:nvPr/>
        </p:nvPicPr>
        <p:blipFill>
          <a:blip r:embed="rId1"/>
          <a:stretch/>
        </p:blipFill>
        <p:spPr>
          <a:xfrm>
            <a:off x="7572240" y="1071720"/>
            <a:ext cx="12146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атрализованные  занят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D:\2015 -2016гг\Пластилин 2016\maxresdefault.jpg"/>
          <p:cNvPicPr/>
          <p:nvPr/>
        </p:nvPicPr>
        <p:blipFill>
          <a:blip r:embed="rId1"/>
          <a:stretch/>
        </p:blipFill>
        <p:spPr>
          <a:xfrm>
            <a:off x="1365120" y="4297320"/>
            <a:ext cx="3627720" cy="234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2015 -2016гг\Пластилин 2016\1.jpg"/>
          <p:cNvPicPr/>
          <p:nvPr/>
        </p:nvPicPr>
        <p:blipFill>
          <a:blip r:embed="rId2"/>
          <a:stretch/>
        </p:blipFill>
        <p:spPr>
          <a:xfrm>
            <a:off x="7083360" y="4230720"/>
            <a:ext cx="1968480" cy="243828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2643120" y="3786120"/>
            <a:ext cx="53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,2,3,4,5,6,7,8,9,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1643040" y="2071800"/>
            <a:ext cx="721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атрализованные  занятия – проводятся в студии при изучении порядковых номеров, где вместо героев сказки выступают  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пьютерные за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1714680" y="1520280"/>
            <a:ext cx="7000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Занятия с использованием  презентаци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занятия с онлайн – олимпиадам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резентации с повествованием из сборников  «Арифметика-малышка»  (Тётушка Сова), «Почемучка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резентации  по проверке знани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Смешарики  учат цифры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Состав чисел»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Повторяем состав чисел от 5 до 10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Решаем задачи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Логика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Заселяем домики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Геометрия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Число 7», «Число 3», «Число 8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Муркин счёт»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D:\Мои рисунки\АНИМАЦИЯ\АНИМАЦИЯ\Анимации\Люди\Люди Дети\ДЕТИ\21_3.gif"/>
          <p:cNvPicPr/>
          <p:nvPr/>
        </p:nvPicPr>
        <p:blipFill>
          <a:blip r:embed="rId1"/>
          <a:stretch/>
        </p:blipFill>
        <p:spPr>
          <a:xfrm>
            <a:off x="7286760" y="10000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71760" y="35676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нятия творчества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1643040" y="2928960"/>
            <a:ext cx="7115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нятия творчеств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занятия на развитие фантазии, воображения, способностей по конструированию из различных материал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маги, пластилина, кубиков, палочек, лего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D:\Мои рисунки\АНИМАЦИЯ\АНИМАЦИЯ\Анимации\Люди\Люди Дети\ДЕТИ\J0283629.GIF"/>
          <p:cNvPicPr/>
          <p:nvPr/>
        </p:nvPicPr>
        <p:blipFill>
          <a:blip r:embed="rId1"/>
          <a:stretch/>
        </p:blipFill>
        <p:spPr>
          <a:xfrm flipH="1">
            <a:off x="7643520" y="857160"/>
            <a:ext cx="857160" cy="90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:\Мои рисунки\АНИМАЦИЯ\АНИМАЦИЯ\Анимации\Люди\Люди Дети\ДЕТИ\J0283467.GIF"/>
          <p:cNvPicPr/>
          <p:nvPr/>
        </p:nvPicPr>
        <p:blipFill>
          <a:blip r:embed="rId2"/>
          <a:stretch/>
        </p:blipFill>
        <p:spPr>
          <a:xfrm>
            <a:off x="5643720" y="5357880"/>
            <a:ext cx="1643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нятия - аукцио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1714680" y="2000160"/>
            <a:ext cx="685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ия – аукционы предназначены для закрепления знаний детей по составу чисел, решения задач на сложение и вычитание. Дидактические игры «Веселый сад», «Корзиночка с урожаем», «Математический магазин», «Математический зоопарк», «Гараж» устроены на основе аукциона, т.е. педагог называет число, дети показывают две таблички с  меньшими числами, которые в сумме дают  данное чис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занятии-аукционе «Математический магазин» дети  совершают «покупки»  за две условные купюры, которые в сумме  составляют стоимость товара (игрушек). Т.о. дети получают практический навык сложения чисел. А в процессе «получение сдачи» от покупки товара – изучаем на практике действие «вычита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D:\Мои рисунки\АНИМАЦИЯ\АНИМАЦИЯ\Анимации\Люди\Наука и професии\J0076172.GIF"/>
          <p:cNvPicPr/>
          <p:nvPr/>
        </p:nvPicPr>
        <p:blipFill>
          <a:blip r:embed="rId1"/>
          <a:stretch/>
        </p:blipFill>
        <p:spPr>
          <a:xfrm>
            <a:off x="6858000" y="642960"/>
            <a:ext cx="15429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Comp</cp:lastModifiedBy>
  <dcterms:modified xsi:type="dcterms:W3CDTF">2017-09-23T04:55:10Z</dcterms:modified>
  <cp:revision>73</cp:revision>
  <dc:subject/>
  <dc:title>Слайд 1</dc:title>
</cp:coreProperties>
</file>