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gif" ContentType="image/gif"/>
  <Override PartName="/ppt/media/image9.gif" ContentType="image/gif"/>
  <Override PartName="/ppt/media/image5.png" ContentType="image/png"/>
  <Override PartName="/ppt/media/image2.png" ContentType="image/png"/>
  <Override PartName="/ppt/media/image1.jpeg" ContentType="image/jpeg"/>
  <Override PartName="/ppt/media/image4.gif" ContentType="image/gif"/>
  <Override PartName="/ppt/media/image10.gif" ContentType="image/gif"/>
  <Override PartName="/ppt/media/image13.png" ContentType="image/png"/>
  <Override PartName="/ppt/media/image3.gif" ContentType="image/gif"/>
  <Override PartName="/ppt/media/image6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975A-BC4B-4F28-BF95-383FC4AC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2696-4F73-4391-919F-76CE1F2A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B71C-A95B-430A-A54B-7EAD7F77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897-074A-401C-835C-EAF2AF45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44DE-1284-4788-B8EC-911B3495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148A-F417-406A-AC53-A76A3E03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7777-39B7-4818-ADF4-05121839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9B69-495A-4CBF-9D1D-853399F9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92E0-8936-4D8E-A92F-7C1AC0C4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FBF0-685B-4164-9C89-C70D3C20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CA8-C86E-4C55-BD57-33764FEB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3B2B-4494-4160-839B-2CF2B9BF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CD08-F330-45CB-9E60-1470062A75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1760" y="2857680"/>
            <a:ext cx="7200720" cy="14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00000"/>
                </a:solidFill>
                <a:latin typeface="Gabriola"/>
              </a:rPr>
              <a:t>Нестандартные формы организации занятий                            в студии раннего развития «Малышок»                                      по программе «Математическое воображение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5960" y="4142880"/>
            <a:ext cx="692928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Автор: Клименко Ксения Федоровн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педагог дополните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ст.Кавказска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1643040" y="285840"/>
            <a:ext cx="72010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b00000"/>
                </a:solidFill>
                <a:latin typeface="Times New Roman"/>
              </a:rPr>
              <a:t>Муниципальное бюджетное образовательное учреждение дополнительного образования Дом детского творче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00000"/>
                </a:solidFill>
                <a:latin typeface="Times New Roman"/>
              </a:rPr>
              <a:t>муниципального образова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00000"/>
                </a:solidFill>
                <a:latin typeface="Times New Roman"/>
              </a:rPr>
              <a:t>Кавказский рай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1" descr="Копия логотип ддт_нов"/>
          <p:cNvPicPr/>
          <p:nvPr/>
        </p:nvPicPr>
        <p:blipFill>
          <a:blip r:embed="rId1"/>
          <a:stretch/>
        </p:blipFill>
        <p:spPr>
          <a:xfrm>
            <a:off x="4857840" y="1571760"/>
            <a:ext cx="8586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3040" y="27432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нятия-иг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1643040" y="2000160"/>
            <a:ext cx="70437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игровой форме проводятся все занятия в студии раннего развит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есть такие настольные игры, дидактические игры которые помогают детям бегло считать, логически рассуждать, просчитывать варианты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гры: домино, математическое и геометрическое лото, пазлы, геометрические фигуры, лабиринты, головоломки,  ребусы, танграм, судоку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D:\Мои рисунки\АНИМАЦИЯ\АНИМАЦИЯ\Анимации\Предметы\60r1.gif"/>
          <p:cNvPicPr/>
          <p:nvPr/>
        </p:nvPicPr>
        <p:blipFill>
          <a:blip r:embed="rId1"/>
          <a:stretch/>
        </p:blipFill>
        <p:spPr>
          <a:xfrm>
            <a:off x="4786200" y="5500800"/>
            <a:ext cx="12589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43040" y="27432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нятия - путешеств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1643040" y="2000160"/>
            <a:ext cx="67150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нятия - путешестви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– очень увлекательны, дают   эмоциональный подъем, дети хорошо запоминают материа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утешествия бывают очные (меняется место проведения занятия) и заочные (с показом мультипликационных фильмов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пример, в студии раннего развития «Малышок» проводятся занят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Лесная школа»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Игра-путешествие «Клад кота Леопольда»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Полёт в космос»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Карта Мира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D:\Мои рисунки\АНИМАЦИЯ\АНИМАЦИЯ\Анимации\Планеты звёзды явления природы\Астрономия\globe019.gif"/>
          <p:cNvPicPr/>
          <p:nvPr/>
        </p:nvPicPr>
        <p:blipFill>
          <a:blip r:embed="rId1"/>
          <a:stretch/>
        </p:blipFill>
        <p:spPr>
          <a:xfrm rot="2136600">
            <a:off x="6428880" y="4429080"/>
            <a:ext cx="180360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2000160" y="2844720"/>
            <a:ext cx="64296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Учебная деятельность, основанная на  нестандартных, оригинальных формах занятий активизирующих всех учащихс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овышает интерес к занятия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и вместе с тем обеспечивает быстроту запоминания, понимания и усвоения учебного материала с учетом возраста и способностей дошкольни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F:\картинки\клипарт\a24ea32653fe.png"/>
          <p:cNvPicPr/>
          <p:nvPr/>
        </p:nvPicPr>
        <p:blipFill>
          <a:blip r:embed="rId1"/>
          <a:stretch/>
        </p:blipFill>
        <p:spPr>
          <a:xfrm>
            <a:off x="3929040" y="714240"/>
            <a:ext cx="25718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2786040" y="1785960"/>
            <a:ext cx="3786120" cy="3868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F:\картинки\клипарт\a24ea32653fe.png"/>
          <p:cNvPicPr/>
          <p:nvPr/>
        </p:nvPicPr>
        <p:blipFill>
          <a:blip r:embed="rId2"/>
          <a:stretch/>
        </p:blipFill>
        <p:spPr>
          <a:xfrm>
            <a:off x="6215040" y="500040"/>
            <a:ext cx="2571840" cy="1476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rain.png"/>
          <p:cNvPicPr/>
          <p:nvPr/>
        </p:nvPicPr>
        <p:blipFill>
          <a:blip r:embed="rId3"/>
          <a:stretch/>
        </p:blipFill>
        <p:spPr>
          <a:xfrm>
            <a:off x="2786040" y="428760"/>
            <a:ext cx="5715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7058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00000"/>
                </a:solidFill>
                <a:latin typeface="Times New Roman"/>
              </a:rPr>
              <a:t>Нестандартные занятия имеют такие признак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9280" y="1915920"/>
            <a:ext cx="712944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ни несут элементы нового, изменяются внешние рамки, места провед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ользуется внепрограммный материал, организуется коллективная деятельность в сочетании с индивидуальной работо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влекаются для организации  занятия люди разных професс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стигается эмоциональный подъем учащихся через оформление кабинета, используются  цифровые образовательные ресурс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полняются творческие зад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здается временная инициативная группа из учащихся для подготовки  занят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ланируется   занятие заране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еделяются чётко три дидактические задач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50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00000"/>
                </a:solidFill>
                <a:latin typeface="Gabriola"/>
              </a:rPr>
              <a:t>Нестандартные формы организации занятий                            в студии раннего развития «Малышок»                                      по программе «Математическое воображение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692360" y="162864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643120" y="2357280"/>
          <a:ext cx="4929120" cy="3711600"/>
        </p:xfrm>
        <a:graphic>
          <a:graphicData uri="http://schemas.openxmlformats.org/drawingml/2006/table">
            <a:tbl>
              <a:tblPr/>
              <a:tblGrid>
                <a:gridCol w="642960"/>
                <a:gridCol w="4286160"/>
              </a:tblGrid>
              <a:tr h="392400">
                <a:tc>
                  <a:txBody>
                    <a:bodyPr lIns="68760" rIns="68760" tIns="0" bIns="0" anchor="t">
                      <a:noAutofit/>
                    </a:bodyPr>
                    <a:p>
                      <a:pPr marL="15840"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5840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Занятия-интерв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marL="15840"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5840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Занятия - соревн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68760" rIns="68760" tIns="0" bIns="0" anchor="t">
                      <a:noAutofit/>
                    </a:bodyPr>
                    <a:p>
                      <a:pPr marL="15840"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5840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Театрализованные  заня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Компьютерные заня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marL="54000"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4000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Занятия творч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marL="54000"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4000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Занятия - аукци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marL="54000"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4000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Занятия - иг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marL="15840"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5840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Занятия - путешест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840" indent="0" algn="ctr">
              <a:lnSpc>
                <a:spcPct val="107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</a:rPr>
              <a:t>Занятия-интервь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D:\Мои рисунки\АНИМАЦИЯ\АНИМАЦИЯ\Анимации\Люди\Наука и професии\62r2.gif"/>
          <p:cNvPicPr/>
          <p:nvPr/>
        </p:nvPicPr>
        <p:blipFill>
          <a:blip r:embed="rId1"/>
          <a:stretch/>
        </p:blipFill>
        <p:spPr>
          <a:xfrm>
            <a:off x="7929720" y="50004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1643040" y="1423440"/>
            <a:ext cx="66438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f243e"/>
                </a:solidFill>
                <a:latin typeface="Times New Roman"/>
              </a:rPr>
              <a:t>Занятие-интервью  проводится  на вводных занятиях с целью знакомства с детьми, выявления их интересов, желаний и возможносте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f243e"/>
                </a:solidFill>
                <a:latin typeface="Times New Roman"/>
              </a:rPr>
              <a:t>Проводится  коммуникативная игра  «Давайте  знакомиться». Каждый ребёнок называет  своё имя и спрашивает имя соседа. Проводить эту игру можно при помощи образовательной игрушки (мяча,  куклы Незнайки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f243e"/>
                </a:solidFill>
                <a:latin typeface="Times New Roman"/>
              </a:rPr>
              <a:t>  </a:t>
            </a:r>
            <a:r>
              <a:rPr b="1" lang="ru-RU" sz="2200" spc="-1" strike="noStrike">
                <a:solidFill>
                  <a:srgbClr val="0f243e"/>
                </a:solidFill>
                <a:latin typeface="Times New Roman"/>
              </a:rPr>
              <a:t>На этом же занятии  каждый ребёнок имеет возможность подержать в руках микрофон и дать  публичное  интервью о том, что нравится ребёнку или что он любит делать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43040" y="274680"/>
            <a:ext cx="70437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333333"/>
                </a:solidFill>
                <a:latin typeface="Times New Roman"/>
              </a:rPr>
              <a:t>Занятия - соревнова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1571760" y="1857240"/>
            <a:ext cx="66150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анятия – соревнования проводятся как закрепляющие или итогов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акие соревнования ка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*Кто первый преодолеет переправу, перепрыгнет с кочки на кочку по порядку чисел, нарисованных на коч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*Какая команда первой соберёт цифры по порядк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*Какая команда быстрее соберёт пазлы с цифрам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* Кто первым  построит из кубиков заданный рисунок 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D:\Мои рисунки\АНИМАЦИЯ\АНИМАЦИЯ\Анимации\Люди\Спорт\3443a60c4cbbbbea155f6f1b32e7445e.gif"/>
          <p:cNvPicPr/>
          <p:nvPr/>
        </p:nvPicPr>
        <p:blipFill>
          <a:blip r:embed="rId1"/>
          <a:stretch/>
        </p:blipFill>
        <p:spPr>
          <a:xfrm>
            <a:off x="7572240" y="1071720"/>
            <a:ext cx="12146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атрализованные  занят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D:\2015 -2016гг\Пластилин 2016\maxresdefault.jpg"/>
          <p:cNvPicPr/>
          <p:nvPr/>
        </p:nvPicPr>
        <p:blipFill>
          <a:blip r:embed="rId1"/>
          <a:stretch/>
        </p:blipFill>
        <p:spPr>
          <a:xfrm>
            <a:off x="1365120" y="4297320"/>
            <a:ext cx="3627720" cy="2347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:\2015 -2016гг\Пластилин 2016\1.jpg"/>
          <p:cNvPicPr/>
          <p:nvPr/>
        </p:nvPicPr>
        <p:blipFill>
          <a:blip r:embed="rId2"/>
          <a:stretch/>
        </p:blipFill>
        <p:spPr>
          <a:xfrm>
            <a:off x="7083360" y="4230720"/>
            <a:ext cx="1968480" cy="243828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2643120" y="3786120"/>
            <a:ext cx="5357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,2,3,4,5,6,7,8,9,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1643040" y="2071800"/>
            <a:ext cx="721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атрализованные  занятия – проводятся в студии при изучении порядковых номеров, где вместо героев сказки выступают  чис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пьютерные за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1714680" y="1520280"/>
            <a:ext cx="7000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Занятия с использованием  презентаци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занятия с онлайн – олимпиадам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резентации с повествованием из сборников  «Арифметика-малышка»  (Тётушка Сова), «Почемучка»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резентации  по проверке знаний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«Смешарики  учат цифры»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«Состав чисел»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«Повторяем состав чисел от 5 до 10»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«Решаем задачи»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«Логика»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«Заселяем домики»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«Геометрия»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«Число 7», «Число 3», «Число 8»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«Муркин счёт»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D:\Мои рисунки\АНИМАЦИЯ\АНИМАЦИЯ\Анимации\Люди\Люди Дети\ДЕТИ\21_3.gif"/>
          <p:cNvPicPr/>
          <p:nvPr/>
        </p:nvPicPr>
        <p:blipFill>
          <a:blip r:embed="rId1"/>
          <a:stretch/>
        </p:blipFill>
        <p:spPr>
          <a:xfrm>
            <a:off x="7286760" y="10000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71760" y="35676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нятия творчества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1643040" y="2928960"/>
            <a:ext cx="71150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нятия творчества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занятия на развитие фантазии, воображения, способностей по конструированию из различных материал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умаги, пластилина, кубиков, палочек, лего.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D:\Мои рисунки\АНИМАЦИЯ\АНИМАЦИЯ\Анимации\Люди\Люди Дети\ДЕТИ\J0283629.GIF"/>
          <p:cNvPicPr/>
          <p:nvPr/>
        </p:nvPicPr>
        <p:blipFill>
          <a:blip r:embed="rId1"/>
          <a:stretch/>
        </p:blipFill>
        <p:spPr>
          <a:xfrm flipH="1">
            <a:off x="7643520" y="857160"/>
            <a:ext cx="857160" cy="905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D:\Мои рисунки\АНИМАЦИЯ\АНИМАЦИЯ\Анимации\Люди\Люди Дети\ДЕТИ\J0283467.GIF"/>
          <p:cNvPicPr/>
          <p:nvPr/>
        </p:nvPicPr>
        <p:blipFill>
          <a:blip r:embed="rId2"/>
          <a:stretch/>
        </p:blipFill>
        <p:spPr>
          <a:xfrm>
            <a:off x="5643720" y="5357880"/>
            <a:ext cx="16430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нятия - аукцио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1714680" y="2000160"/>
            <a:ext cx="6858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нятия – аукционы предназначены для закрепления знаний детей по составу чисел, решения задач на сложение и вычитание. Дидактические игры «Веселый сад», «Корзиночка с урожаем», «Математический магазин», «Математический зоопарк», «Гараж» устроены на основе аукциона, т.е. педагог называет число, дети показывают две таблички с  меньшими числами, которые в сумме дают  данное числ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занятии-аукционе «Математический магазин» дети  совершают «покупки»  за две условные купюры, которые в сумме  составляют стоимость товара (игрушек). Т.о. дети получают практический навык сложения чисел. А в процессе «получение сдачи» от покупки товара – изучаем на практике действие «вычитани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D:\Мои рисунки\АНИМАЦИЯ\АНИМАЦИЯ\Анимации\Люди\Наука и професии\J0076172.GIF"/>
          <p:cNvPicPr/>
          <p:nvPr/>
        </p:nvPicPr>
        <p:blipFill>
          <a:blip r:embed="rId1"/>
          <a:stretch/>
        </p:blipFill>
        <p:spPr>
          <a:xfrm>
            <a:off x="6858000" y="642960"/>
            <a:ext cx="15429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Comp</cp:lastModifiedBy>
  <dcterms:modified xsi:type="dcterms:W3CDTF">2017-09-23T04:55:10Z</dcterms:modified>
  <cp:revision>73</cp:revision>
  <dc:subject/>
  <dc:title>Слайд 1</dc:title>
</cp:coreProperties>
</file>