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615-B897-44CA-84B6-59C1C46F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D57-5DCE-46FC-96D1-9CC534E5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1C5-597D-4455-A45A-792EC95C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0035-F5ED-4AAD-82C5-178977C0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4F8-5A6A-48CF-B3C1-67041B95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C35-1424-42EE-B02A-9B54577B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AE1-A927-40E0-8A0B-9190796B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7EB3-C897-4C6E-BCF0-15ED6875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08E-AB73-4A31-914C-EF4B89F6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4918-10E1-46AB-94D9-DA0B65FD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5756-7F82-4F67-A8CD-02AA1F58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DDEE-073E-45FB-BB6D-7B4979C9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FCB1-3AC6-4948-A3E3-2897FA670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godzagodom.com/2017-god-obyavlen-v-rossii-godom-ekologii/" TargetMode="External"/><Relationship Id="rId2" Type="http://schemas.openxmlformats.org/officeDocument/2006/relationships/hyperlink" Target="http://godzagodom.com/2017-god-obyavlen-v-rossii-godom-ekologii/" TargetMode="External"/><Relationship Id="rId3" Type="http://schemas.openxmlformats.org/officeDocument/2006/relationships/hyperlink" Target="http://godzagodom.com/2017-god-obyavlen-v-rossii-godom-ekologii/" TargetMode="External"/><Relationship Id="rId4" Type="http://schemas.openxmlformats.org/officeDocument/2006/relationships/hyperlink" Target="http://godzagodom.com/2017-god-obyavlen-v-rossii-godom-ekologii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оставные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Дата 3"/>
          <p:cNvSpPr/>
          <p:nvPr/>
        </p:nvSpPr>
        <p:spPr>
          <a:xfrm>
            <a:off x="17928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298F-D67D-4962-B892-F1B180BBCB1E}" type="datetime">
              <a:rPr b="0" lang="en-US" sz="1200" spc="-1" strike="noStrike">
                <a:solidFill>
                  <a:srgbClr val="a7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AAE7-6682-4913-8A6A-9DB66132F2FE}" type="slidenum">
              <a:rPr b="0" lang="en-US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549360"/>
            <a:ext cx="518472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Односоставные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557360"/>
            <a:ext cx="331164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главным чле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длежащ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2720" y="1557360"/>
            <a:ext cx="324000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главным чле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казуем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2924280"/>
            <a:ext cx="2282760" cy="7207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5013360"/>
            <a:ext cx="2160720" cy="7207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40360" y="2852640"/>
            <a:ext cx="2232000" cy="7923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3933720"/>
            <a:ext cx="2232000" cy="719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843280" y="981000"/>
            <a:ext cx="172872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981000"/>
            <a:ext cx="172872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227664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508360" y="2276640"/>
            <a:ext cx="136836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659640" y="2276640"/>
            <a:ext cx="217440" cy="165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77080" y="2276640"/>
            <a:ext cx="1295280" cy="27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4360" y="3933720"/>
            <a:ext cx="1496880" cy="1584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4000" y="5661000"/>
            <a:ext cx="2232000" cy="4320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А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Дата 3"/>
          <p:cNvSpPr/>
          <p:nvPr/>
        </p:nvSpPr>
        <p:spPr>
          <a:xfrm>
            <a:off x="17928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97EB-EC77-48B9-9714-096B6145CF0C}" type="datetime">
              <a:rPr b="0" lang="en-US" sz="1200" spc="-1" strike="noStrike">
                <a:solidFill>
                  <a:srgbClr val="a7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DB94-7EC6-4729-98F1-34444EF67C46}" type="slidenum">
              <a:rPr b="0" lang="en-US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49360"/>
            <a:ext cx="518472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Односоставные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557360"/>
            <a:ext cx="331164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главным чле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длежащ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92720" y="1557360"/>
            <a:ext cx="324000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главным чле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казуем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2924280"/>
            <a:ext cx="2282760" cy="7207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зы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88000" y="5013360"/>
            <a:ext cx="2160720" cy="7207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езл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2852640"/>
            <a:ext cx="2232000" cy="7923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пределён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3933720"/>
            <a:ext cx="2232000" cy="719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определён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43280" y="981000"/>
            <a:ext cx="172872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981000"/>
            <a:ext cx="172872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227664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08360" y="2276640"/>
            <a:ext cx="136836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659640" y="2276640"/>
            <a:ext cx="217440" cy="165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77080" y="2276640"/>
            <a:ext cx="1295280" cy="27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4360" y="3933720"/>
            <a:ext cx="1496880" cy="1584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5661000"/>
            <a:ext cx="2232000" cy="4320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А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блюда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ется отрывок из стихотворения М.Р. Баин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ём эти строки?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! Люблю твое дыхание,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ую родники твои -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не имеющий названья,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т тайный ток в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 Найти определенно-личные предложения, подчеркнуть основы предложени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изменилось, если бы автор писал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! Я люблю твое дыхание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целую родники тво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 Фраза становится громоздкой, внимание на себя перетягивает местоимение "я", главной становится фигура поэ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ь по групп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, любуются, призываем, живу, задумайтесь, доведут, нужно беречь, охраняйте, засоряют, не простят, наносим, становится тревожно, давайте оставим, верю, борются, хотелось 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Двусоста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Назы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пределённо- л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Неопределённо- л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Безл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о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небе сияет одинокая звез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имательно посмотрите в ок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о беречь при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ди, остановитесь , оглянитесь вокруг!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Не прожить без природы ника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легко дыши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нылое ненаст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1,3,5,3,5,5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аксический разбор предло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 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должны беречь нашу нашу прекрасную планету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ндивидуальное задание по карточ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 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у загрязняют ядохимикатам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едложение читает учитель для всего клас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 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беречь землю, так как с каждым годом ресурсы планеты все больше   истощаютс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( задание для сильных учащихся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2060640"/>
            <a:ext cx="864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ствую тебя, пустынный уголок! (А.Пушк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лнце выйдет из тумана, поле озарит… (А.Блок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густой траве пропадёшь с головой. (А.Бл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ни поздней осени бранят обыкновен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иятно пахнет жасми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д городом с громом и молниями пронеслась буря…(М.Горь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йте трепетную весну, люди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Горит восток зарёю н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68360" y="907920"/>
          <a:ext cx="8229600" cy="517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двусостав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односостав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611280" y="333360"/>
            <a:ext cx="8012160" cy="58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пределите предложения на две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1484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, 6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27640" y="141300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, 3, 4, 5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елать двусоставные предложения в односостав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Густой туман застилал долину реки.    Б) За ночь снег засыпал часть дороги, мороз сковал озе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аступает веч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зн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определя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различ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преобразовыв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разбир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саем лёд, меняем рек течень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им о том, что дел невпроворот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мы ещё придём просить прощень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этих рек, барханов и болот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мого гигантского восхода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мого малейшего мальк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 об этом думать неохот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нам не до этого. Пок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эродромы, пирсы и перроны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а без птиц и реки без воды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меньше - окружающей природы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больше - окружающей среды. (Роберт Рождествен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очешь, чтобы как к нектару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учейку ты жадно бы приник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 и молодым и старым –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ите маленький родник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Указу президента РФ от 1-го августа 2015 г. под № 392 «О проведении в РФ Года особо охраняемых природных территорий» 2017 год в России объявлен годом экологии. Подобную задачу было решено воплотить в жизнь в связи с мировой тенденцией обращения общественного внимания на проблемы экологического характера каждой страны в отдельности и всего мира в целом. Источник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odzagodom.com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2017-god-obyavlen-v-rossii-godom-ekologi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равильный вариант характеристики пред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пришлось наблюдать работу хороших актёров, игравших второстепенные р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вусоставное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дносоставное, О/Л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односоставное, ОБ/Л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дносоставное, Б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0-конечная звезда 3"/>
          <p:cNvSpPr/>
          <p:nvPr/>
        </p:nvSpPr>
        <p:spPr>
          <a:xfrm>
            <a:off x="7500960" y="642960"/>
            <a:ext cx="914400" cy="914400"/>
          </a:xfrm>
          <a:prstGeom prst="pie">
            <a:avLst/>
          </a:prstGeom>
          <a:solidFill>
            <a:srgbClr val="bbe0e3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равильный вариант характеристики пред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ернёмся к дож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вусоставное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дносоставное, О/Л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односоставное, ОБ/Л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дносоставное, Б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0-конечная звезда 3"/>
          <p:cNvSpPr/>
          <p:nvPr/>
        </p:nvSpPr>
        <p:spPr>
          <a:xfrm>
            <a:off x="7500960" y="642960"/>
            <a:ext cx="914400" cy="914400"/>
          </a:xfrm>
          <a:prstGeom prst="pie">
            <a:avLst/>
          </a:prstGeom>
          <a:solidFill>
            <a:srgbClr val="bbe0e3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равильный вариант характеристики пред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этом человеке говорят с уваж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вусоставное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дносоставное, О/Л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односоставное, Н/Л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дносоставное, Б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0-конечная звезда 3"/>
          <p:cNvSpPr/>
          <p:nvPr/>
        </p:nvSpPr>
        <p:spPr>
          <a:xfrm>
            <a:off x="7500960" y="642960"/>
            <a:ext cx="914400" cy="914400"/>
          </a:xfrm>
          <a:prstGeom prst="pie">
            <a:avLst/>
          </a:prstGeom>
          <a:solidFill>
            <a:srgbClr val="bbe0e3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4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равильный вариант характеристики пред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шина, сумр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вусоставное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дносоставное, О/Л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односоставное, ОБ/Л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дносоставное, Н, не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0-конечная звезда 3"/>
          <p:cNvSpPr/>
          <p:nvPr/>
        </p:nvSpPr>
        <p:spPr>
          <a:xfrm>
            <a:off x="7500960" y="642960"/>
            <a:ext cx="914400" cy="914400"/>
          </a:xfrm>
          <a:prstGeom prst="pie">
            <a:avLst/>
          </a:prstGeom>
          <a:solidFill>
            <a:srgbClr val="bbe0e3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равильный вариант характеристики пред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й стороне всегда садилось солн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вусоставное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дносоставное, О/Л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односоставное, ОБ/Л, 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дносоставное, Н, нераспространё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0-конечная звезда 3"/>
          <p:cNvSpPr/>
          <p:nvPr/>
        </p:nvSpPr>
        <p:spPr>
          <a:xfrm>
            <a:off x="3714840" y="3571920"/>
            <a:ext cx="914400" cy="914400"/>
          </a:xfrm>
          <a:prstGeom prst="pie">
            <a:avLst/>
          </a:prstGeom>
          <a:solidFill>
            <a:srgbClr val="bbe0e3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ологическ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едложение, в котором есть и подлежащее, и сказуе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едложение, в котором есть только подлежа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редложение, в котором есть две и более грамматические осн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едложение, в котором есть обращение, вводные слова, однородные чл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редложение, в котором нет второстепенных чле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дносоставные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13:37:51Z</dcterms:created>
  <dc:creator>User</dc:creator>
  <dc:description/>
  <dc:language>en-US</dc:language>
  <cp:lastModifiedBy>User</cp:lastModifiedBy>
  <dcterms:modified xsi:type="dcterms:W3CDTF">2016-12-15T04:20:51Z</dcterms:modified>
  <cp:revision>3</cp:revision>
  <dc:subject/>
  <dc:title>Слайд 1</dc:title>
</cp:coreProperties>
</file>