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5A8-1BA8-4989-9828-7C0A6140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D8A-2E7B-4246-A235-3507D11C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67D-6733-4626-9555-0ACF2E8F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376-D95A-4021-BE94-B6CD2D78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45B-2959-4494-9AE8-3F8710EF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30D-F58B-4372-B6F4-01560FC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06A-DF16-4FBE-B67D-4D0BD082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3CD-C084-4D39-98A1-90002B1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E15-22EB-4A1A-91FA-14CAF62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B4D-32E1-4A24-8C95-8CF097B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08A-4F70-440D-9B64-6C8DE41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EEC-DB8A-4286-8F06-C4162B0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28A1-696B-4E12-ACB9-7882554E9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odzagodom.com/2017-god-obyavlen-v-rossii-godom-ekologii/" TargetMode="External"/><Relationship Id="rId2" Type="http://schemas.openxmlformats.org/officeDocument/2006/relationships/hyperlink" Target="http://godzagodom.com/2017-god-obyavlen-v-rossii-godom-ekologii/" TargetMode="External"/><Relationship Id="rId3" Type="http://schemas.openxmlformats.org/officeDocument/2006/relationships/hyperlink" Target="http://godzagodom.com/2017-god-obyavlen-v-rossii-godom-ekologii/" TargetMode="External"/><Relationship Id="rId4" Type="http://schemas.openxmlformats.org/officeDocument/2006/relationships/hyperlink" Target="http://godzagodom.com/2017-god-obyavlen-v-rossii-godom-ekologi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оставны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17928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367-EBC0-4A55-9B82-AF7F71C44165}" type="datetime">
              <a:rPr b="0" lang="en-US" sz="1200" spc="-1" strike="noStrike">
                <a:solidFill>
                  <a:srgbClr val="a7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B865-2CE6-4D2D-99B7-5AB1B069B3E5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49360"/>
            <a:ext cx="5184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дносостав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557360"/>
            <a:ext cx="3311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лежа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57360"/>
            <a:ext cx="3240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2924280"/>
            <a:ext cx="228276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5013360"/>
            <a:ext cx="216072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2852640"/>
            <a:ext cx="2232000" cy="792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933720"/>
            <a:ext cx="2232000" cy="71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4328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2276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508360" y="2276640"/>
            <a:ext cx="136836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59640" y="2276640"/>
            <a:ext cx="217440" cy="165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2276640"/>
            <a:ext cx="129528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96880" cy="1584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661000"/>
            <a:ext cx="223200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3"/>
          <p:cNvSpPr/>
          <p:nvPr/>
        </p:nvSpPr>
        <p:spPr>
          <a:xfrm>
            <a:off x="17928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EA16-9B65-4314-A410-12C984CD9AFC}" type="datetime">
              <a:rPr b="0" lang="en-US" sz="1200" spc="-1" strike="noStrike">
                <a:solidFill>
                  <a:srgbClr val="a7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34C-C88B-42C0-B1B3-B80C2B2DD5D9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49360"/>
            <a:ext cx="5184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дносостав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557360"/>
            <a:ext cx="3311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лежа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1557360"/>
            <a:ext cx="3240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924280"/>
            <a:ext cx="228276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зы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5013360"/>
            <a:ext cx="216072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з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852640"/>
            <a:ext cx="2232000" cy="792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ё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933720"/>
            <a:ext cx="2232000" cy="71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пределё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4328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276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360" y="2276640"/>
            <a:ext cx="136836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659640" y="2276640"/>
            <a:ext cx="217440" cy="165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276640"/>
            <a:ext cx="129528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9688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5661000"/>
            <a:ext cx="223200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ся отрывок из стихотворения М.Р. Баин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ём эти строки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! Люблю твое дыхание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ю родники твои -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не имеющий названья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 тайный ток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 Найти определенно-личные предложения, подчеркнуть основы предложени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менилось, если бы автор писа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! Я люблю твое дыхани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целую родники тво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 Фраза становится громоздкой, внимание на себя перетягивает местоимение "я", главной становится фигура поэ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ь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, любуются, призываем, живу, задумайтесь, доведут, нужно беречь, охраняйте, засоряют, не простят, наносим, становится тревожно, давайте оставим, верю, борются, хотелось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Двусоста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зы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ённо- л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Неопределённо- л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Безл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небе сияет одинокая зв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посмотрите в ок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о беречь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, остановитесь , оглянитесь вокруг!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Не прожить без природы ника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легко дыш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ылое нен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1,3,5,3,5,5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й разбор пред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лжны беречь нашу нашу прекрасную планет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уальное задание по карточ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у загрязняют ядохимиката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ложение читает учитель для всего кл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беречь землю, так как с каждым годом ресурсы планеты все больше   истощаютс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 задание для сильных учащихся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06064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ую тебя, пустынный уголок! (А.Пушк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лнце выйдет из тумана, поле озарит… (А.Блок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густой траве пропадёшь с головой. (А.Б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ни поздней осени бранят обыкнов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ятно пахнет жасми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д городом с громом и молниями пронеслась буря…(М.Горь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йте трепетную весну, люди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Горит восток зарёю 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907920"/>
          <a:ext cx="8229600" cy="51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двусоста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днососта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611280" y="333360"/>
            <a:ext cx="80121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ите предложения на дв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48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, 6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14130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, 3, 4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лать двусоставные предложения в однососта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устой туман застилал долину реки.    Б) За ночь снег засыпал часть дороги, мороз сковал озе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ступает веч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н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предел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злич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реобразовы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збир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саем лёд, меняем рек течень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им о том, что дел невпроворо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ы ещё придём просить прощень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этих рек, барханов и болот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го гигантского восход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го малейшего маль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об этом думать неохот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нам не до этого. По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дромы, пирсы и перрон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без птиц и реки без воды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меньше - окружающей природы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больше - окружающей среды. (Роберт Рождестве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, чтобы как к нектар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учейку ты жадно бы прин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 и молодым и старым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маленький родни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Указу президента РФ от 1-го августа 2015 г. под № 392 «О проведении в РФ Года особо охраняемых природных территорий» 2017 год в России объявлен годом экологии. Подобную задачу было решено воплотить в жизнь в связи с мировой тенденцией обращения общественного внимания на проблемы экологического характера каждой страны в отдельности и всего мира в целом. Источник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dzagodom.com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2017-god-obyavlen-v-rossii-godom-ekolog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ришлось наблюдать работу хороших актёров, игравших второстепенные 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Б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ернёмся к дож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Б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этом человеке говорят с уваж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Н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Б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, сум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Н, не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й стороне всегда садилось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Н, не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0-конечная звезда 3"/>
          <p:cNvSpPr/>
          <p:nvPr/>
        </p:nvSpPr>
        <p:spPr>
          <a:xfrm>
            <a:off x="3714840" y="357192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олог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ложение, в котором есть и подлежащее, и сказу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едложение, в котором есть только подлежа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едложение, в котором есть две и более грамматические осн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едложение, в котором есть обращение, вводные слова, однородные чл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едложение, в котором нет второстепенных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осостав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13:37:51Z</dcterms:created>
  <dc:creator>User</dc:creator>
  <dc:description/>
  <dc:language>en-US</dc:language>
  <cp:lastModifiedBy>User</cp:lastModifiedBy>
  <dcterms:modified xsi:type="dcterms:W3CDTF">2016-12-15T04:20:51Z</dcterms:modified>
  <cp:revision>3</cp:revision>
  <dc:subject/>
  <dc:title>Слайд 1</dc:title>
</cp:coreProperties>
</file>