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54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5.gif" ContentType="image/gif"/>
  <Override PartName="/ppt/media/image38.jpeg" ContentType="image/jpeg"/>
  <Override PartName="/ppt/media/image28.wmf" ContentType="image/x-wmf"/>
  <Override PartName="/ppt/media/image37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49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44.png" ContentType="image/png"/>
  <Override PartName="/ppt/media/image40.jpeg" ContentType="image/jpeg"/>
  <Override PartName="/ppt/media/image46.png" ContentType="image/png"/>
  <Override PartName="/ppt/media/image51.jpeg" ContentType="image/jpeg"/>
  <Override PartName="/ppt/media/image53.png" ContentType="image/png"/>
  <Override PartName="/ppt/media/image32.jpeg" ContentType="image/jpeg"/>
  <Override PartName="/ppt/media/image7.gif" ContentType="image/gif"/>
  <Override PartName="/ppt/media/image31.jpeg" ContentType="image/jpeg"/>
  <Override PartName="/ppt/media/image30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27.jpeg" ContentType="image/jpeg"/>
  <Override PartName="/ppt/media/image52.png" ContentType="image/png"/>
  <Override PartName="/ppt/media/image50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736D-8501-416B-9FCF-A3F00E756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4764-7442-47E2-A2F6-826F1BE956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141F-F2DF-4D1C-98FC-BC3C53303A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9D07-71F4-4498-B2B0-7789C1FB9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6B29-4083-4AC2-AE20-C43436683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D731-9F27-433D-A92A-333EE3F118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F0D4-88CF-4F73-B926-701E8C2679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7A05-2E65-487C-8753-033095FE7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16CA-B142-4EF8-BE6A-ECC57508DC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9DD6-9090-456B-88C7-445F7605B8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FE88-20E5-47B2-80A3-C51B1F022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3B13-B89F-4006-91F5-87096CD231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CF2A-069B-4075-9936-EDE08FDF1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5D91-62FE-4AEA-BFD6-DD2094EC0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BE42-EA9D-4764-B408-07FA733821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4E7F-481A-4AFF-9016-626DBC2A9D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B660-C045-4841-A9F5-77D91F37C1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151C-B849-4FE6-80B7-CD04DE1E6D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829C-0B6E-46A1-81AE-7276AA599A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186F-1408-404E-BB85-D4B8AF0771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BFFD-28AB-49D7-B935-D383B6EB6E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0E0D-838F-4FAD-B01B-246BB0F7AC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23F4-53C8-4001-AEB3-960C09B84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19D-E2B5-4907-8377-8D7C9FA2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4BF-C04A-42DD-AFCF-7A22B917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282-438B-4BFA-831C-25F70384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FAA-056F-46C7-83C6-8C60ABCB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2D47-6CA6-4510-BDE1-B2988BB8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FCB2-F323-4C47-832C-56178862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2606-706C-414D-9A23-247D6F14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000A-FA8A-4BE6-BE02-D0B60695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F28B-FEA6-4D20-89CE-4845DAFC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6560" y="27432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C14C-F45E-4023-8ACD-F27B6445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E990-F89D-45DC-A909-98A8AF6D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80A-C1AD-4C64-BD98-CA5F58D7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63AA-FA84-479F-A372-BDD5252F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447E-6CBA-41A2-A680-933EF352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6C8C-AE6B-4DBD-860A-B33B2599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640A-AC4C-4C4D-8E63-99B25084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4C0D-E969-45DD-9C15-7E828678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974-9571-4C5E-8736-B2E9C420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77F-E790-4613-AF4C-C9CACE07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C84-EAED-43B2-8DD4-5F3FDBD6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6560" y="27432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BA4-B8D0-45E5-A151-B5B4A80D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1FD-691C-47D0-86E5-B75F5016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5F3-1866-48D4-929A-A552F98F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47E-A2D3-4F4D-BBC2-697FBE1B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99C1-C8AD-40C7-932C-DCF2C9901A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37BD-FCE3-4274-8A07-D78A58631C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7"/>
          <p:cNvSpPr txBox="1"/>
          <p:nvPr/>
        </p:nvSpPr>
        <p:spPr>
          <a:xfrm>
            <a:off x="1042920" y="1052640"/>
            <a:ext cx="6985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равила дорожного движе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ля детей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" name="Picture 4" descr="Подземный-пешеходный-перехо"/>
          <p:cNvPicPr/>
          <p:nvPr/>
        </p:nvPicPr>
        <p:blipFill>
          <a:blip r:embed="rId1"/>
          <a:stretch/>
        </p:blipFill>
        <p:spPr>
          <a:xfrm>
            <a:off x="6372360" y="4324320"/>
            <a:ext cx="1942920" cy="1898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12" descr="Пешеходный-переход"/>
          <p:cNvPicPr/>
          <p:nvPr/>
        </p:nvPicPr>
        <p:blipFill>
          <a:blip r:embed="rId2"/>
          <a:stretch/>
        </p:blipFill>
        <p:spPr>
          <a:xfrm>
            <a:off x="770040" y="4322880"/>
            <a:ext cx="2016000" cy="1939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Движение-пешеходов-запрещен"/>
          <p:cNvPicPr/>
          <p:nvPr/>
        </p:nvPicPr>
        <p:blipFill>
          <a:blip r:embed="rId3"/>
          <a:stretch/>
        </p:blipFill>
        <p:spPr>
          <a:xfrm>
            <a:off x="3419640" y="4151160"/>
            <a:ext cx="2290680" cy="2305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4"/>
          <p:cNvSpPr/>
          <p:nvPr/>
        </p:nvSpPr>
        <p:spPr>
          <a:xfrm>
            <a:off x="2363400" y="138600"/>
            <a:ext cx="2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8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ервые дорожные зна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первые дорожные знаки4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195640" y="1341360"/>
            <a:ext cx="48402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8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прещающие зна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3" descr="ПДД0011"/>
          <p:cNvPicPr/>
          <p:nvPr/>
        </p:nvPicPr>
        <p:blipFill>
          <a:blip r:embed="rId1"/>
          <a:stretch/>
        </p:blipFill>
        <p:spPr>
          <a:xfrm>
            <a:off x="324000" y="1344600"/>
            <a:ext cx="2003400" cy="194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ПДД0012"/>
          <p:cNvPicPr/>
          <p:nvPr/>
        </p:nvPicPr>
        <p:blipFill>
          <a:blip r:embed="rId2"/>
          <a:stretch/>
        </p:blipFill>
        <p:spPr>
          <a:xfrm>
            <a:off x="4565520" y="4076640"/>
            <a:ext cx="2022480" cy="1992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j0346299"/>
          <p:cNvPicPr/>
          <p:nvPr/>
        </p:nvPicPr>
        <p:blipFill>
          <a:blip r:embed="rId3"/>
          <a:stretch/>
        </p:blipFill>
        <p:spPr>
          <a:xfrm>
            <a:off x="2484360" y="2924280"/>
            <a:ext cx="1943280" cy="194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2" name="Picture 6" descr="j0346339"/>
          <p:cNvPicPr/>
          <p:nvPr/>
        </p:nvPicPr>
        <p:blipFill>
          <a:blip r:embed="rId4"/>
          <a:stretch/>
        </p:blipFill>
        <p:spPr>
          <a:xfrm>
            <a:off x="6732720" y="4726080"/>
            <a:ext cx="1871640" cy="186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8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едупреждающие зна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3" descr="ПДД0017"/>
          <p:cNvPicPr/>
          <p:nvPr/>
        </p:nvPicPr>
        <p:blipFill>
          <a:blip r:embed="rId1"/>
          <a:stretch/>
        </p:blipFill>
        <p:spPr>
          <a:xfrm>
            <a:off x="3851280" y="4454640"/>
            <a:ext cx="1728720" cy="1701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ПДД0018"/>
          <p:cNvPicPr/>
          <p:nvPr/>
        </p:nvPicPr>
        <p:blipFill>
          <a:blip r:embed="rId2"/>
          <a:stretch/>
        </p:blipFill>
        <p:spPr>
          <a:xfrm>
            <a:off x="1116000" y="4470480"/>
            <a:ext cx="1800360" cy="1698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ДД0019"/>
          <p:cNvPicPr/>
          <p:nvPr/>
        </p:nvPicPr>
        <p:blipFill>
          <a:blip r:embed="rId3"/>
          <a:stretch/>
        </p:blipFill>
        <p:spPr>
          <a:xfrm>
            <a:off x="6516720" y="4486320"/>
            <a:ext cx="1727280" cy="1606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ДД0008"/>
          <p:cNvPicPr/>
          <p:nvPr/>
        </p:nvPicPr>
        <p:blipFill>
          <a:blip r:embed="rId4"/>
          <a:stretch/>
        </p:blipFill>
        <p:spPr>
          <a:xfrm>
            <a:off x="2050920" y="1773360"/>
            <a:ext cx="2160720" cy="1900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ДД0009"/>
          <p:cNvPicPr/>
          <p:nvPr/>
        </p:nvPicPr>
        <p:blipFill>
          <a:blip r:embed="rId5"/>
          <a:stretch/>
        </p:blipFill>
        <p:spPr>
          <a:xfrm>
            <a:off x="4932360" y="1773360"/>
            <a:ext cx="2274840" cy="1923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8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едписывающие зна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3" descr="ПДД0013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258920" y="2155680"/>
            <a:ext cx="2376360" cy="2335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ПДД0002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508720" y="3357720"/>
            <a:ext cx="2519280" cy="22460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611280" y="472428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шеходная дорож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932360" y="5840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осипедная дорож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нформационно-указательные зна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3" descr="ПДД0025"/>
          <p:cNvPicPr/>
          <p:nvPr/>
        </p:nvPicPr>
        <p:blipFill>
          <a:blip r:embed="rId1"/>
          <a:stretch/>
        </p:blipFill>
        <p:spPr>
          <a:xfrm>
            <a:off x="644400" y="1484280"/>
            <a:ext cx="920880" cy="1461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ПДД0026"/>
          <p:cNvPicPr/>
          <p:nvPr/>
        </p:nvPicPr>
        <p:blipFill>
          <a:blip r:embed="rId2"/>
          <a:stretch/>
        </p:blipFill>
        <p:spPr>
          <a:xfrm>
            <a:off x="2195640" y="1484280"/>
            <a:ext cx="1030320" cy="1473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ПДД0014"/>
          <p:cNvPicPr/>
          <p:nvPr/>
        </p:nvPicPr>
        <p:blipFill>
          <a:blip r:embed="rId3"/>
          <a:srcRect l="0" t="0" r="275" b="100"/>
          <a:stretch/>
        </p:blipFill>
        <p:spPr>
          <a:xfrm>
            <a:off x="3995640" y="4797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ПДД0015"/>
          <p:cNvPicPr/>
          <p:nvPr/>
        </p:nvPicPr>
        <p:blipFill>
          <a:blip r:embed="rId4"/>
          <a:stretch/>
        </p:blipFill>
        <p:spPr>
          <a:xfrm>
            <a:off x="971640" y="4581360"/>
            <a:ext cx="1574640" cy="1656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ПДД0016"/>
          <p:cNvPicPr/>
          <p:nvPr/>
        </p:nvPicPr>
        <p:blipFill>
          <a:blip r:embed="rId5"/>
          <a:stretch/>
        </p:blipFill>
        <p:spPr>
          <a:xfrm>
            <a:off x="6738840" y="4581360"/>
            <a:ext cx="1509840" cy="158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ПДД0020"/>
          <p:cNvPicPr/>
          <p:nvPr/>
        </p:nvPicPr>
        <p:blipFill>
          <a:blip r:embed="rId6"/>
          <a:stretch/>
        </p:blipFill>
        <p:spPr>
          <a:xfrm>
            <a:off x="6659640" y="1628640"/>
            <a:ext cx="1181160" cy="180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ПДД0021"/>
          <p:cNvPicPr/>
          <p:nvPr/>
        </p:nvPicPr>
        <p:blipFill>
          <a:blip r:embed="rId7"/>
          <a:stretch/>
        </p:blipFill>
        <p:spPr>
          <a:xfrm>
            <a:off x="3995640" y="1700280"/>
            <a:ext cx="1289160" cy="2087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0"/>
          <p:cNvSpPr/>
          <p:nvPr/>
        </p:nvSpPr>
        <p:spPr>
          <a:xfrm>
            <a:off x="5724360" y="3716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орога для автомобил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24000" y="314784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остановки трамвая, автобуса или троллейбу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втомагистр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50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8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наки сервис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3" descr="ПДД0027"/>
          <p:cNvPicPr/>
          <p:nvPr/>
        </p:nvPicPr>
        <p:blipFill>
          <a:blip r:embed="rId1"/>
          <a:srcRect l="0" t="0" r="0" b="217"/>
          <a:stretch/>
        </p:blipFill>
        <p:spPr>
          <a:xfrm>
            <a:off x="826920" y="4292640"/>
            <a:ext cx="1549440" cy="2149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ПДД0028"/>
          <p:cNvPicPr/>
          <p:nvPr/>
        </p:nvPicPr>
        <p:blipFill>
          <a:blip r:embed="rId2"/>
          <a:stretch/>
        </p:blipFill>
        <p:spPr>
          <a:xfrm>
            <a:off x="2712960" y="3068640"/>
            <a:ext cx="1571760" cy="2160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ПДД0029"/>
          <p:cNvPicPr/>
          <p:nvPr/>
        </p:nvPicPr>
        <p:blipFill>
          <a:blip r:embed="rId3"/>
          <a:srcRect l="0" t="0" r="0" b="-129"/>
          <a:stretch/>
        </p:blipFill>
        <p:spPr>
          <a:xfrm>
            <a:off x="6588000" y="1268280"/>
            <a:ext cx="16639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ПДД0030"/>
          <p:cNvPicPr/>
          <p:nvPr/>
        </p:nvPicPr>
        <p:blipFill>
          <a:blip r:embed="rId4"/>
          <a:stretch/>
        </p:blipFill>
        <p:spPr>
          <a:xfrm>
            <a:off x="4627440" y="1916280"/>
            <a:ext cx="160020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наки приоритет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5472000" cy="223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2446560" cy="4957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наки дополнительной информац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556000" y="2060640"/>
            <a:ext cx="4078080" cy="15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1332000" y="4437000"/>
            <a:ext cx="6394320" cy="1609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74920" y="4797360"/>
            <a:ext cx="6192720" cy="1612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ЕШЕХОДНЫЙ ПЕРЕХОД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3" descr="Пешеходный-переход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411280" y="922320"/>
            <a:ext cx="4176720" cy="4019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511308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ДЗЕМНЫЙ ПЕШЕХОДНЫЙ ПЕРЕХОД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3" descr="Подземный-пешеходный-перехо"/>
          <p:cNvPicPr/>
          <p:nvPr/>
        </p:nvPicPr>
        <p:blipFill>
          <a:blip r:embed="rId1"/>
          <a:stretch/>
        </p:blipFill>
        <p:spPr>
          <a:xfrm>
            <a:off x="2340000" y="981000"/>
            <a:ext cx="4319640" cy="4222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2446200" y="620640"/>
            <a:ext cx="421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етоф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Picture 7" descr="18"/>
          <p:cNvPicPr/>
          <p:nvPr/>
        </p:nvPicPr>
        <p:blipFill>
          <a:blip r:embed="rId2"/>
          <a:stretch/>
        </p:blipFill>
        <p:spPr>
          <a:xfrm>
            <a:off x="395280" y="189000"/>
            <a:ext cx="110340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P1030031"/>
          <p:cNvPicPr/>
          <p:nvPr/>
        </p:nvPicPr>
        <p:blipFill>
          <a:blip r:embed="rId3"/>
          <a:stretch/>
        </p:blipFill>
        <p:spPr>
          <a:xfrm>
            <a:off x="1979640" y="2131920"/>
            <a:ext cx="5184720" cy="388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ДЕТИ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5" descr="ПДД0009"/>
          <p:cNvPicPr/>
          <p:nvPr/>
        </p:nvPicPr>
        <p:blipFill>
          <a:blip r:embed="rId1"/>
          <a:stretch/>
        </p:blipFill>
        <p:spPr>
          <a:xfrm>
            <a:off x="2052720" y="1197000"/>
            <a:ext cx="5040360" cy="4262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0360" y="5157720"/>
            <a:ext cx="8532720" cy="1486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ДВИЖЕНИЕ ПЕШЕХОДОВ ЗАПРЕЩЕН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6" descr="Движение-пешеходов-запрещен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47760" y="692280"/>
            <a:ext cx="4440240" cy="4465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2410920" y="138600"/>
            <a:ext cx="419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азмещено на http://www.nashashcola.ru/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8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414160" y="138600"/>
            <a:ext cx="423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азмещено на http://www.nashashcola.ru/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18"/>
          <p:cNvPicPr/>
          <p:nvPr/>
        </p:nvPicPr>
        <p:blipFill>
          <a:blip r:embed="rId2"/>
          <a:stretch/>
        </p:blipFill>
        <p:spPr>
          <a:xfrm>
            <a:off x="395280" y="333360"/>
            <a:ext cx="1511280" cy="77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Картинка 8 из 27"/>
          <p:cNvPicPr/>
          <p:nvPr/>
        </p:nvPicPr>
        <p:blipFill>
          <a:blip r:embed="rId3"/>
          <a:stretch/>
        </p:blipFill>
        <p:spPr>
          <a:xfrm>
            <a:off x="324000" y="1700280"/>
            <a:ext cx="2363760" cy="178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Picture 11" descr="_1795123_police150"/>
          <p:cNvPicPr/>
          <p:nvPr/>
        </p:nvPicPr>
        <p:blipFill>
          <a:blip r:embed="rId4"/>
          <a:stretch/>
        </p:blipFill>
        <p:spPr>
          <a:xfrm>
            <a:off x="324000" y="4149720"/>
            <a:ext cx="2003400" cy="2403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Picture 13" descr="Картинка 26 из 2615"/>
          <p:cNvPicPr/>
          <p:nvPr/>
        </p:nvPicPr>
        <p:blipFill>
          <a:blip r:embed="rId5"/>
          <a:stretch/>
        </p:blipFill>
        <p:spPr>
          <a:xfrm>
            <a:off x="6084720" y="1628640"/>
            <a:ext cx="2765520" cy="207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8" name="Picture 15" descr="Картинка 1 из 57"/>
          <p:cNvPicPr/>
          <p:nvPr/>
        </p:nvPicPr>
        <p:blipFill>
          <a:blip r:embed="rId6"/>
          <a:stretch/>
        </p:blipFill>
        <p:spPr>
          <a:xfrm>
            <a:off x="2771640" y="4149720"/>
            <a:ext cx="3090960" cy="2317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Picture 17" descr="Картинка 17 из 50"/>
          <p:cNvPicPr/>
          <p:nvPr/>
        </p:nvPicPr>
        <p:blipFill>
          <a:blip r:embed="rId7"/>
          <a:stretch/>
        </p:blipFill>
        <p:spPr>
          <a:xfrm>
            <a:off x="6084720" y="4437000"/>
            <a:ext cx="2843280" cy="1990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Picture 21" descr="18"/>
          <p:cNvPicPr/>
          <p:nvPr/>
        </p:nvPicPr>
        <p:blipFill>
          <a:blip r:embed="rId8"/>
          <a:stretch/>
        </p:blipFill>
        <p:spPr>
          <a:xfrm>
            <a:off x="3905280" y="1413000"/>
            <a:ext cx="1135080" cy="2520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3 0.03769 L 1.1724 0.02705 E">
                                      <p:cBhvr>
                                        <p:cTn id="87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ПДД0035"/>
          <p:cNvPicPr/>
          <p:nvPr/>
        </p:nvPicPr>
        <p:blipFill>
          <a:blip r:embed="rId1"/>
          <a:stretch/>
        </p:blipFill>
        <p:spPr>
          <a:xfrm>
            <a:off x="2124000" y="260280"/>
            <a:ext cx="4878360" cy="5761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2195640" y="6093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ервый светофор в Ро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1187638754_2"/>
          <p:cNvPicPr/>
          <p:nvPr/>
        </p:nvPicPr>
        <p:blipFill>
          <a:blip r:embed="rId1"/>
          <a:stretch/>
        </p:blipFill>
        <p:spPr>
          <a:xfrm>
            <a:off x="395280" y="260280"/>
            <a:ext cx="202104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>
            <a:off x="5219640" y="333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зырё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14"/>
          <p:cNvSpPr/>
          <p:nvPr/>
        </p:nvSpPr>
        <p:spPr>
          <a:xfrm flipH="1">
            <a:off x="1835280" y="476280"/>
            <a:ext cx="302400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16" descr="Картинка 1 из 165"/>
          <p:cNvPicPr/>
          <p:nvPr/>
        </p:nvPicPr>
        <p:blipFill>
          <a:blip r:embed="rId2"/>
          <a:stretch/>
        </p:blipFill>
        <p:spPr>
          <a:xfrm>
            <a:off x="4140360" y="907920"/>
            <a:ext cx="4190760" cy="5589720"/>
          </a:xfrm>
          <a:prstGeom prst="rect">
            <a:avLst/>
          </a:prstGeom>
          <a:ln w="0">
            <a:noFill/>
          </a:ln>
        </p:spPr>
      </p:pic>
      <p:sp>
        <p:nvSpPr>
          <p:cNvPr id="117" name="Line 17"/>
          <p:cNvSpPr/>
          <p:nvPr/>
        </p:nvSpPr>
        <p:spPr>
          <a:xfrm>
            <a:off x="4844880" y="461880"/>
            <a:ext cx="505080" cy="2160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18" descr="Картинка 144 из 350"/>
          <p:cNvPicPr/>
          <p:nvPr/>
        </p:nvPicPr>
        <p:blipFill>
          <a:blip r:embed="rId3"/>
          <a:stretch/>
        </p:blipFill>
        <p:spPr>
          <a:xfrm>
            <a:off x="1979640" y="3357720"/>
            <a:ext cx="1905120" cy="3219120"/>
          </a:xfrm>
          <a:prstGeom prst="rect">
            <a:avLst/>
          </a:prstGeom>
          <a:ln w="0">
            <a:noFill/>
          </a:ln>
        </p:spPr>
      </p:pic>
      <p:sp>
        <p:nvSpPr>
          <p:cNvPr id="119" name="Line 19"/>
          <p:cNvSpPr/>
          <p:nvPr/>
        </p:nvSpPr>
        <p:spPr>
          <a:xfrm flipH="1">
            <a:off x="2627280" y="476280"/>
            <a:ext cx="2232000" cy="3313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32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82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32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P1030070"/>
          <p:cNvPicPr/>
          <p:nvPr/>
        </p:nvPicPr>
        <p:blipFill>
          <a:blip r:embed="rId1"/>
          <a:stretch/>
        </p:blipFill>
        <p:spPr>
          <a:xfrm>
            <a:off x="324000" y="333360"/>
            <a:ext cx="8353440" cy="6265800"/>
          </a:xfrm>
          <a:prstGeom prst="rect">
            <a:avLst/>
          </a:prstGeom>
          <a:ln w="0">
            <a:noFill/>
          </a:ln>
        </p:spPr>
      </p:pic>
      <p:sp>
        <p:nvSpPr>
          <p:cNvPr id="121" name="Line 11"/>
          <p:cNvSpPr/>
          <p:nvPr/>
        </p:nvSpPr>
        <p:spPr>
          <a:xfrm flipV="1">
            <a:off x="5076720" y="3860280"/>
            <a:ext cx="935280" cy="8636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5148360" y="4149720"/>
            <a:ext cx="3527280" cy="57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13"/>
          <p:cNvSpPr/>
          <p:nvPr/>
        </p:nvSpPr>
        <p:spPr>
          <a:xfrm flipH="1" flipV="1">
            <a:off x="2050920" y="3933720"/>
            <a:ext cx="3168720" cy="790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14"/>
          <p:cNvSpPr/>
          <p:nvPr/>
        </p:nvSpPr>
        <p:spPr>
          <a:xfrm flipH="1" flipV="1">
            <a:off x="1476360" y="4149720"/>
            <a:ext cx="3743280" cy="574560"/>
          </a:xfrm>
          <a:prstGeom prst="line">
            <a:avLst/>
          </a:prstGeom>
          <a:ln w="475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P1020974"/>
          <p:cNvPicPr/>
          <p:nvPr/>
        </p:nvPicPr>
        <p:blipFill>
          <a:blip r:embed="rId1"/>
          <a:stretch/>
        </p:blipFill>
        <p:spPr>
          <a:xfrm>
            <a:off x="324000" y="404640"/>
            <a:ext cx="4537080" cy="3403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179280" y="46562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запомнят твёрдо дет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о поступает тот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403280" y="5661000"/>
            <a:ext cx="471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лишь при зелёном све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ез улицу идёт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10" descr="14"/>
          <p:cNvPicPr/>
          <p:nvPr/>
        </p:nvPicPr>
        <p:blipFill>
          <a:blip r:embed="rId2"/>
          <a:stretch/>
        </p:blipFill>
        <p:spPr>
          <a:xfrm>
            <a:off x="6804000" y="4726080"/>
            <a:ext cx="1308240" cy="201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P1030114"/>
          <p:cNvPicPr/>
          <p:nvPr/>
        </p:nvPicPr>
        <p:blipFill>
          <a:blip r:embed="rId3"/>
          <a:stretch/>
        </p:blipFill>
        <p:spPr>
          <a:xfrm>
            <a:off x="4392720" y="1268280"/>
            <a:ext cx="4427280" cy="3319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72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240"/>
                            </p:stCondLst>
                            <p:childTnLst>
                              <p:par>
                                <p:cTn id="1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000"/>
            <a:ext cx="38970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ые старые из всех дорожных знаков - указатели расстояни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верстовые столбы1"/>
          <p:cNvPicPr/>
          <p:nvPr/>
        </p:nvPicPr>
        <p:blipFill>
          <a:blip r:embed="rId1"/>
          <a:stretch/>
        </p:blipFill>
        <p:spPr>
          <a:xfrm>
            <a:off x="4691160" y="333360"/>
            <a:ext cx="4128840" cy="6262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Верстовые столб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верстовые столбы4"/>
          <p:cNvPicPr/>
          <p:nvPr/>
        </p:nvPicPr>
        <p:blipFill>
          <a:blip r:embed="rId1"/>
          <a:stretch/>
        </p:blipFill>
        <p:spPr>
          <a:xfrm>
            <a:off x="7213680" y="2637000"/>
            <a:ext cx="1671480" cy="354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верстовые столбы2"/>
          <p:cNvPicPr/>
          <p:nvPr/>
        </p:nvPicPr>
        <p:blipFill>
          <a:blip r:embed="rId2"/>
          <a:stretch/>
        </p:blipFill>
        <p:spPr>
          <a:xfrm>
            <a:off x="250920" y="2997360"/>
            <a:ext cx="1892160" cy="3095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7a"/>
          <p:cNvPicPr/>
          <p:nvPr/>
        </p:nvPicPr>
        <p:blipFill>
          <a:blip r:embed="rId3"/>
          <a:stretch/>
        </p:blipFill>
        <p:spPr>
          <a:xfrm>
            <a:off x="2268360" y="2013120"/>
            <a:ext cx="4824720" cy="3303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38:14Z</dcterms:created>
  <dc:creator>Ниночка</dc:creator>
  <dc:description/>
  <dc:language>en-US</dc:language>
  <cp:lastModifiedBy>Домашний</cp:lastModifiedBy>
  <dcterms:modified xsi:type="dcterms:W3CDTF">2014-10-15T17:01:39Z</dcterms:modified>
  <cp:revision>35</cp:revision>
  <dc:subject/>
  <dc:title>Классный час - ПДД для дет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30000000000010243100207f6000400038000</vt:lpwstr>
  </property>
</Properties>
</file>