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A68-900F-4C79-9C73-7EB63C0527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6F47-4BE6-4FD8-958E-61BAABDED65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F26-05A0-457C-951B-02660626505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616-8B5A-4DEE-8585-9E54A229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05C-D36C-4B9D-BDAE-1805C8A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16CAB-2D35-4676-8D85-7FCEBA44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F9B40-0DD4-48BF-B6FA-172AEF61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D7381-EEF9-424C-A244-20F8FDD9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E7BAD-9A5A-4A67-8EA8-9CDAEE56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F2CBC-F3F9-4CFD-9F1A-9479AC62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AC11C-663B-4905-8F82-BFBA0184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48D94-1344-45D6-AB94-536F249C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2F8D3-651C-42BE-83E3-41775DC6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B29EF-CBD8-4D3A-9537-0CDE3289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67050D-9D9B-44FA-9EFA-A4B9E054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7A1-90F8-4FF9-A686-852F16A8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EC80F2-60C7-47CB-A6C2-6D1012DA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E1EE0-2F10-4218-8198-48BAC96A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A0A42-3BE5-4149-A4AE-5D4D35A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E1A004-69AB-456B-A6A8-80E25450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B49A72-084B-4746-BE7F-E2AD0C06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32F0E-6F53-4739-A48E-49DD5E7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87765-DF28-4A7F-B722-FCE1082B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CF0F7-2CD6-4FCC-8EA8-00A1876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C143D-9740-4CC5-BEE0-DA20E631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2B87C1-E5D8-4F15-B310-A67DBAA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D60-B150-4767-8AEB-7944B903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360607-1DC5-4BA2-8B9E-9E4439CA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217BD-E39C-44D4-93B1-52630286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31C18-1264-47A1-A02F-3E37B17A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A3776-360B-4D5D-B232-247C747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5CBC0-E38E-411D-9E6E-BECAF510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CD435-7876-41BD-AF96-87993FB9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C2ED1-2900-4AD0-BBF7-29AE52A2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2677A-439C-47A0-8F14-9F4A939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3CDBE-44E7-44BD-B288-F2E5359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368B8-61CC-4889-9087-6BA2969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8FEC-3825-4029-89FD-D3B26A11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B5352-BA89-45E6-A5D4-E4E7CFD2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3E301-FF5B-460F-9E2B-9FF3E1DE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83D58-D547-4086-8D36-40ECE43B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5CD-CDAB-43CC-A62B-C77E44B7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9ABB-F436-41FC-A090-D9D527D0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C490-848D-48F0-B157-B8DBAACA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27A8-F234-4B1A-B0CF-7F5754FE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4061-38C0-438F-8CA6-D8CF142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F78E-B394-42F7-8592-8134A5AF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F86-33C4-408A-B6B5-5DB2B5CB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28C3-3137-4220-8E63-48F8BCE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0ECF-F118-45AA-AA54-0FB53EA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68A0-7019-4ACD-9AC4-5398DDAD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FCDC-3611-4728-A33D-4945752C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9A97-F8D3-4DCC-A6F0-FCDC58DB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5DE1-8124-4654-A6A0-2EE721EC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F22C-D1F3-42BF-BA46-3EF92B70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EFD2-17D9-498E-BA55-A898324F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24B8-7CF2-4691-B7B2-DC1BC50F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2151-F777-4BA8-9B8C-3C8F8D16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56A-2228-4A7C-A746-2653C41C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80D7-492D-4676-B48F-162BB181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A697-511D-4493-B674-9B7FFBDF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98FD-EEFD-4F54-B0ED-AE1A6580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4C28-F4B6-474A-B373-5F86820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DC9E-564A-4B83-B5A8-E80F662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B43B5-1895-4F7C-B794-569AF3C3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FC1E-FBCE-45D0-9EEB-4508AA02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A10B4-E1AD-4119-899C-64494BAC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39180-9C1A-4BD2-8A19-75C81F24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8BB35-5FD1-404D-9A44-4BB2A2C4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B92-3B18-407C-ADB3-C6604C1F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5E225-8DF4-4154-9B1B-05CC5C87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33732-9A2D-4FE2-AE3A-7C8913F3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08604-CE56-4E9D-9E57-167BFD9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8A418-F3F3-406C-A3C0-FDAE4D52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B26AE-9E8F-44DA-8413-5A878C6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548DF-B6EE-469B-985D-1693A0C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3F728-A88E-4386-A588-47AC40AB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6D82D-FABD-4573-8A2B-92AC333A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8CE38-5E0E-415D-BD3F-D605C29D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BC713-CB13-4BF2-A253-84FE619D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98D-4681-4697-BE1F-5B98B49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91C15-03B9-437D-A7F2-B1FC8069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EA685-61A5-442D-B179-E35DD0E5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E2BF6-8732-4E62-9C83-EC6F9F62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6729C-EC4A-4552-94CC-A6A552C5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36F42-5B84-496A-A6B2-97BC1E3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7061C-1F49-4CB5-AE77-087B291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F808A-A3AD-48A9-8926-F0BA8C6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2682A-9D1F-4E71-BE32-623724F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D5EE8-D9FF-4C32-9991-5C39C30D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93B63-A544-4719-BDEB-25B200F1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56E-8EBE-4C27-BF89-DF5169B5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21166-4A9E-4733-AF90-E8AEA169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B91DB-BB55-4E0A-B0F1-256A78F4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7DDC4-713D-4297-9926-D2AD82B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56BBA-E569-49BB-8D8F-E8830D0A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6E307-47C6-4940-82CA-D561A32F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3F031-3CBE-4F4B-A9ED-46272C9C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38245-85C3-4B5A-B2E1-DA35AC37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1D88A-3BE9-412A-953C-756283C2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3CD18-F1B3-402A-999E-F836EBEE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B9038-3E23-430D-9D06-B48F38F8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8BC-40AF-4EC8-89B0-07AA922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FB5A4-13E9-4107-83B6-EF70924A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2E71A-FC6C-4B0E-9035-AC99F926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39EF5-C240-4488-A7D1-EB7CDEDF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B0D7-BA18-4A98-A235-9E84C63D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E066-BB6E-4CD1-B589-70020780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8A721-9F52-4586-87A0-9A89BF38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B1C72-116B-495C-B409-107F92E1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A2DA8-BFD7-45BD-8486-6F35E46A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BEE54-8758-4835-A5CF-967E0ED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6B984-0476-4C67-8DE3-A0D1731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9EE-F2C4-4728-85AD-8A7146E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459A4-5859-4E22-AE0A-203D8EF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41848-6D61-483F-ACE8-AF22D541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B1F5-EEBE-4CA4-B21D-E0EF730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39C9A-472D-4DF0-8DCB-D10E4641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AA86D-1682-4E4C-8A7B-748D0FA6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4A19-B7F8-4C1A-B9C9-82FCF1C6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88CE-4948-48BC-BA8E-5E501BF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0B636-DFF0-4BD1-AEAC-0B1AF1E5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A6BA-943B-444F-A14E-94E6F702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4E342-4071-48EC-8AD9-1C83A3E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497-0181-46E9-B091-A5F000B9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4F1E9-CF06-470C-B6A9-3704805F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B6AC7-BCAB-45B1-9D2F-4821B241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B9049-D886-43B9-8183-D858993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2BB68-154C-4F41-899E-226AF72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644FB-1A21-43CD-890A-A9B8461A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88376-F5FB-4576-9389-4C9C7E9A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5EC9F-65B0-46CD-8B34-345258A2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39855-3336-4D4F-B2B3-A30F1C7F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B3EB9-FC68-42A1-ADDC-72C9D49C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7BF90-6065-4AA7-86E0-73177CA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4409-8FC4-4A7E-A425-194A47F94919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D4CEEB9B-07AB-441E-87B6-8E6DD634220B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FFDF-AA7C-42CF-B4D9-C322372918FE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86B1-558C-4674-92FC-DF160ED1DE0A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55A743E0-9822-4509-99F5-3DE3AE2CC14A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486B-25F6-4424-AB06-0E84050C9D0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2EF5-6737-4E06-945F-984097C82C50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5CEDC4D0-7B93-499A-BD2F-1296D75D0601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BA8-EBD6-482B-AD64-E65D555D2D04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938-1FAC-4915-9C48-69DDAAA04625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1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7BBBCB31-B34B-49F5-9065-F27231F6E60E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17:02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B3B3-D5BD-42F4-92B1-2AD48DAAE96A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8373-25AF-4DB2-B130-3CF361ABB3DB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6D35ED16-F108-496A-9BA9-33D0B0459DFA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E5FB-D328-46BA-B919-DD2DD38A39C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891D-5622-4DB6-A57A-B8E373E80977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8CE03106-DCB5-4C0D-97D9-8FC2870187DE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BA1-1353-477A-A67D-A8C258235D9C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43A7-B483-4E1A-8131-54CA4F600EBB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40B654C8-E358-41C7-86ED-C3584A3C3E89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4A0F-FC72-4371-9311-E12B86B995D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58F8-C91C-493D-AC25-D91AF525220B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0CC75EAF-6F53-41DC-B575-B1771D0D621D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B3F8-6290-4B50-8414-50578A30AB1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494A-750F-447A-96A6-6B922027613B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994136D5-DC78-464A-A144-EF2B4CE45FFB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9DE2-62F9-4E75-A47A-C4C1B96C3BD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343-39E8-4DA9-8F93-238562A4BDC7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F46A78E2-59C5-48B8-97AF-1AC9B874FF2D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9A57-FC1F-40A1-9E9C-293EDE7BCA64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7B5-A94C-45BC-9BA1-616B67205500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C8642E41-C614-4737-950C-72C90CF48B14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7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6BB5-AAB3-4D5B-AA0B-46B3818543B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3714840"/>
            <a:ext cx="6477120" cy="20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6d7d"/>
                </a:solidFill>
                <a:latin typeface="Calibri"/>
              </a:rPr>
              <a:t>ДИДАКТИЧЕСКАЯ ИГРА ПО ТЕМЕ «ДЕСЯТИЧНЫЕ ДРОБИ И ПРОЦЕНТЫ» 5-6 КЛАСС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АОУ СОШ №2, г.Домодедо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Учитель : Генкина Надежда Владимировна</a:t>
            </a:r>
            <a:br>
              <a:rPr sz="700"/>
            </a:br>
            <a:r>
              <a:rPr b="0" lang="ru-RU" sz="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Прямоугольник 5" descr=""/>
          <p:cNvPicPr/>
          <p:nvPr/>
        </p:nvPicPr>
        <p:blipFill>
          <a:blip r:embed="rId1"/>
          <a:stretch/>
        </p:blipFill>
        <p:spPr>
          <a:xfrm>
            <a:off x="1359000" y="285840"/>
            <a:ext cx="6999120" cy="939600"/>
          </a:xfrm>
          <a:prstGeom prst="rect">
            <a:avLst/>
          </a:prstGeom>
          <a:ln w="0">
            <a:noFill/>
          </a:ln>
        </p:spPr>
      </p:pic>
      <p:sp>
        <p:nvSpPr>
          <p:cNvPr id="580" name="Заголовок 3"/>
          <p:cNvSpPr/>
          <p:nvPr/>
        </p:nvSpPr>
        <p:spPr>
          <a:xfrm>
            <a:off x="474840" y="2933640"/>
            <a:ext cx="819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1" name="Рисунок 6" descr="703a1a7b021366888b6ef1243654601b[1].gif"/>
          <p:cNvPicPr/>
          <p:nvPr/>
        </p:nvPicPr>
        <p:blipFill>
          <a:blip r:embed="rId2"/>
          <a:stretch/>
        </p:blipFill>
        <p:spPr>
          <a:xfrm>
            <a:off x="4572000" y="2708280"/>
            <a:ext cx="308448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Продолжить обучение учащихся работе с десятичными дроб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епить знания о процентах, о нахождении  процента от величины и    совершенствовать навыки действий  с дробями, расширять кругозор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сихические познавательные процессы: память, внимание, логическое мыш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ние ответственности за товарища, привитие навыков сотрудни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ащение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карточки с заданиями, аппаратура для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жпредметные связ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математика – географ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ремя, необходимое на представленную игру: 15 мину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6800" y="228600"/>
            <a:ext cx="79088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5400" spc="-1" strike="noStrike" u="sng">
                <a:solidFill>
                  <a:srgbClr val="4f271c"/>
                </a:solidFill>
                <a:uFillTx/>
                <a:latin typeface="Calibri"/>
              </a:rPr>
              <a:t>Задание №1 </a:t>
            </a:r>
            <a:endParaRPr b="0" lang="en-US" sz="5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360" y="1599840"/>
            <a:ext cx="25909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.Найдите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Овал 8"/>
          <p:cNvSpPr/>
          <p:nvPr/>
        </p:nvSpPr>
        <p:spPr>
          <a:xfrm>
            <a:off x="571680" y="285768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Объект 1"/>
          <p:cNvSpPr/>
          <p:nvPr/>
        </p:nvSpPr>
        <p:spPr>
          <a:xfrm>
            <a:off x="1071720" y="2857680"/>
            <a:ext cx="2761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0 %  от  50:    ___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Овал 12"/>
          <p:cNvSpPr/>
          <p:nvPr/>
        </p:nvSpPr>
        <p:spPr>
          <a:xfrm>
            <a:off x="500040" y="3929040"/>
            <a:ext cx="432000" cy="43200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Объект 1"/>
          <p:cNvSpPr/>
          <p:nvPr/>
        </p:nvSpPr>
        <p:spPr>
          <a:xfrm>
            <a:off x="928800" y="39290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,5 % от 400:     ___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Овал 14"/>
          <p:cNvSpPr/>
          <p:nvPr/>
        </p:nvSpPr>
        <p:spPr>
          <a:xfrm>
            <a:off x="500040" y="521496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Объект 1"/>
          <p:cNvSpPr/>
          <p:nvPr/>
        </p:nvSpPr>
        <p:spPr>
          <a:xfrm>
            <a:off x="928800" y="5214960"/>
            <a:ext cx="276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5 %  от 6 :          ___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Овал 16"/>
          <p:cNvSpPr/>
          <p:nvPr/>
        </p:nvSpPr>
        <p:spPr>
          <a:xfrm>
            <a:off x="4429080" y="285768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Объект 1"/>
          <p:cNvSpPr/>
          <p:nvPr/>
        </p:nvSpPr>
        <p:spPr>
          <a:xfrm>
            <a:off x="4929120" y="2786040"/>
            <a:ext cx="276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0 % от 44,5:     ___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Овал 18"/>
          <p:cNvSpPr/>
          <p:nvPr/>
        </p:nvSpPr>
        <p:spPr>
          <a:xfrm>
            <a:off x="4429080" y="385776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Объект 1"/>
          <p:cNvSpPr/>
          <p:nvPr/>
        </p:nvSpPr>
        <p:spPr>
          <a:xfrm>
            <a:off x="5000760" y="3857760"/>
            <a:ext cx="276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0 % от 34:         ___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Овал 20"/>
          <p:cNvSpPr/>
          <p:nvPr/>
        </p:nvSpPr>
        <p:spPr>
          <a:xfrm>
            <a:off x="4429080" y="514368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Объект 1"/>
          <p:cNvSpPr/>
          <p:nvPr/>
        </p:nvSpPr>
        <p:spPr>
          <a:xfrm>
            <a:off x="4929120" y="5143680"/>
            <a:ext cx="2768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5 %  от 9,6:       ___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Объект 1"/>
          <p:cNvSpPr/>
          <p:nvPr/>
        </p:nvSpPr>
        <p:spPr>
          <a:xfrm>
            <a:off x="3000240" y="2786040"/>
            <a:ext cx="503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Объект 1"/>
          <p:cNvSpPr/>
          <p:nvPr/>
        </p:nvSpPr>
        <p:spPr>
          <a:xfrm>
            <a:off x="2987640" y="3860640"/>
            <a:ext cx="503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Объект 1"/>
          <p:cNvSpPr/>
          <p:nvPr/>
        </p:nvSpPr>
        <p:spPr>
          <a:xfrm>
            <a:off x="2928960" y="521496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Объект 1"/>
          <p:cNvSpPr/>
          <p:nvPr/>
        </p:nvSpPr>
        <p:spPr>
          <a:xfrm>
            <a:off x="6929280" y="2714760"/>
            <a:ext cx="648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8,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Объект 1"/>
          <p:cNvSpPr/>
          <p:nvPr/>
        </p:nvSpPr>
        <p:spPr>
          <a:xfrm>
            <a:off x="7000920" y="378612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Объект 1"/>
          <p:cNvSpPr/>
          <p:nvPr/>
        </p:nvSpPr>
        <p:spPr>
          <a:xfrm>
            <a:off x="6929280" y="5143680"/>
            <a:ext cx="648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612720" y="1599840"/>
            <a:ext cx="40305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.Заполните пропуск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Овал 3"/>
          <p:cNvSpPr/>
          <p:nvPr/>
        </p:nvSpPr>
        <p:spPr>
          <a:xfrm>
            <a:off x="684360" y="2492280"/>
            <a:ext cx="1439640" cy="12970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,48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Овал 4"/>
          <p:cNvSpPr/>
          <p:nvPr/>
        </p:nvSpPr>
        <p:spPr>
          <a:xfrm>
            <a:off x="2484360" y="4292640"/>
            <a:ext cx="1366920" cy="122400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Овал 5"/>
          <p:cNvSpPr/>
          <p:nvPr/>
        </p:nvSpPr>
        <p:spPr>
          <a:xfrm>
            <a:off x="4572000" y="2349360"/>
            <a:ext cx="1368360" cy="122400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Овал 6"/>
          <p:cNvSpPr/>
          <p:nvPr/>
        </p:nvSpPr>
        <p:spPr>
          <a:xfrm>
            <a:off x="5076720" y="4797360"/>
            <a:ext cx="1366920" cy="115272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Шестиугольник 7"/>
          <p:cNvSpPr/>
          <p:nvPr/>
        </p:nvSpPr>
        <p:spPr>
          <a:xfrm>
            <a:off x="7308720" y="3573360"/>
            <a:ext cx="1295640" cy="100800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19" name="Прямая со стрелкой 9"/>
          <p:cNvCxnSpPr>
            <a:stCxn id="514" idx="5"/>
            <a:endCxn id="515" idx="1"/>
          </p:cNvCxnSpPr>
          <p:nvPr/>
        </p:nvCxnSpPr>
        <p:spPr>
          <a:xfrm>
            <a:off x="1912680" y="3598560"/>
            <a:ext cx="772200" cy="873720"/>
          </a:xfrm>
          <a:prstGeom prst="straightConnector1">
            <a:avLst/>
          </a:prstGeom>
          <a:ln w="10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20" name="Прямая со стрелкой 11"/>
          <p:cNvCxnSpPr>
            <a:stCxn id="515" idx="7"/>
            <a:endCxn id="516" idx="3"/>
          </p:cNvCxnSpPr>
          <p:nvPr/>
        </p:nvCxnSpPr>
        <p:spPr>
          <a:xfrm flipV="1">
            <a:off x="3651120" y="3394080"/>
            <a:ext cx="1121760" cy="1078200"/>
          </a:xfrm>
          <a:prstGeom prst="straightConnector1">
            <a:avLst/>
          </a:prstGeom>
          <a:ln w="10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21" name="Прямая со стрелкой 13"/>
          <p:cNvCxnSpPr>
            <a:endCxn id="517" idx="0"/>
          </p:cNvCxnSpPr>
          <p:nvPr/>
        </p:nvCxnSpPr>
        <p:spPr>
          <a:xfrm>
            <a:off x="5508360" y="3573360"/>
            <a:ext cx="253080" cy="1224720"/>
          </a:xfrm>
          <a:prstGeom prst="straightConnector1">
            <a:avLst/>
          </a:prstGeom>
          <a:ln w="10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22" name="Прямая со стрелкой 15"/>
          <p:cNvCxnSpPr>
            <a:stCxn id="517" idx="6"/>
            <a:endCxn id="518" idx="2"/>
          </p:cNvCxnSpPr>
          <p:nvPr/>
        </p:nvCxnSpPr>
        <p:spPr>
          <a:xfrm flipV="1">
            <a:off x="6443280" y="4580640"/>
            <a:ext cx="865800" cy="793080"/>
          </a:xfrm>
          <a:prstGeom prst="straightConnector1">
            <a:avLst/>
          </a:prstGeom>
          <a:ln w="1008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523" name="Объект 1"/>
          <p:cNvSpPr/>
          <p:nvPr/>
        </p:nvSpPr>
        <p:spPr>
          <a:xfrm>
            <a:off x="1332000" y="3860640"/>
            <a:ext cx="1008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: 0,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Объект 1"/>
          <p:cNvSpPr/>
          <p:nvPr/>
        </p:nvSpPr>
        <p:spPr>
          <a:xfrm>
            <a:off x="3348000" y="3357720"/>
            <a:ext cx="1079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  <a:ea typeface="Arial"/>
              </a:rPr>
              <a:t>+2,6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Объект 1"/>
          <p:cNvSpPr/>
          <p:nvPr/>
        </p:nvSpPr>
        <p:spPr>
          <a:xfrm>
            <a:off x="4572000" y="4005360"/>
            <a:ext cx="1079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  <a:ea typeface="Arial"/>
              </a:rPr>
              <a:t>- 0,3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Объект 1"/>
          <p:cNvSpPr/>
          <p:nvPr/>
        </p:nvSpPr>
        <p:spPr>
          <a:xfrm>
            <a:off x="6791400" y="4797360"/>
            <a:ext cx="995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Объект 1"/>
          <p:cNvSpPr/>
          <p:nvPr/>
        </p:nvSpPr>
        <p:spPr>
          <a:xfrm>
            <a:off x="2556000" y="4508640"/>
            <a:ext cx="1249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2,4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Объект 1"/>
          <p:cNvSpPr/>
          <p:nvPr/>
        </p:nvSpPr>
        <p:spPr>
          <a:xfrm>
            <a:off x="4643280" y="2708280"/>
            <a:ext cx="12495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Объект 1"/>
          <p:cNvSpPr/>
          <p:nvPr/>
        </p:nvSpPr>
        <p:spPr>
          <a:xfrm>
            <a:off x="5148360" y="5027760"/>
            <a:ext cx="12492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4,7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Объект 1"/>
          <p:cNvSpPr/>
          <p:nvPr/>
        </p:nvSpPr>
        <p:spPr>
          <a:xfrm>
            <a:off x="7308720" y="3645000"/>
            <a:ext cx="1295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47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612720" y="1599840"/>
            <a:ext cx="40305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3.Выполните действия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Объект 2"/>
          <p:cNvSpPr/>
          <p:nvPr/>
        </p:nvSpPr>
        <p:spPr>
          <a:xfrm>
            <a:off x="285840" y="2997360"/>
            <a:ext cx="7022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0,32 • 3,5  :  0,25 + 0,02) • 20 – 18,8  =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Блок-схема: задержка 7"/>
          <p:cNvSpPr/>
          <p:nvPr/>
        </p:nvSpPr>
        <p:spPr>
          <a:xfrm>
            <a:off x="7164360" y="2786040"/>
            <a:ext cx="1201680" cy="1081080"/>
          </a:xfrm>
          <a:prstGeom prst="flowChartDelay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7263360" y="292896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w Cen MT"/>
                <a:ea typeface="Arial"/>
              </a:rPr>
              <a:t>71,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Овал 5"/>
          <p:cNvSpPr/>
          <p:nvPr/>
        </p:nvSpPr>
        <p:spPr>
          <a:xfrm>
            <a:off x="1000080" y="2714760"/>
            <a:ext cx="857160" cy="35712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alibri"/>
              </a:rPr>
              <a:t>1,1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Овал 6"/>
          <p:cNvSpPr/>
          <p:nvPr/>
        </p:nvSpPr>
        <p:spPr>
          <a:xfrm>
            <a:off x="2000160" y="2714760"/>
            <a:ext cx="857520" cy="35712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alibri"/>
              </a:rPr>
              <a:t>4,48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Овал 9"/>
          <p:cNvSpPr/>
          <p:nvPr/>
        </p:nvSpPr>
        <p:spPr>
          <a:xfrm>
            <a:off x="3214800" y="2714760"/>
            <a:ext cx="857160" cy="35712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alibri"/>
              </a:rPr>
              <a:t>4,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Овал 10"/>
          <p:cNvSpPr/>
          <p:nvPr/>
        </p:nvSpPr>
        <p:spPr>
          <a:xfrm>
            <a:off x="4357800" y="2714760"/>
            <a:ext cx="857160" cy="35712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Объект 2"/>
          <p:cNvSpPr/>
          <p:nvPr/>
        </p:nvSpPr>
        <p:spPr>
          <a:xfrm>
            <a:off x="612720" y="1600200"/>
            <a:ext cx="597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4.   Заполните пропуски в тексте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Объект 2"/>
          <p:cNvSpPr/>
          <p:nvPr/>
        </p:nvSpPr>
        <p:spPr>
          <a:xfrm>
            <a:off x="5857920" y="4143240"/>
            <a:ext cx="27860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« П о л ю с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х о л о д а »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         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н а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З е м л е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58720" y="2500200"/>
          <a:ext cx="6096240" cy="136044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507960"/>
                <a:gridCol w="507960"/>
                <a:gridCol w="101628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70c0"/>
                      </a:solidFill>
                    </a:lnL>
                    <a:lnR>
                      <a:noFill/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70c0"/>
                      </a:solidFill>
                    </a:lnR>
                    <a:lnT>
                      <a:noFill/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Овал 10"/>
          <p:cNvSpPr/>
          <p:nvPr/>
        </p:nvSpPr>
        <p:spPr>
          <a:xfrm>
            <a:off x="81756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Овал 11"/>
          <p:cNvSpPr/>
          <p:nvPr/>
        </p:nvSpPr>
        <p:spPr>
          <a:xfrm>
            <a:off x="1908000" y="335772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Овал 12"/>
          <p:cNvSpPr/>
          <p:nvPr/>
        </p:nvSpPr>
        <p:spPr>
          <a:xfrm>
            <a:off x="292428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Овал 14"/>
          <p:cNvSpPr/>
          <p:nvPr/>
        </p:nvSpPr>
        <p:spPr>
          <a:xfrm>
            <a:off x="392760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Овал 15"/>
          <p:cNvSpPr/>
          <p:nvPr/>
        </p:nvSpPr>
        <p:spPr>
          <a:xfrm>
            <a:off x="493236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Овал 16"/>
          <p:cNvSpPr/>
          <p:nvPr/>
        </p:nvSpPr>
        <p:spPr>
          <a:xfrm>
            <a:off x="5940360" y="335772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643800" y="2500200"/>
          <a:ext cx="1015920" cy="1360440"/>
        </p:xfrm>
        <a:graphic>
          <a:graphicData uri="http://schemas.openxmlformats.org/drawingml/2006/table">
            <a:tbl>
              <a:tblPr/>
              <a:tblGrid>
                <a:gridCol w="1015920"/>
              </a:tblGrid>
              <a:tr h="74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9" name="Овал 24"/>
          <p:cNvSpPr/>
          <p:nvPr/>
        </p:nvSpPr>
        <p:spPr>
          <a:xfrm>
            <a:off x="700092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0" name="Picture 46" descr="C:\Users\Надюшка\Desktop\оймякон карт.bmp"/>
          <p:cNvPicPr/>
          <p:nvPr/>
        </p:nvPicPr>
        <p:blipFill>
          <a:blip r:embed="rId1"/>
          <a:stretch/>
        </p:blipFill>
        <p:spPr>
          <a:xfrm>
            <a:off x="714240" y="3929040"/>
            <a:ext cx="4500720" cy="270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Объект 2"/>
          <p:cNvSpPr/>
          <p:nvPr/>
        </p:nvSpPr>
        <p:spPr>
          <a:xfrm>
            <a:off x="571680" y="1643040"/>
            <a:ext cx="806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Оймякон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село на  Востоке Якутии. Средняя температура в январе здесь составляет  минус  градусов , а в 1924 году была отмечена  температура    минус                    градуса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Шестиугольник 8"/>
          <p:cNvSpPr/>
          <p:nvPr/>
        </p:nvSpPr>
        <p:spPr>
          <a:xfrm>
            <a:off x="8001000" y="2428920"/>
            <a:ext cx="857160" cy="64296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Блок-схема: задержка 9"/>
          <p:cNvSpPr/>
          <p:nvPr/>
        </p:nvSpPr>
        <p:spPr>
          <a:xfrm>
            <a:off x="4214880" y="3643200"/>
            <a:ext cx="1143000" cy="857520"/>
          </a:xfrm>
          <a:prstGeom prst="flowChartDelay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Объект 1"/>
          <p:cNvSpPr/>
          <p:nvPr/>
        </p:nvSpPr>
        <p:spPr>
          <a:xfrm>
            <a:off x="8028000" y="2421000"/>
            <a:ext cx="714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47 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TextBox 18"/>
          <p:cNvSpPr/>
          <p:nvPr/>
        </p:nvSpPr>
        <p:spPr>
          <a:xfrm>
            <a:off x="4214880" y="378612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w Cen MT"/>
                <a:ea typeface="Arial"/>
              </a:rPr>
              <a:t>71,2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1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360" y="620280"/>
            <a:ext cx="237492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271c"/>
                </a:solidFill>
                <a:uFillTx/>
                <a:latin typeface="Calibri"/>
              </a:rPr>
              <a:t>Задание №2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42960" y="1574640"/>
            <a:ext cx="815328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ыполните математические задания и в тексте </a:t>
            </a:r>
            <a:r>
              <a:rPr b="1" lang="ru-RU" sz="2000" spc="-1" strike="noStrike">
                <a:solidFill>
                  <a:srgbClr val="4b2203"/>
                </a:solidFill>
                <a:latin typeface="Calibri"/>
              </a:rPr>
              <a:t>«Самые жаркие места  Земли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ените буквенные обозначения </a:t>
            </a:r>
            <a:r>
              <a:rPr b="1" lang="ru-RU" sz="2000" spc="-1" strike="noStrike">
                <a:solidFill>
                  <a:srgbClr val="922223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922223"/>
                </a:solidFill>
                <a:latin typeface="Tw Cen MT"/>
              </a:rPr>
              <a:t>b</a:t>
            </a:r>
            <a:r>
              <a:rPr b="1" lang="ru-RU" sz="2000" spc="-1" strike="noStrike">
                <a:solidFill>
                  <a:srgbClr val="922223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йденными числам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читайте текст с учетом найденных знач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Заголовок 1"/>
          <p:cNvSpPr/>
          <p:nvPr/>
        </p:nvSpPr>
        <p:spPr>
          <a:xfrm>
            <a:off x="1143000" y="2781360"/>
            <a:ext cx="6500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Заголовок 1"/>
          <p:cNvSpPr/>
          <p:nvPr/>
        </p:nvSpPr>
        <p:spPr>
          <a:xfrm>
            <a:off x="555480" y="2852640"/>
            <a:ext cx="831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TextBox 22"/>
          <p:cNvSpPr/>
          <p:nvPr/>
        </p:nvSpPr>
        <p:spPr>
          <a:xfrm>
            <a:off x="928800" y="3571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922223"/>
                </a:solidFill>
                <a:latin typeface="Calibri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=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,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0,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0,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1800" y="360"/>
            <a:ext cx="30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TextBox 23"/>
          <p:cNvSpPr/>
          <p:nvPr/>
        </p:nvSpPr>
        <p:spPr>
          <a:xfrm>
            <a:off x="1000080" y="485784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223"/>
                </a:solidFill>
                <a:latin typeface="Tw Cen MT"/>
              </a:rPr>
              <a:t> </a:t>
            </a:r>
            <a:r>
              <a:rPr b="1" lang="ru-RU" sz="2800" spc="-1" strike="noStrike">
                <a:solidFill>
                  <a:srgbClr val="922223"/>
                </a:solidFill>
                <a:latin typeface="Tw Cen MT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 =  </a:t>
            </a: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72 : 1,2  - 99 : 3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TextBox 24"/>
          <p:cNvSpPr/>
          <p:nvPr/>
        </p:nvSpPr>
        <p:spPr>
          <a:xfrm>
            <a:off x="6215040" y="3643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Прямоугольник 25"/>
          <p:cNvSpPr/>
          <p:nvPr/>
        </p:nvSpPr>
        <p:spPr>
          <a:xfrm>
            <a:off x="6715080" y="3571920"/>
            <a:ext cx="1143000" cy="500040"/>
          </a:xfrm>
          <a:prstGeom prst="rect">
            <a:avLst/>
          </a:prstGeom>
          <a:solidFill>
            <a:srgbClr val="e17b7c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alibri"/>
              </a:rPr>
              <a:t>57,8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TextBox 26"/>
          <p:cNvSpPr/>
          <p:nvPr/>
        </p:nvSpPr>
        <p:spPr>
          <a:xfrm>
            <a:off x="4929120" y="49291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Прямоугольник 27"/>
          <p:cNvSpPr/>
          <p:nvPr/>
        </p:nvSpPr>
        <p:spPr>
          <a:xfrm>
            <a:off x="5429160" y="4857840"/>
            <a:ext cx="1214640" cy="571320"/>
          </a:xfrm>
          <a:prstGeom prst="rect">
            <a:avLst/>
          </a:prstGeom>
          <a:solidFill>
            <a:srgbClr val="e17b7c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alibri"/>
              </a:rPr>
              <a:t>56,7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Овал 12"/>
          <p:cNvSpPr/>
          <p:nvPr/>
        </p:nvSpPr>
        <p:spPr>
          <a:xfrm>
            <a:off x="2000160" y="3357720"/>
            <a:ext cx="785880" cy="28548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Овал 13"/>
          <p:cNvSpPr/>
          <p:nvPr/>
        </p:nvSpPr>
        <p:spPr>
          <a:xfrm>
            <a:off x="3786120" y="3429000"/>
            <a:ext cx="785880" cy="28584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Овал 14"/>
          <p:cNvSpPr/>
          <p:nvPr/>
        </p:nvSpPr>
        <p:spPr>
          <a:xfrm>
            <a:off x="4714920" y="3429000"/>
            <a:ext cx="785880" cy="28584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Овал 15"/>
          <p:cNvSpPr/>
          <p:nvPr/>
        </p:nvSpPr>
        <p:spPr>
          <a:xfrm>
            <a:off x="2143080" y="4643280"/>
            <a:ext cx="785880" cy="28584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Овал 16"/>
          <p:cNvSpPr/>
          <p:nvPr/>
        </p:nvSpPr>
        <p:spPr>
          <a:xfrm>
            <a:off x="3714840" y="4643280"/>
            <a:ext cx="785880" cy="28584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4f271c"/>
                </a:solidFill>
                <a:latin typeface="Calibri"/>
              </a:rPr>
              <a:t>Самые жаркие места Земли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амыми «горячими» местами на планете считаются Калифорния и Ливия 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3 сентября 1922 года в Ливии                 (Северная Африка) жара в тени                 достигала              градус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13 году в Долине Смерти                           (США) была зафиксирована                     рекордная температура     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адусов Цельсия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Рисунок 3" descr="http://wyg.su/i/llustration/5/8/587e1d21-2508-3141-9723-8748169c77b6.jpg"/>
          <p:cNvPicPr/>
          <p:nvPr/>
        </p:nvPicPr>
        <p:blipFill>
          <a:blip r:embed="rId1"/>
          <a:stretch/>
        </p:blipFill>
        <p:spPr>
          <a:xfrm>
            <a:off x="6357960" y="2571840"/>
            <a:ext cx="2571840" cy="1574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C:\Users\Надюшка\Desktop\дол см.jpg"/>
          <p:cNvPicPr/>
          <p:nvPr/>
        </p:nvPicPr>
        <p:blipFill>
          <a:blip r:embed="rId2"/>
          <a:stretch/>
        </p:blipFill>
        <p:spPr>
          <a:xfrm>
            <a:off x="6143760" y="5000760"/>
            <a:ext cx="2714400" cy="161928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8"/>
          <p:cNvSpPr/>
          <p:nvPr/>
        </p:nvSpPr>
        <p:spPr>
          <a:xfrm>
            <a:off x="2714760" y="3571920"/>
            <a:ext cx="857160" cy="428760"/>
          </a:xfrm>
          <a:prstGeom prst="rect">
            <a:avLst/>
          </a:prstGeom>
          <a:solidFill>
            <a:srgbClr val="e17b7c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alibri"/>
              </a:rPr>
              <a:t>57,8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Прямоугольник 9"/>
          <p:cNvSpPr/>
          <p:nvPr/>
        </p:nvSpPr>
        <p:spPr>
          <a:xfrm>
            <a:off x="4929120" y="4929120"/>
            <a:ext cx="785880" cy="428760"/>
          </a:xfrm>
          <a:prstGeom prst="rect">
            <a:avLst/>
          </a:prstGeom>
          <a:solidFill>
            <a:srgbClr val="e17b7c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alibri"/>
              </a:rPr>
              <a:t>56,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9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8:08:20Z</dcterms:created>
  <dc:creator/>
  <dc:description/>
  <dc:language>en-US</dc:language>
  <cp:lastModifiedBy/>
  <dcterms:modified xsi:type="dcterms:W3CDTF">2016-11-20T09:16:1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799990</vt:lpwstr>
  </property>
</Properties>
</file>