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3ED8-3757-4EA7-8E27-340C747D0A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8F0A-CE96-4440-9895-DFD7ED9DB89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расписания для дополнительных сроков/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CBB8-2529-4227-8E2A-EB1A91DF123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D7DF-082E-413C-A26A-33873E9B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6AEC-4C55-48BA-B7FE-184C1DE8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E46C9-E4B9-4995-8BF3-F0BAF5AF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D918E-6E87-4D62-905D-9C0221AE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0C679-E238-4867-946D-E4649F31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8FCA0-2FF7-46E0-B9DF-B8AA693F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09EB8-8C17-4EF4-91CA-E1F62E6D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E7177-AEAA-46D2-A30D-292D016A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49BC7-0010-4F7D-9D6C-DF7C0471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2D522-734F-4B7E-B3D4-F7170092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38B78-805F-44D5-9256-672EA2FF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31C67A-B042-4565-A3D2-0BF95531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DE6D-E59B-4AB8-86C8-0E2E0458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F17BB8-63B9-475D-93EA-0E29FBDD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1E2E48-FC6A-4CC7-BF76-0852EE2F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F5CC09-82BE-4C40-AFF0-60082BFC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8A5E95-5E8A-4A4E-BD96-E61EFB0F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D0AA5B-2FB4-49BB-8FC9-BB7B35E0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29B77E-BE9E-493C-B302-073460C5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FDD2E6-BCEC-40B5-823D-9BF4A853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BB5541-3913-4BA5-96C1-1365268A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2C9A39-CB6C-497D-8742-C8813641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4FADA4-3407-487A-8B96-0FD0F7E2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A25A-6790-42F5-B7B8-CFE12F3B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2A06C1-4208-4C1B-8024-D30CAB05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BD32A-4F91-470F-9F18-66C824C4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CEF6F-D258-4C82-8CE7-7C512C48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0FDE8-A2FD-44ED-8007-54856DA6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CF1DF-1709-402C-A3B5-50406B84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39B83-8A09-490B-994E-92DFCB92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55654-8132-4E90-888F-EED4B2DA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02895-900A-4004-8487-6846E576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FCBE4-B1D1-472A-A8D6-7A99C927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F36B0-BA52-4166-9CF1-5281BE8A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2CD3-98AC-4694-8FC3-B43064DE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B838D-704B-46C7-8C68-CA160833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409FC-DC7C-40D1-BD91-ABD76D18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10870-E58C-443D-85C5-0D7E6BA4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4723-A447-412B-82F0-7E7FE216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9BC0-551F-43BE-88C5-9C2FAE50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2B2F-FC39-4025-A115-32DEB08F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9AE5-044F-4BFD-B4D6-4C1EFBA5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4B13-D44B-4ECC-8D5D-71E5FFD3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437D-3827-4D56-A081-A9960C22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24B8-9325-45BA-AEC9-FB7E6A4B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EC82-BB30-4561-A72E-D8D762D5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CFEA-5506-4D64-9D03-76BE73A2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C14E-1D2B-45D7-9468-46BF6DA1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11BE-1372-42EA-8E64-340AE7F8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9BEF-1E0D-464A-A7F0-43AEC7DC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A4BB9-ABD8-44F5-BEAF-86D087E8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F8C77-42F4-4A7F-86E5-F9CA9737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839D6-D913-43E3-AEFC-C9FCEDB2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B9C68-6DC2-4105-B429-9F90B2AD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172D8-5DB5-4DC4-B4AA-4BDD2162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86C1-CABF-482A-8F9E-9ECEB074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06348-C07F-4A2D-A146-7CCCCBF5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1B500-618B-4B41-B92B-631B3F29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9AD46-18DA-4D27-9D35-DE640C95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21C25-258C-466D-9B70-B271EB9D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AD759-D943-4D1B-9984-1C561E30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D57F2-0E41-4739-9800-02EA3589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C5DB0-C71C-4C2D-A1B3-F192D5B3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989649-EB40-4EAA-8827-72E8B089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0C5106-3CFE-48CF-A396-56E12EB8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C429DE-B17E-4F73-B668-BE29634F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F900-802C-4458-BCE3-DABECBF5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0B42EE-F757-4EF6-8271-732BA4AB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EE249B-D249-44D0-A20F-954BBCF7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47F021-37CC-47AD-90EF-578CBC9E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25B459-3958-4C12-8EDF-FB2EB553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D8AD0C-798B-40F9-803F-B8609D0E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04AFE4-3023-478E-A0EE-1FE9DFCF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C1F1C2-5C40-4A3B-A5B7-662A095A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57899F-928B-426C-B2FF-69B4F9F7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A3501B-F8EB-4002-98A0-439A2E87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810304-7FB4-4983-A094-22D38F0E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437-F5BB-4C3F-86E0-CDCC877B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3E13D3-E428-4ED6-9447-C0F4A5BC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0F18B3-482E-4B5B-B9E1-5280428D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830655-BD15-40EF-8E1A-A3F42F9A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B29BB6-524C-4EED-B3D2-4487EF42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D90D19-3719-4008-BCEC-14E18F40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5BA057-0AB4-4EB3-B7AD-627E6014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D8AB7F-4D4B-48F8-B383-3C61F31F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3C05D1-76D0-418A-BFC1-FE845224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99B6C5-864A-466F-92E2-099C205C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0471FB-E138-41B2-9674-8E28F644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0C82-5348-4AC6-8515-68FB2DC3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72184C-CB13-4646-B0A9-DD36FC62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DA2EB5-7EF1-45A5-B12B-BA76AE5F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415250-D135-4A2F-BB46-F5C231C6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F8CA63-82DF-4095-9EC0-191AC7B1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583761-B494-479F-A1C5-BD9275D0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824573-CE56-41A1-B98D-D6467FF7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3DF352-3A77-4B2F-AB3E-C0ECFEB2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E34DF0-9214-4B26-8A94-A2AB5F34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83B98A-137B-4D1E-B309-31716A1B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520608-6C46-46DE-90CE-2F7F7CCE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1EA-A193-4969-9AD5-E6EF87C9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086FD5-157B-427D-B78B-F36E64B7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0969D7-992C-4C38-8085-71C643E7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D8EA1D-AEFD-4D2B-9794-C37CE92B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F45A8-1659-44CE-80C0-055454EB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22773-31FF-48F1-A847-FE59C9C2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A1A24-0FF8-4D2C-A6D9-74F24450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73C41-AEB5-4EC5-90AB-535AEF65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92ACC-9C7F-4837-887B-0DCAAE92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48AF2-6C25-4C83-A85D-C3AC0BBE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88CC6-F76F-4099-B2B8-F4EB8917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83E2-4E0C-4372-BCE1-3203DE91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DB065-8711-4D59-B74C-BF92BB19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B65DB-A0F4-4B00-A981-5023358C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39DE7-A3EC-4713-83C8-D267D11F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DAC26-7B39-4B61-AB27-D6F8AF17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A489C-1497-42C0-A6D0-E35B6F86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B4B08-F386-4183-B472-3E160298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391BF-46D2-4CB9-BD1B-71B1041E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2C3D5-3928-42DA-B93C-EB0299DA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6D7F9-5738-4DB1-83B6-CEECA517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DE344-2536-4314-946D-F7C4FEFF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9727-C569-4140-88A0-3CD657DA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95970-4831-4028-9F87-00AAD031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721E7-25E5-44B9-A5BA-22070E9D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57CC5-14A8-4FB1-B09A-93B730BC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B67AC-7404-4629-A616-D1A76E46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8E384-8F6C-4089-BE2B-1A0E0CC7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A3108-A2E5-4964-A01F-938DEFA1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8547F-0333-4FC3-8241-0BB26930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279AA-B8AF-4347-B383-2A16AF0D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21767-8C85-4184-BEB8-3FF3187D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51118-73C4-4F3F-B628-18CDA3F7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DFB4-28FC-4D63-82EA-477B9184CF5D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0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F43003B1-A128-4684-9D33-36C230B562C9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20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131C-F5BA-4785-8BEB-6ABF09F35157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88A8-8CAB-4952-B0E3-5823C19FC0AF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0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8AD3C5B8-3C97-4CDA-8CB4-5D3364FC6069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20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75F0-3EDE-4957-BE83-EA6B0A75A3AD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BA6D-BC16-43CF-BC58-166EC81C092C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0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E24B9074-9F15-4EAA-BAF6-A03EF8D37BED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20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B0BE-2F16-46A5-B0A4-506B664D4342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A04A-AC67-4E9F-8425-FB0F8E6605C9}" type="datetime">
              <a:rPr b="0" lang="ru-RU" sz="2000" spc="-1" strike="noStrike">
                <a:solidFill>
                  <a:srgbClr val="ffffff"/>
                </a:solidFill>
                <a:latin typeface="Calibri"/>
              </a:rPr>
              <a:t>30.07.26</a:t>
            </a:fld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fld id="{6106FFB8-BB80-4401-B68F-A49FA243AEA9}" type="datetime10">
              <a:rPr b="0" lang="ru-RU" sz="2000" spc="-1" strike="noStrike">
                <a:solidFill>
                  <a:srgbClr val="ffffff"/>
                </a:solidFill>
                <a:latin typeface="Calibri"/>
              </a:rPr>
              <a:t>20:01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D6BD-CA2C-4CA5-B770-965D47F617DE}" type="slidenum">
              <a:rPr b="1" lang="ru-RU" sz="14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0242-3A02-4D24-AB3E-711A517A49DB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0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02757557-2221-444A-B207-0B9C7084E6E1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20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1B2A-4764-484C-9F5D-398D512F894F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4382-744F-48C4-8FD4-29F02F803B58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0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71CE7FF5-D985-47CC-9799-A4F7ABAC542C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20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966C-F689-4C5F-8C55-F4C812DF6439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E2E6-B7BD-43F7-8AF9-404F530E4DC0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0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B6CAA443-B2A7-4C9F-A693-3D45140C759E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20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8C81-D8F9-46A5-8F6E-BE37F54867A6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7FC5-DE0E-459A-AF3E-D557BDED19EB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0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B2F63043-6351-44EE-82C7-574C9141E714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20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E567-77C6-4000-A6D0-D5582B060B1B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BE22-C228-4874-B00B-501806F66EBF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0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263C692F-D17E-4E5B-B6F8-8D05E956B70A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20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DE7D-111D-4ED5-9594-484D06A8025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802C-F2FA-4738-B885-394F8A1B3EC5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0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19534D2E-7412-4456-96C4-932FBFCDEDA0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20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3228-0A47-48A0-AA61-830E2CC7E472}" type="slidenum">
              <a:rPr b="1" lang="ru-RU" sz="14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2" name="Picture 7" descr="sm_pencil.png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2144880"/>
          </a:xfrm>
          <a:prstGeom prst="rect">
            <a:avLst/>
          </a:prstGeom>
          <a:ln cap="sq" w="50760">
            <a:solidFill>
              <a:srgbClr val="feb80a"/>
            </a:solidFill>
            <a:miter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0780-A0F2-4648-BE8E-8D840C520A05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0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8F2EAE12-3A8B-4219-8919-D4BD837B9A8E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20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7FFE-6D41-4C44-83DE-60D9FFE9BE1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0" y="3714840"/>
            <a:ext cx="6477120" cy="20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a6d7d"/>
                </a:solidFill>
                <a:latin typeface="Calibri"/>
              </a:rPr>
              <a:t>ДИДАКТИЧЕСКАЯ ИГРА ПО ТЕМЕ «ДЕСЯТИЧНЫЕ ДРОБИ И ПРОЦЕНТЫ» 5-6 КЛАСС</a:t>
            </a:r>
            <a:endParaRPr b="0" lang="en-US" sz="4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МАОУ СОШ №2, г.Домодедо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Учитель : Генкина Надежда Владимировна</a:t>
            </a:r>
            <a:br>
              <a:rPr sz="700"/>
            </a:br>
            <a:r>
              <a:rPr b="0" lang="ru-RU" sz="7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Прямоугольник 5" descr=""/>
          <p:cNvPicPr/>
          <p:nvPr/>
        </p:nvPicPr>
        <p:blipFill>
          <a:blip r:embed="rId1"/>
          <a:stretch/>
        </p:blipFill>
        <p:spPr>
          <a:xfrm>
            <a:off x="1359000" y="285840"/>
            <a:ext cx="6999120" cy="939600"/>
          </a:xfrm>
          <a:prstGeom prst="rect">
            <a:avLst/>
          </a:prstGeom>
          <a:ln w="0">
            <a:noFill/>
          </a:ln>
        </p:spPr>
      </p:pic>
      <p:sp>
        <p:nvSpPr>
          <p:cNvPr id="580" name="Заголовок 3"/>
          <p:cNvSpPr/>
          <p:nvPr/>
        </p:nvSpPr>
        <p:spPr>
          <a:xfrm>
            <a:off x="474840" y="2933640"/>
            <a:ext cx="8194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81" name="Рисунок 6" descr="703a1a7b021366888b6ef1243654601b[1].gif"/>
          <p:cNvPicPr/>
          <p:nvPr/>
        </p:nvPicPr>
        <p:blipFill>
          <a:blip r:embed="rId2"/>
          <a:stretch/>
        </p:blipFill>
        <p:spPr>
          <a:xfrm>
            <a:off x="4572000" y="2708280"/>
            <a:ext cx="308448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Продолжить обучение учащихся работе с десятичными дроб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Задач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репить знания о процентах, о нахождении  процента от величины и    совершенствовать навыки действий  с дробями, расширять кругозор уча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психические познавательные процессы: память, внимание, логическое мышл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ание ответственности за товарища, привитие навыков сотруднич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снащение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карточки с заданиями, аппаратура для презент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Межпредметные связ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математика – географ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ремя, необходимое на представленную игру: 15 мину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56800" y="228600"/>
            <a:ext cx="790884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ru-RU" sz="5400" spc="-1" strike="noStrike" u="sng">
                <a:solidFill>
                  <a:srgbClr val="4f271c"/>
                </a:solidFill>
                <a:uFillTx/>
                <a:latin typeface="Calibri"/>
              </a:rPr>
              <a:t>Задание №1 </a:t>
            </a:r>
            <a:endParaRPr b="0" lang="en-US" sz="5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12360" y="1599840"/>
            <a:ext cx="259092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.Найдите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Овал 8"/>
          <p:cNvSpPr/>
          <p:nvPr/>
        </p:nvSpPr>
        <p:spPr>
          <a:xfrm>
            <a:off x="571680" y="2857680"/>
            <a:ext cx="431640" cy="431640"/>
          </a:xfrm>
          <a:prstGeom prst="ellipse">
            <a:avLst/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Объект 1"/>
          <p:cNvSpPr/>
          <p:nvPr/>
        </p:nvSpPr>
        <p:spPr>
          <a:xfrm>
            <a:off x="1071720" y="2857680"/>
            <a:ext cx="2761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30 %  от  50:    ___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Овал 12"/>
          <p:cNvSpPr/>
          <p:nvPr/>
        </p:nvSpPr>
        <p:spPr>
          <a:xfrm>
            <a:off x="500040" y="3929040"/>
            <a:ext cx="432000" cy="432000"/>
          </a:xfrm>
          <a:prstGeom prst="ellipse">
            <a:avLst/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Объект 1"/>
          <p:cNvSpPr/>
          <p:nvPr/>
        </p:nvSpPr>
        <p:spPr>
          <a:xfrm>
            <a:off x="928800" y="3929040"/>
            <a:ext cx="2768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2,5 % от 400:     ___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Овал 14"/>
          <p:cNvSpPr/>
          <p:nvPr/>
        </p:nvSpPr>
        <p:spPr>
          <a:xfrm>
            <a:off x="500040" y="5214960"/>
            <a:ext cx="432000" cy="431640"/>
          </a:xfrm>
          <a:prstGeom prst="ellipse">
            <a:avLst/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0" name="Объект 1"/>
          <p:cNvSpPr/>
          <p:nvPr/>
        </p:nvSpPr>
        <p:spPr>
          <a:xfrm>
            <a:off x="928800" y="5214960"/>
            <a:ext cx="2762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25 %  от 6 :          ___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Овал 16"/>
          <p:cNvSpPr/>
          <p:nvPr/>
        </p:nvSpPr>
        <p:spPr>
          <a:xfrm>
            <a:off x="4429080" y="2857680"/>
            <a:ext cx="432000" cy="431640"/>
          </a:xfrm>
          <a:prstGeom prst="ellipse">
            <a:avLst/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Объект 1"/>
          <p:cNvSpPr/>
          <p:nvPr/>
        </p:nvSpPr>
        <p:spPr>
          <a:xfrm>
            <a:off x="4929120" y="2786040"/>
            <a:ext cx="2762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20 % от 44,5:     ___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Овал 18"/>
          <p:cNvSpPr/>
          <p:nvPr/>
        </p:nvSpPr>
        <p:spPr>
          <a:xfrm>
            <a:off x="4429080" y="3857760"/>
            <a:ext cx="432000" cy="431640"/>
          </a:xfrm>
          <a:prstGeom prst="ellipse">
            <a:avLst/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Объект 1"/>
          <p:cNvSpPr/>
          <p:nvPr/>
        </p:nvSpPr>
        <p:spPr>
          <a:xfrm>
            <a:off x="5000760" y="3857760"/>
            <a:ext cx="276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0 % от 34:         ___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Овал 20"/>
          <p:cNvSpPr/>
          <p:nvPr/>
        </p:nvSpPr>
        <p:spPr>
          <a:xfrm>
            <a:off x="4429080" y="5143680"/>
            <a:ext cx="432000" cy="431640"/>
          </a:xfrm>
          <a:prstGeom prst="ellipse">
            <a:avLst/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Объект 1"/>
          <p:cNvSpPr/>
          <p:nvPr/>
        </p:nvSpPr>
        <p:spPr>
          <a:xfrm>
            <a:off x="4929120" y="5143680"/>
            <a:ext cx="27687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25 %  от 9,6:       ___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Объект 1"/>
          <p:cNvSpPr/>
          <p:nvPr/>
        </p:nvSpPr>
        <p:spPr>
          <a:xfrm>
            <a:off x="3000240" y="2786040"/>
            <a:ext cx="503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8" name="Объект 1"/>
          <p:cNvSpPr/>
          <p:nvPr/>
        </p:nvSpPr>
        <p:spPr>
          <a:xfrm>
            <a:off x="2987640" y="3860640"/>
            <a:ext cx="503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Объект 1"/>
          <p:cNvSpPr/>
          <p:nvPr/>
        </p:nvSpPr>
        <p:spPr>
          <a:xfrm>
            <a:off x="2928960" y="5214960"/>
            <a:ext cx="647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,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Объект 1"/>
          <p:cNvSpPr/>
          <p:nvPr/>
        </p:nvSpPr>
        <p:spPr>
          <a:xfrm>
            <a:off x="6929280" y="2714760"/>
            <a:ext cx="6480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8,9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Объект 1"/>
          <p:cNvSpPr/>
          <p:nvPr/>
        </p:nvSpPr>
        <p:spPr>
          <a:xfrm>
            <a:off x="7000920" y="3786120"/>
            <a:ext cx="647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Объект 1"/>
          <p:cNvSpPr/>
          <p:nvPr/>
        </p:nvSpPr>
        <p:spPr>
          <a:xfrm>
            <a:off x="6929280" y="5143680"/>
            <a:ext cx="6480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2,4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split dir="out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612720" y="1599840"/>
            <a:ext cx="40305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.Заполните пропуск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Овал 3"/>
          <p:cNvSpPr/>
          <p:nvPr/>
        </p:nvSpPr>
        <p:spPr>
          <a:xfrm>
            <a:off x="684360" y="2492280"/>
            <a:ext cx="1439640" cy="129708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0,48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5" name="Овал 4"/>
          <p:cNvSpPr/>
          <p:nvPr/>
        </p:nvSpPr>
        <p:spPr>
          <a:xfrm>
            <a:off x="2484360" y="4292640"/>
            <a:ext cx="1366920" cy="122400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Овал 5"/>
          <p:cNvSpPr/>
          <p:nvPr/>
        </p:nvSpPr>
        <p:spPr>
          <a:xfrm>
            <a:off x="4572000" y="2349360"/>
            <a:ext cx="1368360" cy="122400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Овал 6"/>
          <p:cNvSpPr/>
          <p:nvPr/>
        </p:nvSpPr>
        <p:spPr>
          <a:xfrm>
            <a:off x="5076720" y="4797360"/>
            <a:ext cx="1366920" cy="115272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Шестиугольник 7"/>
          <p:cNvSpPr/>
          <p:nvPr/>
        </p:nvSpPr>
        <p:spPr>
          <a:xfrm>
            <a:off x="7308720" y="3573360"/>
            <a:ext cx="1295640" cy="1008000"/>
          </a:xfrm>
          <a:prstGeom prst="hexagon">
            <a:avLst>
              <a:gd name="adj" fmla="val 0"/>
              <a:gd name="vf" fmla="val 115470"/>
            </a:avLst>
          </a:prstGeom>
          <a:solidFill>
            <a:srgbClr val="00b0f0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519" name="Прямая со стрелкой 9"/>
          <p:cNvCxnSpPr>
            <a:stCxn id="514" idx="5"/>
            <a:endCxn id="515" idx="1"/>
          </p:cNvCxnSpPr>
          <p:nvPr/>
        </p:nvCxnSpPr>
        <p:spPr>
          <a:xfrm>
            <a:off x="1912680" y="3598560"/>
            <a:ext cx="772200" cy="873720"/>
          </a:xfrm>
          <a:prstGeom prst="straightConnector1">
            <a:avLst/>
          </a:prstGeom>
          <a:ln w="1008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20" name="Прямая со стрелкой 11"/>
          <p:cNvCxnSpPr>
            <a:stCxn id="515" idx="7"/>
            <a:endCxn id="516" idx="3"/>
          </p:cNvCxnSpPr>
          <p:nvPr/>
        </p:nvCxnSpPr>
        <p:spPr>
          <a:xfrm flipV="1">
            <a:off x="3651120" y="3394080"/>
            <a:ext cx="1121760" cy="1078200"/>
          </a:xfrm>
          <a:prstGeom prst="straightConnector1">
            <a:avLst/>
          </a:prstGeom>
          <a:ln w="1008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21" name="Прямая со стрелкой 13"/>
          <p:cNvCxnSpPr>
            <a:endCxn id="517" idx="0"/>
          </p:cNvCxnSpPr>
          <p:nvPr/>
        </p:nvCxnSpPr>
        <p:spPr>
          <a:xfrm>
            <a:off x="5508360" y="3573360"/>
            <a:ext cx="253080" cy="1224720"/>
          </a:xfrm>
          <a:prstGeom prst="straightConnector1">
            <a:avLst/>
          </a:prstGeom>
          <a:ln w="1008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22" name="Прямая со стрелкой 15"/>
          <p:cNvCxnSpPr>
            <a:stCxn id="517" idx="6"/>
            <a:endCxn id="518" idx="2"/>
          </p:cNvCxnSpPr>
          <p:nvPr/>
        </p:nvCxnSpPr>
        <p:spPr>
          <a:xfrm flipV="1">
            <a:off x="6443280" y="4580640"/>
            <a:ext cx="865800" cy="793080"/>
          </a:xfrm>
          <a:prstGeom prst="straightConnector1">
            <a:avLst/>
          </a:prstGeom>
          <a:ln w="1008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523" name="Объект 1"/>
          <p:cNvSpPr/>
          <p:nvPr/>
        </p:nvSpPr>
        <p:spPr>
          <a:xfrm>
            <a:off x="1332000" y="3860640"/>
            <a:ext cx="1008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: 0,2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Объект 1"/>
          <p:cNvSpPr/>
          <p:nvPr/>
        </p:nvSpPr>
        <p:spPr>
          <a:xfrm>
            <a:off x="3348000" y="3357720"/>
            <a:ext cx="10796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  <a:ea typeface="Arial"/>
              </a:rPr>
              <a:t>+2,6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Объект 1"/>
          <p:cNvSpPr/>
          <p:nvPr/>
        </p:nvSpPr>
        <p:spPr>
          <a:xfrm>
            <a:off x="4572000" y="4005360"/>
            <a:ext cx="10796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  <a:ea typeface="Arial"/>
              </a:rPr>
              <a:t>- 0,3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Объект 1"/>
          <p:cNvSpPr/>
          <p:nvPr/>
        </p:nvSpPr>
        <p:spPr>
          <a:xfrm>
            <a:off x="6791400" y="4797360"/>
            <a:ext cx="995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Объект 1"/>
          <p:cNvSpPr/>
          <p:nvPr/>
        </p:nvSpPr>
        <p:spPr>
          <a:xfrm>
            <a:off x="2556000" y="4508640"/>
            <a:ext cx="1249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2,4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Объект 1"/>
          <p:cNvSpPr/>
          <p:nvPr/>
        </p:nvSpPr>
        <p:spPr>
          <a:xfrm>
            <a:off x="4643280" y="2708280"/>
            <a:ext cx="12495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Объект 1"/>
          <p:cNvSpPr/>
          <p:nvPr/>
        </p:nvSpPr>
        <p:spPr>
          <a:xfrm>
            <a:off x="5148360" y="5027760"/>
            <a:ext cx="12492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4,7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Объект 1"/>
          <p:cNvSpPr/>
          <p:nvPr/>
        </p:nvSpPr>
        <p:spPr>
          <a:xfrm>
            <a:off x="7308720" y="3645000"/>
            <a:ext cx="1295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Arial"/>
              </a:rPr>
              <a:t>47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5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612720" y="1599840"/>
            <a:ext cx="40305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3.Выполните действия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Объект 2"/>
          <p:cNvSpPr/>
          <p:nvPr/>
        </p:nvSpPr>
        <p:spPr>
          <a:xfrm>
            <a:off x="285840" y="2997360"/>
            <a:ext cx="70228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(0,32 • 3,5  :  0,25 + 0,02) • 20 – 18,8  =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Блок-схема: задержка 7"/>
          <p:cNvSpPr/>
          <p:nvPr/>
        </p:nvSpPr>
        <p:spPr>
          <a:xfrm>
            <a:off x="7164360" y="2786040"/>
            <a:ext cx="1201680" cy="1081080"/>
          </a:xfrm>
          <a:prstGeom prst="flowChartDelay">
            <a:avLst/>
          </a:prstGeom>
          <a:solidFill>
            <a:srgbClr val="00b0f0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TextBox 8"/>
          <p:cNvSpPr/>
          <p:nvPr/>
        </p:nvSpPr>
        <p:spPr>
          <a:xfrm>
            <a:off x="7263360" y="2928960"/>
            <a:ext cx="10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w Cen MT"/>
                <a:ea typeface="Arial"/>
              </a:rPr>
              <a:t>71,2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Овал 5"/>
          <p:cNvSpPr/>
          <p:nvPr/>
        </p:nvSpPr>
        <p:spPr>
          <a:xfrm>
            <a:off x="1000080" y="2714760"/>
            <a:ext cx="857160" cy="357120"/>
          </a:xfrm>
          <a:prstGeom prst="ellipse">
            <a:avLst/>
          </a:prstGeom>
          <a:solidFill>
            <a:srgbClr val="ffe39d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alibri"/>
              </a:rPr>
              <a:t>1,12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Овал 6"/>
          <p:cNvSpPr/>
          <p:nvPr/>
        </p:nvSpPr>
        <p:spPr>
          <a:xfrm>
            <a:off x="2000160" y="2714760"/>
            <a:ext cx="857520" cy="357120"/>
          </a:xfrm>
          <a:prstGeom prst="ellipse">
            <a:avLst/>
          </a:prstGeom>
          <a:solidFill>
            <a:srgbClr val="ffe39d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alibri"/>
              </a:rPr>
              <a:t>4,48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Овал 9"/>
          <p:cNvSpPr/>
          <p:nvPr/>
        </p:nvSpPr>
        <p:spPr>
          <a:xfrm>
            <a:off x="3214800" y="2714760"/>
            <a:ext cx="857160" cy="357120"/>
          </a:xfrm>
          <a:prstGeom prst="ellipse">
            <a:avLst/>
          </a:prstGeom>
          <a:solidFill>
            <a:srgbClr val="ffe39d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alibri"/>
              </a:rPr>
              <a:t>4,5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Овал 10"/>
          <p:cNvSpPr/>
          <p:nvPr/>
        </p:nvSpPr>
        <p:spPr>
          <a:xfrm>
            <a:off x="4357800" y="2714760"/>
            <a:ext cx="857160" cy="357120"/>
          </a:xfrm>
          <a:prstGeom prst="ellipse">
            <a:avLst/>
          </a:prstGeom>
          <a:solidFill>
            <a:srgbClr val="ffe39d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alibri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split dir="out" orient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3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0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Объект 2"/>
          <p:cNvSpPr/>
          <p:nvPr/>
        </p:nvSpPr>
        <p:spPr>
          <a:xfrm>
            <a:off x="612720" y="1600200"/>
            <a:ext cx="597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  <a:ea typeface="Arial"/>
              </a:rPr>
              <a:t>4.   Заполните пропуски в тексте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Объект 2"/>
          <p:cNvSpPr/>
          <p:nvPr/>
        </p:nvSpPr>
        <p:spPr>
          <a:xfrm>
            <a:off x="5857920" y="4143240"/>
            <a:ext cx="27860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900" spc="-1" strike="noStrike">
                <a:solidFill>
                  <a:srgbClr val="2a6d7d"/>
                </a:solidFill>
                <a:latin typeface="Calibri"/>
              </a:rPr>
              <a:t>« П о л ю с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a6d7d"/>
                </a:solidFill>
                <a:latin typeface="Calibri"/>
              </a:rPr>
              <a:t>    </a:t>
            </a:r>
            <a:r>
              <a:rPr b="1" lang="ru-RU" sz="2900" spc="-1" strike="noStrike">
                <a:solidFill>
                  <a:srgbClr val="2a6d7d"/>
                </a:solidFill>
                <a:latin typeface="Calibri"/>
              </a:rPr>
              <a:t>х о л о д а »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a6d7d"/>
                </a:solidFill>
                <a:latin typeface="Calibri"/>
              </a:rPr>
              <a:t>          </a:t>
            </a:r>
            <a:r>
              <a:rPr b="1" lang="ru-RU" sz="2900" spc="-1" strike="noStrike">
                <a:solidFill>
                  <a:srgbClr val="2a6d7d"/>
                </a:solidFill>
                <a:latin typeface="Calibri"/>
              </a:rPr>
              <a:t>н а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a6d7d"/>
                </a:solidFill>
                <a:latin typeface="Calibri"/>
              </a:rPr>
              <a:t>    </a:t>
            </a:r>
            <a:r>
              <a:rPr b="1" lang="ru-RU" sz="2900" spc="-1" strike="noStrike">
                <a:solidFill>
                  <a:srgbClr val="2a6d7d"/>
                </a:solidFill>
                <a:latin typeface="Calibri"/>
              </a:rPr>
              <a:t>З е м л е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558720" y="2500200"/>
          <a:ext cx="6096240" cy="1360440"/>
        </p:xfrm>
        <a:graphic>
          <a:graphicData uri="http://schemas.openxmlformats.org/drawingml/2006/table">
            <a:tbl>
              <a:tblPr/>
              <a:tblGrid>
                <a:gridCol w="1015920"/>
                <a:gridCol w="1016280"/>
                <a:gridCol w="1015920"/>
                <a:gridCol w="1015920"/>
                <a:gridCol w="507960"/>
                <a:gridCol w="507960"/>
                <a:gridCol w="1016280"/>
              </a:tblGrid>
              <a:tr h="3661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70c0"/>
                      </a:solidFill>
                    </a:lnL>
                    <a:lnR>
                      <a:noFill/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70c0"/>
                      </a:solidFill>
                    </a:lnR>
                    <a:lnT>
                      <a:noFill/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2" name="Овал 10"/>
          <p:cNvSpPr/>
          <p:nvPr/>
        </p:nvSpPr>
        <p:spPr>
          <a:xfrm>
            <a:off x="817560" y="3357720"/>
            <a:ext cx="431640" cy="431640"/>
          </a:xfrm>
          <a:prstGeom prst="ellipse">
            <a:avLst/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Овал 11"/>
          <p:cNvSpPr/>
          <p:nvPr/>
        </p:nvSpPr>
        <p:spPr>
          <a:xfrm>
            <a:off x="1908000" y="3357720"/>
            <a:ext cx="432000" cy="431640"/>
          </a:xfrm>
          <a:prstGeom prst="ellipse">
            <a:avLst/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Овал 12"/>
          <p:cNvSpPr/>
          <p:nvPr/>
        </p:nvSpPr>
        <p:spPr>
          <a:xfrm>
            <a:off x="2924280" y="3357720"/>
            <a:ext cx="431640" cy="431640"/>
          </a:xfrm>
          <a:prstGeom prst="ellipse">
            <a:avLst/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Овал 14"/>
          <p:cNvSpPr/>
          <p:nvPr/>
        </p:nvSpPr>
        <p:spPr>
          <a:xfrm>
            <a:off x="3927600" y="3357720"/>
            <a:ext cx="431640" cy="431640"/>
          </a:xfrm>
          <a:prstGeom prst="ellipse">
            <a:avLst/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Овал 15"/>
          <p:cNvSpPr/>
          <p:nvPr/>
        </p:nvSpPr>
        <p:spPr>
          <a:xfrm>
            <a:off x="4932360" y="3357720"/>
            <a:ext cx="431640" cy="431640"/>
          </a:xfrm>
          <a:prstGeom prst="ellipse">
            <a:avLst/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Овал 16"/>
          <p:cNvSpPr/>
          <p:nvPr/>
        </p:nvSpPr>
        <p:spPr>
          <a:xfrm>
            <a:off x="5940360" y="3357720"/>
            <a:ext cx="432000" cy="431640"/>
          </a:xfrm>
          <a:prstGeom prst="ellipse">
            <a:avLst/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6643800" y="2500200"/>
          <a:ext cx="1015920" cy="1360440"/>
        </p:xfrm>
        <a:graphic>
          <a:graphicData uri="http://schemas.openxmlformats.org/drawingml/2006/table">
            <a:tbl>
              <a:tblPr/>
              <a:tblGrid>
                <a:gridCol w="1015920"/>
              </a:tblGrid>
              <a:tr h="74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49" name="Овал 24"/>
          <p:cNvSpPr/>
          <p:nvPr/>
        </p:nvSpPr>
        <p:spPr>
          <a:xfrm>
            <a:off x="7000920" y="3357720"/>
            <a:ext cx="431640" cy="431640"/>
          </a:xfrm>
          <a:prstGeom prst="ellipse">
            <a:avLst/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50" name="Picture 46" descr="C:\Users\Надюшка\Desktop\оймякон карт.bmp"/>
          <p:cNvPicPr/>
          <p:nvPr/>
        </p:nvPicPr>
        <p:blipFill>
          <a:blip r:embed="rId1"/>
          <a:stretch/>
        </p:blipFill>
        <p:spPr>
          <a:xfrm>
            <a:off x="714240" y="3929040"/>
            <a:ext cx="4500720" cy="2709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3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7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0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3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6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Объект 2"/>
          <p:cNvSpPr/>
          <p:nvPr/>
        </p:nvSpPr>
        <p:spPr>
          <a:xfrm>
            <a:off x="571680" y="1643040"/>
            <a:ext cx="8064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900" spc="-1" strike="noStrike">
                <a:solidFill>
                  <a:srgbClr val="2a6d7d"/>
                </a:solidFill>
                <a:latin typeface="Calibri"/>
              </a:rPr>
              <a:t>Оймякон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– село на  Востоке Якутии. Средняя температура в январе здесь составляет  минус  градусов , а в 1924 году была отмечена  температура    минус                    градуса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Шестиугольник 8"/>
          <p:cNvSpPr/>
          <p:nvPr/>
        </p:nvSpPr>
        <p:spPr>
          <a:xfrm>
            <a:off x="8001000" y="2428920"/>
            <a:ext cx="857160" cy="642960"/>
          </a:xfrm>
          <a:prstGeom prst="hexagon">
            <a:avLst>
              <a:gd name="adj" fmla="val 0"/>
              <a:gd name="vf" fmla="val 115470"/>
            </a:avLst>
          </a:prstGeom>
          <a:solidFill>
            <a:srgbClr val="00b0f0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Блок-схема: задержка 9"/>
          <p:cNvSpPr/>
          <p:nvPr/>
        </p:nvSpPr>
        <p:spPr>
          <a:xfrm>
            <a:off x="4214880" y="3643200"/>
            <a:ext cx="1143000" cy="857520"/>
          </a:xfrm>
          <a:prstGeom prst="flowChartDelay">
            <a:avLst/>
          </a:prstGeom>
          <a:solidFill>
            <a:srgbClr val="00b0f0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Объект 1"/>
          <p:cNvSpPr/>
          <p:nvPr/>
        </p:nvSpPr>
        <p:spPr>
          <a:xfrm>
            <a:off x="8028000" y="2421000"/>
            <a:ext cx="7142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47 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TextBox 18"/>
          <p:cNvSpPr/>
          <p:nvPr/>
        </p:nvSpPr>
        <p:spPr>
          <a:xfrm>
            <a:off x="4214880" y="378612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w Cen MT"/>
                <a:ea typeface="Arial"/>
              </a:rPr>
              <a:t>71,2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91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96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12360" y="620280"/>
            <a:ext cx="2374920" cy="5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4f271c"/>
                </a:solidFill>
                <a:uFillTx/>
                <a:latin typeface="Calibri"/>
              </a:rPr>
              <a:t>Задание №2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42960" y="1574640"/>
            <a:ext cx="815328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ыполните математические задания и в тексте </a:t>
            </a:r>
            <a:r>
              <a:rPr b="1" lang="ru-RU" sz="2000" spc="-1" strike="noStrike">
                <a:solidFill>
                  <a:srgbClr val="4b2203"/>
                </a:solidFill>
                <a:latin typeface="Calibri"/>
              </a:rPr>
              <a:t>«Самые жаркие места  Земли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мените буквенные обозначения </a:t>
            </a:r>
            <a:r>
              <a:rPr b="1" lang="ru-RU" sz="2000" spc="-1" strike="noStrike">
                <a:solidFill>
                  <a:srgbClr val="922223"/>
                </a:solidFill>
                <a:latin typeface="Calibri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2000" spc="-1" strike="noStrike">
                <a:solidFill>
                  <a:srgbClr val="922223"/>
                </a:solidFill>
                <a:latin typeface="Tw Cen MT"/>
              </a:rPr>
              <a:t>b</a:t>
            </a:r>
            <a:r>
              <a:rPr b="1" lang="ru-RU" sz="2000" spc="-1" strike="noStrike">
                <a:solidFill>
                  <a:srgbClr val="922223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йденными числами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читайте текст с учетом найденных знач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Заголовок 1"/>
          <p:cNvSpPr/>
          <p:nvPr/>
        </p:nvSpPr>
        <p:spPr>
          <a:xfrm>
            <a:off x="1143000" y="2781360"/>
            <a:ext cx="6500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Заголовок 1"/>
          <p:cNvSpPr/>
          <p:nvPr/>
        </p:nvSpPr>
        <p:spPr>
          <a:xfrm>
            <a:off x="555480" y="2852640"/>
            <a:ext cx="8317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0" name="TextBox 22"/>
          <p:cNvSpPr/>
          <p:nvPr/>
        </p:nvSpPr>
        <p:spPr>
          <a:xfrm>
            <a:off x="928800" y="357192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922223"/>
                </a:solidFill>
                <a:latin typeface="Calibri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=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4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1,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11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0,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0,1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1" name="Rectangle 18"/>
          <p:cNvSpPr/>
          <p:nvPr/>
        </p:nvSpPr>
        <p:spPr>
          <a:xfrm>
            <a:off x="1800" y="360"/>
            <a:ext cx="30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TextBox 23"/>
          <p:cNvSpPr/>
          <p:nvPr/>
        </p:nvSpPr>
        <p:spPr>
          <a:xfrm>
            <a:off x="1000080" y="485784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2223"/>
                </a:solidFill>
                <a:latin typeface="Tw Cen MT"/>
              </a:rPr>
              <a:t> </a:t>
            </a:r>
            <a:r>
              <a:rPr b="1" lang="ru-RU" sz="2800" spc="-1" strike="noStrike">
                <a:solidFill>
                  <a:srgbClr val="922223"/>
                </a:solidFill>
                <a:latin typeface="Tw Cen MT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w Cen MT"/>
              </a:rPr>
              <a:t>  =  </a:t>
            </a: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72 : 1,2  - 99 : 30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TextBox 24"/>
          <p:cNvSpPr/>
          <p:nvPr/>
        </p:nvSpPr>
        <p:spPr>
          <a:xfrm>
            <a:off x="6215040" y="36432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w Cen MT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Прямоугольник 25"/>
          <p:cNvSpPr/>
          <p:nvPr/>
        </p:nvSpPr>
        <p:spPr>
          <a:xfrm>
            <a:off x="6715080" y="3571920"/>
            <a:ext cx="1143000" cy="500040"/>
          </a:xfrm>
          <a:prstGeom prst="rect">
            <a:avLst/>
          </a:prstGeom>
          <a:solidFill>
            <a:srgbClr val="e17b7c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Calibri"/>
              </a:rPr>
              <a:t>57,8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TextBox 26"/>
          <p:cNvSpPr/>
          <p:nvPr/>
        </p:nvSpPr>
        <p:spPr>
          <a:xfrm>
            <a:off x="4929120" y="492912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w Cen MT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Прямоугольник 27"/>
          <p:cNvSpPr/>
          <p:nvPr/>
        </p:nvSpPr>
        <p:spPr>
          <a:xfrm>
            <a:off x="5429160" y="4857840"/>
            <a:ext cx="1214640" cy="571320"/>
          </a:xfrm>
          <a:prstGeom prst="rect">
            <a:avLst/>
          </a:prstGeom>
          <a:solidFill>
            <a:srgbClr val="e17b7c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Calibri"/>
              </a:rPr>
              <a:t>56,7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Овал 12"/>
          <p:cNvSpPr/>
          <p:nvPr/>
        </p:nvSpPr>
        <p:spPr>
          <a:xfrm>
            <a:off x="2000160" y="3357720"/>
            <a:ext cx="785880" cy="285480"/>
          </a:xfrm>
          <a:prstGeom prst="ellipse">
            <a:avLst/>
          </a:prstGeom>
          <a:solidFill>
            <a:srgbClr val="ffe39d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Овал 13"/>
          <p:cNvSpPr/>
          <p:nvPr/>
        </p:nvSpPr>
        <p:spPr>
          <a:xfrm>
            <a:off x="3786120" y="3429000"/>
            <a:ext cx="785880" cy="285840"/>
          </a:xfrm>
          <a:prstGeom prst="ellipse">
            <a:avLst/>
          </a:prstGeom>
          <a:solidFill>
            <a:srgbClr val="ffe39d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Calibri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9" name="Овал 14"/>
          <p:cNvSpPr/>
          <p:nvPr/>
        </p:nvSpPr>
        <p:spPr>
          <a:xfrm>
            <a:off x="4714920" y="3429000"/>
            <a:ext cx="785880" cy="285840"/>
          </a:xfrm>
          <a:prstGeom prst="ellipse">
            <a:avLst/>
          </a:prstGeom>
          <a:solidFill>
            <a:srgbClr val="ffe39d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Calibri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Овал 15"/>
          <p:cNvSpPr/>
          <p:nvPr/>
        </p:nvSpPr>
        <p:spPr>
          <a:xfrm>
            <a:off x="2143080" y="4643280"/>
            <a:ext cx="785880" cy="285840"/>
          </a:xfrm>
          <a:prstGeom prst="ellipse">
            <a:avLst/>
          </a:prstGeom>
          <a:solidFill>
            <a:srgbClr val="ffe39d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Овал 16"/>
          <p:cNvSpPr/>
          <p:nvPr/>
        </p:nvSpPr>
        <p:spPr>
          <a:xfrm>
            <a:off x="3714840" y="4643280"/>
            <a:ext cx="785880" cy="285840"/>
          </a:xfrm>
          <a:prstGeom prst="ellipse">
            <a:avLst/>
          </a:prstGeom>
          <a:solidFill>
            <a:srgbClr val="ffe39d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Calibri"/>
              </a:rPr>
              <a:t>3,3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split dir="out" orient="vert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7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1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71c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4f271c"/>
                </a:solidFill>
                <a:latin typeface="Calibri"/>
              </a:rPr>
              <a:t>Самые жаркие места Земли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12720" y="1599840"/>
            <a:ext cx="81532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амыми «горячими» местами на планете считаются Калифорния и Ливия 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3 сентября 1922 года в Ливии                 (Северная Африка) жара в тени                 достигала              градус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1913 году в Долине Смерти                           (США) была зафиксирована                     рекордная температура         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градусов Цельсия.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                       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Рисунок 3" descr="http://wyg.su/i/llustration/5/8/587e1d21-2508-3141-9723-8748169c77b6.jpg"/>
          <p:cNvPicPr/>
          <p:nvPr/>
        </p:nvPicPr>
        <p:blipFill>
          <a:blip r:embed="rId1"/>
          <a:stretch/>
        </p:blipFill>
        <p:spPr>
          <a:xfrm>
            <a:off x="6357960" y="2571840"/>
            <a:ext cx="2571840" cy="15746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C:\Users\Надюшка\Desktop\дол см.jpg"/>
          <p:cNvPicPr/>
          <p:nvPr/>
        </p:nvPicPr>
        <p:blipFill>
          <a:blip r:embed="rId2"/>
          <a:stretch/>
        </p:blipFill>
        <p:spPr>
          <a:xfrm>
            <a:off x="6143760" y="5000760"/>
            <a:ext cx="2714400" cy="1619280"/>
          </a:xfrm>
          <a:prstGeom prst="rect">
            <a:avLst/>
          </a:prstGeom>
          <a:ln w="0">
            <a:noFill/>
          </a:ln>
        </p:spPr>
      </p:pic>
      <p:sp>
        <p:nvSpPr>
          <p:cNvPr id="576" name="Прямоугольник 8"/>
          <p:cNvSpPr/>
          <p:nvPr/>
        </p:nvSpPr>
        <p:spPr>
          <a:xfrm>
            <a:off x="2714760" y="3571920"/>
            <a:ext cx="857160" cy="428760"/>
          </a:xfrm>
          <a:prstGeom prst="rect">
            <a:avLst/>
          </a:prstGeom>
          <a:solidFill>
            <a:srgbClr val="e17b7c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2223"/>
                </a:solidFill>
                <a:latin typeface="Calibri"/>
              </a:rPr>
              <a:t>57,8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Прямоугольник 9"/>
          <p:cNvSpPr/>
          <p:nvPr/>
        </p:nvSpPr>
        <p:spPr>
          <a:xfrm>
            <a:off x="4929120" y="4929120"/>
            <a:ext cx="785880" cy="428760"/>
          </a:xfrm>
          <a:prstGeom prst="rect">
            <a:avLst/>
          </a:prstGeom>
          <a:solidFill>
            <a:srgbClr val="e17b7c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2223"/>
                </a:solidFill>
                <a:latin typeface="Calibri"/>
              </a:rPr>
              <a:t>56,7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split dir="out" orient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483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492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8:08:20Z</dcterms:created>
  <dc:creator/>
  <dc:description/>
  <dc:language>en-US</dc:language>
  <cp:lastModifiedBy/>
  <dcterms:modified xsi:type="dcterms:W3CDTF">2016-11-20T09:16:1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799990</vt:lpwstr>
  </property>
</Properties>
</file>