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92D-1F65-4A09-9E8E-500EF83A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62E-290E-44D0-87A2-D9441C82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331-C2C6-4C56-907B-1C32A00B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F3C-A6F3-4535-9383-307182D8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30AD-6F70-4385-A059-101928B3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9A52-1302-4FA8-AD89-77B8EDE9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69AB-5DF6-4974-A56B-11E00DA0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2E00-4B0E-4BFC-AE1C-81E3B9C4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E2C0-BBFE-44C8-9977-1C6C982F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AE95-025F-4813-BA0D-5FE72279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78E3-9BFF-469C-ACBF-4620E19A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F0B-0B76-4611-AE4B-C85EA06B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10D5-700B-4916-A5C5-9674119B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7350-516A-468E-A874-B5E4CD72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3EAF-7E67-49A1-9EB2-56F7ADD1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5D50-6C7C-4F5B-A609-41F364B2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9CD4-D794-4152-A9F0-34EDE9E3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F5C8E-5EE7-4F2D-B751-ED3994F9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D3321-4337-4700-B178-5882268E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3C943-0E59-4515-AD66-F1523D8D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2049F-1AFA-471C-8038-814175F2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CB88D-2AD5-4AC0-8EDC-4E2096CC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B8F-E81E-4C4E-9977-AFAD210D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B6BF8-A0CD-4DC1-8043-14BAF0AA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F0AA8-C77A-4BC2-9F09-B2910C9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433FC-FE23-4CDD-8F34-470C3C80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6E580-AC0C-492A-9B23-AA2560FD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44C7C-4624-4597-88DC-651401E4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EFC51-4B47-4305-B5BD-4E13513D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1E6F3-396C-4683-BA6E-65A47115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21F7-0926-490E-A081-1B026532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1AE-C8D7-4E9E-8CC3-013B06CF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CAD-36D2-4A6A-AFA8-4F7995B3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CB6-5A10-4C44-8B92-66B133E9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A83-3AE0-438C-9B0B-A43E770A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79F-A4CA-4344-A4A9-70AAF174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9FB9-E854-4A49-9DAA-612897C4BE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D0B4-B441-43D2-966A-CCF2307FEE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3FE5-DFB9-4AAA-BF7B-B165A0AA591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L01p1p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5964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e9be"/>
                </a:solidFill>
                <a:latin typeface="Tahoma"/>
              </a:rPr>
              <a:t>Презентация к уроку по химии для 8 класса</a:t>
            </a:r>
            <a:br>
              <a:rPr sz="2800"/>
            </a:br>
            <a:r>
              <a:rPr b="0" lang="ru-RU" sz="2800" spc="-1" strike="noStrike">
                <a:solidFill>
                  <a:srgbClr val="88e9be"/>
                </a:solidFill>
                <a:latin typeface="Tahoma"/>
              </a:rPr>
              <a:t>«Кислоты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364640" y="1125360"/>
            <a:ext cx="48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8e9be"/>
                </a:solidFill>
                <a:latin typeface="Tahoma"/>
              </a:rPr>
              <a:t>Автор: учитель МБОУ СШ №16 г. Павло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8e9be"/>
                </a:solidFill>
                <a:latin typeface="Tahoma"/>
              </a:rPr>
              <a:t>Нижегородской области Краснова Н.Ю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тепень окисления атомов в кислота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600" spc="-1" strike="noStrike" baseline="46000">
                <a:solidFill>
                  <a:srgbClr val="ff0000"/>
                </a:solidFill>
                <a:latin typeface="Tahoma"/>
              </a:rPr>
              <a:t>+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</a:t>
            </a:r>
            <a:r>
              <a:rPr b="0" lang="en-US" sz="3600" spc="-1" strike="noStrike" baseline="46000">
                <a:solidFill>
                  <a:srgbClr val="ff0000"/>
                </a:solidFill>
                <a:latin typeface="Tahoma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H</a:t>
            </a:r>
            <a:r>
              <a:rPr b="0" lang="en-US" sz="3200" spc="-1" strike="noStrike" baseline="46000">
                <a:solidFill>
                  <a:srgbClr val="ff0000"/>
                </a:solidFill>
                <a:latin typeface="Tahoma"/>
              </a:rPr>
              <a:t>+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 baseline="46000">
                <a:solidFill>
                  <a:srgbClr val="ff0000"/>
                </a:solidFill>
                <a:latin typeface="Tahoma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 baseline="46000">
                <a:solidFill>
                  <a:srgbClr val="ff0000"/>
                </a:solidFill>
                <a:latin typeface="Tahoma"/>
              </a:rPr>
              <a:t>+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 baseline="46000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 baseline="48000">
                <a:solidFill>
                  <a:srgbClr val="ff0000"/>
                </a:solidFill>
                <a:latin typeface="Tahoma"/>
              </a:rPr>
              <a:t>-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4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 baseline="46000">
                <a:solidFill>
                  <a:srgbClr val="ff0000"/>
                </a:solidFill>
                <a:latin typeface="Tahoma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48000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 baseline="46000">
                <a:solidFill>
                  <a:srgbClr val="ff0000"/>
                </a:solidFill>
                <a:latin typeface="Tahoma"/>
              </a:rPr>
              <a:t>-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* 2 +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-2) * 4 = 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-8=0                                   H</a:t>
            </a:r>
            <a:r>
              <a:rPr b="0" lang="en-US" sz="3200" spc="-1" strike="noStrike" baseline="48000">
                <a:solidFill>
                  <a:srgbClr val="ff0000"/>
                </a:solidFill>
                <a:latin typeface="Tahoma"/>
              </a:rPr>
              <a:t>+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 baseline="48000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 baseline="48000">
                <a:solidFill>
                  <a:srgbClr val="ff0000"/>
                </a:solidFill>
                <a:latin typeface="Tahoma"/>
              </a:rPr>
              <a:t>-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-6=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=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 и название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476280"/>
          <a:ext cx="8229600" cy="6340320"/>
        </p:xfrm>
        <a:graphic>
          <a:graphicData uri="http://schemas.openxmlformats.org/drawingml/2006/table">
            <a:tbl>
              <a:tblPr/>
              <a:tblGrid>
                <a:gridCol w="2663640"/>
                <a:gridCol w="1944720"/>
                <a:gridCol w="3621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соответст-вующего окс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кисл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оводородная (соля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м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мни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тороводородная (плавиков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 и название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8360" y="453960"/>
          <a:ext cx="8229600" cy="6365880"/>
        </p:xfrm>
        <a:graphic>
          <a:graphicData uri="http://schemas.openxmlformats.org/drawingml/2006/table">
            <a:tbl>
              <a:tblPr/>
              <a:tblGrid>
                <a:gridCol w="2663640"/>
                <a:gridCol w="1944720"/>
                <a:gridCol w="3621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соответст-вующего окс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кисл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оводородная (соля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м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мни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тороводородная (плавиков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Характеристика кисло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личие кислор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твори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епень окисления элементов, образующих кислот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ряд иона кислотного остат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ответствующий оксид, наз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имонная кисло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Яблоч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равьи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L02p6p01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2239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L02p6p00"/>
          <p:cNvPicPr/>
          <p:nvPr/>
        </p:nvPicPr>
        <p:blipFill>
          <a:blip r:embed="rId2"/>
          <a:stretch/>
        </p:blipFill>
        <p:spPr>
          <a:xfrm>
            <a:off x="6156360" y="2276640"/>
            <a:ext cx="2987640" cy="2241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L02p6p06"/>
          <p:cNvPicPr/>
          <p:nvPr/>
        </p:nvPicPr>
        <p:blipFill>
          <a:blip r:embed="rId3"/>
          <a:stretch/>
        </p:blipFill>
        <p:spPr>
          <a:xfrm>
            <a:off x="6156360" y="4618080"/>
            <a:ext cx="298764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60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ксусная кисло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Молочная кисл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н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L02p6p04"/>
          <p:cNvPicPr/>
          <p:nvPr/>
        </p:nvPicPr>
        <p:blipFill>
          <a:blip r:embed="rId1"/>
          <a:stretch/>
        </p:blipFill>
        <p:spPr>
          <a:xfrm>
            <a:off x="6084720" y="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L02p6p03"/>
          <p:cNvPicPr/>
          <p:nvPr/>
        </p:nvPicPr>
        <p:blipFill>
          <a:blip r:embed="rId2"/>
          <a:stretch/>
        </p:blipFill>
        <p:spPr>
          <a:xfrm>
            <a:off x="6084720" y="2349360"/>
            <a:ext cx="3059280" cy="2159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L02p6p05"/>
          <p:cNvPicPr/>
          <p:nvPr/>
        </p:nvPicPr>
        <p:blipFill>
          <a:blip r:embed="rId3"/>
          <a:stretch/>
        </p:blipFill>
        <p:spPr>
          <a:xfrm>
            <a:off x="6084720" y="456408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L01p2p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5076720" y="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e4a8"/>
                </a:solidFill>
                <a:latin typeface="Arial"/>
              </a:rPr>
              <a:t>Пищевые кисло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менение окраски индикаторов в зависимости от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50920" y="2163600"/>
          <a:ext cx="8713800" cy="4178520"/>
        </p:xfrm>
        <a:graphic>
          <a:graphicData uri="http://schemas.openxmlformats.org/drawingml/2006/table">
            <a:tbl>
              <a:tblPr/>
              <a:tblGrid>
                <a:gridCol w="2233440"/>
                <a:gridCol w="2347920"/>
                <a:gridCol w="2044800"/>
                <a:gridCol w="208764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индикатора в нейтральной ср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индикатора в щелочной ср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индикатора в кислой ср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м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иолетовы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Сини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рас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ило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анже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ранже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ел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расн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озо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олфта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Малин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 и название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476280"/>
          <a:ext cx="8229600" cy="6340320"/>
        </p:xfrm>
        <a:graphic>
          <a:graphicData uri="http://schemas.openxmlformats.org/drawingml/2006/table">
            <a:tbl>
              <a:tblPr/>
              <a:tblGrid>
                <a:gridCol w="2663640"/>
                <a:gridCol w="1944720"/>
                <a:gridCol w="3621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соответст-вующего окс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кисл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оводородная (соля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м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мни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тороводородная (плавиков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Line 232"/>
          <p:cNvSpPr/>
          <p:nvPr/>
        </p:nvSpPr>
        <p:spPr>
          <a:xfrm>
            <a:off x="5076720" y="4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 и название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476280"/>
          <a:ext cx="8229600" cy="6340320"/>
        </p:xfrm>
        <a:graphic>
          <a:graphicData uri="http://schemas.openxmlformats.org/drawingml/2006/table">
            <a:tbl>
              <a:tblPr/>
              <a:tblGrid>
                <a:gridCol w="2663640"/>
                <a:gridCol w="1944720"/>
                <a:gridCol w="3621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соответст-вующего окс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кисл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оводородная (соля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м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мни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тороводородная (плавиков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Схема 1" descr=""/>
          <p:cNvPicPr/>
          <p:nvPr/>
        </p:nvPicPr>
        <p:blipFill>
          <a:blip r:embed="rId1"/>
          <a:stretch/>
        </p:blipFill>
        <p:spPr>
          <a:xfrm>
            <a:off x="92160" y="1335240"/>
            <a:ext cx="8717040" cy="49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ислоты образуют ионы двух вид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 flipH="1">
            <a:off x="2268000" y="1413000"/>
            <a:ext cx="1366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5148360" y="1413000"/>
            <a:ext cx="129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900000" y="2205000"/>
            <a:ext cx="288000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оны водорода (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16360" y="2205000"/>
            <a:ext cx="29512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оны кислотного остат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рицательные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195640" y="4292640"/>
            <a:ext cx="2881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кислородных кисло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46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1800" spc="-1" strike="noStrike" baseline="46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n-US" sz="1800" spc="-1" strike="noStrike" baseline="46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5435640" y="4292640"/>
            <a:ext cx="34574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родосодержащих кисло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46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46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46000">
                <a:solidFill>
                  <a:srgbClr val="000000"/>
                </a:solidFill>
                <a:latin typeface="Arial"/>
              </a:rPr>
              <a:t>3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4"/>
          <p:cNvSpPr/>
          <p:nvPr/>
        </p:nvSpPr>
        <p:spPr>
          <a:xfrm flipH="1">
            <a:off x="5003640" y="3357720"/>
            <a:ext cx="648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804000" y="3357720"/>
            <a:ext cx="7207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3:56:15Z</dcterms:created>
  <dc:creator>Мульти-медиа класс</dc:creator>
  <dc:description/>
  <dc:language>en-US</dc:language>
  <cp:lastModifiedBy>1</cp:lastModifiedBy>
  <dcterms:modified xsi:type="dcterms:W3CDTF">2017-03-12T18:06:41Z</dcterms:modified>
  <cp:revision>25</cp:revision>
  <dc:subject/>
  <dc:title>Кислоты</dc:title>
</cp:coreProperties>
</file>