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0BB-97F1-4EF0-B572-ABB74FF1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88B-58EA-45EC-A9AD-494F835B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907-4663-41DC-8BF4-46B8A543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245-C1D2-4696-BB3E-30F9BBB0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9333-7798-4DF5-B043-D1C5A55F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2B0D-1D17-4303-9EA8-5053B11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BF4D-6C89-43EB-822E-8E2B0C0D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90A3-816F-44C3-BF30-B8DC846C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7BCA-1A5F-4FB9-982F-D60AFD77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00C6-ACAA-494C-BC82-3D89EF7E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8D3-60E2-4485-A2E2-692FED0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DD8-4AA9-41C8-8D90-9CF2BA0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5885-9660-4303-97B9-B96F59CA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2023-2380-4EDF-AD02-37581147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5E39-BC1D-4FA2-B911-59DABEA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90E3-DAAE-44F0-A0CD-5391972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D36C-7526-43AD-9D9A-5C6F26A2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BBCD-E73B-47E8-A8C2-809393CB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46B0-B30C-40FE-8A69-44850FBE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715B-30E4-473A-A300-4B266D77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13A3-D822-4D60-8121-EACD81F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FB08-B6C2-4CC6-A6F3-4A078A95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225-0622-4388-86A3-E04A4441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CCEC-204A-4C16-A68D-C1FCDCDF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88CA-0F2F-447C-B50E-0E86D19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587D-1EAA-443C-A34B-5FC444B2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B8C6-EB9A-4B33-A456-0C98B8EE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04AC-3A76-4CB8-9BD9-0782649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9B09-94E2-4C66-BA63-3D514F87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A98B-1A45-4066-9888-A1C3C650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340-A2BE-4AD2-B825-D08EF4B8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933-909B-4797-9067-E228842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6B3-7A87-45B6-ABED-370044B3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9CD-12C9-47B4-A940-BC6493D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DB6-D787-4A84-B72B-9ED08F1C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F54-0787-4E04-B289-2FC1B87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18A3-944D-4DA9-AA8E-77D1B828B5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DBD7-61BD-4C99-A47B-174205ADA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4BFE-D977-4587-9674-B7C7BCAF55D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L01p1p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596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e9be"/>
                </a:solidFill>
                <a:latin typeface="Tahoma"/>
              </a:rPr>
              <a:t>Презентация к уроку по химии для 8 класса</a:t>
            </a:r>
            <a:br>
              <a:rPr sz="2800"/>
            </a:br>
            <a:r>
              <a:rPr b="0" lang="ru-RU" sz="2800" spc="-1" strike="noStrike">
                <a:solidFill>
                  <a:srgbClr val="88e9be"/>
                </a:solidFill>
                <a:latin typeface="Tahoma"/>
              </a:rPr>
              <a:t>«Кислоты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364640" y="1125360"/>
            <a:ext cx="48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e9be"/>
                </a:solidFill>
                <a:latin typeface="Tahoma"/>
              </a:rPr>
              <a:t>Автор: учитель МБОУ СШ №16 г. Павло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e9be"/>
                </a:solidFill>
                <a:latin typeface="Tahoma"/>
              </a:rPr>
              <a:t>Нижегородской области Краснова Н.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епень окисления атомов в кислот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6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3600" spc="-1" strike="noStrike" baseline="46000">
                <a:solidFill>
                  <a:srgbClr val="ff0000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H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-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 baseline="46000">
                <a:solidFill>
                  <a:srgbClr val="ff0000"/>
                </a:solidFill>
                <a:latin typeface="Tahoma"/>
              </a:rPr>
              <a:t>-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* 2 +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-2) * 4 = 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-8=0                                   H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+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 baseline="48000">
                <a:solidFill>
                  <a:srgbClr val="ff0000"/>
                </a:solidFill>
                <a:latin typeface="Tahoma"/>
              </a:rPr>
              <a:t>-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-6=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=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476280"/>
          <a:ext cx="8229600" cy="634032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453960"/>
          <a:ext cx="8229600" cy="636588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46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46000">
                          <a:solidFill>
                            <a:srgbClr val="ff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арактеристика кисл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личие кислор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твори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епень окисления элементов, образующих кисло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ряд иона кислотного остат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тветствующий оксид, наз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имонная кисл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Яблоч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L02p6p01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L02p6p00"/>
          <p:cNvPicPr/>
          <p:nvPr/>
        </p:nvPicPr>
        <p:blipFill>
          <a:blip r:embed="rId2"/>
          <a:stretch/>
        </p:blipFill>
        <p:spPr>
          <a:xfrm>
            <a:off x="6156360" y="227664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L02p6p06"/>
          <p:cNvPicPr/>
          <p:nvPr/>
        </p:nvPicPr>
        <p:blipFill>
          <a:blip r:embed="rId3"/>
          <a:stretch/>
        </p:blipFill>
        <p:spPr>
          <a:xfrm>
            <a:off x="6156360" y="461808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ксусная кисл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Молочная кисл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L02p6p04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L02p6p03"/>
          <p:cNvPicPr/>
          <p:nvPr/>
        </p:nvPicPr>
        <p:blipFill>
          <a:blip r:embed="rId2"/>
          <a:stretch/>
        </p:blipFill>
        <p:spPr>
          <a:xfrm>
            <a:off x="6084720" y="2349360"/>
            <a:ext cx="3059280" cy="21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L02p6p05"/>
          <p:cNvPicPr/>
          <p:nvPr/>
        </p:nvPicPr>
        <p:blipFill>
          <a:blip r:embed="rId3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L01p2p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5076720" y="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e4a8"/>
                </a:solidFill>
                <a:latin typeface="Arial"/>
              </a:rPr>
              <a:t>Пищевые кисл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ение окраски индикаторов в зависимости от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2163600"/>
          <a:ext cx="8713800" cy="4178520"/>
        </p:xfrm>
        <a:graphic>
          <a:graphicData uri="http://schemas.openxmlformats.org/drawingml/2006/table">
            <a:tbl>
              <a:tblPr/>
              <a:tblGrid>
                <a:gridCol w="2233440"/>
                <a:gridCol w="2347920"/>
                <a:gridCol w="2044800"/>
                <a:gridCol w="20876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индикатора в нейтральной с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индикатора в щелочной с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индикатора в кислой с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м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олетов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Си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нж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ранж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з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олфт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алин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476280"/>
          <a:ext cx="8229600" cy="634032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Line 232"/>
          <p:cNvSpPr/>
          <p:nvPr/>
        </p:nvSpPr>
        <p:spPr>
          <a:xfrm>
            <a:off x="507672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 и назва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476280"/>
          <a:ext cx="8229600" cy="6340320"/>
        </p:xfrm>
        <a:graphic>
          <a:graphicData uri="http://schemas.openxmlformats.org/drawingml/2006/table">
            <a:tbl>
              <a:tblPr/>
              <a:tblGrid>
                <a:gridCol w="2663640"/>
                <a:gridCol w="1944720"/>
                <a:gridCol w="36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соответст-вующего окс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водородная (соля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моводо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оводородная (плавик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хема 1" descr=""/>
          <p:cNvPicPr/>
          <p:nvPr/>
        </p:nvPicPr>
        <p:blipFill>
          <a:blip r:embed="rId1"/>
          <a:stretch/>
        </p:blipFill>
        <p:spPr>
          <a:xfrm>
            <a:off x="92160" y="1335240"/>
            <a:ext cx="8717040" cy="49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слоты образуют ионы двух вид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>
            <a:off x="2268000" y="1413000"/>
            <a:ext cx="1366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148360" y="1413000"/>
            <a:ext cx="129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900000" y="2205000"/>
            <a:ext cx="2880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ы водорода (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16360" y="2205000"/>
            <a:ext cx="29512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ы кислотного остат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рицательные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195640" y="4292640"/>
            <a:ext cx="288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ислородных кисло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435640" y="4292640"/>
            <a:ext cx="3457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родосодержащих кисло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46000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5003640" y="3357720"/>
            <a:ext cx="64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804000" y="3357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3:56:15Z</dcterms:created>
  <dc:creator>Мульти-медиа класс</dc:creator>
  <dc:description/>
  <dc:language>en-US</dc:language>
  <cp:lastModifiedBy>1</cp:lastModifiedBy>
  <dcterms:modified xsi:type="dcterms:W3CDTF">2017-03-12T18:06:41Z</dcterms:modified>
  <cp:revision>25</cp:revision>
  <dc:subject/>
  <dc:title>Кислоты</dc:title>
</cp:coreProperties>
</file>