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9.png" ContentType="image/png"/>
  <Override PartName="/ppt/media/image20.png" ContentType="image/png"/>
  <Override PartName="/ppt/media/image36.jpeg" ContentType="image/jpeg"/>
  <Override PartName="/ppt/media/image19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33.png" ContentType="image/png"/>
  <Override PartName="/ppt/media/image11.jpeg" ContentType="image/jpeg"/>
  <Override PartName="/ppt/media/image28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8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65EA-DBA3-4BAD-BC71-82A349A3E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B6A1-21CB-4537-95B1-D557A599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B12F-0F85-4FF7-BEA0-E52369F2F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A5DA-32B1-4272-969F-4BBD80AE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E574-F221-4E56-9AED-FAA427228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56EC-9168-4ED2-8FF3-9E732401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4DEA-B2F3-464B-977E-ADB26DAF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DDC1-2EE3-4504-B2D2-982175C2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E824-CF71-465D-94A2-EFD626F8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F1E3-FACC-4D5A-B7AB-273E7635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7DE0-A718-47EE-AC60-FDCB0061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F088-F10E-4DF2-8E07-4182D17D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0D08-D14D-49B9-A6DA-756BD9BC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3B46-E56B-4CA3-9C5B-1CCF132B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D3F4-FEEA-4683-B03C-C7C39B99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7936-0A67-4190-8B3D-08F9B12EB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BAD8-39AD-42FB-A059-531A6C30D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E173-1A40-4FDC-B714-047BD617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A9E2-7074-461D-914C-97B3816D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9374-139B-4BF8-A812-622B26BE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F531-4CE6-4EE2-B639-5343F7EA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5565-F3CB-4614-98FC-C6225446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259E-780F-43B6-98E5-5E46ADF2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45E4-A6A3-492C-951E-466C0986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A2A5-97BE-4AAD-9E5A-0FDF6EBA4B5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6008-FEE6-49DA-9A52-A32A64020BC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NOTESTAFFWHT"/>
          <p:cNvPicPr/>
          <p:nvPr/>
        </p:nvPicPr>
        <p:blipFill>
          <a:blip r:embed="rId1"/>
          <a:stretch/>
        </p:blipFill>
        <p:spPr>
          <a:xfrm>
            <a:off x="5435640" y="4911840"/>
            <a:ext cx="2971800" cy="1109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5292720" y="3213000"/>
            <a:ext cx="3311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Бархударова Татьяна Георгиевна, преподаватель по классу фортепиано МБУ ДО ДМШ № 4 им. В.М.Свердлова г.о.Тольятти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8588520" y="5805360"/>
            <a:ext cx="5554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10" descr="msoC57F5"/>
          <p:cNvPicPr/>
          <p:nvPr/>
        </p:nvPicPr>
        <p:blipFill>
          <a:blip r:embed="rId2"/>
          <a:stretch/>
        </p:blipFill>
        <p:spPr>
          <a:xfrm>
            <a:off x="3276720" y="4076640"/>
            <a:ext cx="2070000" cy="2408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C:\Users\pc001\Desktop\Бархударова\фото\Scan10173.jpg"/>
          <p:cNvPicPr/>
          <p:nvPr/>
        </p:nvPicPr>
        <p:blipFill>
          <a:blip r:embed="rId3"/>
          <a:stretch/>
        </p:blipFill>
        <p:spPr>
          <a:xfrm>
            <a:off x="0" y="0"/>
            <a:ext cx="5369040" cy="400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68706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осадка за инструменто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68360" y="1699920"/>
            <a:ext cx="784224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-1782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минка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78200" indent="-1782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имнастика для корпус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78200" indent="-1782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имнастика для ру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78200" indent="-1782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имнастика для пальце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78200" indent="-178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пражнение «Радуга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78200" indent="-17820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пражнение «Балерина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78200" indent="-17820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пражнение «Мельница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78200" indent="-17820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пражнение «Пальчики-очки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78200" indent="-17820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пражнение «Построим дом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78200" indent="-17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78200" indent="-178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78200" indent="-178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78200" indent="-178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78200" indent="-178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78200" indent="-178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78200" indent="-178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дуга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78200" indent="-178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78200" indent="-178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78200" indent="-178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85800" y="1052640"/>
            <a:ext cx="76960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Лидия Хереск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«Ледяная гора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Нестор Соколовск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«Баба Яга»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Рисунок 3" descr="http://www.playcast.ru/uploads/2015/10/26/15612800.jpg"/>
          <p:cNvPicPr/>
          <p:nvPr/>
        </p:nvPicPr>
        <p:blipFill>
          <a:blip r:embed="rId1"/>
          <a:stretch/>
        </p:blipFill>
        <p:spPr>
          <a:xfrm>
            <a:off x="5003640" y="1555920"/>
            <a:ext cx="1656000" cy="216036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Упражнения на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on legat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Рисунок 5" descr="Sakalowski NF.jpg"/>
          <p:cNvPicPr/>
          <p:nvPr/>
        </p:nvPicPr>
        <p:blipFill>
          <a:blip r:embed="rId2"/>
          <a:stretch/>
        </p:blipFill>
        <p:spPr>
          <a:xfrm>
            <a:off x="4140360" y="3933720"/>
            <a:ext cx="14349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687096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Unicode MS"/>
              </a:rPr>
              <a:t>Динамическая пауз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-360" y="1125000"/>
            <a:ext cx="838188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Упражнение для глаз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Рисунок 3" descr="C:\Documents and Settings\Нина\Рабочий стол\уч.пос.Экосез G\уч.пос.Экосез G.bmp"/>
          <p:cNvPicPr/>
          <p:nvPr/>
        </p:nvPicPr>
        <p:blipFill>
          <a:blip r:embed="rId1"/>
          <a:stretch/>
        </p:blipFill>
        <p:spPr>
          <a:xfrm>
            <a:off x="4859280" y="2133720"/>
            <a:ext cx="3836880" cy="284292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4" descr=""/>
          <p:cNvPicPr/>
          <p:nvPr/>
        </p:nvPicPr>
        <p:blipFill>
          <a:blip r:embed="rId2"/>
          <a:stretch/>
        </p:blipFill>
        <p:spPr>
          <a:xfrm>
            <a:off x="0" y="1484280"/>
            <a:ext cx="4500720" cy="3071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"/>
          <p:cNvPicPr/>
          <p:nvPr/>
        </p:nvPicPr>
        <p:blipFill>
          <a:blip r:embed="rId3">
            <a:lum bright="40000"/>
          </a:blip>
          <a:stretch/>
        </p:blipFill>
        <p:spPr>
          <a:xfrm>
            <a:off x="2771640" y="4653000"/>
            <a:ext cx="17226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6870960" cy="14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Unicode MS"/>
              </a:rPr>
              <a:t>Новый музыкальный материал на урок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8381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льга Геталова «Веселый слоненок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таутас Баркауска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Варили, варили кашу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нна Даниловна Артоболевска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Вальс собачек»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Рисунок 3" descr="http://www.81371.ru/_foto/culture/people/bd92b23b0d9491ca61fa271bbcec1141.jpg"/>
          <p:cNvPicPr/>
          <p:nvPr/>
        </p:nvPicPr>
        <p:blipFill>
          <a:blip r:embed="rId1"/>
          <a:stretch/>
        </p:blipFill>
        <p:spPr>
          <a:xfrm>
            <a:off x="6588000" y="1413000"/>
            <a:ext cx="1524240" cy="169524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4" descr="http://xn----8sbokjthtpc.xn--p1ai/acter/album/29085/pv_312771.jpg"/>
          <p:cNvPicPr/>
          <p:nvPr/>
        </p:nvPicPr>
        <p:blipFill>
          <a:blip r:embed="rId2"/>
          <a:stretch/>
        </p:blipFill>
        <p:spPr>
          <a:xfrm>
            <a:off x="4356000" y="234936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5" descr="artobolevskaya-a-d"/>
          <p:cNvPicPr/>
          <p:nvPr/>
        </p:nvPicPr>
        <p:blipFill>
          <a:blip r:embed="rId3"/>
          <a:stretch/>
        </p:blipFill>
        <p:spPr>
          <a:xfrm>
            <a:off x="4643280" y="4221000"/>
            <a:ext cx="15130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Музыкальные загад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Содержимое 4"/>
          <p:cNvSpPr/>
          <p:nvPr/>
        </p:nvSpPr>
        <p:spPr>
          <a:xfrm>
            <a:off x="468360" y="1268280"/>
            <a:ext cx="791352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 листочке, на страничке –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о ли точки, то ли птичк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се сидят на лестниц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 щебечут весел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ять линеек – дом для нот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ота в каждой в ней живе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юди в мире разных стра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овут линейки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8" descr=""/>
          <p:cNvPicPr/>
          <p:nvPr/>
        </p:nvPicPr>
        <p:blipFill>
          <a:blip r:embed="rId1"/>
          <a:stretch/>
        </p:blipFill>
        <p:spPr>
          <a:xfrm>
            <a:off x="4716360" y="1628640"/>
            <a:ext cx="3409920" cy="13906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http://ped-kopilka.com.ua/images/artikl06/2%28408%29.jpg"/>
          <p:cNvPicPr/>
          <p:nvPr/>
        </p:nvPicPr>
        <p:blipFill>
          <a:blip r:embed="rId2"/>
          <a:stretch/>
        </p:blipFill>
        <p:spPr>
          <a:xfrm>
            <a:off x="5076720" y="3645000"/>
            <a:ext cx="290664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687096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Музыкальные ребус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Содержимое 3" descr="http://galkina-lyudmila2011.narod.ru/olderfiles/1/rebus6.jpg"/>
          <p:cNvPicPr/>
          <p:nvPr/>
        </p:nvPicPr>
        <p:blipFill>
          <a:blip r:embed="rId1"/>
          <a:stretch/>
        </p:blipFill>
        <p:spPr>
          <a:xfrm>
            <a:off x="250920" y="1484280"/>
            <a:ext cx="1944720" cy="201600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4" descr="http://galkina-lyudmila2011.narod.ru/olderfiles/1/rebus17.jpg"/>
          <p:cNvPicPr/>
          <p:nvPr/>
        </p:nvPicPr>
        <p:blipFill>
          <a:blip r:embed="rId2"/>
          <a:stretch/>
        </p:blipFill>
        <p:spPr>
          <a:xfrm>
            <a:off x="5219640" y="4076640"/>
            <a:ext cx="2419560" cy="172872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5" descr="http://skazka-buzuluk.ucoz.ru/rebusi/5.jpg"/>
          <p:cNvPicPr/>
          <p:nvPr/>
        </p:nvPicPr>
        <p:blipFill>
          <a:blip r:embed="rId3"/>
          <a:stretch/>
        </p:blipFill>
        <p:spPr>
          <a:xfrm>
            <a:off x="2484360" y="2637000"/>
            <a:ext cx="1871640" cy="266364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6" descr="http://skazka-buzuluk.ucoz.ru/rebusi/9rebus.jpg"/>
          <p:cNvPicPr/>
          <p:nvPr/>
        </p:nvPicPr>
        <p:blipFill>
          <a:blip r:embed="rId4"/>
          <a:stretch/>
        </p:blipFill>
        <p:spPr>
          <a:xfrm>
            <a:off x="4716360" y="1197000"/>
            <a:ext cx="17877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687096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узыкальный кроссворд «Ключ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1557360"/>
            <a:ext cx="842472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просы к кроссворд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.Что мы слышим ухом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.Форма головки нот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.Музыкально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изведение как упражне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.Палочка с натянутым вдоль нее волосом для игры на скрипк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Рисунок 3" descr="http://muzroditel.ru/images/stories/deti/crossvord/0002.png"/>
          <p:cNvPicPr/>
          <p:nvPr/>
        </p:nvPicPr>
        <p:blipFill>
          <a:blip r:embed="rId1"/>
          <a:stretch/>
        </p:blipFill>
        <p:spPr>
          <a:xfrm>
            <a:off x="5219640" y="1052640"/>
            <a:ext cx="33195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68706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одбор по слух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1267920"/>
            <a:ext cx="838188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ндрей, вороб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аленькая Юль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елоч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Рисунок 5" descr="C:\Users\pc001\Desktop\Андрей воробей\Андрей воробей.bmp"/>
          <p:cNvPicPr/>
          <p:nvPr/>
        </p:nvPicPr>
        <p:blipFill>
          <a:blip r:embed="rId1"/>
          <a:stretch/>
        </p:blipFill>
        <p:spPr>
          <a:xfrm>
            <a:off x="3995640" y="1413000"/>
            <a:ext cx="4429080" cy="151128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6" descr="C:\Users\pc001\Desktop\маленькая Юлька\маленькая Юлька.bmp"/>
          <p:cNvPicPr/>
          <p:nvPr/>
        </p:nvPicPr>
        <p:blipFill>
          <a:blip r:embed="rId2"/>
          <a:stretch/>
        </p:blipFill>
        <p:spPr>
          <a:xfrm>
            <a:off x="324000" y="2924280"/>
            <a:ext cx="5003640" cy="1657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C:\Users\pc001\Desktop\Белочка\Белочка.bmp"/>
          <p:cNvPicPr/>
          <p:nvPr/>
        </p:nvPicPr>
        <p:blipFill>
          <a:blip r:embed="rId3"/>
          <a:stretch/>
        </p:blipFill>
        <p:spPr>
          <a:xfrm>
            <a:off x="3132000" y="4581360"/>
            <a:ext cx="50850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85520" y="213840"/>
            <a:ext cx="687060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Unicode MS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Улыбкотерап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          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Весело                                  грустно                           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Рисунок 3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1676160" cy="187632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4" descr=""/>
          <p:cNvPicPr/>
          <p:nvPr/>
        </p:nvPicPr>
        <p:blipFill>
          <a:blip r:embed="rId2"/>
          <a:stretch/>
        </p:blipFill>
        <p:spPr>
          <a:xfrm>
            <a:off x="2987640" y="1628640"/>
            <a:ext cx="1590840" cy="182880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5" descr=""/>
          <p:cNvPicPr/>
          <p:nvPr/>
        </p:nvPicPr>
        <p:blipFill>
          <a:blip r:embed="rId3"/>
          <a:stretch/>
        </p:blipFill>
        <p:spPr>
          <a:xfrm>
            <a:off x="6300720" y="3141720"/>
            <a:ext cx="1811520" cy="194292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6" descr=""/>
          <p:cNvPicPr/>
          <p:nvPr/>
        </p:nvPicPr>
        <p:blipFill>
          <a:blip r:embed="rId4"/>
          <a:stretch/>
        </p:blipFill>
        <p:spPr>
          <a:xfrm>
            <a:off x="1403280" y="3716280"/>
            <a:ext cx="1584360" cy="155268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7" descr=""/>
          <p:cNvPicPr/>
          <p:nvPr/>
        </p:nvPicPr>
        <p:blipFill>
          <a:blip r:embed="rId5"/>
          <a:stretch/>
        </p:blipFill>
        <p:spPr>
          <a:xfrm>
            <a:off x="3564000" y="3429000"/>
            <a:ext cx="1974960" cy="187164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9" descr=""/>
          <p:cNvPicPr/>
          <p:nvPr/>
        </p:nvPicPr>
        <p:blipFill>
          <a:blip r:embed="rId6"/>
          <a:stretch/>
        </p:blipFill>
        <p:spPr>
          <a:xfrm>
            <a:off x="5076720" y="1557360"/>
            <a:ext cx="171468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23640" y="333360"/>
            <a:ext cx="80578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 грозы, в бурю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 житейскую стын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ри тяжелых утратах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И когда тебе грустн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Казаться улыбчивы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и простым –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амое высшее в мире искусств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.Есенин. «Черный человек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Picture 3" descr="C:\Users\pc001\Desktop\Бархударова\фото\Scan10176.jpg"/>
          <p:cNvPicPr/>
          <p:nvPr/>
        </p:nvPicPr>
        <p:blipFill>
          <a:blip r:embed="rId1"/>
          <a:stretch/>
        </p:blipFill>
        <p:spPr>
          <a:xfrm>
            <a:off x="5651640" y="907920"/>
            <a:ext cx="22269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130560" cy="215892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2"/>
          <p:cNvSpPr/>
          <p:nvPr/>
        </p:nvSpPr>
        <p:spPr>
          <a:xfrm>
            <a:off x="0" y="0"/>
            <a:ext cx="9144000" cy="53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етодическая разработ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ткрытого уро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 предмету «Обще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фортепиано» на тему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Обучение игре на фортепиано как средство воспитания юного вокалиста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Прямоугольник 3"/>
          <p:cNvSpPr/>
          <p:nvPr/>
        </p:nvSpPr>
        <p:spPr>
          <a:xfrm>
            <a:off x="1619280" y="5473800"/>
            <a:ext cx="72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ченик вокально-хорового отдел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ервого года обуч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улгаков Даниил, 7 л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6622920" y="4653000"/>
            <a:ext cx="2521080" cy="2205000"/>
          </a:xfrm>
          <a:prstGeom prst="rect">
            <a:avLst/>
          </a:prstGeom>
          <a:ln w="0">
            <a:noFill/>
          </a:ln>
        </p:spPr>
      </p:pic>
      <p:sp>
        <p:nvSpPr>
          <p:cNvPr id="160" name="Заголовок 1"/>
          <p:cNvSpPr/>
          <p:nvPr/>
        </p:nvSpPr>
        <p:spPr>
          <a:xfrm>
            <a:off x="900000" y="0"/>
            <a:ext cx="687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Цель и задачи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Содержимое 2"/>
          <p:cNvSpPr/>
          <p:nvPr/>
        </p:nvSpPr>
        <p:spPr>
          <a:xfrm>
            <a:off x="0" y="765000"/>
            <a:ext cx="9144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Цель: Создание условий для формирования первоначальных теоретических знаний, умений и навыков игры на фортепиан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Образовательны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: формирование интереса к музыкальной культуре; закрепление полученных теоретических знан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Развивающие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развитие навыков пианистических навыков; развитие музыкальных способносте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Воспитательны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: воспитание коммуникативной культуры поведения; умения слушать и понимать музыку; усидчивости и трудолюбия; эстетического вкуса и любви к музык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5292720" y="4543560"/>
            <a:ext cx="3324240" cy="2314440"/>
          </a:xfrm>
          <a:prstGeom prst="rect">
            <a:avLst/>
          </a:prstGeom>
          <a:ln w="0">
            <a:noFill/>
          </a:ln>
        </p:spPr>
      </p:pic>
      <p:sp>
        <p:nvSpPr>
          <p:cNvPr id="163" name="Содержимое 2"/>
          <p:cNvSpPr/>
          <p:nvPr/>
        </p:nvSpPr>
        <p:spPr>
          <a:xfrm>
            <a:off x="0" y="981000"/>
            <a:ext cx="82026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ерспективный: словесная передача и слуховое восприят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продуктивный: запоминание учащимся информации, сообщенной педагогом; формирование знаний, умений и навыков через систему упражнен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актический: музыкальные игры, повторные действия с целью совершенствования навык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развитие музыкального слух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Заголовок 1"/>
          <p:cNvSpPr/>
          <p:nvPr/>
        </p:nvSpPr>
        <p:spPr>
          <a:xfrm>
            <a:off x="684360" y="189000"/>
            <a:ext cx="687060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Методы обуч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5580000" y="1268280"/>
            <a:ext cx="2409840" cy="2629080"/>
          </a:xfrm>
          <a:prstGeom prst="rect">
            <a:avLst/>
          </a:prstGeom>
          <a:ln w="0">
            <a:noFill/>
          </a:ln>
        </p:spPr>
      </p:pic>
      <p:sp>
        <p:nvSpPr>
          <p:cNvPr id="166" name="Заголовок 1"/>
          <p:cNvSpPr/>
          <p:nvPr/>
        </p:nvSpPr>
        <p:spPr>
          <a:xfrm>
            <a:off x="755640" y="189000"/>
            <a:ext cx="6870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Методические приемы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Содержимое 2"/>
          <p:cNvSpPr/>
          <p:nvPr/>
        </p:nvSpPr>
        <p:spPr>
          <a:xfrm>
            <a:off x="468360" y="1700280"/>
            <a:ext cx="7599240" cy="40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ловес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гляд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актическ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ктивизации слух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звития мышл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звития творческой инициатив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емы контроля и самоконтрол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5940360" y="4919760"/>
            <a:ext cx="2892600" cy="1965240"/>
          </a:xfrm>
          <a:prstGeom prst="rect">
            <a:avLst/>
          </a:prstGeom>
          <a:ln w="0">
            <a:noFill/>
          </a:ln>
        </p:spPr>
      </p:pic>
      <p:sp>
        <p:nvSpPr>
          <p:cNvPr id="169" name="Заголовок 1"/>
          <p:cNvSpPr/>
          <p:nvPr/>
        </p:nvSpPr>
        <p:spPr>
          <a:xfrm>
            <a:off x="826920" y="0"/>
            <a:ext cx="687096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сихологические условия на урок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Содержимое 2"/>
          <p:cNvSpPr/>
          <p:nvPr/>
        </p:nvSpPr>
        <p:spPr>
          <a:xfrm>
            <a:off x="250920" y="1413000"/>
            <a:ext cx="8159760" cy="42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обилизация внима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обилизация познавательной активнос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птимальный темп уро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ибкос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мение композиционно перестроить урок с учетом складывающейся ситуац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сихологический микроклимат на урок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5867280" y="4614840"/>
            <a:ext cx="2293920" cy="2243160"/>
          </a:xfrm>
          <a:prstGeom prst="rect">
            <a:avLst/>
          </a:prstGeom>
          <a:ln w="0">
            <a:noFill/>
          </a:ln>
        </p:spPr>
      </p:pic>
      <p:sp>
        <p:nvSpPr>
          <p:cNvPr id="172" name="Заголовок 1"/>
          <p:cNvSpPr/>
          <p:nvPr/>
        </p:nvSpPr>
        <p:spPr>
          <a:xfrm>
            <a:off x="611280" y="0"/>
            <a:ext cx="6870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едагогические технологии на урок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Содержимое 2"/>
          <p:cNvSpPr/>
          <p:nvPr/>
        </p:nvSpPr>
        <p:spPr>
          <a:xfrm>
            <a:off x="0" y="1557360"/>
            <a:ext cx="882000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доровьеберегающи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звитие мышц пальцев, что положительно влияет на память; рациональная организация урока (динамическая пауза, игровые моменты, гимнастика для глаз и на расслабление мышц); психологический комфор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ехнология проблемного обучени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следовательное и целенаправленное выдвижение пробле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гровые технологии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рганизация игровой деятельност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нформационны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мплекс нау3чных и педагогических наук с реализацией социальных и культурных проблем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Рисунок 1" descr="https://open-lesson.net/uploads/files/2014-10/3_2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4716360" y="2781360"/>
            <a:ext cx="3888000" cy="2741400"/>
          </a:xfrm>
          <a:prstGeom prst="rect">
            <a:avLst/>
          </a:prstGeom>
          <a:ln w="0">
            <a:noFill/>
          </a:ln>
        </p:spPr>
      </p:pic>
      <p:sp>
        <p:nvSpPr>
          <p:cNvPr id="175" name="Заголовок 1"/>
          <p:cNvSpPr/>
          <p:nvPr/>
        </p:nvSpPr>
        <p:spPr>
          <a:xfrm>
            <a:off x="685800" y="214200"/>
            <a:ext cx="6870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Методическое введ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Содержимое 2"/>
          <p:cNvSpPr/>
          <p:nvPr/>
        </p:nvSpPr>
        <p:spPr>
          <a:xfrm>
            <a:off x="250920" y="1052640"/>
            <a:ext cx="8424720" cy="55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есто предмета «Общее фортепиано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оль общего фортепиано в практике педагога по классу фортепиан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рудности в освоении пианистическими навыками на начальном этапе обуч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етоды и формы работы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дбор по слух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гра по показ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лушание музык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идактические игр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Чтение но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гра в ансамбл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1" descr="http://muizre.ru/_ld/28/69904305.jp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6097680" y="3429000"/>
            <a:ext cx="2577960" cy="1871640"/>
          </a:xfrm>
          <a:prstGeom prst="rect">
            <a:avLst/>
          </a:prstGeom>
          <a:ln w="0">
            <a:noFill/>
          </a:ln>
        </p:spPr>
      </p:pic>
      <p:sp>
        <p:nvSpPr>
          <p:cNvPr id="178" name="Заголовок 1"/>
          <p:cNvSpPr/>
          <p:nvPr/>
        </p:nvSpPr>
        <p:spPr>
          <a:xfrm>
            <a:off x="684360" y="260280"/>
            <a:ext cx="687060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Ход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Содержимое 2"/>
          <p:cNvSpPr/>
          <p:nvPr/>
        </p:nvSpPr>
        <p:spPr>
          <a:xfrm>
            <a:off x="324000" y="1197000"/>
            <a:ext cx="815976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ветств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становка проблемы определения темы, цели и зада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садка за инструментом, разминка, пальчиковая гимнасти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накомство с композитора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гра в ансамбл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узыкальные загадки, ребусы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россворд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дбор по слух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5:42:55Z</dcterms:created>
  <dc:creator>нина</dc:creator>
  <dc:description/>
  <dc:language>en-US</dc:language>
  <cp:lastModifiedBy>pc001</cp:lastModifiedBy>
  <dcterms:modified xsi:type="dcterms:W3CDTF">2017-09-22T13:30:03Z</dcterms:modified>
  <cp:revision>314</cp:revision>
  <dc:subject/>
  <dc:title>Слайд 1</dc:title>
</cp:coreProperties>
</file>