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3.png" ContentType="image/png"/>
  <Override PartName="/ppt/media/image11.jpeg" ContentType="image/jpeg"/>
  <Override PartName="/ppt/media/image28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BDA-EA37-4925-81A0-E9DB28BB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205-CCC0-43DC-9A8A-4564EE3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544-A247-4F73-9401-472CA5E9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A35-2019-46A8-806E-16F7DE8F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6C74-E7B5-4E87-A3BC-9709C2A9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9E1C-8CDD-4389-BB37-8FAB68C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EF8C-EC50-4730-8ABB-516C515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95A0-5494-40D8-AEDC-3274A125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FA5-2D9F-4462-A063-A264C1F6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744-1595-46F8-B235-071F1CC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0D28-107C-4933-A4E0-37136C2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3AC-7B2C-4ECF-838C-11FCE6D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3004-8312-4BB6-B3E1-6932B20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192-D526-4AA4-993A-AD4AF8F3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BE17-668E-4B3D-BC3C-AA979A9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4F28-5DC4-4ADD-85C1-CFBDCBA0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F0B7-77BB-4DFE-AE62-14379AD4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F9F-B720-44B5-9C66-9139933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AFC-BBA1-4048-9B7D-1252993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FF5-02CC-4427-A185-D46C61BD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312-53AA-447B-A76E-5350C6AF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B4E-B70F-44DC-B4A4-FC6E37DD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021-5362-4032-8202-0375644B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BF9-6F83-487D-9519-049B4311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093-71FB-428C-A149-406D2CED3E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DF4A-81CE-4AFA-AA2D-8B92D69585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NOTESTAFFWHT"/>
          <p:cNvPicPr/>
          <p:nvPr/>
        </p:nvPicPr>
        <p:blipFill>
          <a:blip r:embed="rId1"/>
          <a:stretch/>
        </p:blipFill>
        <p:spPr>
          <a:xfrm>
            <a:off x="5435640" y="4911840"/>
            <a:ext cx="2971800" cy="110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5292720" y="3213000"/>
            <a:ext cx="33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архударова Татьяна Георгиевна, преподаватель по классу фортепиано МБУ ДО ДМШ № 4 им. В.М.Свердлова г.о.Тольят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8588520" y="5805360"/>
            <a:ext cx="555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msoC57F5"/>
          <p:cNvPicPr/>
          <p:nvPr/>
        </p:nvPicPr>
        <p:blipFill>
          <a:blip r:embed="rId2"/>
          <a:stretch/>
        </p:blipFill>
        <p:spPr>
          <a:xfrm>
            <a:off x="3276720" y="4076640"/>
            <a:ext cx="2070000" cy="240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pc001\Desktop\Бархударова\фото\Scan10173.jpg"/>
          <p:cNvPicPr/>
          <p:nvPr/>
        </p:nvPicPr>
        <p:blipFill>
          <a:blip r:embed="rId3"/>
          <a:stretch/>
        </p:blipFill>
        <p:spPr>
          <a:xfrm>
            <a:off x="0" y="0"/>
            <a:ext cx="536904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садка за инструмен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1699920"/>
            <a:ext cx="78422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стика для корпу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стика для р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стика для пальц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Радуг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Балерин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Мельниц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Пальчики-очк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жнение «Построим дом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дуг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Лидия Херес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«Ледяная гор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Нестор Соколов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«Баба Яга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Рисунок 3" descr="http://www.playcast.ru/uploads/2015/10/26/15612800.jpg"/>
          <p:cNvPicPr/>
          <p:nvPr/>
        </p:nvPicPr>
        <p:blipFill>
          <a:blip r:embed="rId1"/>
          <a:stretch/>
        </p:blipFill>
        <p:spPr>
          <a:xfrm>
            <a:off x="5003640" y="1555920"/>
            <a:ext cx="1656000" cy="2160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пражнения н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n leg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5" descr="Sakalowski NF.jpg"/>
          <p:cNvPicPr/>
          <p:nvPr/>
        </p:nvPicPr>
        <p:blipFill>
          <a:blip r:embed="rId2"/>
          <a:stretch/>
        </p:blipFill>
        <p:spPr>
          <a:xfrm>
            <a:off x="4140360" y="3933720"/>
            <a:ext cx="1434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381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Упражнение для гл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Рисунок 3" descr="C:\Documents and Settings\Нина\Рабочий стол\уч.пос.Экосез G\уч.пос.Экосез G.bmp"/>
          <p:cNvPicPr/>
          <p:nvPr/>
        </p:nvPicPr>
        <p:blipFill>
          <a:blip r:embed="rId1"/>
          <a:stretch/>
        </p:blipFill>
        <p:spPr>
          <a:xfrm>
            <a:off x="4859280" y="2133720"/>
            <a:ext cx="3836880" cy="28429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"/>
          <p:cNvPicPr/>
          <p:nvPr/>
        </p:nvPicPr>
        <p:blipFill>
          <a:blip r:embed="rId2"/>
          <a:stretch/>
        </p:blipFill>
        <p:spPr>
          <a:xfrm>
            <a:off x="0" y="148428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2771640" y="4653000"/>
            <a:ext cx="1722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4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Новый музыкальный материал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льга Геталова «Веселый слоненок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аутас Баркауска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Варили, варили кашу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на Даниловна Артоболевс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Вальс собачек»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Рисунок 3" descr="http://www.81371.ru/_foto/culture/people/bd92b23b0d9491ca61fa271bbcec1141.jpg"/>
          <p:cNvPicPr/>
          <p:nvPr/>
        </p:nvPicPr>
        <p:blipFill>
          <a:blip r:embed="rId1"/>
          <a:stretch/>
        </p:blipFill>
        <p:spPr>
          <a:xfrm>
            <a:off x="6588000" y="1413000"/>
            <a:ext cx="1524240" cy="16952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http://xn----8sbokjthtpc.xn--p1ai/acter/album/29085/pv_312771.jpg"/>
          <p:cNvPicPr/>
          <p:nvPr/>
        </p:nvPicPr>
        <p:blipFill>
          <a:blip r:embed="rId2"/>
          <a:stretch/>
        </p:blipFill>
        <p:spPr>
          <a:xfrm>
            <a:off x="4356000" y="2349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artobolevskaya-a-d"/>
          <p:cNvPicPr/>
          <p:nvPr/>
        </p:nvPicPr>
        <p:blipFill>
          <a:blip r:embed="rId3"/>
          <a:stretch/>
        </p:blipFill>
        <p:spPr>
          <a:xfrm>
            <a:off x="4643280" y="4221000"/>
            <a:ext cx="151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ыкальные загад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Содержимое 4"/>
          <p:cNvSpPr/>
          <p:nvPr/>
        </p:nvSpPr>
        <p:spPr>
          <a:xfrm>
            <a:off x="468360" y="1268280"/>
            <a:ext cx="79135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листочке, на страничке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ли точки, то ли пти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сидят на лестниц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щебечут весе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ь линеек – дом для но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та в каждой в ней жив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ди в мире разных стр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вут линейки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409920" cy="1390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ttp://ped-kopilka.com.ua/images/artikl06/2%28408%29.jpg"/>
          <p:cNvPicPr/>
          <p:nvPr/>
        </p:nvPicPr>
        <p:blipFill>
          <a:blip r:embed="rId2"/>
          <a:stretch/>
        </p:blipFill>
        <p:spPr>
          <a:xfrm>
            <a:off x="5076720" y="3645000"/>
            <a:ext cx="29066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ыкальные ребу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Содержимое 3" descr="http://galkina-lyudmila2011.narod.ru/olderfiles/1/rebus6.jpg"/>
          <p:cNvPicPr/>
          <p:nvPr/>
        </p:nvPicPr>
        <p:blipFill>
          <a:blip r:embed="rId1"/>
          <a:stretch/>
        </p:blipFill>
        <p:spPr>
          <a:xfrm>
            <a:off x="250920" y="148428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http://galkina-lyudmila2011.narod.ru/olderfiles/1/rebus17.jpg"/>
          <p:cNvPicPr/>
          <p:nvPr/>
        </p:nvPicPr>
        <p:blipFill>
          <a:blip r:embed="rId2"/>
          <a:stretch/>
        </p:blipFill>
        <p:spPr>
          <a:xfrm>
            <a:off x="5219640" y="4076640"/>
            <a:ext cx="2419560" cy="1728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http://skazka-buzuluk.ucoz.ru/rebusi/5.jpg"/>
          <p:cNvPicPr/>
          <p:nvPr/>
        </p:nvPicPr>
        <p:blipFill>
          <a:blip r:embed="rId3"/>
          <a:stretch/>
        </p:blipFill>
        <p:spPr>
          <a:xfrm>
            <a:off x="2484360" y="263700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6" descr="http://skazka-buzuluk.ucoz.ru/rebusi/9rebus.jpg"/>
          <p:cNvPicPr/>
          <p:nvPr/>
        </p:nvPicPr>
        <p:blipFill>
          <a:blip r:embed="rId4"/>
          <a:stretch/>
        </p:blipFill>
        <p:spPr>
          <a:xfrm>
            <a:off x="4716360" y="1197000"/>
            <a:ext cx="1787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68709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зыкальный кроссворд «Ключ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557360"/>
            <a:ext cx="842472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просы к кроссвор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Что мы слышим ух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Форма головки н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узыкально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изведение как упраж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алочка с натянутым вдоль нее волосом для игры на скрип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Рисунок 3" descr="http://muzroditel.ru/images/stories/deti/crossvord/0002.png"/>
          <p:cNvPicPr/>
          <p:nvPr/>
        </p:nvPicPr>
        <p:blipFill>
          <a:blip r:embed="rId1"/>
          <a:stretch/>
        </p:blipFill>
        <p:spPr>
          <a:xfrm>
            <a:off x="5219640" y="1052640"/>
            <a:ext cx="3319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68706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бор по слух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1267920"/>
            <a:ext cx="83818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дрей, вороб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ленькая Юл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о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5" descr="C:\Users\pc001\Desktop\Андрей воробей\Андрей воробей.bmp"/>
          <p:cNvPicPr/>
          <p:nvPr/>
        </p:nvPicPr>
        <p:blipFill>
          <a:blip r:embed="rId1"/>
          <a:stretch/>
        </p:blipFill>
        <p:spPr>
          <a:xfrm>
            <a:off x="3995640" y="1413000"/>
            <a:ext cx="4429080" cy="1511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C:\Users\pc001\Desktop\маленькая Юлька\маленькая Юлька.bmp"/>
          <p:cNvPicPr/>
          <p:nvPr/>
        </p:nvPicPr>
        <p:blipFill>
          <a:blip r:embed="rId2"/>
          <a:stretch/>
        </p:blipFill>
        <p:spPr>
          <a:xfrm>
            <a:off x="324000" y="2924280"/>
            <a:ext cx="5003640" cy="165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pc001\Desktop\Белочка\Белочка.bmp"/>
          <p:cNvPicPr/>
          <p:nvPr/>
        </p:nvPicPr>
        <p:blipFill>
          <a:blip r:embed="rId3"/>
          <a:stretch/>
        </p:blipFill>
        <p:spPr>
          <a:xfrm>
            <a:off x="3132000" y="4581360"/>
            <a:ext cx="5085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6870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Улыбкотерап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Весело                                  грустно 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1676160" cy="18763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1590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1811520" cy="1942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5"/>
          <a:stretch/>
        </p:blipFill>
        <p:spPr>
          <a:xfrm>
            <a:off x="3564000" y="3429000"/>
            <a:ext cx="1974960" cy="1871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"/>
          <p:cNvPicPr/>
          <p:nvPr/>
        </p:nvPicPr>
        <p:blipFill>
          <a:blip r:embed="rId6"/>
          <a:stretch/>
        </p:blipFill>
        <p:spPr>
          <a:xfrm>
            <a:off x="5076720" y="1557360"/>
            <a:ext cx="17146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333360"/>
            <a:ext cx="80578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грозы, в бур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житейскую стын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 тяжелых утрат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огда тебе груст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заться улыбчивы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простым 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амое высшее в мире искус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.Есенин. «Черный челове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" descr="C:\Users\pc001\Desktop\Бархударова\фото\Scan10176.jpg"/>
          <p:cNvPicPr/>
          <p:nvPr/>
        </p:nvPicPr>
        <p:blipFill>
          <a:blip r:embed="rId1"/>
          <a:stretch/>
        </p:blipFill>
        <p:spPr>
          <a:xfrm>
            <a:off x="5651640" y="907920"/>
            <a:ext cx="2226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130560" cy="21589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0" y="0"/>
            <a:ext cx="91440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ческая разрабо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крытого ур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предмету «Общ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тепиано» на тем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Обучение игре на фортепиано как средство воспитания юного вокалист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619280" y="5473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еник вокально-хорового отде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ого года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лгаков Даниил, 7 л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6622920" y="4653000"/>
            <a:ext cx="2521080" cy="220500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900000" y="0"/>
            <a:ext cx="687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Цель и задачи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0" y="765000"/>
            <a:ext cx="9144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Создание условий для формирования первоначальных теоретических знаний, умений и навыков игры на фортепиа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формирование интереса к музыкальной культуре; закрепление полученных теоретических зна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Развивающие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звитие навыков пианистических навыков; развитие музыкальных способнос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Воспитательны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воспитание коммуникативной культуры поведения; умения слушать и понимать музыку; усидчивости и трудолюбия; эстетического вкуса и любви к музык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292720" y="4543560"/>
            <a:ext cx="3324240" cy="2314440"/>
          </a:xfrm>
          <a:prstGeom prst="rect">
            <a:avLst/>
          </a:prstGeom>
          <a:ln w="0">
            <a:noFill/>
          </a:ln>
        </p:spPr>
      </p:pic>
      <p:sp>
        <p:nvSpPr>
          <p:cNvPr id="163" name="Содержимое 2"/>
          <p:cNvSpPr/>
          <p:nvPr/>
        </p:nvSpPr>
        <p:spPr>
          <a:xfrm>
            <a:off x="0" y="981000"/>
            <a:ext cx="82026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спективный: словесная передача и слуховое восприят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продуктивный: запоминание учащимся информации, сообщенной педагогом; формирование знаний, умений и навыков через систему упраж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ктический: музыкальные игры, повторные действия с целью совершенствования навы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развитие музыкального слу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684360" y="189000"/>
            <a:ext cx="68706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етоды обу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580000" y="1268280"/>
            <a:ext cx="2409840" cy="2629080"/>
          </a:xfrm>
          <a:prstGeom prst="rect">
            <a:avLst/>
          </a:prstGeom>
          <a:ln w="0">
            <a:noFill/>
          </a:ln>
        </p:spPr>
      </p:pic>
      <p:sp>
        <p:nvSpPr>
          <p:cNvPr id="166" name="Заголовок 1"/>
          <p:cNvSpPr/>
          <p:nvPr/>
        </p:nvSpPr>
        <p:spPr>
          <a:xfrm>
            <a:off x="755640" y="189000"/>
            <a:ext cx="6870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Методические прием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468360" y="1700280"/>
            <a:ext cx="759924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ес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гляд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ктиче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ктивизации слу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я мыш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я творческой инициатив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емы контроля и самоконтрол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940360" y="4919760"/>
            <a:ext cx="2892600" cy="1965240"/>
          </a:xfrm>
          <a:prstGeom prst="rect">
            <a:avLst/>
          </a:prstGeom>
          <a:ln w="0">
            <a:noFill/>
          </a:ln>
        </p:spPr>
      </p:pic>
      <p:sp>
        <p:nvSpPr>
          <p:cNvPr id="169" name="Заголовок 1"/>
          <p:cNvSpPr/>
          <p:nvPr/>
        </p:nvSpPr>
        <p:spPr>
          <a:xfrm>
            <a:off x="826920" y="0"/>
            <a:ext cx="68709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сихологические условия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250920" y="1413000"/>
            <a:ext cx="815976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билизация вним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билизация познавательной актив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тимальный темп ур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ение композиционно перестроить урок с учетом складывающейся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сихологический микроклимат на уро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867280" y="4614840"/>
            <a:ext cx="2293920" cy="2243160"/>
          </a:xfrm>
          <a:prstGeom prst="rect">
            <a:avLst/>
          </a:prstGeom>
          <a:ln w="0">
            <a:noFill/>
          </a:ln>
        </p:spPr>
      </p:pic>
      <p:sp>
        <p:nvSpPr>
          <p:cNvPr id="172" name="Заголовок 1"/>
          <p:cNvSpPr/>
          <p:nvPr/>
        </p:nvSpPr>
        <p:spPr>
          <a:xfrm>
            <a:off x="611280" y="0"/>
            <a:ext cx="6870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е технологии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0" y="1557360"/>
            <a:ext cx="8820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доровьеберегающ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мышц пальцев, что положительно влияет на память; рациональная организация урока (динамическая пауза, игровые моменты, гимнастика для глаз и на расслабление мышц); психологический комфор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хнология проблемно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ледовательное и целенаправленное выдвижение пробл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гровые технологии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ация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лекс нау3чных и педагогических наук с реализацией социальных и культурных проблем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s://open-lesson.net/uploads/files/2014-10/3_2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716360" y="2781360"/>
            <a:ext cx="3888000" cy="2741400"/>
          </a:xfrm>
          <a:prstGeom prst="rect">
            <a:avLst/>
          </a:prstGeom>
          <a:ln w="0">
            <a:noFill/>
          </a:ln>
        </p:spPr>
      </p:pic>
      <p:sp>
        <p:nvSpPr>
          <p:cNvPr id="175" name="Заголовок 1"/>
          <p:cNvSpPr/>
          <p:nvPr/>
        </p:nvSpPr>
        <p:spPr>
          <a:xfrm>
            <a:off x="685800" y="214200"/>
            <a:ext cx="687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етодическое в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250920" y="1052640"/>
            <a:ext cx="84247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о предмета «Общее фортепиано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ль общего фортепиано в практике педагога по классу фортепиа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удности в освоении пианистическими навыками на начальном этапе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ы и формы работ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бор по слух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а по показ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ушание музы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ение но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а в ансамбл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http://muizre.ru/_ld/28/69904305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097680" y="3429000"/>
            <a:ext cx="257796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Заголовок 1"/>
          <p:cNvSpPr/>
          <p:nvPr/>
        </p:nvSpPr>
        <p:spPr>
          <a:xfrm>
            <a:off x="684360" y="260280"/>
            <a:ext cx="68706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324000" y="1197000"/>
            <a:ext cx="815976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а проблемы определения темы, цели и зада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адка за инструментом, разминка, пальчиковая гимнас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комство с композитор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в ансамб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зыкальные загадки, ребус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оссвор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бор по слух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5:42:55Z</dcterms:created>
  <dc:creator>нина</dc:creator>
  <dc:description/>
  <dc:language>en-US</dc:language>
  <cp:lastModifiedBy>pc001</cp:lastModifiedBy>
  <dcterms:modified xsi:type="dcterms:W3CDTF">2017-09-22T13:30:03Z</dcterms:modified>
  <cp:revision>314</cp:revision>
  <dc:subject/>
  <dc:title>Слайд 1</dc:title>
</cp:coreProperties>
</file>