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913-DE95-49D7-B482-7AE0C7DD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8AD-F199-4CCA-A179-42461DA2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52C-7708-4071-AF7F-E64D027D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0EC-A66E-4919-850D-7DD231C8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05FB-DC7E-4C77-AC38-AD90ED9F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3332-2C34-4B89-AE3E-04529B6A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E3F0-5D9C-47E9-9545-ED0E1EC5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64BE-02FD-43E5-A156-40A290FA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4A42-277C-423E-9155-1BB89B94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C49A-FEB3-4CB7-A014-63D109AC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C46C-8CCE-4FBA-AB82-B1E56C1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7B8-3BDB-4249-80C4-AE94973B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B011-D908-4673-8A27-1D3BF199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FB32-D552-44BD-B7A2-0095F71F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49F1-8811-4938-9158-C526E99E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6D65-89D8-4616-BFAA-CE79F253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D0D7-E697-4A17-BD3F-731D04C0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7946-A7D0-4222-949D-34A3D421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7E24-2C1C-43B0-8D63-C699CA45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AEEB-199F-4887-B6BA-4DB24B49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EF84-F446-4E8E-A3B2-FD7A6E31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7F0E-1E87-4D36-B4CF-F14400F0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C19-E728-47C6-89B9-DA78E478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DE23-BA2F-4C5B-91C3-95846F3B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FD2D-866A-44BC-9BCA-07864725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FC5E-E131-47B8-ABAD-8177F83E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3911-4A3F-42FE-B173-DDA7ECAA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A0EB-D118-4163-897D-6EA0F37C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9D62-BDFD-4439-9EA2-3BF580D1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B3734-F583-4AA4-970E-1C4BA8A8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5F9E3-ADDB-4065-9453-A0190C7F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3CD8-624B-49DD-BC6E-768E1090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82261-3D1F-42A2-804F-A9051748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55A-369A-4083-9ADF-ABD0C793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FB7DF-CF01-4CD3-BAFE-F6FCDA5D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C37C-E58D-495F-B5CA-038FD0BA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1B8E-2699-4A7F-8A69-15ED7354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C8C0A-6665-409F-9D90-95F6C97A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1C42C-5F60-4DAD-9F8F-AB02018E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695EE-5CF3-4CCA-9B08-24EEC3A5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D9906-B547-465E-973F-7080C147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9B28-552B-4023-B647-6CCC5DBA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930A9-2B3E-4A22-8B2F-7272E340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69F-F72C-49FB-90F8-F2F0D259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EAD-013A-4D92-8873-51162F63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678-FB0E-4390-9846-75B2A4B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24E-4F24-41B6-A179-A10E6F06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737-B99F-4726-AE4C-45E84BB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3287-A415-4D28-9AF9-66BDF82B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ACF1-54A4-41D8-A634-145181B8C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5838-D8C7-44EF-B415-98BE5FB31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3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C98A-3500-453B-BFEE-635DC1802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ТЕМА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   ВРЕДНЫЕ ПРИВЫЧКИ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ЕЛИ:1.Развеять миф о пользе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ив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Узнать об основных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варствах пив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Воспитывать осознанное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ношение к Здоровому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зу жизн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388944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cc"/>
                </a:solidFill>
                <a:latin typeface="Georgia"/>
              </a:rPr>
              <a:t>Неблагоприятное воздействие алкоголя на органы человека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572000" y="0"/>
            <a:ext cx="38210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7093080" y="1989000"/>
          <a:ext cx="1439640" cy="48744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ДЕГРАДАЦИЯ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ЧНОСТИ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5"/>
          <p:cNvSpPr/>
          <p:nvPr/>
        </p:nvSpPr>
        <p:spPr>
          <a:xfrm>
            <a:off x="1166760" y="3442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247760" y="3353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0" y="2205000"/>
          <a:ext cx="1206360" cy="487440"/>
        </p:xfrm>
        <a:graphic>
          <a:graphicData uri="http://schemas.openxmlformats.org/drawingml/2006/table">
            <a:tbl>
              <a:tblPr/>
              <a:tblGrid>
                <a:gridCol w="12063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АРКТ, АРИТМИЯ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53"/>
          <p:cNvSpPr/>
          <p:nvPr/>
        </p:nvSpPr>
        <p:spPr>
          <a:xfrm>
            <a:off x="1279440" y="3358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643280" y="0"/>
          <a:ext cx="1079640" cy="88416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СИХОЗ,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ЕРЯ ПАМЯТИ, ИНСУЛЬТ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66"/>
          <p:cNvSpPr/>
          <p:nvPr/>
        </p:nvSpPr>
        <p:spPr>
          <a:xfrm>
            <a:off x="1305000" y="3523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995640" y="3500280"/>
          <a:ext cx="1081080" cy="48744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ЯЗВА, ГАСТРИТ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79"/>
          <p:cNvSpPr/>
          <p:nvPr/>
        </p:nvSpPr>
        <p:spPr>
          <a:xfrm>
            <a:off x="1309680" y="3358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948360" y="5589720"/>
          <a:ext cx="1911600" cy="685800"/>
        </p:xfrm>
        <a:graphic>
          <a:graphicData uri="http://schemas.openxmlformats.org/drawingml/2006/table">
            <a:tbl>
              <a:tblPr/>
              <a:tblGrid>
                <a:gridCol w="191160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4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РУШЕНИЕ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4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РЕПРОДУКТИВНОЙ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4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93"/>
          <p:cNvSpPr/>
          <p:nvPr/>
        </p:nvSpPr>
        <p:spPr>
          <a:xfrm>
            <a:off x="1006560" y="3488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708360" y="6093000"/>
          <a:ext cx="928800" cy="4870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ЦИРРОЗ, РАК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105"/>
          <p:cNvSpPr/>
          <p:nvPr/>
        </p:nvSpPr>
        <p:spPr>
          <a:xfrm>
            <a:off x="1341360" y="33487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66"/>
                </a:solidFill>
                <a:latin typeface="Georgia"/>
              </a:rPr>
              <a:t>Заблуждение первое:</a:t>
            </a:r>
            <a:endParaRPr b="0" lang="en-US" sz="5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Georgia"/>
              </a:rPr>
              <a:t>Алкоголь снимает напряжение.</a:t>
            </a: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23640" y="836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Такое представление – не более чем иллюзия. В состоянии приподнятого настроения, не соответствующего объективным условиям, у человека создаётся ощущение расслабления (релаксации). Действие алкоголя заканчивается, а напряжение остаётся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66"/>
                </a:solidFill>
                <a:latin typeface="Georgia"/>
              </a:rPr>
              <a:t>Заблуждение второе:</a:t>
            </a:r>
            <a:endParaRPr b="0" lang="en-US" sz="5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Georgia"/>
              </a:rPr>
              <a:t>Употребление алкоголя необходимо для веселья.</a:t>
            </a: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Веселье под действием алкоголя – первая стадия наркотического возбуждения. На смену возбуждению приходят угнетение, общая разбитость, головная боль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66"/>
                </a:solidFill>
                <a:latin typeface="Georgia"/>
              </a:rPr>
              <a:t>Заблуждение третье:</a:t>
            </a:r>
            <a:endParaRPr b="0" lang="en-US" sz="5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Georgia"/>
              </a:rPr>
              <a:t>Алкоголь согревает, особенно в холодном климате</a:t>
            </a: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Потребление алкоголя в холодное время ведёт к смертельным исходам чаще, чем в тёплое. Когда человек выпивает, происходит расширение сосудов, увеличивается отдача тепла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Georgia"/>
              </a:rPr>
              <a:t>Человеку кажется, что он согрелся и ему жарко. На самом деле внутренняя температура организма снижается, а поскольку кожные поры расширены, охлаждение идет быстрее. При такой ситуации может даже наступить смерть от переохлаждения организма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eorgia"/>
              </a:rPr>
              <a:t>Заблуждение</a:t>
            </a:r>
            <a:r>
              <a:rPr b="0" lang="en-US" sz="4400" spc="-1" strike="noStrike">
                <a:solidFill>
                  <a:srgbClr val="ffcc66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Georgia"/>
              </a:rPr>
              <a:t>четвёртое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Пить пиво- это модно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0584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Это не так!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Модно вести- здоровый образ жизни!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4" descr="EARTH2"/>
          <p:cNvPicPr/>
          <p:nvPr/>
        </p:nvPicPr>
        <p:blipFill>
          <a:blip r:embed="rId1"/>
          <a:stretch/>
        </p:blipFill>
        <p:spPr>
          <a:xfrm>
            <a:off x="5364000" y="3357720"/>
            <a:ext cx="309564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Пиво и реклама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щитники пива:                                            «Делай, Как мы, и у тебя также всё будет хорошо!»,- внушают нам с экранов телевизора молодые и красивые люди. Мы хотим быть такими же, и пиво поможет нам приобрести новых друзей и стать привлекательны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1844280"/>
            <a:ext cx="3813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тивники пива:                                                                               Реклама является одним из способов повышения продажи любого товара. Помимо ознакомления потенциального покупателя с новой продукцией она создаёт привлекательный образ рекламируемого товара. Многие подростки «клюют» на рекламный крючок, полагая, что пиво поможет им стать успешными и уверенными в себ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leav1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7"/>
          <p:cNvPicPr/>
          <p:nvPr/>
        </p:nvPicPr>
        <p:blipFill>
          <a:blip r:embed="rId2"/>
          <a:stretch/>
        </p:blipFill>
        <p:spPr>
          <a:xfrm>
            <a:off x="1476360" y="0"/>
            <a:ext cx="61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Georgia"/>
              </a:rPr>
              <a:t>Пиво и спорт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щитники пива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потребление пива повышает спортивные показатели. В институте спортивной медицины в Риме спортсменам разных категорий давали в течении месяца пиво в качестве единственного напитка (кроме вод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3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тивники пив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же малые дозы пива снижают спортивные показатели. Например конькобежцы и пловцы, выпившие по литру пива, снизили скорость плавания и бега на коньках на 2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gre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Georgia"/>
              </a:rPr>
              <a:t>Восемь основных причин по которым не надо пить пиво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Появляется «Пивное сердце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Разрушает печень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Происходит деградация личност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Развивается язва, гастрит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Ухудшается память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Нарушаются репродуктивные функци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Негативно влияет на сосуды и клетки головного мозг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Georgia"/>
              </a:rPr>
              <a:t>Изменяется внешний вид любителей пив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8" descr="y2004_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9" descr="papyrus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10"/>
          <p:cNvSpPr txBox="1"/>
          <p:nvPr/>
        </p:nvSpPr>
        <p:spPr>
          <a:xfrm>
            <a:off x="179280" y="2133720"/>
            <a:ext cx="87537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"Пьянство - это добровольное сумасшествие."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Unicode MS"/>
              </a:rPr>
              <a:t>А что знаем о пиве мы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4" descr="moli07"/>
          <p:cNvPicPr/>
          <p:nvPr/>
        </p:nvPicPr>
        <p:blipFill>
          <a:blip r:embed="rId1"/>
          <a:stretch/>
        </p:blipFill>
        <p:spPr>
          <a:xfrm>
            <a:off x="2843280" y="1700280"/>
            <a:ext cx="338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Шишечки хмеля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- главный компонент для приготовления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пив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6" name="Picture 4" descr="crd0403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ДЕЙСТВИЕ ХМ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8" name="Picture 8" descr="16e8172b3-6992-4f70-ac91-2b182cb410c8"/>
          <p:cNvPicPr/>
          <p:nvPr/>
        </p:nvPicPr>
        <p:blipFill>
          <a:blip r:embed="rId1"/>
          <a:stretch/>
        </p:blipFill>
        <p:spPr>
          <a:xfrm>
            <a:off x="371520" y="1609560"/>
            <a:ext cx="3865680" cy="513252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4" descr=""/>
          <p:cNvPicPr/>
          <p:nvPr/>
        </p:nvPicPr>
        <p:blipFill>
          <a:blip r:embed="rId2"/>
          <a:stretch/>
        </p:blipFill>
        <p:spPr>
          <a:xfrm>
            <a:off x="4194000" y="1755720"/>
            <a:ext cx="45784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 шишечках хмеля содержатся-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фитоэстрогены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Фит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 — растение; «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Эстроге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 — женский половой горм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Фит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строге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 — вещество растительного происхожден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ующее также, как женский горм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5" descr="y2005_012bшишечки"/>
          <p:cNvPicPr/>
          <p:nvPr/>
        </p:nvPicPr>
        <p:blipFill>
          <a:blip r:embed="rId1"/>
          <a:stretch/>
        </p:blipFill>
        <p:spPr>
          <a:xfrm>
            <a:off x="7093080" y="4076640"/>
            <a:ext cx="1896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(медленное превращение в женщину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4" descr="mail02колаж1"/>
          <p:cNvPicPr/>
          <p:nvPr/>
        </p:nvPicPr>
        <p:blipFill>
          <a:blip r:embed="rId1"/>
          <a:stretch/>
        </p:blipFill>
        <p:spPr>
          <a:xfrm>
            <a:off x="6067440" y="1981080"/>
            <a:ext cx="3076560" cy="4800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ail07колаж3"/>
          <p:cNvPicPr/>
          <p:nvPr/>
        </p:nvPicPr>
        <p:blipFill>
          <a:blip r:embed="rId2"/>
          <a:stretch/>
        </p:blipFill>
        <p:spPr>
          <a:xfrm>
            <a:off x="0" y="1981080"/>
            <a:ext cx="292428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ail16колаж4"/>
          <p:cNvPicPr/>
          <p:nvPr/>
        </p:nvPicPr>
        <p:blipFill>
          <a:blip r:embed="rId3"/>
          <a:stretch/>
        </p:blipFill>
        <p:spPr>
          <a:xfrm>
            <a:off x="2895480" y="1981080"/>
            <a:ext cx="3183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37396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Georgia"/>
              </a:rPr>
              <a:t>При употреблении пива в сравнении с другими алкогольными напитками хронический алкоголизм развивается в 3 – 4 раза быстрее.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6:18:55Z</dcterms:created>
  <dc:creator>1</dc:creator>
  <dc:description/>
  <dc:language>en-US</dc:language>
  <cp:lastModifiedBy>ивахова</cp:lastModifiedBy>
  <dcterms:modified xsi:type="dcterms:W3CDTF">2012-03-16T04:58:17Z</dcterms:modified>
  <cp:revision>21</cp:revision>
  <dc:subject/>
  <dc:title>Слайд 1</dc:title>
</cp:coreProperties>
</file>