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36A-B248-4A13-A852-C773F09E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9E8-B4FE-4636-9906-BC45789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080-0C58-4B67-933B-47C49F35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50A-F7E9-40EF-939B-87DAD3C9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5B87-5BD1-42F4-82E9-B306CC93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0D31-EAA4-4540-819F-09D00EC9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8DD1-3DDC-415D-95B2-E69203DB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E4F9-93D4-478E-958E-F5AD0BEA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1278-114E-43EE-9547-61967E8F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C3B1-3516-4F75-B6AE-6121AD9B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76F8-5B70-4769-BFE0-3E18239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D2E-5D23-4A29-8D1A-8E41E944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0267-3D82-472E-8063-E01F10EE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3456-FFCE-49E5-8D98-7BBFE2DC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CEEB-CB61-4AE6-AEE6-404220E8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33D2-D74B-4DC1-83A0-2D986F6B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C69F-8C5B-475C-96C2-97E0E302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3279-1CB0-4271-B270-FFA14666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754D-601B-48EB-832E-FA9084D8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3743-AF2C-4986-AE45-8BFB58A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34E5-EE4F-4895-BCE2-40142C85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475C-B111-4D3A-9A87-1E71149F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194-137A-44C9-B248-D36A053A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3309-5388-4B1E-BF7C-40016BDC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54D2-BEF0-48B1-A3DD-027CB0D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9F6A7-8EBA-4101-ACE3-3C807EEF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6E6C-AE67-4AFC-B6CC-9935AEFF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1545-4249-4D3B-B8B4-030FA7D5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94FC-19D5-40B5-827A-9BFA03EA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2E4D-35BB-4A34-AA4B-268943CC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4821-080C-4FCC-9212-4D5C983D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A8C5-FEBF-4527-A657-B8014C3B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92EF-3E93-442F-9FE4-88AE191D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952-E904-4E47-A421-4CC2369D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63E7-B714-4BC2-A0FE-F956B6AD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5C6E-40B4-4E82-AAF3-745C0EB2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3D136-A37B-46AA-AD2E-BC38DC79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C7EF-234E-40E4-BB1C-07C5C801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9013-28DD-4272-BEA8-838F28B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548C-8D64-4105-AB9D-CBE2DD87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483D-E432-4F03-92BC-082BC7AE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401F-45CE-40A1-8161-129FC992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2C39-34EA-44EA-8CD9-311E20DB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B24-F847-40E2-8C11-0BCE8720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7B2-7B8A-4CE3-AC37-8A638082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98D-8105-48ED-BE79-0AE52495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D84-E01C-4500-948D-6509B862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7CD-2B98-464E-AA03-A8AAE9D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4C15-205A-4401-98DE-5F539F6D1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C6E5-0D2B-4A7D-AA20-FC610A6C1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5742-6CA1-4DE7-9977-DE3C2E402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3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9F62-47C3-43B3-ADD1-ADEC97955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ТЕМА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   ВРЕДНЫЕ ПРИВЫЧКИ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ЛИ:1.Развеять миф о пользе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ив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Узнать об основных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варствах пив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Воспитывать осознанное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ношение к Здоровому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зу жизн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388944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cc"/>
                </a:solidFill>
                <a:latin typeface="Georgia"/>
              </a:rPr>
              <a:t>Неблагоприятное воздействие алкоголя на органы человека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572000" y="0"/>
            <a:ext cx="38210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7093080" y="1989000"/>
          <a:ext cx="1439640" cy="4874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ДЕГРАДАЦИЯ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ОСТИ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5"/>
          <p:cNvSpPr/>
          <p:nvPr/>
        </p:nvSpPr>
        <p:spPr>
          <a:xfrm>
            <a:off x="1166760" y="3442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247760" y="3353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0" y="2205000"/>
          <a:ext cx="1206360" cy="487440"/>
        </p:xfrm>
        <a:graphic>
          <a:graphicData uri="http://schemas.openxmlformats.org/drawingml/2006/table">
            <a:tbl>
              <a:tblPr/>
              <a:tblGrid>
                <a:gridCol w="12063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АРКТ, АРИТМИЯ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53"/>
          <p:cNvSpPr/>
          <p:nvPr/>
        </p:nvSpPr>
        <p:spPr>
          <a:xfrm>
            <a:off x="1279440" y="3358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643280" y="0"/>
          <a:ext cx="1079640" cy="88416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СИХОЗ,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ЕРЯ ПАМЯТИ, ИНСУЛЬТ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66"/>
          <p:cNvSpPr/>
          <p:nvPr/>
        </p:nvSpPr>
        <p:spPr>
          <a:xfrm>
            <a:off x="1305000" y="3523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995640" y="3500280"/>
          <a:ext cx="1081080" cy="48744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ЯЗВА, ГАСТРИТ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79"/>
          <p:cNvSpPr/>
          <p:nvPr/>
        </p:nvSpPr>
        <p:spPr>
          <a:xfrm>
            <a:off x="1309680" y="3358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948360" y="5589720"/>
          <a:ext cx="1911600" cy="685800"/>
        </p:xfrm>
        <a:graphic>
          <a:graphicData uri="http://schemas.openxmlformats.org/drawingml/2006/table">
            <a:tbl>
              <a:tblPr/>
              <a:tblGrid>
                <a:gridCol w="191160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4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РУШЕНИЕ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4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РЕПРОДУКТИВНОЙ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4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93"/>
          <p:cNvSpPr/>
          <p:nvPr/>
        </p:nvSpPr>
        <p:spPr>
          <a:xfrm>
            <a:off x="1006560" y="3488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708360" y="6093000"/>
          <a:ext cx="928800" cy="4870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ЦИРРОЗ, РАК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105"/>
          <p:cNvSpPr/>
          <p:nvPr/>
        </p:nvSpPr>
        <p:spPr>
          <a:xfrm>
            <a:off x="1341360" y="33487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66"/>
                </a:solidFill>
                <a:latin typeface="Georgia"/>
              </a:rPr>
              <a:t>Заблуждение первое:</a:t>
            </a:r>
            <a:endParaRPr b="0" lang="en-US" sz="5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Georgia"/>
              </a:rPr>
              <a:t>Алкоголь снимает напряжение.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23640" y="836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Такое представление – не более чем иллюзия. В состоянии приподнятого настроения, не соответствующего объективным условиям, у человека создаётся ощущение расслабления (релаксации). Действие алкоголя заканчивается, а напряжение остаётся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66"/>
                </a:solidFill>
                <a:latin typeface="Georgia"/>
              </a:rPr>
              <a:t>Заблуждение второе:</a:t>
            </a:r>
            <a:endParaRPr b="0" lang="en-US" sz="5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Georgia"/>
              </a:rPr>
              <a:t>Употребление алкоголя необходимо для веселья.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Веселье под действием алкоголя – первая стадия наркотического возбуждения. На смену возбуждению приходят угнетение, общая разбитость, головная боль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66"/>
                </a:solidFill>
                <a:latin typeface="Georgia"/>
              </a:rPr>
              <a:t>Заблуждение третье:</a:t>
            </a:r>
            <a:endParaRPr b="0" lang="en-US" sz="5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Georgia"/>
              </a:rPr>
              <a:t>Алкоголь согревает, особенно в холодном климате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Потребление алкоголя в холодное время ведёт к смертельным исходам чаще, чем в тёплое. Когда человек выпивает, происходит расширение сосудов, увеличивается отдача тепла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Человеку кажется, что он согрелся и ему жарко. На самом деле внутренняя температура организма снижается, а поскольку кожные поры расширены, охлаждение идет быстрее. При такой ситуации может даже наступить смерть от переохлаждения организма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eorgia"/>
              </a:rPr>
              <a:t>Заблуждение</a:t>
            </a:r>
            <a:r>
              <a:rPr b="0" lang="en-US" sz="4400" spc="-1" strike="noStrike">
                <a:solidFill>
                  <a:srgbClr val="ffcc66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Georgia"/>
              </a:rPr>
              <a:t>четвёртое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Пить пиво- это модно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0584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Это не так!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Модно вести- здоровый образ жизни!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EARTH2"/>
          <p:cNvPicPr/>
          <p:nvPr/>
        </p:nvPicPr>
        <p:blipFill>
          <a:blip r:embed="rId1"/>
          <a:stretch/>
        </p:blipFill>
        <p:spPr>
          <a:xfrm>
            <a:off x="5364000" y="3357720"/>
            <a:ext cx="309564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Пиво и реклама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щитники пива:                                            «Делай, Как мы, и у тебя также всё будет хорошо!»,- внушают нам с экранов телевизора молодые и красивые люди. Мы хотим быть такими же, и пиво поможет нам приобрести новых друзей и стать привлекательн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1844280"/>
            <a:ext cx="3813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тивники пива:                                                                               Реклама является одним из способов повышения продажи любого товара. Помимо ознакомления потенциального покупателя с новой продукцией она создаёт привлекательный образ рекламируемого товара. Многие подростки «клюют» на рекламный крючок, полагая, что пиво поможет им стать успешными и уверенными в себ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leav1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7"/>
          <p:cNvPicPr/>
          <p:nvPr/>
        </p:nvPicPr>
        <p:blipFill>
          <a:blip r:embed="rId2"/>
          <a:stretch/>
        </p:blipFill>
        <p:spPr>
          <a:xfrm>
            <a:off x="1476360" y="0"/>
            <a:ext cx="61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Georgia"/>
              </a:rPr>
              <a:t>Пиво и спорт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щитники пива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потребление пива повышает спортивные показатели. В институте спортивной медицины в Риме спортсменам разных категорий давали в течении месяца пиво в качестве единственного напитка (кроме вод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3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тивники пив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же малые дозы пива снижают спортивные показатели. Например конькобежцы и пловцы, выпившие по литру пива, снизили скорость плавания и бега на коньках на 2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gre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Georgia"/>
              </a:rPr>
              <a:t>Восемь основных причин по которым не надо пить пиво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Появляется «Пивное сердце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Разрушает печень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Происходит деградация личност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Развивается язва, гастрит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Ухудшается память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Нарушаются репродуктивные функци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Негативно влияет на сосуды и клетки головного мозг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Изменяется внешний вид любителей пив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8" descr="y2004_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9" descr="papyrus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10"/>
          <p:cNvSpPr txBox="1"/>
          <p:nvPr/>
        </p:nvSpPr>
        <p:spPr>
          <a:xfrm>
            <a:off x="179280" y="2133720"/>
            <a:ext cx="87537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"Пьянство - это добровольное сумасшествие."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Unicode MS"/>
              </a:rPr>
              <a:t>А что знаем о пиве мы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4" descr="moli07"/>
          <p:cNvPicPr/>
          <p:nvPr/>
        </p:nvPicPr>
        <p:blipFill>
          <a:blip r:embed="rId1"/>
          <a:stretch/>
        </p:blipFill>
        <p:spPr>
          <a:xfrm>
            <a:off x="2843280" y="1700280"/>
            <a:ext cx="338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Шишечки хмеля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- главный компонент для приготовления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пив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6" name="Picture 4" descr="crd0403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ДЕЙСТВИЕ ХМ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8" name="Picture 8" descr="16e8172b3-6992-4f70-ac91-2b182cb410c8"/>
          <p:cNvPicPr/>
          <p:nvPr/>
        </p:nvPicPr>
        <p:blipFill>
          <a:blip r:embed="rId1"/>
          <a:stretch/>
        </p:blipFill>
        <p:spPr>
          <a:xfrm>
            <a:off x="371520" y="1609560"/>
            <a:ext cx="3865680" cy="513252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4" descr=""/>
          <p:cNvPicPr/>
          <p:nvPr/>
        </p:nvPicPr>
        <p:blipFill>
          <a:blip r:embed="rId2"/>
          <a:stretch/>
        </p:blipFill>
        <p:spPr>
          <a:xfrm>
            <a:off x="4194000" y="1755720"/>
            <a:ext cx="45784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 шишечках хмеля содержатся-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фитоэстрогены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Фит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— растение; «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Эстроге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— женский половой горм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Фит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строге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— вещество растительного происхожде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ующее также, как женский горм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5" descr="y2005_012bшишечки"/>
          <p:cNvPicPr/>
          <p:nvPr/>
        </p:nvPicPr>
        <p:blipFill>
          <a:blip r:embed="rId1"/>
          <a:stretch/>
        </p:blipFill>
        <p:spPr>
          <a:xfrm>
            <a:off x="7093080" y="4076640"/>
            <a:ext cx="1896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(медленное превращение в женщину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mail02колаж1"/>
          <p:cNvPicPr/>
          <p:nvPr/>
        </p:nvPicPr>
        <p:blipFill>
          <a:blip r:embed="rId1"/>
          <a:stretch/>
        </p:blipFill>
        <p:spPr>
          <a:xfrm>
            <a:off x="6067440" y="1981080"/>
            <a:ext cx="3076560" cy="4800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ail07колаж3"/>
          <p:cNvPicPr/>
          <p:nvPr/>
        </p:nvPicPr>
        <p:blipFill>
          <a:blip r:embed="rId2"/>
          <a:stretch/>
        </p:blipFill>
        <p:spPr>
          <a:xfrm>
            <a:off x="0" y="1981080"/>
            <a:ext cx="292428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ail16колаж4"/>
          <p:cNvPicPr/>
          <p:nvPr/>
        </p:nvPicPr>
        <p:blipFill>
          <a:blip r:embed="rId3"/>
          <a:stretch/>
        </p:blipFill>
        <p:spPr>
          <a:xfrm>
            <a:off x="2895480" y="1981080"/>
            <a:ext cx="3183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37396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Georgia"/>
              </a:rPr>
              <a:t>При употреблении пива в сравнении с другими алкогольными напитками хронический алкоголизм развивается в 3 – 4 раза быстрее.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6:18:55Z</dcterms:created>
  <dc:creator>1</dc:creator>
  <dc:description/>
  <dc:language>en-US</dc:language>
  <cp:lastModifiedBy>ивахова</cp:lastModifiedBy>
  <dcterms:modified xsi:type="dcterms:W3CDTF">2012-03-16T04:58:17Z</dcterms:modified>
  <cp:revision>21</cp:revision>
  <dc:subject/>
  <dc:title>Слайд 1</dc:title>
</cp:coreProperties>
</file>