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79C9-967F-49BF-830D-8292B712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97A3-0289-4A2F-BBE4-E2035494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C0AE-7821-4033-B273-353F1727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64C1-37D9-4F33-AAD6-E2A84964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A763-D1CC-4764-92DB-5C11BFBD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BB1-21BA-471B-B67C-7314EBFD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D001-4D13-4B1F-8DB1-8E20FF51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644-E84A-4619-8461-281F23B2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8C2-21CD-48AB-83EF-B935EE64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3D3-FF16-47E7-A616-B56D9D17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3E1-C6DA-47E2-9A0C-6225E581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CD84-ECA0-4A9A-A0EF-42EBD34A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D4B9-FA3E-40EE-8AED-76119B2245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ень памяти и скорб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3816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2 июня 1941 года началась Великая Отечественная война, которая продолжалась 1418 дней и завершилась героической победой советских во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843280" y="5877000"/>
            <a:ext cx="3816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211640" y="170028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AMYAT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oboi_1280x800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624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865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22"/>
          <p:cNvPicPr/>
          <p:nvPr/>
        </p:nvPicPr>
        <p:blipFill>
          <a:blip r:embed="rId2"/>
          <a:stretch/>
        </p:blipFill>
        <p:spPr>
          <a:xfrm>
            <a:off x="684360" y="2565360"/>
            <a:ext cx="3298680" cy="4005360"/>
          </a:xfrm>
          <a:prstGeom prst="rect">
            <a:avLst/>
          </a:prstGeom>
          <a:ln w="0">
            <a:noFill/>
          </a:ln>
        </p:spPr>
      </p:pic>
      <p:pic>
        <p:nvPicPr>
          <p:cNvPr id="47" name="svyashennaya_voina(-).mp3" descr=""/>
          <p:cNvPicPr/>
          <p:nvPr/>
        </p:nvPicPr>
        <p:blipFill>
          <a:blip r:embed="rId3"/>
          <a:stretch/>
        </p:blipFill>
        <p:spPr>
          <a:xfrm>
            <a:off x="179280" y="6021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767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gorodmogilev.by/wp-content/uploads/2016/06/456-4-e14665685806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49" name="svyashennaya_voina(-).mp3" descr=""/>
          <p:cNvPicPr/>
          <p:nvPr/>
        </p:nvPicPr>
        <p:blipFill>
          <a:blip r:embed="rId2"/>
          <a:stretch/>
        </p:blipFill>
        <p:spPr>
          <a:xfrm>
            <a:off x="324000" y="508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До свидания, мальчики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27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549360"/>
            <a:ext cx="9144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cdn01.ru/files/users/images/ef/96/ef96b6cc3e150b7ee7569373b0de9126.jpg"/>
          <p:cNvPicPr/>
          <p:nvPr/>
        </p:nvPicPr>
        <p:blipFill>
          <a:blip r:embed="rId1"/>
          <a:stretch/>
        </p:blipFill>
        <p:spPr>
          <a:xfrm>
            <a:off x="-9360" y="404640"/>
            <a:ext cx="90471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etoretro.ru/data/media/5100/1376388741aa8.jpg"/>
          <p:cNvPicPr/>
          <p:nvPr/>
        </p:nvPicPr>
        <p:blipFill>
          <a:blip r:embed="rId1"/>
          <a:stretch/>
        </p:blipFill>
        <p:spPr>
          <a:xfrm>
            <a:off x="0" y="404640"/>
            <a:ext cx="91281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cdn.tvc.ru/pictures/o/151/310.jpg"/>
          <p:cNvPicPr/>
          <p:nvPr/>
        </p:nvPicPr>
        <p:blipFill>
          <a:blip r:embed="rId1"/>
          <a:stretch/>
        </p:blipFill>
        <p:spPr>
          <a:xfrm>
            <a:off x="66600" y="620640"/>
            <a:ext cx="9048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img1.liveinternet.ru/images/attach/c/0/118/905/118905295_4622790__2_.jpg"/>
          <p:cNvPicPr/>
          <p:nvPr/>
        </p:nvPicPr>
        <p:blipFill>
          <a:blip r:embed="rId1"/>
          <a:stretch/>
        </p:blipFill>
        <p:spPr>
          <a:xfrm>
            <a:off x="50760" y="260280"/>
            <a:ext cx="9021960" cy="6353280"/>
          </a:xfrm>
          <a:prstGeom prst="rect">
            <a:avLst/>
          </a:prstGeom>
          <a:ln w="0">
            <a:noFill/>
          </a:ln>
        </p:spPr>
      </p:pic>
      <p:pic>
        <p:nvPicPr>
          <p:cNvPr id="56" name="Levitan_-_Obyavlenie_ob_okonchanii_Velikoj_Otechestvennoj_Vojny_22_iyunya.mp3" descr=""/>
          <p:cNvPicPr/>
          <p:nvPr/>
        </p:nvPicPr>
        <p:blipFill>
          <a:blip r:embed="rId2"/>
          <a:stretch/>
        </p:blipFill>
        <p:spPr>
          <a:xfrm>
            <a:off x="10800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Levitan_-_Obyavlenie_ob_okonchanii_Velikoj_Otechestvennoj_Vojny_22_iyunya.mp3" descr=""/>
          <p:cNvPicPr/>
          <p:nvPr/>
        </p:nvPicPr>
        <p:blipFill>
          <a:blip r:embed="rId3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0247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5024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0:11:10Z</dcterms:created>
  <dc:creator>uchenik306</dc:creator>
  <dc:description/>
  <dc:language>en-US</dc:language>
  <cp:lastModifiedBy>user</cp:lastModifiedBy>
  <dcterms:modified xsi:type="dcterms:W3CDTF">2017-09-23T07:00:00Z</dcterms:modified>
  <cp:revision>11</cp:revision>
  <dc:subject/>
  <dc:title>День памяти и скорби</dc:title>
</cp:coreProperties>
</file>