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C99B-7742-4A84-B697-CD370AB0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CE90-C009-4D82-8139-CDE6B65A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CED7-DAC0-4923-8BA4-191DBBA1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4B28-FD93-4B72-B25C-37E3A21E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6908-34EF-4B7E-B06D-68721CAB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A4F-2965-4A75-9DE7-BCB3D2A2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70FC-3DDD-4615-A23A-2E5272D1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B066-A995-4BA2-B72E-E8851420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ECA4-3AF7-4EAF-8209-667AB253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F392-C911-4AB5-BB91-5A8F6849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A595-AF71-4600-B3CB-3561C3A0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9B42-DDD7-4210-B842-8A238FE8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16E5-B010-48D8-A12F-0A1D2B3DC3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День памяти и скорб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3816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2 июня 1941 года началась Великая Отечественная война, которая продолжалась 1418 дней и завершилась героической победой советских во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843280" y="5877000"/>
            <a:ext cx="3816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211640" y="1700280"/>
            <a:ext cx="4608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AMYAT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oboi_1280x800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6249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865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22"/>
          <p:cNvPicPr/>
          <p:nvPr/>
        </p:nvPicPr>
        <p:blipFill>
          <a:blip r:embed="rId2"/>
          <a:stretch/>
        </p:blipFill>
        <p:spPr>
          <a:xfrm>
            <a:off x="684360" y="2565360"/>
            <a:ext cx="3298680" cy="4005360"/>
          </a:xfrm>
          <a:prstGeom prst="rect">
            <a:avLst/>
          </a:prstGeom>
          <a:ln w="0">
            <a:noFill/>
          </a:ln>
        </p:spPr>
      </p:pic>
      <p:pic>
        <p:nvPicPr>
          <p:cNvPr id="47" name="svyashennaya_voina(-).mp3" descr=""/>
          <p:cNvPicPr/>
          <p:nvPr/>
        </p:nvPicPr>
        <p:blipFill>
          <a:blip r:embed="rId3"/>
          <a:stretch/>
        </p:blipFill>
        <p:spPr>
          <a:xfrm>
            <a:off x="179280" y="60213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8767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gorodmogilev.by/wp-content/uploads/2016/06/456-4-e14665685806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49" name="svyashennaya_voina(-).mp3" descr=""/>
          <p:cNvPicPr/>
          <p:nvPr/>
        </p:nvPicPr>
        <p:blipFill>
          <a:blip r:embed="rId2"/>
          <a:stretch/>
        </p:blipFill>
        <p:spPr>
          <a:xfrm>
            <a:off x="324000" y="508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До свидания, мальчики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227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549360"/>
            <a:ext cx="91440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cdn01.ru/files/users/images/ef/96/ef96b6cc3e150b7ee7569373b0de9126.jpg"/>
          <p:cNvPicPr/>
          <p:nvPr/>
        </p:nvPicPr>
        <p:blipFill>
          <a:blip r:embed="rId1"/>
          <a:stretch/>
        </p:blipFill>
        <p:spPr>
          <a:xfrm>
            <a:off x="-9360" y="404640"/>
            <a:ext cx="90471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etoretro.ru/data/media/5100/1376388741aa8.jpg"/>
          <p:cNvPicPr/>
          <p:nvPr/>
        </p:nvPicPr>
        <p:blipFill>
          <a:blip r:embed="rId1"/>
          <a:stretch/>
        </p:blipFill>
        <p:spPr>
          <a:xfrm>
            <a:off x="0" y="404640"/>
            <a:ext cx="912816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ttp://cdn.tvc.ru/pictures/o/151/310.jpg"/>
          <p:cNvPicPr/>
          <p:nvPr/>
        </p:nvPicPr>
        <p:blipFill>
          <a:blip r:embed="rId1"/>
          <a:stretch/>
        </p:blipFill>
        <p:spPr>
          <a:xfrm>
            <a:off x="66600" y="620640"/>
            <a:ext cx="9048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img1.liveinternet.ru/images/attach/c/0/118/905/118905295_4622790__2_.jpg"/>
          <p:cNvPicPr/>
          <p:nvPr/>
        </p:nvPicPr>
        <p:blipFill>
          <a:blip r:embed="rId1"/>
          <a:stretch/>
        </p:blipFill>
        <p:spPr>
          <a:xfrm>
            <a:off x="50760" y="260280"/>
            <a:ext cx="9021960" cy="6353280"/>
          </a:xfrm>
          <a:prstGeom prst="rect">
            <a:avLst/>
          </a:prstGeom>
          <a:ln w="0">
            <a:noFill/>
          </a:ln>
        </p:spPr>
      </p:pic>
      <p:pic>
        <p:nvPicPr>
          <p:cNvPr id="56" name="Levitan_-_Obyavlenie_ob_okonchanii_Velikoj_Otechestvennoj_Vojny_22_iyunya.mp3" descr=""/>
          <p:cNvPicPr/>
          <p:nvPr/>
        </p:nvPicPr>
        <p:blipFill>
          <a:blip r:embed="rId2"/>
          <a:stretch/>
        </p:blipFill>
        <p:spPr>
          <a:xfrm>
            <a:off x="108000" y="6248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7" name="Levitan_-_Obyavlenie_ob_okonchanii_Velikoj_Otechestvennoj_Vojny_22_iyunya.mp3" descr=""/>
          <p:cNvPicPr/>
          <p:nvPr/>
        </p:nvPicPr>
        <p:blipFill>
          <a:blip r:embed="rId3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50247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5024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0:11:10Z</dcterms:created>
  <dc:creator>uchenik306</dc:creator>
  <dc:description/>
  <dc:language>en-US</dc:language>
  <cp:lastModifiedBy>user</cp:lastModifiedBy>
  <dcterms:modified xsi:type="dcterms:W3CDTF">2017-09-23T07:00:00Z</dcterms:modified>
  <cp:revision>11</cp:revision>
  <dc:subject/>
  <dc:title>День памяти и скорби</dc:title>
</cp:coreProperties>
</file>