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346-1172-4F21-A217-7F2E8D04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297-5CA0-4E6D-AE48-9A40229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29D-6EF1-4C96-A669-11805AB9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BF8-94AA-4089-AF36-FA6B401B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939-6932-42B4-825B-D3FABC3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013-1537-421E-826B-AF73780C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85-C4B0-4832-A218-12472DF6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A84-DFA2-433B-97D0-CCE44CD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F04-1CC3-45EA-AB56-8EEA9B9D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45A-79EA-4194-A071-C67964A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000-1613-4CC8-9141-3487395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2B5-E92F-429E-9FA0-2E4D4B2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E4F-1DE0-49DB-A419-A8F1BC38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Здоровые зубы - гарантия здоров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095880" cy="39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50920" y="112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гарантия здоров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ъясните, почему наше здоровье зависит от здоровья зубов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убы  участвуют   в   пережевывании   пищи,   а,   следовательно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еспечивают нормальную деятельность желудочно-кишечного тра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пища плохо пережевана, то и пищеварительная система будет от этого страдать, например: болеть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красивая и обворожительная улыбка, правильная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кариес2"/>
          <p:cNvPicPr/>
          <p:nvPr/>
        </p:nvPicPr>
        <p:blipFill>
          <a:blip r:embed="rId2"/>
          <a:stretch/>
        </p:blipFill>
        <p:spPr>
          <a:xfrm>
            <a:off x="5435640" y="184464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кариес4"/>
          <p:cNvPicPr/>
          <p:nvPr/>
        </p:nvPicPr>
        <p:blipFill>
          <a:blip r:embed="rId1"/>
          <a:stretch/>
        </p:blipFill>
        <p:spPr>
          <a:xfrm>
            <a:off x="5508720" y="2205000"/>
            <a:ext cx="3397320" cy="3173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болят зубы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96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убы кажутся крепкими и твёрдыми, но если за ними не ухаживать, то они быстро портя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ъясните как постепенно заболевают разрушается зуб при карие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-360" y="4149360"/>
            <a:ext cx="5329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пло + влага + еда  = множество 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941720"/>
            <a:ext cx="532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 + бактерии +  кислота = зубной на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5651640" cy="4713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зуб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24000" y="1341360"/>
            <a:ext cx="341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аль - твердое покрытие (в организме нет ничего более тверд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тин - еще одно твердое вещество, которое находится под эма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  дентином   —   расположена   пульпа   —   мягка   ткань,   богата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веносными        сосудами        и        нервами,        обеспечивающим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ость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зубов есть корни, уходящие глубоко в кость челю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ние зуба со всех сторон окружено д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427120"/>
          <a:ext cx="182520" cy="2108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2058840"/>
            <a:ext cx="68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 щетка располагается вдоль линий десен. Движ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ой щетки - сверху вниз. Тщательно чистить каждый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ь внутреннюю поверхность каждого зуба. Движе­ния зубной щетки - снизу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стить жевательную поверхность каждого зуба. Движе­ния щетки - вперед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ком щетки почистить внутреннюю сторону перед­них зубов круговыми дви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почистить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Чистка зуб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иес4"/>
          <p:cNvPicPr/>
          <p:nvPr/>
        </p:nvPicPr>
        <p:blipFill>
          <a:blip r:embed="rId1"/>
          <a:stretch/>
        </p:blipFill>
        <p:spPr>
          <a:xfrm>
            <a:off x="6588000" y="333360"/>
            <a:ext cx="255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болевание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кариес3"/>
          <p:cNvPicPr/>
          <p:nvPr/>
        </p:nvPicPr>
        <p:blipFill>
          <a:blip r:embed="rId1"/>
          <a:stretch/>
        </p:blipFill>
        <p:spPr>
          <a:xfrm>
            <a:off x="0" y="1700280"/>
            <a:ext cx="1754280" cy="175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е зубов и д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и тверды наши зубы, но они часто разрушаются и бол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стоматологических заболеваний наиболее распространен кариес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дырок (полостей) в твердых тканях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гкие   ткани   -   это   заболевание   называется   парадонтит.   Он  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уть, если не лечить кариес, а так же - от механического пов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ны (например, грубой пищи, зубной щетк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ите, от чего же разрушаются зу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92160"/>
            <a:ext cx="9072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Чистить зубы 2 раза в день — после завтрака и уж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и уничтожаются микробы во 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Чистить зубы со всех сторон не менее 3 минут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Обеспечивается снятие зубного нал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Для чистки зубов использовать пасты, содержащие фтор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крепляется эма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Чистить зубы щеткой с искусственной щетиной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В такой щетке заводится меньше микроб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Хранить щетку на открытом воздухе щетиной вверх, предварительно намылив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Не заводятся микро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Менять щетку 4 раза в год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Лучше чистятся зу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После чистки зубов делать массаж десен вращательными движениями пальцев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лучшается питание зуб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 Использовать после еды зубочистки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даляются остатки пищ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Полоскать рот после сна и после любой еды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во 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Использовать после еды жевательную резинку без сах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во рту, нагружаются жевательные мышц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Интенсивно пережевывать сырые овощи и фрукты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Хорошо очищаются и тренируются зу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Меньше есть сахара, конфет, печенья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Реже образуется карие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Не грызть ногти, карандаш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Реже возникают заболевания зубов и околозубных ткан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Не есть одновременно горячее и холодное. Сохраняется эмаль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042920" y="692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7cb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cb91"/>
                </a:solidFill>
                <a:latin typeface="Arial"/>
              </a:rPr>
              <a:t>Спасибо за просмо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j0240719"/>
          <p:cNvPicPr/>
          <p:nvPr/>
        </p:nvPicPr>
        <p:blipFill>
          <a:blip r:embed="rId2"/>
          <a:stretch/>
        </p:blipFill>
        <p:spPr>
          <a:xfrm>
            <a:off x="2771640" y="1413000"/>
            <a:ext cx="3403800" cy="494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0:57:47Z</dcterms:created>
  <dc:creator>Юля</dc:creator>
  <dc:description/>
  <dc:language>en-US</dc:language>
  <cp:lastModifiedBy>Vlad</cp:lastModifiedBy>
  <dcterms:modified xsi:type="dcterms:W3CDTF">2011-04-01T18:47:28Z</dcterms:modified>
  <cp:revision>13</cp:revision>
  <dc:subject/>
  <dc:title>Слайд 1</dc:title>
</cp:coreProperties>
</file>