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wmf" ContentType="image/x-wmf"/>
  <Override PartName="/ppt/media/image17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12.wmf" ContentType="image/x-wmf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4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0881D-0D55-4782-8A9C-0B037EE56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BC4D5-32C2-4DF5-A91F-733E4417B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E0C8F-C676-4A4D-B755-4C50F3867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BE254-31A2-4A08-B214-5DC807CE9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CB460-67D1-4C45-8F99-BCF6E96C7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B6D04-17F9-48CA-994B-164D1A4E2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1E819-EA6F-4368-A1D5-62B484C47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F62B7-6C03-4221-8254-B98E116B4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08BEE-9A64-4F7E-8BAF-EBD6D1A94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788DA-F51C-430A-BFBE-C33FAD198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72F55-6B19-46F1-AB68-1733C25A4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81EDE-D769-4203-955F-582BBEEBD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9C3F8-F3DB-4933-923A-F86687461ED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s://www.free-lance.ru/users/NIKLEN/viewproj.php?prjid=643225" TargetMode="External"/><Relationship Id="rId2" Type="http://schemas.openxmlformats.org/officeDocument/2006/relationships/hyperlink" Target="http://www.rospis-spb.ru/portfolio-kartiny.php" TargetMode="External"/><Relationship Id="rId3" Type="http://schemas.openxmlformats.org/officeDocument/2006/relationships/hyperlink" Target="http://zhaba.ru/item57151" TargetMode="External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95280" y="685440"/>
            <a:ext cx="739152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Georgia"/>
              </a:rPr>
              <a:t>Муниципальное бюджетное 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Georgia"/>
              </a:rPr>
              <a:t>дошкольное образовательное учреждение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Georgia"/>
              </a:rPr>
              <a:t> «Детский сад комбинированного вида №12 «Красная шапочка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4"/>
          <p:cNvSpPr txBox="1"/>
          <p:nvPr/>
        </p:nvSpPr>
        <p:spPr>
          <a:xfrm>
            <a:off x="2362320" y="2666880"/>
            <a:ext cx="53337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cc3300"/>
                    </a:gs>
                    <a:gs pos="100000">
                      <a:srgbClr val="5e18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"Богатыри 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cc3300"/>
                  </a:gs>
                  <a:gs pos="100000">
                    <a:srgbClr val="5e18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cc3300"/>
                    </a:gs>
                    <a:gs pos="100000">
                      <a:srgbClr val="5e18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Земли русской"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cc3300"/>
                  </a:gs>
                  <a:gs pos="100000">
                    <a:srgbClr val="5e18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5638680" y="4572000"/>
            <a:ext cx="2629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Презентацию подготовила: 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Валиева Т.А., 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воспитатель МБДОУ №12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Text Box 6"/>
          <p:cNvSpPr/>
          <p:nvPr/>
        </p:nvSpPr>
        <p:spPr>
          <a:xfrm>
            <a:off x="990720" y="1676520"/>
            <a:ext cx="7356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Проект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по нравственно-патриотическому воспитанию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дошкольников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Text Box 7"/>
          <p:cNvSpPr/>
          <p:nvPr/>
        </p:nvSpPr>
        <p:spPr>
          <a:xfrm>
            <a:off x="3971160" y="5978520"/>
            <a:ext cx="1121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Georgia"/>
              </a:rPr>
              <a:t>Бердск 2014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Georgia"/>
              </a:rPr>
              <a:t>Предполагаемые продукты</a:t>
            </a:r>
            <a:br>
              <a:rPr sz="2000"/>
            </a:br>
            <a:r>
              <a:rPr b="1" lang="ru-RU" sz="2400" spc="-1" strike="noStrike">
                <a:solidFill>
                  <a:srgbClr val="993300"/>
                </a:solidFill>
                <a:latin typeface="Georgia"/>
              </a:rPr>
              <a:t>проек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676160" y="1828800"/>
            <a:ext cx="6629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69360" indent="-369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Музей- экспозиция «Музей богатырской славы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9360" indent="-369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Презентация проекта «Богатыри Земли русской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9360" indent="-369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Учебно-методический комплекс проект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9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9360" indent="-369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«Богатыри земли русской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9360" indent="-369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«Одежда и оружие богатырей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9360" indent="-369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«Пословицы, загадки и стихи о богатырях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9360" indent="-369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Дидактическая игра: «Собери богатыря на подвиг героический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9360" indent="-369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Конспект открытого занятия «Богатыри Земли русской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9360" indent="-369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Словарь былинных термин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9360" indent="-369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Былины Древней Рус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9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4"/>
          <p:cNvSpPr/>
          <p:nvPr/>
        </p:nvSpPr>
        <p:spPr>
          <a:xfrm>
            <a:off x="1600200" y="626040"/>
            <a:ext cx="6705720" cy="56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Georgia"/>
              </a:rPr>
              <a:t>Объект исследования</a:t>
            </a:r>
            <a:r>
              <a:rPr b="1" lang="ru-RU" sz="2000" spc="-1" strike="noStrike">
                <a:solidFill>
                  <a:srgbClr val="993300"/>
                </a:solidFill>
                <a:latin typeface="Georgia"/>
              </a:rPr>
              <a:t>: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Богатыри Земли русской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Georgia"/>
              </a:rPr>
              <a:t>Предмет исследования: 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Былины древней Руси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Georgia"/>
              </a:rPr>
              <a:t>Материалы и ресурсы, необходимые для проекта: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Фотоаппарат, компьютер, поисковая система Интернет, принтер.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Литература о былинах, богатырях, видеофильм «Илья Муромец и соловей разбойник», картина «Три богатыря».  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Иллюстрации богатырей Древней Руси; картина «Три богатыря»;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Карточки с изображением одежды богатырей, их оружия (меч, булава, кистень и т.д.) и оружие современных воинов (пистолет, ружьё, винтовка, автомат);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Костюмы богатырей и гусляра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Канаты, камушки из бумаги, камень на распутье, три дороги, лес, изображения Кощея Бессмертного, Соловья-разбойника, Змея-Горыныча и т.д.             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838080"/>
            <a:ext cx="716292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Реализация проекта осуществляется через различные</a:t>
            </a: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2000" spc="-1" strike="noStrike">
                <a:solidFill>
                  <a:srgbClr val="993300"/>
                </a:solidFill>
                <a:latin typeface="Georgia"/>
              </a:rPr>
              <a:t>виды детской деятельности:</a:t>
            </a: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игровую, продуктивную, музыкально-художественную, коммуникативную, познавательную, восприятие художественной литературы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676160" y="2331720"/>
            <a:ext cx="647676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00"/>
                </a:solidFill>
                <a:latin typeface="Georgia"/>
              </a:rPr>
              <a:t>Методы и приемы работы с детьми: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Чтение кни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Поиск информации в Интернет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Игры: дидактические, сюжетно - ролевые, театрализованные, подвижны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Пальчиковая гимнасти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Лепка, аппликация, рисова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Самостоятельное обдумывание.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Обращение к родителя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Обращение к специалистам.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Воссоздание предмета или событ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1752480" y="1600200"/>
            <a:ext cx="6553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00"/>
                </a:solidFill>
                <a:latin typeface="Georgia"/>
              </a:rPr>
              <a:t>Активизация словаря детей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Богатырь, гусляр, кольчуга, доспехи, снаряжения, славяне, русичи, топкие болота, былины, меч, булава, палица, кистень, копьё, секира, чекан, топор, боевой бич, цепь, лук и стрелы, ножи, кинжал, гусл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udar"/>
          <p:cNvPicPr/>
          <p:nvPr/>
        </p:nvPicPr>
        <p:blipFill>
          <a:blip r:embed="rId1"/>
          <a:stretch/>
        </p:blipFill>
        <p:spPr>
          <a:xfrm>
            <a:off x="1523880" y="1295280"/>
            <a:ext cx="6858000" cy="45370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9" descr="1892949"/>
          <p:cNvPicPr/>
          <p:nvPr/>
        </p:nvPicPr>
        <p:blipFill>
          <a:blip r:embed="rId2"/>
          <a:stretch/>
        </p:blipFill>
        <p:spPr>
          <a:xfrm>
            <a:off x="2819520" y="762120"/>
            <a:ext cx="3886200" cy="5715000"/>
          </a:xfrm>
          <a:prstGeom prst="rect">
            <a:avLst/>
          </a:prstGeom>
          <a:ln w="0">
            <a:noFill/>
          </a:ln>
        </p:spPr>
      </p:pic>
      <p:sp>
        <p:nvSpPr>
          <p:cNvPr id="72" name="AutoShape 11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" name="AutoShape 13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" name="AutoShape 1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AutoShape 17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76" name="Picture 19" descr="_46"/>
          <p:cNvPicPr/>
          <p:nvPr/>
        </p:nvPicPr>
        <p:blipFill>
          <a:blip r:embed="rId3"/>
          <a:stretch/>
        </p:blipFill>
        <p:spPr>
          <a:xfrm>
            <a:off x="2743200" y="914400"/>
            <a:ext cx="3809880" cy="56386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1" descr="4385"/>
          <p:cNvPicPr/>
          <p:nvPr/>
        </p:nvPicPr>
        <p:blipFill>
          <a:blip r:embed="rId4"/>
          <a:stretch/>
        </p:blipFill>
        <p:spPr>
          <a:xfrm>
            <a:off x="2666880" y="762120"/>
            <a:ext cx="385920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9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43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9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3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59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63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69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73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95280" y="609480"/>
            <a:ext cx="70106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600200" y="1980720"/>
            <a:ext cx="67816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993300"/>
                </a:solidFill>
                <a:uFillTx/>
                <a:latin typeface="Georgia"/>
              </a:rPr>
              <a:t>1этап:</a:t>
            </a:r>
            <a:r>
              <a:rPr b="0" lang="ru-RU" sz="2000" spc="-1" strike="noStrike">
                <a:solidFill>
                  <a:srgbClr val="993300"/>
                </a:solidFill>
                <a:latin typeface="Georgia"/>
              </a:rPr>
              <a:t>      </a:t>
            </a:r>
            <a:r>
              <a:rPr b="1" lang="ru-RU" sz="2400" spc="-1" strike="noStrike">
                <a:solidFill>
                  <a:srgbClr val="993300"/>
                </a:solidFill>
                <a:latin typeface="Georgia"/>
              </a:rPr>
              <a:t>Подготовительный</a:t>
            </a: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(декабрь 2013г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Работа с детьми по модели «Трех вопросов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Обозначение актуальности и темы будущего проек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Постановка цели и задач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Написание проект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Составление плана реализации проекта с учётом интеграции образовательных   област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Обсуждение вариантов поиска информа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Работа с методическим материалом, литературой по данной тем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4"/>
          <p:cNvSpPr/>
          <p:nvPr/>
        </p:nvSpPr>
        <p:spPr>
          <a:xfrm>
            <a:off x="1143000" y="725400"/>
            <a:ext cx="7238880" cy="20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Georgia"/>
              </a:rPr>
              <a:t>Этапы реализации проекта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3300"/>
                </a:solidFill>
                <a:latin typeface="Georgia"/>
              </a:rPr>
              <a:t>Сроки реализации проекта</a:t>
            </a:r>
            <a:r>
              <a:rPr b="0" lang="ru-RU" sz="1800" spc="-1" strike="noStrike">
                <a:solidFill>
                  <a:srgbClr val="993300"/>
                </a:solidFill>
                <a:latin typeface="Georgia"/>
              </a:rPr>
              <a:t>: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Декабрь 2013-февраль 2014года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1676520" y="1980720"/>
            <a:ext cx="67816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993300"/>
                </a:solidFill>
                <a:uFillTx/>
                <a:latin typeface="Georgia"/>
              </a:rPr>
              <a:t>2</a:t>
            </a:r>
            <a:r>
              <a:rPr b="1" lang="ru-RU" sz="1800" spc="-1" strike="noStrike" u="sng">
                <a:solidFill>
                  <a:srgbClr val="993300"/>
                </a:solidFill>
                <a:uFillTx/>
                <a:latin typeface="Georgia"/>
              </a:rPr>
              <a:t> </a:t>
            </a:r>
            <a:r>
              <a:rPr b="1" lang="ru-RU" sz="2000" spc="-1" strike="noStrike" u="sng">
                <a:solidFill>
                  <a:srgbClr val="993300"/>
                </a:solidFill>
                <a:uFillTx/>
                <a:latin typeface="Georgia"/>
              </a:rPr>
              <a:t>этап:</a:t>
            </a:r>
            <a:r>
              <a:rPr b="1" lang="ru-RU" sz="2000" spc="-1" strike="noStrike">
                <a:solidFill>
                  <a:srgbClr val="993300"/>
                </a:solidFill>
                <a:latin typeface="Georgia"/>
              </a:rPr>
              <a:t> </a:t>
            </a:r>
            <a:r>
              <a:rPr b="1" lang="ru-RU" sz="2400" spc="-1" strike="noStrike">
                <a:solidFill>
                  <a:srgbClr val="993300"/>
                </a:solidFill>
                <a:latin typeface="Georgia"/>
              </a:rPr>
              <a:t>Основной </a:t>
            </a:r>
            <a:r>
              <a:rPr b="0" lang="ru-RU" sz="1800" spc="-1" strike="noStrike">
                <a:solidFill>
                  <a:srgbClr val="993300"/>
                </a:solidFill>
                <a:latin typeface="Georgia"/>
              </a:rPr>
              <a:t>(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январь 2014-15 февраля 2014г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Реализация проек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Составление конспектов занятий и спортивного досуг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Подбор былин, стихов, физкультминуток и малых форм русского фолькло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Подбор книг, иллюстративного материала и репродукции картин В.Васнецо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Подбор дидактических иг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Подбор музыкального репертуа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Проведение НОД,  досуговых, спортивных мероприят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Привлечение родителей к текущему проект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5"/>
          <p:cNvSpPr/>
          <p:nvPr/>
        </p:nvSpPr>
        <p:spPr>
          <a:xfrm>
            <a:off x="1066680" y="573840"/>
            <a:ext cx="7239240" cy="132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Georgia"/>
              </a:rPr>
              <a:t>Этапы реализации проекта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3300"/>
                </a:solidFill>
                <a:latin typeface="Georgia"/>
              </a:rPr>
              <a:t>Сроки реализации проекта</a:t>
            </a:r>
            <a:r>
              <a:rPr b="0" lang="ru-RU" sz="1800" spc="-1" strike="noStrike">
                <a:solidFill>
                  <a:srgbClr val="993300"/>
                </a:solidFill>
                <a:latin typeface="Georgia"/>
              </a:rPr>
              <a:t>: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Декабрь 2013-февраль 2014года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1752480" y="1828440"/>
            <a:ext cx="65534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993300"/>
                </a:solidFill>
                <a:uFillTx/>
                <a:latin typeface="Georgia"/>
              </a:rPr>
              <a:t>3</a:t>
            </a:r>
            <a:r>
              <a:rPr b="1" lang="ru-RU" sz="2000" spc="-1" strike="noStrike" u="sng">
                <a:solidFill>
                  <a:srgbClr val="993300"/>
                </a:solidFill>
                <a:uFillTx/>
                <a:latin typeface="Georgia"/>
              </a:rPr>
              <a:t> этап:</a:t>
            </a:r>
            <a:r>
              <a:rPr b="1" lang="ru-RU" sz="2000" spc="-1" strike="noStrike">
                <a:solidFill>
                  <a:srgbClr val="993300"/>
                </a:solidFill>
                <a:latin typeface="Georgia"/>
              </a:rPr>
              <a:t> </a:t>
            </a:r>
            <a:r>
              <a:rPr b="1" lang="ru-RU" sz="2400" spc="-1" strike="noStrike">
                <a:solidFill>
                  <a:srgbClr val="993300"/>
                </a:solidFill>
                <a:latin typeface="Georgia"/>
              </a:rPr>
              <a:t>Заключительный</a:t>
            </a:r>
            <a:r>
              <a:rPr b="1" lang="ru-RU" sz="2000" spc="-1" strike="noStrike">
                <a:solidFill>
                  <a:srgbClr val="993300"/>
                </a:solidFill>
                <a:latin typeface="Georgi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(15-28 февраля 2014г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Открытое занятие «Богатыри земли русской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Мини-музей: «Музей богатырской славы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Презентация проекта перед педагогическим коллектив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Презентация проекта на родительском собран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УМК к проект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Размещение информации о реализации проекта на сайте учреждения и в С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4"/>
          <p:cNvSpPr/>
          <p:nvPr/>
        </p:nvSpPr>
        <p:spPr>
          <a:xfrm>
            <a:off x="1066680" y="573840"/>
            <a:ext cx="7239240" cy="132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Georgia"/>
              </a:rPr>
              <a:t>Этапы реализации проекта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3300"/>
                </a:solidFill>
                <a:latin typeface="Georgia"/>
              </a:rPr>
              <a:t>Сроки реализации проекта</a:t>
            </a:r>
            <a:r>
              <a:rPr b="0" lang="ru-RU" sz="1800" spc="-1" strike="noStrike">
                <a:solidFill>
                  <a:srgbClr val="993300"/>
                </a:solidFill>
                <a:latin typeface="Georgia"/>
              </a:rPr>
              <a:t>: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Декабрь 2013-февраль 2014года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1676520" y="762120"/>
            <a:ext cx="68580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00"/>
                </a:solidFill>
                <a:latin typeface="Georgia"/>
              </a:rPr>
              <a:t>Проект был реализован с учетом интеграции образовательных  областей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познани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коммуникация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чтение художественной литературы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художественное творчество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социализация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физическая культу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00"/>
                </a:solidFill>
                <a:latin typeface="Georgia"/>
              </a:rPr>
              <a:t>Мероприятия  в рамках проекта осуществлялись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в ходе режимных момент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в ходе самостоятельной деятельности дете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в процессе совместной  деятельности педагога с детьми в     различных видах детской деятельност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в процессе совместной деятельности детей и родителей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838080"/>
            <a:ext cx="70866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Georgia"/>
              </a:rPr>
              <a:t>Совместная деятельность с родителя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6553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«Слово к родителям»  (информационный стенд в группе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Чтение былин с деть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Поиск информации  и раскрасок в Интернет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Просмотр вместе с детьми мультфильмов о богатыря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Изготовление экспонатов для мини-музе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Участие родителей в спортивных и досуговых развлечениях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Строительство крепости на участк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00"/>
                </a:solidFill>
                <a:latin typeface="Georgia"/>
              </a:rPr>
              <a:t>Диагностическое обследование детей 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(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ноябрь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Rectangle 6"/>
          <p:cNvSpPr/>
          <p:nvPr/>
        </p:nvSpPr>
        <p:spPr>
          <a:xfrm>
            <a:off x="0" y="2538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Rectangle 8"/>
          <p:cNvSpPr/>
          <p:nvPr/>
        </p:nvSpPr>
        <p:spPr>
          <a:xfrm>
            <a:off x="0" y="2438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Rectangle 10"/>
          <p:cNvSpPr/>
          <p:nvPr/>
        </p:nvSpPr>
        <p:spPr>
          <a:xfrm>
            <a:off x="0" y="2438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graphicFrame>
        <p:nvGraphicFramePr>
          <p:cNvPr id="93" name="Object 9"/>
          <p:cNvGraphicFramePr/>
          <p:nvPr/>
        </p:nvGraphicFramePr>
        <p:xfrm>
          <a:off x="1600200" y="1752480"/>
          <a:ext cx="690408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1752480"/>
                    <a:ext cx="690408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066320" y="1066680"/>
            <a:ext cx="723924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00"/>
                </a:solidFill>
                <a:latin typeface="Georgia"/>
              </a:rPr>
              <a:t>        </a:t>
            </a:r>
            <a:r>
              <a:rPr b="1" lang="ru-RU" sz="3200" spc="-1" strike="noStrike">
                <a:solidFill>
                  <a:srgbClr val="993300"/>
                </a:solidFill>
                <a:latin typeface="Georgia"/>
              </a:rPr>
              <a:t>«Только тот, кто любит, ценит и уважает накопленное и сохранённое предшествующим поколением, может любить Родину, узнать её, стать подлинным патриотом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. Михалк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00"/>
                </a:solidFill>
                <a:latin typeface="Georgia"/>
              </a:rPr>
              <a:t>Диагностическое обследование детей 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(март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5"/>
          <p:cNvSpPr/>
          <p:nvPr/>
        </p:nvSpPr>
        <p:spPr>
          <a:xfrm>
            <a:off x="0" y="246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Rectangle 7"/>
          <p:cNvSpPr/>
          <p:nvPr/>
        </p:nvSpPr>
        <p:spPr>
          <a:xfrm>
            <a:off x="0" y="246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graphicFrame>
        <p:nvGraphicFramePr>
          <p:cNvPr id="98" name="Object 6"/>
          <p:cNvGraphicFramePr/>
          <p:nvPr/>
        </p:nvGraphicFramePr>
        <p:xfrm>
          <a:off x="1676520" y="1523880"/>
          <a:ext cx="6645240" cy="449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1523880"/>
                    <a:ext cx="6645240" cy="449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1752480" y="685800"/>
            <a:ext cx="68580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Georgia"/>
              </a:rPr>
              <a:t>Выво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Проект должен стать мощным импульсом к развитию творческо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инициативы педагогических работников детского сада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занимающимся проблемами детства, а также мотивирующи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фактором формирования интереса к героическому прошлом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русского народа, её великим, могучим богатырям – защитника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Земли Русской. Он является импульсом к становлению ребенка, формированию у него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- нравственных чувств (совести, долга, веры, ответственности, гражданственности, патриотизма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- нравственного облика (терпения, милосердия, кротости, незлобивости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-нравственной позиции (способности к различению добра и зла, проявлению самоотверженной любви, готовности к преодолению жизненных испытаний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- нравственного поведения (готовности служения людям и Отечеству, проявления духовной рассудительности, послушания, доброй воли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В целом проект с детьми и родителями, с моей точки зрения, имее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прогрессивный характер и он позволит не только познакомиться 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историей Древней Руси и ее героями, но и даст толчок для развит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направления по нравственно-патриотическому воспитанию детей 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профессиональной компетентности педагогов и родителе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4"/>
          <p:cNvSpPr/>
          <p:nvPr/>
        </p:nvSpPr>
        <p:spPr>
          <a:xfrm>
            <a:off x="1752480" y="-531720"/>
            <a:ext cx="6510600" cy="789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00"/>
                </a:solidFill>
                <a:latin typeface="Monotype Corsiva"/>
              </a:rPr>
              <a:t>Покой всех городов и сел старинных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00"/>
                </a:solidFill>
                <a:latin typeface="Monotype Corsiva"/>
              </a:rPr>
              <a:t>Стерег дозор богатырей былинных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00"/>
                </a:solidFill>
                <a:latin typeface="Monotype Corsiva"/>
              </a:rPr>
              <a:t>Пускай те дни прошли, но Слава вам,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00"/>
                </a:solidFill>
                <a:latin typeface="Monotype Corsiva"/>
              </a:rPr>
              <a:t>Не давшим Русь врагу, богатырям!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00"/>
                </a:solidFill>
                <a:latin typeface="Monotype Corsiva"/>
              </a:rPr>
              <a:t>И если богатырь стоит на страже,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00"/>
                </a:solidFill>
                <a:latin typeface="Monotype Corsiva"/>
              </a:rPr>
              <a:t>То может быть из вас уверен каждый,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00"/>
                </a:solidFill>
                <a:latin typeface="Monotype Corsiva"/>
              </a:rPr>
              <a:t>Что от врагов любых защищены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00"/>
                </a:solidFill>
                <a:latin typeface="Monotype Corsiva"/>
              </a:rPr>
              <a:t>Все рубежи твоей родной страны!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4" descr="русь сегодня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Прямоугольник 1"/>
          <p:cNvSpPr/>
          <p:nvPr/>
        </p:nvSpPr>
        <p:spPr>
          <a:xfrm>
            <a:off x="1600200" y="2438280"/>
            <a:ext cx="624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s://www.free-lance.ru/users/NIKLEN/viewproj.php?prjid=643225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Прямоугольник 2"/>
          <p:cNvSpPr/>
          <p:nvPr/>
        </p:nvSpPr>
        <p:spPr>
          <a:xfrm>
            <a:off x="1600200" y="182880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rospis-spb.ru/portfolio-kartiny.php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TextBox 10"/>
          <p:cNvSpPr/>
          <p:nvPr/>
        </p:nvSpPr>
        <p:spPr>
          <a:xfrm>
            <a:off x="1676520" y="11430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тернет-ресурсы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Прямоугольник 11"/>
          <p:cNvSpPr/>
          <p:nvPr/>
        </p:nvSpPr>
        <p:spPr>
          <a:xfrm>
            <a:off x="1768320" y="3124080"/>
            <a:ext cx="2768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zhaba.ru/item57151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Прямоугольник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4"/>
            <a:srcRect/>
            <a:stretch/>
          </a:blip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Прямоугольник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Использованная литература: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1. «Развитие речи и творчества дошкольников»(игры, упражнения, конспекты занятий, под ред. О. С. Ушаковой, Москва ТЦ "Сфера", 2005;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2. «Дошкольникам о защитниках Отечества» под ред. Л. А. Кондрыкинской, Москва ТЦ "Сфера", 2006;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3. «Моя Родина – Россия» комплект пособий, Москва «Школьная пресса», 2009г.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4. Г. Н. Данилина «Дошкольнику об истории и культуре России», Москва, «Аркти», 2004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5.Аникин В.П. Мир былин и сказок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6.Былины. Русские народные сказки. Древнерусские повести. М., 1986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7.Пословицы русского народа, В. Даль, Москва, 1984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8.Русский эпос, Ф.М. Селиванов, Москва, «Высшая школа», 1988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9.Русское народное поэтическое творчество», Ю.Г. Круглов, М., «Высшая школа, 1986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11" name="Рисунок 3" descr="05labr6v51241785573.jpg"/>
          <p:cNvPicPr/>
          <p:nvPr/>
        </p:nvPicPr>
        <p:blipFill>
          <a:blip r:embed="rId1"/>
          <a:stretch/>
        </p:blipFill>
        <p:spPr>
          <a:xfrm>
            <a:off x="139680" y="3859200"/>
            <a:ext cx="2036880" cy="28591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4" descr="slunce-prislo-na-pomoc"/>
          <p:cNvPicPr/>
          <p:nvPr/>
        </p:nvPicPr>
        <p:blipFill>
          <a:blip r:embed="rId2"/>
          <a:stretch/>
        </p:blipFill>
        <p:spPr>
          <a:xfrm>
            <a:off x="8153280" y="152280"/>
            <a:ext cx="725760" cy="7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4" descr="fon13"/>
          <p:cNvPicPr/>
          <p:nvPr/>
        </p:nvPicPr>
        <p:blipFill>
          <a:blip r:embed="rId1"/>
          <a:stretch/>
        </p:blipFill>
        <p:spPr>
          <a:xfrm>
            <a:off x="152280" y="152280"/>
            <a:ext cx="8847360" cy="638676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5"/>
          <p:cNvSpPr/>
          <p:nvPr/>
        </p:nvSpPr>
        <p:spPr>
          <a:xfrm>
            <a:off x="3070080" y="1339920"/>
            <a:ext cx="1666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17" name="Picture 8" descr="83061889_large_343_mama__s_s_malishom"/>
          <p:cNvPicPr/>
          <p:nvPr/>
        </p:nvPicPr>
        <p:blipFill>
          <a:blip r:embed="rId2"/>
          <a:stretch/>
        </p:blipFill>
        <p:spPr>
          <a:xfrm>
            <a:off x="990720" y="3124080"/>
            <a:ext cx="2122200" cy="286884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9"/>
          <p:cNvSpPr/>
          <p:nvPr/>
        </p:nvSpPr>
        <p:spPr>
          <a:xfrm>
            <a:off x="3200400" y="3048120"/>
            <a:ext cx="48006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Georgia"/>
              </a:rPr>
              <a:t>Пусть всегда будет солнце,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Georgia"/>
              </a:rPr>
              <a:t>Пусть всегда будет небо,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Georgia"/>
              </a:rPr>
              <a:t>Пусть всегда будет мама,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Georgia"/>
              </a:rPr>
              <a:t>Пусть всегда буду я!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4"/>
          <p:cNvSpPr/>
          <p:nvPr/>
        </p:nvSpPr>
        <p:spPr>
          <a:xfrm>
            <a:off x="4613760" y="5638680"/>
            <a:ext cx="3699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Методическое сопровождение: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Зам. заведующей по ВМР Юшкина О.В.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WordArt 5"/>
          <p:cNvSpPr txBox="1"/>
          <p:nvPr/>
        </p:nvSpPr>
        <p:spPr>
          <a:xfrm>
            <a:off x="1905120" y="1219320"/>
            <a:ext cx="5661000" cy="213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9900"/>
                  </a:solidFill>
                  <a:miter/>
                </a:ln>
                <a:solidFill>
                  <a:srgbClr val="993300"/>
                </a:solidFill>
                <a:latin typeface="Times New Roman"/>
              </a:rPr>
              <a:t>СПАСИБО ЗА ВНИМАНИЕ!</a:t>
            </a:r>
            <a:endParaRPr b="0" lang="en-US" sz="1800" spc="1" strike="noStrike">
              <a:ln w="9360">
                <a:solidFill>
                  <a:srgbClr val="ff9900"/>
                </a:solidFill>
                <a:miter/>
              </a:ln>
              <a:solidFill>
                <a:srgbClr val="993300"/>
              </a:solidFill>
              <a:latin typeface="Times New Roman"/>
              <a:ea typeface="Times New Roman"/>
            </a:endParaRPr>
          </a:p>
        </p:txBody>
      </p:sp>
      <p:sp>
        <p:nvSpPr>
          <p:cNvPr id="121" name="WordArt 6"/>
          <p:cNvSpPr txBox="1"/>
          <p:nvPr/>
        </p:nvSpPr>
        <p:spPr>
          <a:xfrm>
            <a:off x="2057400" y="3886200"/>
            <a:ext cx="521964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cc00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УДАЧИ И ТВОРЧЕСТВА</a:t>
            </a:r>
            <a:endParaRPr b="0" lang="en-US" sz="1800" spc="1" strike="noStrike">
              <a:ln w="0">
                <a:noFill/>
              </a:ln>
              <a:solidFill>
                <a:srgbClr val="cc00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cc00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АМ!</a:t>
            </a:r>
            <a:endParaRPr b="0" lang="en-US" sz="1800" spc="1" strike="noStrike">
              <a:ln w="0">
                <a:noFill/>
              </a:ln>
              <a:solidFill>
                <a:srgbClr val="cc00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22" name="Picture 7" descr="d2f619c51da4"/>
          <p:cNvPicPr/>
          <p:nvPr/>
        </p:nvPicPr>
        <p:blipFill>
          <a:blip r:embed="rId1"/>
          <a:stretch/>
        </p:blipFill>
        <p:spPr>
          <a:xfrm>
            <a:off x="4191120" y="685800"/>
            <a:ext cx="909360" cy="11430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8" descr="d2f619c51da4"/>
          <p:cNvPicPr/>
          <p:nvPr/>
        </p:nvPicPr>
        <p:blipFill>
          <a:blip r:embed="rId2"/>
          <a:stretch/>
        </p:blipFill>
        <p:spPr>
          <a:xfrm>
            <a:off x="5318280" y="1066680"/>
            <a:ext cx="544320" cy="6858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9" descr="d2f619c51da4"/>
          <p:cNvPicPr/>
          <p:nvPr/>
        </p:nvPicPr>
        <p:blipFill>
          <a:blip r:embed="rId3"/>
          <a:stretch/>
        </p:blipFill>
        <p:spPr>
          <a:xfrm>
            <a:off x="6019920" y="1219320"/>
            <a:ext cx="3632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русь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"/>
          <p:cNvSpPr/>
          <p:nvPr/>
        </p:nvSpPr>
        <p:spPr>
          <a:xfrm>
            <a:off x="1981080" y="699840"/>
            <a:ext cx="49053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Georgia"/>
              </a:rPr>
              <a:t>Актуальность проекта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  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Rectangle 6"/>
          <p:cNvSpPr/>
          <p:nvPr/>
        </p:nvSpPr>
        <p:spPr>
          <a:xfrm>
            <a:off x="4449600" y="3232080"/>
            <a:ext cx="184320" cy="366840"/>
          </a:xfrm>
          <a:prstGeom prst="rect">
            <a:avLst/>
          </a:prstGeom>
          <a:solidFill>
            <a:srgbClr val="ffec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50" name="Picture 7" descr="309347347"/>
          <p:cNvPicPr/>
          <p:nvPr/>
        </p:nvPicPr>
        <p:blipFill>
          <a:blip r:embed="rId1"/>
          <a:stretch/>
        </p:blipFill>
        <p:spPr>
          <a:xfrm>
            <a:off x="7162920" y="685800"/>
            <a:ext cx="1028520" cy="68580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8"/>
          <p:cNvSpPr/>
          <p:nvPr/>
        </p:nvSpPr>
        <p:spPr>
          <a:xfrm>
            <a:off x="1600200" y="1006920"/>
            <a:ext cx="693432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Сегодня, как и во все времена, является актуальным предоставление возможности детям обрести и сохранить свою духовность, разобраться во всем и выбрать нужные ориентиры, научиться любить не придуманную нами Родину, а такую, какая она есть. Но любить и беречь можно только то, что чувствуешь, знаешь, понимаешь.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Мы же в немалой степени растеряли свои национальные черты, предали забвению русскую народную культуру, отвергли то, что является сутью русского человека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    Воспитывать патриота надо на конкретных героических примерах, исторических событиях, на народных традициях и правилах, по которым веками жила могучая Россия. Ребенок не рождается добрым, нравственным или безнравственным.   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То, какие нравственные качества разовьются у ребенка, зависит, прежде всего, от родителей и окружающих его взрослых, как они его воспитают, какими впечатлениями обогатят. Это наша сегодня задача!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1219320" y="685800"/>
            <a:ext cx="723888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Georgia"/>
              </a:rPr>
              <a:t>Вид проекта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:</a:t>
            </a: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Информационно-творческий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долгосроч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2000" spc="-1" strike="noStrike">
                <a:solidFill>
                  <a:srgbClr val="cc3300"/>
                </a:solidFill>
                <a:latin typeface="Georgia"/>
              </a:rPr>
              <a:t>Срок реализации проекта: 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Декабрь 2013 - февраль  2014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Georgia"/>
              </a:rPr>
              <a:t>Участники проекта:</a:t>
            </a: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Дети подготовительной группы (6-7лет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Воспитател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Родители воспитанник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Музыкальный руководител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Инструктор по ФК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516400" y="223056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1752480" y="3657600"/>
            <a:ext cx="6248520" cy="23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Разработка проекта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связана с использованием</a:t>
            </a:r>
            <a:r>
              <a:rPr b="1" lang="ru-RU" sz="2000" spc="-1" strike="noStrike">
                <a:solidFill>
                  <a:srgbClr val="993300"/>
                </a:solidFill>
                <a:latin typeface="Georgia"/>
              </a:rPr>
              <a:t> </a:t>
            </a:r>
            <a:br>
              <a:rPr sz="2000"/>
            </a:br>
            <a:r>
              <a:rPr b="1" lang="ru-RU" sz="2000" spc="-1" strike="noStrike">
                <a:solidFill>
                  <a:srgbClr val="993300"/>
                </a:solidFill>
                <a:latin typeface="Georgia"/>
              </a:rPr>
              <a:t>модели “Трех вопросов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752120" y="1600200"/>
            <a:ext cx="6629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Что мы знаем?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водится общее обсуждение, чтобы дети выяснили, что они уже знают об определенном предмете или явлении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Что мы хотим узнать?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водится общее обсуждение, чтобы дети выяснили, что они хотят узнать об определенном предмете или явлении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Что нужно сделать для того, чтобы узнать?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водится общее обсуждение, когда все дети выскажутся, воспитатель спрашивает Как нам найти ответы на вопросы об определенном предмете или явлен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1599840" y="1066680"/>
            <a:ext cx="6629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Georgia"/>
              </a:rPr>
              <a:t>Цель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Воспитание чувства гордости за богатырскую силу России, уважение к русским воинам, желание им подража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6" descr="folk"/>
          <p:cNvPicPr/>
          <p:nvPr/>
        </p:nvPicPr>
        <p:blipFill>
          <a:blip r:embed="rId1"/>
          <a:stretch/>
        </p:blipFill>
        <p:spPr>
          <a:xfrm>
            <a:off x="1752480" y="1295280"/>
            <a:ext cx="6705720" cy="46101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8" descr="1293674346026"/>
          <p:cNvPicPr/>
          <p:nvPr/>
        </p:nvPicPr>
        <p:blipFill>
          <a:blip r:embed="rId2"/>
          <a:stretch/>
        </p:blipFill>
        <p:spPr>
          <a:xfrm>
            <a:off x="4038480" y="2743200"/>
            <a:ext cx="4267440" cy="33685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2" descr="018_1_944671"/>
          <p:cNvPicPr/>
          <p:nvPr/>
        </p:nvPicPr>
        <p:blipFill>
          <a:blip r:embed="rId3"/>
          <a:stretch/>
        </p:blipFill>
        <p:spPr>
          <a:xfrm>
            <a:off x="1676520" y="2743200"/>
            <a:ext cx="22888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3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3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2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20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2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4"/>
          <p:cNvSpPr/>
          <p:nvPr/>
        </p:nvSpPr>
        <p:spPr>
          <a:xfrm>
            <a:off x="1523880" y="594720"/>
            <a:ext cx="6934320" cy="56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Georgia"/>
              </a:rPr>
              <a:t>Задачи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Дать детям представление об отдельных эпизодах истории страны.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Формировать интерес к героическому прошлому русского народа, её великим, могучим богатырям – защитникам Земли Русской,  через художественное слово, произведения  искусства, информационные материалы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Показать образ защитника Родины через образы реально существовавших исторических личностей, былинных и сказочных богатырей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Развивать коммуникативные навыки детей, умение находить выход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из проблемных ситуаций, поддерживать доброжелательные отношения между детьми.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Развивать диалогическую и монологическую речь, расширять словарный запас детей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Способствовать активному вовлечению родителей в совместную деятельность с ребёнком в условиях семьи и детского сада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Georgia"/>
              </a:rPr>
              <a:t>Ожидаемые  результаты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600200" y="1143000"/>
            <a:ext cx="69343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Сформирован познавательный интерес к фактам истории Древней Руси, уважение к защитникам Отечества, к поисковой деятельнос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Расширены и закреплены знания детей о богатырях, об их жизни, об их быте, об их оруж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Сформирована мотивация получения знаний из художественной литератур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Освоены и закреплены способы решения интеллектуальных и коммуникативных задач, адекватных возраст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Заложены основы нравственных личностных качеств: отзывчивость, справедливость, смелость, толерантност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Сформирована мотивация родителей к сотрудничеству с воспитателями и детским садом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Активизированы компоненты диалогической и монологической речи дет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Татьяна</cp:lastModifiedBy>
  <dcterms:modified xsi:type="dcterms:W3CDTF">2015-01-18T16:50:40Z</dcterms:modified>
  <cp:revision>2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