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9F0-1EB1-4512-B0ED-BBF66765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A93-B5A1-45AB-899A-98C58BBB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3CA-41D1-4A04-825C-C87FBA5C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804-E400-4104-BF6B-48417019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B0C-951A-41DF-81B7-272CF1F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8D3-A4F5-4193-A334-B8A89644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846-5E8E-4C8E-A246-9D83BBFA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E56-4818-497D-A940-325BCCF6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600-A99B-4392-9C92-59D68F0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ECF-CE0F-4CB6-B54A-FADC5C15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AE2-F899-4F54-8EB4-CACAAFB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454-341B-4850-B024-B535714B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C9B9-0A4C-431C-8AAA-C7E986331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Технические средства И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ЭСМ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е место в истории развития отечественной вычислительной техники занимает БЭСМ-6, серийно выпускавшаяся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6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в течение 17 лет. В ее архитектуре был реализован принцип распараллеливания вычислительных процессов, и ее производительность – 1 млн. операций в секунду – была рекордной для середины 60-х годов. На БЭСМ-6 появились первые полноценные операционные системы, мощные трансляторы, ценнейшие библиотеки стандартных подпрограмм, реализующих численные методы решения различных задач, всё – отечественного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цу 60-х годов в нашей стране выпускалось около 20 типов ЭВМ общего назначения – серии БЭСМ (Москва, С.А.Лебедев), Урал (Пенза, Б.И.Рамеев), Днепр, Мир (Киев, В.М.Глушков), Минск (Минск, В. Пржиялковский) и другие, а также специализированные машины преимущественно для оборонного ведомства. Кстати, в отличие от Запада, где «двигателями прогресса» в области вычислительной техники были не только военные, но и представители делового мира, в СССР ими были, в основном, военные. Но постепенно и ученые, и хозяйственники, и чиновники стали осознавать роль вычислительных машин в экономике страны и насущную необходимость в разработке машин нового покол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л вопрос о переходе к индустрии ЭВМ. В декабре 1969 году на правительственном уровне было принято решение выбрать в качестве промышленного стандарта для универсальных вычислительных машин единой серии (ЕС ЭВМ) серию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360. Первая машина этой серии – ЕС-1020 была выпущена в 197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о ЕС ЭВМ было налажено совместно с другими социалистическими странами в рамках СЭВ (Совета по экономической взаимопомощи). Многие ученые выступили против копирования сист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предложить что-то взамен в качестве единого стандарта не смог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чно, идеальным вариантом была бы реализация архитектурных принцип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отрудничестве с самой компанией, и не семейства почти пятилетней давности, а самых современных моделей, и в сочетании с всесторонней поддержкой собственных разработок. Но на всё у государства не хватало средств, и пошли по более простому варианту. Так начался закат отечественной индустрии вычислительной тех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189000"/>
          <a:ext cx="9144000" cy="6248160"/>
        </p:xfrm>
        <a:graphic>
          <a:graphicData uri="http://schemas.openxmlformats.org/drawingml/2006/table">
            <a:tbl>
              <a:tblPr/>
              <a:tblGrid>
                <a:gridCol w="1670040"/>
                <a:gridCol w="1808280"/>
                <a:gridCol w="2016000"/>
                <a:gridCol w="1698480"/>
                <a:gridCol w="1951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о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,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 -1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5-19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5-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-наст. в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ная б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уумные электронные лам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проводниковые диоды и транзис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альные сх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хбольшие интегральные сх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те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тектура фон Нейм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программный ре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ьные сети ЭВМ, вычислительные системы коллективного поль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процессорные системы, персональные компьютеры, глобальные с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дей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20 тыс. оп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500 тыс. оп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а 1 млн. оп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ки и сотни млн. оп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ное обесп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ные язы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онные системы, трансляторы с алгоритмических язы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онные системы, диалоговые системы, системы машинной граф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прикладных программ, базы данных и знаний, брауз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е устр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ройства ввода с перфолент и перфокарт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ПУ, телетайпы, НМЛ, НМ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терминалы, НЖМ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МД, модемы, сканеры, лазерные принт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9144000" cy="6735600"/>
        </p:xfrm>
        <a:graphic>
          <a:graphicData uri="http://schemas.openxmlformats.org/drawingml/2006/table">
            <a:tbl>
              <a:tblPr/>
              <a:tblGrid>
                <a:gridCol w="1600200"/>
                <a:gridCol w="1878120"/>
                <a:gridCol w="2016000"/>
                <a:gridCol w="1698480"/>
                <a:gridCol w="195120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ые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ные, научные, экономические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У, САПР, научно-технические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управления, телекоммуникации, создание АРМ, обработка текстов, мультимед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 ЭВ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программ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ная обрабо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ьная и сетевая обрабо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ация да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ный з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ое по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инальный з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й стол и мобильное располо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ользов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ы–программ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ые программ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исты-пользов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ели с общей комп-ой подготов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диал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за пультом ЭВ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н перфоносителями и машинограм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й (через клавиатуру и экра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й типа «вопрос-отв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IA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A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Ш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ЭСМ - 1,2, М-1, М-20 (ССС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 701/709 (СШ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ЭСМ-4, , М-220, Минск, БЭСМ-6 (ССС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/370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/20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(СШ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 1050, 1066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ьбрус 1,2 (ССС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y 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ША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, серверы, рабочие станции различных произ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сональный компьютер типа IBM P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революционных достижений в области вычислительной техники явилось создание на основе микропроцессоров персональных ЭВМ, которые можно отнести к отдельному классу машин четвертого поколения. Первый персональный компьютер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i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8800» (Эдвард Робертс, фирма MITS) на базе микропроцесс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8080 с тактовой частотой 2 Мгц и оперативной памятью 256 байт появился в США в 1975 году. Он продавался за 397 долл. в виде комплекта, из которого любой немного сведущий в электронике мог собрать действующую машину (правда, без дисплея). 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ва молодых человека – Пол Аллен и Уильям Гейтс сумели извлечь немалую выгоду из выпуска ПК «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ltair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, написав для него конкретную реализацию языка программирования Basic. В этом же 1975 году они организовали свою фирму – «Microsoft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3"/>
          <p:cNvSpPr/>
          <p:nvPr/>
        </p:nvSpPr>
        <p:spPr>
          <a:xfrm>
            <a:off x="179280" y="6386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широкую дорогу новой индустрии – промышленному производству персональных компьютеров открыла фирма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(Стефен Возняк и Стивен Джобс), наладив производство ПК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» в 1977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ая эпоха персональных компьютеров началась с 1981 года. 12 августа 1981 года на рынок ПК вышла корпор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Business Machin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о своей модел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(Отметим, что к этому времени рынок ПК в США составлял более 140 млн. долл.). Самой важной особенностью этого компьютера была так называема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ткрытая архитек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сть возможность сборки ПК из комплектующих от разных производителей, а также возможность доукомплектования ПК в процессе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83 г. появил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жестким 10 Мб диском, в 1984 г.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базе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0286 (6 МГц), в 1986 г. – ПК на базе 32-х разрядного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03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тати, первая советская персональная ЭВМ «Агат» появилась в 1982 году (НИИ вычислительных комплексов, М.А. Карцев). (8-разрядный процессор, 300 тыс. операций в секунду, оперативная память 64 Кб, постоянная память 16 Кб, внешняя память – накопитель на гибких магнитных дисках (109 Кб) и накопитель на магнитной ленте (бытовой магнитофон с кассетой МК-60)). Но серийный выпуск был организован только в 1985 году. Отметим, что в этом же году в СССР началось инициированное правительством движение по информатизации шк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70px-Motherboard_diagram_ru"/>
          <p:cNvPicPr/>
          <p:nvPr/>
        </p:nvPicPr>
        <p:blipFill>
          <a:blip r:embed="rId1"/>
          <a:stretch/>
        </p:blipFill>
        <p:spPr>
          <a:xfrm>
            <a:off x="1403280" y="17640"/>
            <a:ext cx="64818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newbigplatp"/>
          <p:cNvPicPr/>
          <p:nvPr/>
        </p:nvPicPr>
        <p:blipFill>
          <a:blip r:embed="rId1"/>
          <a:stretch/>
        </p:blipFill>
        <p:spPr>
          <a:xfrm>
            <a:off x="0" y="0"/>
            <a:ext cx="91440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260280"/>
          <a:ext cx="9144000" cy="4572000"/>
        </p:xfrm>
        <a:graphic>
          <a:graphicData uri="http://schemas.openxmlformats.org/drawingml/2006/table">
            <a:tbl>
              <a:tblPr/>
              <a:tblGrid>
                <a:gridCol w="2433600"/>
                <a:gridCol w="2611440"/>
                <a:gridCol w="409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 P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981 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ANT i7024XP (фирма Интант (Томск), ноябрь 2006 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7 МГц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Г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entium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К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диск на 160 К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D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160 Мб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D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1,44 Мб,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 RW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/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” монохромный текстовый мони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”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нитор 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F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атрицей 1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4 пик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ллельный порт для касс. магнитофона, 2” встроенный дина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порто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идеоплата 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256 Мб памятью, встроенный 6-канальный звук, 1 Гбит сетевой адап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 и требования к ОЗУ для работы 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 DOS 1.0 (1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5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проц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7315200" y="0"/>
            <a:ext cx="1828800" cy="1943280"/>
            <a:chOff x="7315200" y="0"/>
            <a:chExt cx="1828800" cy="1943280"/>
          </a:xfrm>
        </p:grpSpPr>
        <p:pic>
          <p:nvPicPr>
            <p:cNvPr id="87" name="Picture 5" descr="Prescott"/>
            <p:cNvPicPr/>
            <p:nvPr/>
          </p:nvPicPr>
          <p:blipFill>
            <a:blip r:embed="rId1"/>
            <a:stretch/>
          </p:blipFill>
          <p:spPr>
            <a:xfrm>
              <a:off x="7315200" y="0"/>
              <a:ext cx="182880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6"/>
            <p:cNvSpPr/>
            <p:nvPr/>
          </p:nvSpPr>
          <p:spPr>
            <a:xfrm>
              <a:off x="7657920" y="1600560"/>
              <a:ext cx="12891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Mangal"/>
                </a:rPr>
                <a:t>Процессо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314"/>
          <p:cNvSpPr/>
          <p:nvPr/>
        </p:nvSpPr>
        <p:spPr>
          <a:xfrm>
            <a:off x="269640" y="-10576800"/>
            <a:ext cx="312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транзисторов в процесс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15"/>
          <p:cNvSpPr/>
          <p:nvPr/>
        </p:nvSpPr>
        <p:spPr>
          <a:xfrm>
            <a:off x="274680" y="-10621800"/>
            <a:ext cx="8594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981000"/>
          <a:ext cx="8229600" cy="5813640"/>
        </p:xfrm>
        <a:graphic>
          <a:graphicData uri="http://schemas.openxmlformats.org/drawingml/2006/table">
            <a:tbl>
              <a:tblPr/>
              <a:tblGrid>
                <a:gridCol w="2892240"/>
                <a:gridCol w="2521080"/>
                <a:gridCol w="2816280"/>
              </a:tblGrid>
              <a:tr h="41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од выпу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л-во транзис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386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486™ 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18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 5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0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8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well, 14н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900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4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по заказу ВМФ США при финансовой и технической поддержке 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уководством Г. Эйкена была создана первая универсальная цифровая вычислительная маши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Mark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достигал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 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лину и более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,5 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ысоту. В качестве переключательных устройств использовались электромеханические реле, данные вводились на перфоленте в десятичной системе счисления. Эта машина могла выполнять сложение и вычитание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зрядных чисел з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0,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, умножать два числа з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спользовалась для расчета траектории полета артиллерийских снаря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635280" y="40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ar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pimage001"/>
          <p:cNvPicPr/>
          <p:nvPr/>
        </p:nvPicPr>
        <p:blipFill>
          <a:blip r:embed="rId1"/>
          <a:stretch/>
        </p:blipFill>
        <p:spPr>
          <a:xfrm>
            <a:off x="1692360" y="2708280"/>
            <a:ext cx="5976720" cy="1434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4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Германии под руководством К. Цузе была создана электромеханическая вычислительная машин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снованная на двоичной системе счисления. Эта машина была значительно меньше машины Эйкена и гораздо дешевле в производстве. Она использовалась для расчетов, связанных с конструированием самолетов и ракет. Но дальнейшее ее развитие (в частности, идеи перевода на вакуумные электронные лампы) не получили поддержки правительства Герм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s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ликобритании в конц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4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вошла в строй вычислительная маш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ss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которой вместо электромеханических реле содержалось около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х ламп. В ее разработке активное участие принял математик А. Тьюринг с его идеями по формализации описания расчетных задач. Но эта машина имела узкоспециализированный характер: была предназначена для дешифровки немецких кодов путем перебора различных вариантов. Скорость обработки достигал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000 символов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ic Numerical Integrator and Compute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й ламповой универсальной цифровой вычислительной машиной считаю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Numerical Integrator and Compu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которая была создана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4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по заказу Министерства обороны США под руководство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. Экер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на содержала более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7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лектронных ламп и работала с десятичной арифметикой. По своим размерам (окол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6 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высоту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6 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длину) машина более чем вдвое превосходи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, но и быстродействие ее было намного больше – д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3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ераций умножения в секунду. На этом компьютере были проведены расчеты, подтверждающие принципиальную возможность создания водородной бом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1973 году Окружной суд США вынес вердикт, в соответствии с которым профессор физики из штата Айова Джон Атанасофф был официально признан изобретателем первого компьютера. Этим самым была поставлена точка в многолетней тяжбе о заимствовании Экертом идей Атанасоффа, который создал первый прототип компьютера, содержащий электронные лам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ic Discrete Variable Automatic Compute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ая модель (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45-195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г.) тех же разработчиков – маши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Discrete Variable Automatic Compu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мела более вместительную внутреннюю память, в которую можно было записывать не только данные, но и программу. Система кодировки была уже двоичной, что позволило значительно сократить количество электронных ла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разработке в качестве консультанта принимал участие талантливый математик Д. фон Нейман. В 1945 году он опубликовал «Предварительный доклад о маш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 в котором описал не только конкретную машину, но и обрисовал формальную, логическую организацию компьютера, выделил и детально обрисовал ключевые компоненты того, что сейчас называют «архитектурой фон Неймана» </a:t>
            </a:r>
            <a:br>
              <a:rPr sz="2000"/>
            </a:b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праведливости ради следует отметить, что первым в мире компьютером с программами, хранимыми в памяти, стал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DSAC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lectronic Delay Storage Automatic Computer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), созданный в 1947 году в Кембриджском университете (Великобритания) группой ученых под руководством Мориса Уил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"/>
          <p:cNvGrpSpPr/>
          <p:nvPr/>
        </p:nvGrpSpPr>
        <p:grpSpPr>
          <a:xfrm>
            <a:off x="1042920" y="981000"/>
            <a:ext cx="6913440" cy="4679640"/>
            <a:chOff x="1042920" y="981000"/>
            <a:chExt cx="6913440" cy="4679640"/>
          </a:xfrm>
        </p:grpSpPr>
        <p:grpSp>
          <p:nvGrpSpPr>
            <p:cNvPr id="53" name="Group 5"/>
            <p:cNvGrpSpPr/>
            <p:nvPr/>
          </p:nvGrpSpPr>
          <p:grpSpPr>
            <a:xfrm>
              <a:off x="1437480" y="981000"/>
              <a:ext cx="6518880" cy="3831120"/>
              <a:chOff x="1437480" y="981000"/>
              <a:chExt cx="6518880" cy="3831120"/>
            </a:xfrm>
          </p:grpSpPr>
          <p:sp>
            <p:nvSpPr>
              <p:cNvPr id="54" name="Text Box 6"/>
              <p:cNvSpPr/>
              <p:nvPr/>
            </p:nvSpPr>
            <p:spPr>
              <a:xfrm>
                <a:off x="1437480" y="3535200"/>
                <a:ext cx="2306160" cy="127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Запоминающе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строй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(память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7"/>
              <p:cNvSpPr/>
              <p:nvPr/>
            </p:nvSpPr>
            <p:spPr>
              <a:xfrm>
                <a:off x="5001840" y="3535200"/>
                <a:ext cx="2306160" cy="127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строй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ввода-выво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8"/>
              <p:cNvSpPr/>
              <p:nvPr/>
            </p:nvSpPr>
            <p:spPr>
              <a:xfrm>
                <a:off x="2066400" y="981000"/>
                <a:ext cx="5031720" cy="178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Процесс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"/>
              <p:cNvSpPr/>
              <p:nvPr/>
            </p:nvSpPr>
            <p:spPr>
              <a:xfrm>
                <a:off x="2275920" y="1747080"/>
                <a:ext cx="2096640" cy="102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строй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правл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4791960" y="1747080"/>
                <a:ext cx="2096640" cy="102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Арифметико-логическо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строй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1"/>
              <p:cNvSpPr/>
              <p:nvPr/>
            </p:nvSpPr>
            <p:spPr>
              <a:xfrm flipV="1">
                <a:off x="2504880" y="2769120"/>
                <a:ext cx="0" cy="76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2"/>
              <p:cNvSpPr/>
              <p:nvPr/>
            </p:nvSpPr>
            <p:spPr>
              <a:xfrm>
                <a:off x="2924280" y="2769120"/>
                <a:ext cx="0" cy="76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3743640" y="3767760"/>
                <a:ext cx="125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 flipH="1">
                <a:off x="3743640" y="4278960"/>
                <a:ext cx="125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5"/>
              <p:cNvSpPr/>
              <p:nvPr/>
            </p:nvSpPr>
            <p:spPr>
              <a:xfrm>
                <a:off x="7308000" y="379080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H="1">
                <a:off x="7098480" y="2257920"/>
                <a:ext cx="41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7"/>
              <p:cNvSpPr/>
              <p:nvPr/>
            </p:nvSpPr>
            <p:spPr>
              <a:xfrm flipV="1">
                <a:off x="7498800" y="2257560"/>
                <a:ext cx="0" cy="153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8"/>
              <p:cNvSpPr/>
              <p:nvPr/>
            </p:nvSpPr>
            <p:spPr>
              <a:xfrm>
                <a:off x="7956360" y="1747080"/>
                <a:ext cx="0" cy="25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9"/>
              <p:cNvSpPr/>
              <p:nvPr/>
            </p:nvSpPr>
            <p:spPr>
              <a:xfrm flipH="1">
                <a:off x="7098120" y="172440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0"/>
              <p:cNvSpPr/>
              <p:nvPr/>
            </p:nvSpPr>
            <p:spPr>
              <a:xfrm flipH="1">
                <a:off x="7307640" y="4301640"/>
                <a:ext cx="62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 Box 21"/>
            <p:cNvSpPr/>
            <p:nvPr/>
          </p:nvSpPr>
          <p:spPr>
            <a:xfrm>
              <a:off x="1042920" y="5022000"/>
              <a:ext cx="6389640" cy="63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Mangal"/>
                </a:rPr>
                <a:t>Архитектура «машины фон Нейман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Э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ой точкой отсчета истории нашей отечественной вычислительной техники счит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4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, когда сотрудники Энергетического института АН СССР Исаак Брук и Башир Рамеев получили авторское свидетельство на изобретение «Автоматическая цифровая вычислительная машина». В том же 1948 году в Институте электротехники АН УССР под руководством академика Сергея Лебедева начались работы над проектом создания МЭСМ – малой электронной счетной маш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с 1948 по 1952 гг. создавались опытные образцы, единичные экземпляры вычислительных машин, которые, также как и в США, использовались одновременно как для проведения особо важных расчетов (зачастую засекреченных), так и для отладки конструкторских и технологи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ЭСМ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С.А. Лебедев стал директором московского Института точной механики и вычислительной техники (ИТМ и ВТ) и возглавил разработку серии знаменитых БЭСМ (больших электронных счетных машин): от БЭСМ-1 до БЭСМ-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ЭСМ-1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) имела 5000 электронных ламп, выполняла 8...10 тыс. операций в секунду. Ее особенностью стало введение операций над числами с плавающей запятой с обеспечением большого диапазона используемых чисел. На БЭСМ-1 были испытаны в реальной эксплуатации три типа оперативной памяти объемом 1024 39-разрядных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 на электроакустических ртутных трубках (линиях задержки); память такого типа использовалась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S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 на электронно-лучевых трубках (потенциалоскопа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 на ферритовых магнитных сердечн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8:24:16Z</dcterms:created>
  <dc:creator>homexp</dc:creator>
  <dc:description/>
  <dc:language>en-US</dc:language>
  <cp:lastModifiedBy>Пользователь Windows</cp:lastModifiedBy>
  <dcterms:modified xsi:type="dcterms:W3CDTF">2017-09-23T16:03:13Z</dcterms:modified>
  <cp:revision>27</cp:revision>
  <dc:subject/>
  <dc:title>Слайд 1</dc:title>
</cp:coreProperties>
</file>