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0F11-FAEB-4CCC-871B-8E69F091C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19C0-3861-4A77-9B13-BF84FDCF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6449-7D04-4C18-99FD-44D6C130F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A311-DCD8-4D59-BD55-CC1D5AF60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20F6-5AB7-421E-A68A-610F51D9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1178-1A8A-4F2F-A0A7-7195D006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C412-42C6-42D8-B75B-29D41650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6FD3-D706-47DC-8B30-A722BA74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D2ED-F567-45C7-8268-1CC4448A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8466-9DEC-4281-AD0C-EE70A692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5B71-C509-4F05-ADD4-0E03D9A7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F845-0968-40E9-9A39-D14A24DA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B208-6B25-4BE7-8C8C-AA1C370F5B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Технические средства ИТ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ЭСМ-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ое место в истории развития отечественной вычислительной техники занимает БЭСМ-6, серийно выпускавшаяся с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96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а в течение 17 лет. В ее архитектуре был реализован принцип распараллеливания вычислительных процессов, и ее производительность – 1 млн. операций в секунду – была рекордной для середины 60-х годов. На БЭСМ-6 появились первые полноценные операционные системы, мощные трансляторы, ценнейшие библиотеки стандартных подпрограмм, реализующих численные методы решения различных задач, всё – отечественного производ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036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концу 60-х годов в нашей стране выпускалось около 20 типов ЭВМ общего назначения – серии БЭСМ (Москва, С.А.Лебедев), Урал (Пенза, Б.И.Рамеев), Днепр, Мир (Киев, В.М.Глушков), Минск (Минск, В. Пржиялковский) и другие, а также специализированные машины преимущественно для оборонного ведомства. Кстати, в отличие от Запада, где «двигателями прогресса» в области вычислительной техники были не только военные, но и представители делового мира, в СССР ими были, в основном, военные. Но постепенно и ученые, и хозяйственники, и чиновники стали осознавать роль вычислительных машин в экономике страны и насущную необходимость в разработке машин нового поколения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ал вопрос о переходе к индустрии ЭВМ. В декабре 1969 году на правительственном уровне было принято решение выбрать в качестве промышленного стандарта для универсальных вычислительных машин единой серии (ЕС ЭВМ) серию маши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360. Первая машина этой серии – ЕС-1020 была выпущена в 1971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одство ЕС ЭВМ было налажено совместно с другими социалистическими странами в рамках СЭВ (Совета по экономической взаимопомощи). Многие ученые выступили против копирования систе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о предложить что-то взамен в качестве единого стандарта не смог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чно, идеальным вариантом была бы реализация архитектурных принцип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сотрудничестве с самой компанией, и не семейства почти пятилетней давности, а самых современных моделей, и в сочетании с всесторонней поддержкой собственных разработок. Но на всё у государства не хватало средств, и пошли по более простому варианту. Так начался закат отечественной индустрии вычислительной техни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0" y="189000"/>
          <a:ext cx="9144000" cy="6248160"/>
        </p:xfrm>
        <a:graphic>
          <a:graphicData uri="http://schemas.openxmlformats.org/drawingml/2006/table">
            <a:tbl>
              <a:tblPr/>
              <a:tblGrid>
                <a:gridCol w="1670040"/>
                <a:gridCol w="1808280"/>
                <a:gridCol w="2016000"/>
                <a:gridCol w="1698480"/>
                <a:gridCol w="1951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о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, г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6 -19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5-19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65-19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0-наст. в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ментная ба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куумные электронные ламп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проводниковые диоды и транзисто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гральные схе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рхбольшие интегральные схе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хитек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хитектура фон Нейма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льтипрограммный режи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кальные сети ЭВМ, вычислительные системы коллективного польз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огопроцессорные системы, персональные компьютеры, глобальные се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стродейств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– 20 тыс. оп/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-500 тыс. оп/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ядка 1 млн. оп/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сятки и сотни млн. оп/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раммное обеспе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шинные язы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ционные системы, трансляторы с алгоритмических языко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ционные системы, диалоговые системы, системы машинной граф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кеты прикладных программ, базы данных и знаний, браузе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шние устрой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ройства ввода с перфолент и перфокарт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ЦПУ, телетайпы, НМЛ, НМ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еотерминалы, НЖМ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ГМД, модемы, сканеры, лазерные принте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0" y="0"/>
          <a:ext cx="9144000" cy="6735600"/>
        </p:xfrm>
        <a:graphic>
          <a:graphicData uri="http://schemas.openxmlformats.org/drawingml/2006/table">
            <a:tbl>
              <a:tblPr/>
              <a:tblGrid>
                <a:gridCol w="1600200"/>
                <a:gridCol w="1878120"/>
                <a:gridCol w="2016000"/>
                <a:gridCol w="1698480"/>
                <a:gridCol w="1951200"/>
              </a:tblGrid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четные зада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женерные, научные, экономические зада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У, САПР, научно-технические зада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 управления, телекоммуникации, создание АРМ, обработка текстов, мультимеди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жим работы ЭВ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опрограмм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кетная обработ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ение време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ьная и сетевая обработ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грация дан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ень высо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оложение пользова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шинный з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ое помещ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минальный з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чий стол и мобильное располож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пользова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женеры–программис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ессиональные программис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раммисты-пользов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ьзователи с общей комп-ой подготов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диало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за пультом ЭВ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мен перфоносителями и машинограмм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активный (через клавиатуру и экран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активный типа «вопрос-ответ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IAC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VAC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США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ЭСМ - 1,2, М-1, М-20 (СССР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BM 701/709 (СШ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ЭСМ-4, , М-220, Минск, БЭСМ-6 (СССР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BM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0/370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DP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1/20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ay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 (США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 1050, 1066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ьбрус 1,2 (СССР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ay T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GI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США)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, серверы, рабочие станции различных производи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сональный компьютер типа IBM PC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им из революционных достижений в области вычислительной техники явилось создание на основе микропроцессоров персональных ЭВМ, которые можно отнести к отдельному классу машин четвертого поколения. Первый персональный компьютер 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ai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8800» (Эдвард Робертс, фирма MITS) на базе микропроцессор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8080 с тактовой частотой 2 Мгц и оперативной памятью 256 байт появился в США в 1975 году. Он продавался за 397 долл. в виде комплекта, из которого любой немного сведущий в электронике мог собрать действующую машину (правда, без дисплея). </a:t>
            </a:r>
            <a:br>
              <a:rPr sz="2400"/>
            </a:b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Два молодых человека – Пол Аллен и Уильям Гейтс сумели извлечь немалую выгоду из выпуска ПК «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ltair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», написав для него конкретную реализацию языка программирования Basic. В этом же 1975 году они организовали свою фирму – «Microsoft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3"/>
          <p:cNvSpPr/>
          <p:nvPr/>
        </p:nvSpPr>
        <p:spPr>
          <a:xfrm>
            <a:off x="179280" y="638640"/>
            <a:ext cx="89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широкую дорогу новой индустрии – промышленному производству персональных компьютеров открыла фирма 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 (Стефен Возняк и Стивен Джобс), наладив производство ПК 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2» в 1977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ая эпоха персональных компьютеров началась с 1981 года. 12 августа 1981 года на рынок ПК вышла корпорац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tional Business Machine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со своей моделью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P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(Отметим, что к этому времени рынок ПК в США составлял более 140 млн. долл.). Самой важной особенностью этого компьютера была так называемая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открытая архитекту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есть возможность сборки ПК из комплектующих от разных производителей, а также возможность доукомплектования ПК в процессе эксплуат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983 г. появилс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 жестким 10 Мб диском, в 1984 г.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базе процессо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80286 (6 МГц), в 1986 г. – ПК на базе 32-х разрядного процессо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8038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стати, первая советская персональная ЭВМ «Агат» появилась в 1982 году (НИИ вычислительных комплексов, М.А. Карцев). (8-разрядный процессор, 300 тыс. операций в секунду, оперативная память 64 Кб, постоянная память 16 Кб, внешняя память – накопитель на гибких магнитных дисках (109 Кб) и накопитель на магнитной ленте (бытовой магнитофон с кассетой МК-60)). Но серийный выпуск был организован только в 1985 году. Отметим, что в этом же году в СССР началось инициированное правительством движение по информатизации шко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370px-Motherboard_diagram_ru"/>
          <p:cNvPicPr/>
          <p:nvPr/>
        </p:nvPicPr>
        <p:blipFill>
          <a:blip r:embed="rId1"/>
          <a:stretch/>
        </p:blipFill>
        <p:spPr>
          <a:xfrm>
            <a:off x="1403280" y="17640"/>
            <a:ext cx="648180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newbigplatp"/>
          <p:cNvPicPr/>
          <p:nvPr/>
        </p:nvPicPr>
        <p:blipFill>
          <a:blip r:embed="rId1"/>
          <a:stretch/>
        </p:blipFill>
        <p:spPr>
          <a:xfrm>
            <a:off x="0" y="0"/>
            <a:ext cx="91440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0" y="260280"/>
          <a:ext cx="9144000" cy="4572000"/>
        </p:xfrm>
        <a:graphic>
          <a:graphicData uri="http://schemas.openxmlformats.org/drawingml/2006/table">
            <a:tbl>
              <a:tblPr/>
              <a:tblGrid>
                <a:gridCol w="2433600"/>
                <a:gridCol w="2611440"/>
                <a:gridCol w="40989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парамет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BM PC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1981 г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ANT i7024XP (фирма Интант (Томск), ноябрь 2006 г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0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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7 МГц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Гц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entium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 К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копи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бкий диск на 160 К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D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на 160 Мб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D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на 1,44 Мб,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VD RW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/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 R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5” монохромный текстовый мони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”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C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онитор с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FT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матрицей 128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4 пик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свой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аллельный порт для касс. магнитофона, 2” встроенный динам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портов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B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видеоплата с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V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 256 Мб памятью, встроенный 6-канальный звук, 1 Гбит сетевой адапт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 и требования к ОЗУ для работы 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S DOS 1.0 (16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б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ndows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256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процесс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7315200" y="0"/>
            <a:ext cx="1828800" cy="1943280"/>
            <a:chOff x="7315200" y="0"/>
            <a:chExt cx="1828800" cy="1943280"/>
          </a:xfrm>
        </p:grpSpPr>
        <p:pic>
          <p:nvPicPr>
            <p:cNvPr id="87" name="Picture 5" descr="Prescott"/>
            <p:cNvPicPr/>
            <p:nvPr/>
          </p:nvPicPr>
          <p:blipFill>
            <a:blip r:embed="rId1"/>
            <a:stretch/>
          </p:blipFill>
          <p:spPr>
            <a:xfrm>
              <a:off x="7315200" y="0"/>
              <a:ext cx="1828800" cy="15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6"/>
            <p:cNvSpPr/>
            <p:nvPr/>
          </p:nvSpPr>
          <p:spPr>
            <a:xfrm>
              <a:off x="7657920" y="1600560"/>
              <a:ext cx="128916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Mangal"/>
                </a:rPr>
                <a:t>Процессор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314"/>
          <p:cNvSpPr/>
          <p:nvPr/>
        </p:nvSpPr>
        <p:spPr>
          <a:xfrm>
            <a:off x="269640" y="-10576800"/>
            <a:ext cx="3129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оличество транзисторов в процессора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15"/>
          <p:cNvSpPr/>
          <p:nvPr/>
        </p:nvSpPr>
        <p:spPr>
          <a:xfrm>
            <a:off x="274680" y="-10621800"/>
            <a:ext cx="859464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68360" y="981000"/>
          <a:ext cx="8229600" cy="5813640"/>
        </p:xfrm>
        <a:graphic>
          <a:graphicData uri="http://schemas.openxmlformats.org/drawingml/2006/table">
            <a:tbl>
              <a:tblPr/>
              <a:tblGrid>
                <a:gridCol w="2892240"/>
                <a:gridCol w="2521080"/>
                <a:gridCol w="2816280"/>
              </a:tblGrid>
              <a:tr h="41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оцесс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Год выпус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ол-во транзисто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оцессор 386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5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оцессор 486™ D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18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оцессор Pentium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оцессор Pentium 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 5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оцессор Pentium 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 0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оцессор Pentium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2 0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оцессор Pentium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0 0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оцессор Pentium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0 0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оцессор Pentium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0 0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оцессор Pentium 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X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8 0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adwell, 14н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900 0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94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у по заказу ВМФ США при финансовой и технической поддержке фирм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д руководством Г. Эйкена была создана первая универсальная цифровая вычислительная машина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Mark 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а достигала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7 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длину и более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2,5 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высоту. В качестве переключательных устройств использовались электромеханические реле, данные вводились на перфоленте в десятичной системе счисления. Эта машина могла выполнять сложение и вычитание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2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разрядных чисел за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0,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, умножать два числа за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3 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использовалась для расчета траектории полета артиллерийских снаря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3635280" y="40464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Mark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opimage001"/>
          <p:cNvPicPr/>
          <p:nvPr/>
        </p:nvPicPr>
        <p:blipFill>
          <a:blip r:embed="rId1"/>
          <a:stretch/>
        </p:blipFill>
        <p:spPr>
          <a:xfrm>
            <a:off x="1692360" y="2708280"/>
            <a:ext cx="5976720" cy="14349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еративная памя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94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Германии под руководством К. Цузе была создана электромеханическая вычислительная машина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-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основанная на двоичной системе счисления. Эта машина была значительно меньше машины Эйкена и гораздо дешевле в производстве. Она использовалась для расчетов, связанных с конструированием самолетов и ракет. Но дальнейшее ее развитие (в частности, идеи перевода на вакуумные электронные лампы) не получили поддержки правительства Герма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s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еликобритании в конце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94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а вошла в строй вычислительная маши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ssu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 которой вместо электромеханических реле содержалось около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20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лектронных ламп. В ее разработке активное участие принял математик А. Тьюринг с его идеями по формализации описания расчетных задач. Но эта машина имела узкоспециализированный характер: была предназначена для дешифровки немецких кодов путем перебора различных вариантов. Скорость обработки достигала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5000 символов в секун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IAC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ectronic Numerical Integrator and Computer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8567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й ламповой универсальной цифровой вычислительной машиной считаю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IA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ic Numerical Integrator and Compute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которая была создана в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194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ду по заказу Министерства обороны США под руководством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. Экер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Она содержала более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1700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лектронных ламп и работала с десятичной арифметикой. По своим размерам (около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6 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высоту и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26 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длину) машина более чем вдвое превосходил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1, но и быстродействие ее было намного больше – до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30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пераций умножения в секунду. На этом компьютере были проведены расчеты, подтверждающие принципиальную возможность создания водородной бомб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 1973 году Окружной суд США вынес вердикт, в соответствии с которым профессор физики из штата Айова Джон Атанасофф был официально признан изобретателем первого компьютера. Этим самым была поставлена точка в многолетней тяжбе о заимствовании Экертом идей Атанасоффа, который создал первый прототип компьютера, содержащий электронные ламп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DVAC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ectronic Discrete Variable Automatic Computer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дующая модель (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1945-1951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г.) тех же разработчиков – маши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VA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ic Discrete Variable Automatic Compute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имела более вместительную внутреннюю память, в которую можно было записывать не только данные, но и программу. Система кодировки была уже двоичной, что позволило значительно сократить количество электронных лам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этой разработке в качестве консультанта принимал участие талантливый математик Д. фон Нейман. В 1945 году он опубликовал «Предварительный доклад о маши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VA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, в котором описал не только конкретную машину, но и обрисовал формальную, логическую организацию компьютера, выделил и детально обрисовал ключевые компоненты того, что сейчас называют «архитектурой фон Неймана» </a:t>
            </a:r>
            <a:br>
              <a:rPr sz="2000"/>
            </a:b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[1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Справедливости ради следует отметить, что первым в мире компьютером с программами, хранимыми в памяти, стал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EDSAC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Electronic Delay Storage Automatic Computer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), созданный в 1947 году в Кембриджском университете (Великобритания) группой ученых под руководством Мориса Уилк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4"/>
          <p:cNvGrpSpPr/>
          <p:nvPr/>
        </p:nvGrpSpPr>
        <p:grpSpPr>
          <a:xfrm>
            <a:off x="1042920" y="981000"/>
            <a:ext cx="6913440" cy="4679640"/>
            <a:chOff x="1042920" y="981000"/>
            <a:chExt cx="6913440" cy="4679640"/>
          </a:xfrm>
        </p:grpSpPr>
        <p:grpSp>
          <p:nvGrpSpPr>
            <p:cNvPr id="53" name="Group 5"/>
            <p:cNvGrpSpPr/>
            <p:nvPr/>
          </p:nvGrpSpPr>
          <p:grpSpPr>
            <a:xfrm>
              <a:off x="1437480" y="981000"/>
              <a:ext cx="6518880" cy="3831120"/>
              <a:chOff x="1437480" y="981000"/>
              <a:chExt cx="6518880" cy="3831120"/>
            </a:xfrm>
          </p:grpSpPr>
          <p:sp>
            <p:nvSpPr>
              <p:cNvPr id="54" name="Text Box 6"/>
              <p:cNvSpPr/>
              <p:nvPr/>
            </p:nvSpPr>
            <p:spPr>
              <a:xfrm>
                <a:off x="1437480" y="3535200"/>
                <a:ext cx="2306160" cy="1276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  <a:ea typeface="Mangal"/>
                  </a:rPr>
                  <a:t>Запоминающее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  <a:ea typeface="Mangal"/>
                  </a:rPr>
                  <a:t>устройств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  <a:ea typeface="Mangal"/>
                  </a:rPr>
                  <a:t>(память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Text Box 7"/>
              <p:cNvSpPr/>
              <p:nvPr/>
            </p:nvSpPr>
            <p:spPr>
              <a:xfrm>
                <a:off x="5001840" y="3535200"/>
                <a:ext cx="2306160" cy="1276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  <a:ea typeface="Mangal"/>
                  </a:rPr>
                  <a:t>Устройств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  <a:ea typeface="Mangal"/>
                  </a:rPr>
                  <a:t>ввода-вывод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Text Box 8"/>
              <p:cNvSpPr/>
              <p:nvPr/>
            </p:nvSpPr>
            <p:spPr>
              <a:xfrm>
                <a:off x="2066400" y="981000"/>
                <a:ext cx="5031720" cy="1788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  <a:ea typeface="Mangal"/>
                  </a:rPr>
                  <a:t>Процессо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Text Box 9"/>
              <p:cNvSpPr/>
              <p:nvPr/>
            </p:nvSpPr>
            <p:spPr>
              <a:xfrm>
                <a:off x="2275920" y="1747080"/>
                <a:ext cx="2096640" cy="1021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  <a:ea typeface="Mangal"/>
                  </a:rPr>
                  <a:t>Устройств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  <a:ea typeface="Mangal"/>
                  </a:rPr>
                  <a:t>управлен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Text Box 10"/>
              <p:cNvSpPr/>
              <p:nvPr/>
            </p:nvSpPr>
            <p:spPr>
              <a:xfrm>
                <a:off x="4791960" y="1747080"/>
                <a:ext cx="2096640" cy="1021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  <a:ea typeface="Mangal"/>
                  </a:rPr>
                  <a:t>Арифметико-логическо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  <a:ea typeface="Mangal"/>
                  </a:rPr>
                  <a:t>устройств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11"/>
              <p:cNvSpPr/>
              <p:nvPr/>
            </p:nvSpPr>
            <p:spPr>
              <a:xfrm flipV="1">
                <a:off x="2504880" y="2769120"/>
                <a:ext cx="0" cy="76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12"/>
              <p:cNvSpPr/>
              <p:nvPr/>
            </p:nvSpPr>
            <p:spPr>
              <a:xfrm>
                <a:off x="2924280" y="2769120"/>
                <a:ext cx="0" cy="76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13"/>
              <p:cNvSpPr/>
              <p:nvPr/>
            </p:nvSpPr>
            <p:spPr>
              <a:xfrm>
                <a:off x="3743640" y="3767760"/>
                <a:ext cx="125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14"/>
              <p:cNvSpPr/>
              <p:nvPr/>
            </p:nvSpPr>
            <p:spPr>
              <a:xfrm flipH="1">
                <a:off x="3743640" y="4278960"/>
                <a:ext cx="125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15"/>
              <p:cNvSpPr/>
              <p:nvPr/>
            </p:nvSpPr>
            <p:spPr>
              <a:xfrm>
                <a:off x="7308000" y="3790800"/>
                <a:ext cx="209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16"/>
              <p:cNvSpPr/>
              <p:nvPr/>
            </p:nvSpPr>
            <p:spPr>
              <a:xfrm flipH="1">
                <a:off x="7098480" y="2257920"/>
                <a:ext cx="419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17"/>
              <p:cNvSpPr/>
              <p:nvPr/>
            </p:nvSpPr>
            <p:spPr>
              <a:xfrm flipV="1">
                <a:off x="7498800" y="2257560"/>
                <a:ext cx="0" cy="153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18"/>
              <p:cNvSpPr/>
              <p:nvPr/>
            </p:nvSpPr>
            <p:spPr>
              <a:xfrm>
                <a:off x="7956360" y="1747080"/>
                <a:ext cx="0" cy="255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19"/>
              <p:cNvSpPr/>
              <p:nvPr/>
            </p:nvSpPr>
            <p:spPr>
              <a:xfrm flipH="1">
                <a:off x="7098120" y="1724400"/>
                <a:ext cx="83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Line 20"/>
              <p:cNvSpPr/>
              <p:nvPr/>
            </p:nvSpPr>
            <p:spPr>
              <a:xfrm flipH="1">
                <a:off x="7307640" y="4301640"/>
                <a:ext cx="62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Text Box 21"/>
            <p:cNvSpPr/>
            <p:nvPr/>
          </p:nvSpPr>
          <p:spPr>
            <a:xfrm>
              <a:off x="1042920" y="5022000"/>
              <a:ext cx="6389640" cy="63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Mangal"/>
                </a:rPr>
                <a:t>Архитектура «машины фон Неймана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ЭС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ходной точкой отсчета истории нашей отечественной вычислительной техники считается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94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, когда сотрудники Энергетического института АН СССР Исаак Брук и Башир Рамеев получили авторское свидетельство на изобретение «Автоматическая цифровая вычислительная машина». В том же 1948 году в Институте электротехники АН УССР под руководством академика Сергея Лебедева начались работы над проектом создания МЭСМ – малой электронной счетной маши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ериод с 1948 по 1952 гг. создавались опытные образцы, единичные экземпляры вычислительных машин, которые, также как и в США, использовались одновременно как для проведения особо важных расчетов (зачастую засекреченных), так и для отладки конструкторских и технологических ре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ЭСМ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95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у С.А. Лебедев стал директором московского Института точной механики и вычислительной техники (ИТМ и ВТ) и возглавил разработку серии знаменитых БЭСМ (больших электронных счетных машин): от БЭСМ-1 до БЭСМ-6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ЭСМ-1 (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95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.) имела 5000 электронных ламп, выполняла 8...10 тыс. операций в секунду. Ее особенностью стало введение операций над числами с плавающей запятой с обеспечением большого диапазона используемых чисел. На БЭСМ-1 были испытаны в реальной эксплуатации три типа оперативной памяти объемом 1024 39-разрядных сло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 на электроакустических ртутных трубках (линиях задержки); память такого типа использовалась 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SA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VA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 на электронно-лучевых трубках (потенциалоскопах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 на ферритовых магнитных сердечни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08:24:16Z</dcterms:created>
  <dc:creator>homexp</dc:creator>
  <dc:description/>
  <dc:language>en-US</dc:language>
  <cp:lastModifiedBy>Пользователь Windows</cp:lastModifiedBy>
  <dcterms:modified xsi:type="dcterms:W3CDTF">2017-09-23T16:03:13Z</dcterms:modified>
  <cp:revision>27</cp:revision>
  <dc:subject/>
  <dc:title>Слайд 1</dc:title>
</cp:coreProperties>
</file>