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3D1-BA3D-4FC2-B18E-8A3E178C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DC9-5406-44A6-AD51-A4FDA0E0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7B7-EFB9-472E-86FC-C5A8D508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B22-E3FF-4D8A-8FC9-AEA18143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D6CA-10C2-4DAF-9911-0EDDB1C7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0F51-7971-416A-8C19-CAE65E4F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DD57-648C-44FA-A2F5-93C9E9D2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57A3-5D0D-4542-81BA-56E5CC60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2501-CC77-431D-BEE6-6EFC7ADB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2CBC-EA9A-4CC1-8C03-891975CE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98B9-0526-45EA-BE7B-54DD57AC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2FD-E12F-47F7-A993-2695F93C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F033-2193-41D0-B1F0-403BF09E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17A5-1CCB-4A26-A34B-92A0DBEC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1E62-C443-454B-A77D-4A7A18BC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F137-71C5-4778-861A-E5D84759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B76E-7305-4317-8FDC-7D67E210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F61-3898-44B7-9407-80C6360B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2D2-C081-47EC-8B65-05852FAF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B2D-15AE-4A1E-A18E-F5FF87F5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F95-F0DC-413E-8FBA-093D2525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90C-8881-464F-A3C7-2A6B0F26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195-18BE-4671-9511-F418EB13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B2D-7560-4912-82F0-E5424427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000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c0c0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c0c0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3F5C-7630-4485-A48A-4383C5BB2686}" type="slidenum">
              <a:rPr b="0" lang="ru-RU" sz="1200" spc="-1" strike="noStrike">
                <a:solidFill>
                  <a:srgbClr val="f3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000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c0c0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c0c0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0c0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E07A-93D0-4A6C-8115-B73D93F1E446}" type="slidenum">
              <a:rPr b="0" lang="ru-RU" sz="1200" spc="-1" strike="noStrike">
                <a:solidFill>
                  <a:srgbClr val="f3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5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281160" y="682560"/>
            <a:ext cx="716724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429264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c0c"/>
                </a:solidFill>
                <a:latin typeface="Constantia"/>
              </a:rPr>
              <a:t>Выполнил: воспитанник КГКУ Детский дом № 8  </a:t>
            </a:r>
            <a:endParaRPr b="0" lang="en-US" sz="2000" spc="-1" strike="noStrike">
              <a:solidFill>
                <a:srgbClr val="0c0c0c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c0c"/>
                </a:solidFill>
                <a:latin typeface="Constantia"/>
              </a:rPr>
              <a:t>г.Комсомольск-на-Амуре</a:t>
            </a:r>
            <a:endParaRPr b="0" lang="en-US" sz="2000" spc="-1" strike="noStrike">
              <a:solidFill>
                <a:srgbClr val="0c0c0c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c0c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c0c0c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c0c0c"/>
                </a:solidFill>
                <a:latin typeface="Constantia"/>
              </a:rPr>
              <a:t>Альпин Леонид 15лет</a:t>
            </a:r>
            <a:br>
              <a:rPr sz="2000"/>
            </a:br>
            <a:r>
              <a:rPr b="0" lang="ru-RU" sz="2000" spc="-1" strike="noStrike">
                <a:solidFill>
                  <a:srgbClr val="0c0c0c"/>
                </a:solidFill>
                <a:latin typeface="Constantia"/>
              </a:rPr>
              <a:t>Руководитель : педагог дополнительного образования</a:t>
            </a:r>
            <a:endParaRPr b="0" lang="en-US" sz="2000" spc="-1" strike="noStrike">
              <a:solidFill>
                <a:srgbClr val="0c0c0c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c0c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c0c0c"/>
                </a:solidFill>
                <a:latin typeface="Constantia"/>
              </a:rPr>
              <a:t>Бухарова Анна Геннадьевна</a:t>
            </a:r>
            <a:endParaRPr b="0" lang="en-US" sz="2000" spc="-1" strike="noStrike">
              <a:solidFill>
                <a:srgbClr val="0c0c0c"/>
              </a:solidFill>
              <a:latin typeface="Constantia"/>
            </a:endParaRPr>
          </a:p>
        </p:txBody>
      </p:sp>
    </p:spTree>
  </p:cSld>
  <p:transition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 за внимание </a:t>
            </a: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</p:spTree>
  </p:cSld>
  <p:transition advTm="5000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9" name="Содержимое 3" descr="9.jpg"/>
          <p:cNvPicPr/>
          <p:nvPr/>
        </p:nvPicPr>
        <p:blipFill>
          <a:blip r:embed="rId1"/>
          <a:stretch/>
        </p:blipFill>
        <p:spPr>
          <a:xfrm>
            <a:off x="3857760" y="3327480"/>
            <a:ext cx="5286240" cy="35305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10.jpg"/>
          <p:cNvPicPr/>
          <p:nvPr/>
        </p:nvPicPr>
        <p:blipFill>
          <a:blip r:embed="rId2"/>
          <a:stretch/>
        </p:blipFill>
        <p:spPr>
          <a:xfrm>
            <a:off x="5292720" y="333360"/>
            <a:ext cx="314316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8.png"/>
          <p:cNvPicPr/>
          <p:nvPr/>
        </p:nvPicPr>
        <p:blipFill>
          <a:blip r:embed="rId3"/>
          <a:stretch/>
        </p:blipFill>
        <p:spPr>
          <a:xfrm>
            <a:off x="1116000" y="0"/>
            <a:ext cx="3384720" cy="3284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12.jpg"/>
          <p:cNvPicPr/>
          <p:nvPr/>
        </p:nvPicPr>
        <p:blipFill>
          <a:blip r:embed="rId4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04" name="Содержимое 3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split dir="in" orient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06" name="Рисунок 4" descr="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0c0c"/>
              </a:solidFill>
              <a:latin typeface="Constantia"/>
            </a:endParaRPr>
          </a:p>
        </p:txBody>
      </p:sp>
    </p:spTree>
  </p:cSld>
  <p:transition advTm="15000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09" name="Содержимое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strips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1" name="Содержимое 3" descr="3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4.jpg"/>
          <p:cNvPicPr/>
          <p:nvPr/>
        </p:nvPicPr>
        <p:blipFill>
          <a:blip r:embed="rId2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4" name="Содержимое 3" descr="5.jpg"/>
          <p:cNvPicPr/>
          <p:nvPr/>
        </p:nvPicPr>
        <p:blipFill>
          <a:blip r:embed="rId1"/>
          <a:stretch/>
        </p:blipFill>
        <p:spPr>
          <a:xfrm>
            <a:off x="17640" y="14292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6" name="Содержимое 3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pull dir="r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56880" y="7045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Берегите тигров</a:t>
            </a:r>
            <a:endParaRPr b="0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8" name="Содержимое 3" descr="11.jpg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857840"/>
          </a:xfrm>
          <a:prstGeom prst="rect">
            <a:avLst/>
          </a:prstGeom>
          <a:ln w="0">
            <a:noFill/>
          </a:ln>
        </p:spPr>
      </p:pic>
    </p:spTree>
  </p:cSld>
  <p:transition advTm="8000">
    <p:plus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ет</cp:lastModifiedBy>
  <dcterms:modified xsi:type="dcterms:W3CDTF">2017-09-23T08:55:10Z</dcterms:modified>
  <cp:revision>14</cp:revision>
  <dc:subject/>
  <dc:title>Слайд 1</dc:title>
</cp:coreProperties>
</file>