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2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6E05-897B-435A-B984-0B7FF686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C9A-2D94-4182-B875-0827CB6B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0FE0-0248-42EF-BD6C-B2CEE14C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E274-CDDE-4299-8EFA-2832D7ED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4BEE-5A20-4FFA-9621-AB49B470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6AF3-7152-4C80-A6CB-948C4F71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D532-2B5E-4C85-A812-9C89B436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7168-EC4E-4AF6-A703-EAE5EF79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9968-B756-4EBF-9F70-95C80296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193E-6E5F-49D0-9ACA-5BE62EEA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4CD0-D0C0-4040-B368-CB3E404B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E13-FC40-4165-BEDD-48DE2F9F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893B-3BC6-4BE5-9441-7841D237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1DF4-3991-4760-B22A-8CA331E0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0785-BFE4-40DD-BA68-D9340814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61A1-3126-4395-BAE8-259B70F2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AD31-92C2-4EE4-B567-603E6945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260E-0BDF-4F42-B369-D7C5B441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53B6D-5798-4048-B813-948847B7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36E9E-4859-4F27-9D71-C8CD4801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C1355-9BA9-45D4-B766-B9C5F006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E020-101A-44AB-9A90-F17E19C5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55A42-A180-4828-A716-D28B5A7F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68EBB-158E-43E2-8937-810F92BB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3F8BB-B060-410F-B2E0-72B56E7D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1AEB0-A561-4A58-9FD0-6F98D1CF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D6788-4247-40BC-87F5-80147AF8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37960-D69B-403B-9EAF-3F94B8CF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F1421-F1DA-4EC9-B6AF-FC9AE5D9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A9160-3688-446E-A67E-FE80FB8F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13FF5-23BB-42BA-A21C-9F57BFA3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E6DCC-43BD-4B5D-99B5-B845B68D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277-BFDB-4645-8418-364A049A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52F7A-6A60-48D8-8ED2-DF46B36E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9DDD2-5DAB-447D-B278-D31CD317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09068-87A1-4561-8C05-D1601035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3397D-5E13-4014-A086-8091CC95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80C2B-5B2C-4D1A-8E23-6CAD2A1E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3FC6E-8AE1-41CD-877A-00EF989F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F4A5B-CE02-4C61-8524-C6B48EB1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C2889-D972-43F6-AAB9-A45A426A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6F6F5-16A0-4858-8311-5224AEC0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DD94E-36C3-44AF-ADFF-6613479D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A18-631E-47C7-85F7-50B95720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ACE53-D965-4BC1-8851-0C002711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ECFFA-C8C7-4B8E-AC81-4CBED9C6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926D3-5318-4E39-A329-EFFD4507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FE255-1218-4C36-8A65-3FBB0322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E5CC2-6E14-4EA6-AEE6-29849199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72366-9887-45EF-A5F9-6D2C39D4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3906A-5742-41E7-8F35-E427726E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07A0D-CE4E-4D91-A8D9-F0F80DCF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3F3FF-EEF6-47A9-A1B8-130EC8B0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16E1D-DD68-4F7B-BFDF-BAD29D81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EA0-AA5D-4E6F-B630-1D9290D9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87373-06AE-4C7D-A81A-80BA564C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C963B-E348-4CE0-A1F1-FFA7FD30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ED0F8-2F0F-40E7-A409-355C28D1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01C4A-9B4E-4AEB-B59E-48F5458A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79089-15BC-44F4-AAD4-028A5C67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51673-4913-4D41-A891-85EE4AB8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CB266-1160-4572-BC7B-95B204E9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C954E-641B-4547-A527-A5024AE2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9AECB-DD9E-4258-AD04-5389DAC5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82B59-989A-43E4-BB93-F9F331B9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903-AA1E-41A9-8A26-89425C31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FAFCF-11FE-4983-8CC3-29B974BA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4C9DB-4CD0-4B4A-8B0B-3B228B1D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A8D43-B572-440A-BD8A-413A63CD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495B0-2B26-4E77-A923-538AB337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EFFC5-351A-47BB-87BC-8A532F33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B17E1-7BD4-471C-B345-DC7DCD39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0A1DA-BF98-4FCE-9B4D-C4A47F0E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9C42A-65B0-4CCD-92C2-39D2F1AF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642A7-46A6-4198-9D98-9EE2D40D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241C1-21E1-4FDC-B6EC-948D0095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CCB-E645-4BFD-B22D-99C9E224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C867B-B6CB-4539-9600-B686E6EC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A714F-5B0D-445D-8297-EDBB0F7A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D0906-C033-48A3-95AA-33E607F1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7170D-F1EF-42A5-BFE5-EECD06BE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ECD75-92E9-416C-8C04-17768D43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4EA87-4949-42F4-ADC6-89D0BA83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5E570-73A8-467C-B3AE-F32A28D8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373D-1A38-464B-9078-544F55A3BD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0457-B446-412F-AA06-4231D336CF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C3B8-07CE-4C76-8583-12F3C200093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177C-DDFB-45B1-81A6-746D519693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3E02-0C62-4743-9DC4-B3D4E8E7723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9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6A7C-822B-4B3F-AB3F-9BFDCD4DECE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7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DA56-C333-49CC-8340-2149BA018D1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5" descr="D:\10536 Quit Smoking CDRom\Cover Cigaret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8" name="WordArt 6"/>
          <p:cNvSpPr txBox="1"/>
          <p:nvPr/>
        </p:nvSpPr>
        <p:spPr>
          <a:xfrm>
            <a:off x="250920" y="189000"/>
            <a:ext cx="6192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 сигаретой твоя жизнь под угроз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663480" y="585720"/>
            <a:ext cx="7796160" cy="4282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Сигарета – это бикфордов шнур, на одном конце которого огонь, на другом - дурак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Бернард Шоу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ичины курения среди подростк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ЛЮБОПЫТСТВО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"было прикольно после затяжки пустить табачный дым"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ЗА КОМПАНИЮ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"боялся стать белой вороной"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ЖЕЛАНИЕ ПОЧУВСТВОВАТЬ СЕБЯ "КРУТЫМ"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"хотел походить на взрослых и завоевать авторитет у младших школьников"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НАЛИЧИЕ АКТУАЛ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Ь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НОЙ ПРОБЛ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Е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МЫ: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"ПОКУ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РИШЬ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-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СРАЗУ У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П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ОКАИВАЕШ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Ь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СЯ"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ПРОТЕСТНАЯ РЕ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КЦИ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- "сделал это назло родителям после ссоры"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115640" y="549360"/>
            <a:ext cx="8317080" cy="60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еточка жизни, плод приносящ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ждая женщина, грудью кормящая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ждая мама, пример подающа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принесешь ты, женщина пьющая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т где начало первых страданий, 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результаты случайных свиданий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ти – уроды, аборты, сироты, 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т где трагедии первые но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147636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тановись и послушай совет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пожалеешь ты долгие Ле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у подружек незрелых учись, 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 пожилых, тех, кто прожили жизн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олько под старость видны все пробелы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жита жизнь, волосы бел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ладки морщинок от боли и слез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ти и внуки – букетиком роз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914400" y="1859040"/>
            <a:ext cx="82296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еточка жизни, плод приносящая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принесешь ты, дымом дымящая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оть молода ты пока и цветущая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принесешь ты, девушка пьющая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900000" y="946080"/>
            <a:ext cx="7848720" cy="344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Мне бесконечно  жаль людей, чьи жизни истлели на кончике сигареты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кадемик Угл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b7e7ff"/>
                </a:solidFill>
                <a:uFillTx/>
                <a:latin typeface="Arial"/>
              </a:rPr>
              <a:t>Программа КАК БРОСИТЬ КУРИТЬ?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ите сначала, когда и при каких обстоятельствах и сколько вы курите. Просто ведите записи, примерно за месяц картина станет ясной. Проведя эту работу, вы выполните разведку в стане врага и ответите на вопрос: «Какие ситуации, обстоятельства усиливают импульс к курению, какие образы способствуют началу курения?» Чтобы правильно ответить на этот вопрос, надо наблюдать не только внешние, но и внутренние обстоятельства, в частности узнать, с какими переживаниями, желаниями связан импульс к кур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роизведите в сознании обстоятельства, в которых вы приучали себя к курению. Какого рода удовольствие вы при этом получали? Гордились взрослостью? Может быть, вас приняли в свою компанию курильщики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сно представьте то удовлетворение, которое вы получаете в результате выкуренной сигареты. Подумайте, на что оно похоже: на удовольствие от общения, от манипуляции сигаретой, от восприятия запаха дыма, может быть особо приятно снятие напряжения и т. д.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81342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йте количественную характеристику вашей потребности. Для этого можно построить график числа выкуриваемых сигарет в течение недели, для того чтобы проделать эту работу не требуется особая сила воли. Почти любой может составить такого рода карт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наблюдайте, как работает механизм рационализации, с помощью  которого твое Я оправдывает курение, твою неспособность  бросить курить. Формируйте отрицательное отношение к процессу курения. Попробуйте не курить примерно сутки специально, чтобы проследить, как вы будете реагировать на это. Представьте сколько смол и копоти вынуждены усваивать ваши легкие, которые предназначены для поглощения кислор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ервая ата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пределить процесс курения от связанных с ним дел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ычно курение вовлечено в процесс общения, доставляющий радость. Обычный курильщик не в состоянии отделить удовольствие от воздействия табачного дыма от эксплуатируемых им удовольствий: общения, принятия пищи и других действий, в которые включено курение. Надо перестать курить с приятными вам людьми, с товарищами. Если очень захотелось курить, уединитесь. Через некоторое время вы почувствуете, что позыв к курению ослабевает, так как в нем нет той силы удовольствия и приятных пережив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торая ата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ы должны заменить сопутствующие курению действия другими, нейтральными. Если вы привыкли держать во рту сигарету, замените эти манипуляции чем-то другим, например зубочисткой или мятной конфетой. Хорошо пользоваться жевательной резинкой, которую следуют сосредоточенно пожевать перед и после ку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ень сильным средством замены импульса к курению является дыхание, которое йоги называют «ситали». Сложите трубочкой язык, и через это отверстие втягивайте в себя воздух. Движение воздуха возбуждает нервные окончания, возникающие при курении. Дальнейшее дыхание состоит в том, чтобы втягиваемый воздух направлять к корню языка и небу, что охлаждает их и устраняет позыв к курению именно в данный момен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ретья атак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Уменьшение импульса к курен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Четвертая атака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лное воздержание от курения в течение суток или дву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этом случае через 12 часов вы почувствуете, что у вас улучшился аппетит, компенсируйте наслаждением от пищи и сладостями неприятные ощущения, у вас обостриться обоняние. Ваши зубы будут белее. Голова работает лучше. Если вы накопили 2 суток воздержания, то подумайте трудно ли вам будет воздерживаться дал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z0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3"/>
          <p:cNvSpPr/>
          <p:nvPr/>
        </p:nvSpPr>
        <p:spPr>
          <a:xfrm>
            <a:off x="2362320" y="533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843280" y="260280"/>
            <a:ext cx="5979960" cy="61250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так, всякого, кто слушает слова Мои сии    и исполняет их, уподоблю мужу благоразумному, который построил дом свой на камне; и пошел дождь, и разлились реки, и подули ветры, и устремились на дом тот,  и он не упал, потому что основан был на кам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3"/>
          <p:cNvSpPr/>
          <p:nvPr/>
        </p:nvSpPr>
        <p:spPr>
          <a:xfrm>
            <a:off x="2984400" y="333360"/>
            <a:ext cx="5980320" cy="61938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всякий, кто слушает сии слова Мои и не исполняет их, уподобится человеку безрассудному, который построил дом свой на песке; и пошел дождь, и разлились реки, и подули ветры, и налегли на дом тот; и он упал, и было падение его великое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От Матфея 7:22-27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4495680" y="533520"/>
            <a:ext cx="41086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личество смол попадающее в лег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7164360" y="2994120"/>
            <a:ext cx="190512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Optima Cyr"/>
              </a:rPr>
              <a:t>Почерневшие от смол легкие, пораженные раком (бело-розовая область).  Раковая опухоль перекрывает просвет трахеи, проводящей воздух в лег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6"/>
          <p:cNvPicPr/>
          <p:nvPr/>
        </p:nvPicPr>
        <p:blipFill>
          <a:blip r:embed="rId1"/>
          <a:stretch/>
        </p:blipFill>
        <p:spPr>
          <a:xfrm>
            <a:off x="117360" y="111240"/>
            <a:ext cx="4023000" cy="5333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32" name="Picture 5" descr="7"/>
          <p:cNvPicPr/>
          <p:nvPr/>
        </p:nvPicPr>
        <p:blipFill>
          <a:blip r:embed="rId2"/>
          <a:stretch/>
        </p:blipFill>
        <p:spPr>
          <a:xfrm>
            <a:off x="3203640" y="2421000"/>
            <a:ext cx="3601800" cy="408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buerger's disea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380880" y="380880"/>
            <a:ext cx="40467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00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олезнь Бюрг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Hmttr-#53-Raynaud's disea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05:34:17Z</dcterms:created>
  <dc:creator>Alexander Kuznetsov</dc:creator>
  <dc:description/>
  <dc:language>en-US</dc:language>
  <cp:lastModifiedBy>Светлана</cp:lastModifiedBy>
  <dcterms:modified xsi:type="dcterms:W3CDTF">2017-09-23T19:47:15Z</dcterms:modified>
  <cp:revision>38</cp:revision>
  <dc:subject/>
  <dc:title>Слайд 1</dc:title>
</cp:coreProperties>
</file>