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695-598A-4835-ACE9-D25F6166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936-63C9-47E4-B4C2-B68D19AD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518-390C-4CF1-BF7F-D536068D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63F-E8DA-4974-A3C2-FBA92461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0EE3-EC16-42D5-9E90-7642CCE1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E576-AD91-4B9C-B1B2-DBF9A7F8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BE43-DE87-434E-866B-34E5CE45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5DBD-4062-4355-9DA5-5F4E7D52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6AE0-02F3-4F05-A235-07607336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03F7-5E8B-4F2E-A93E-8CCA0FCD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7875-745D-4CEB-AF50-B159DA66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E9C-2880-4F1F-84A5-6A488B4E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C453-3187-42AA-ADA7-46231EC1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4783-51D8-4219-BA45-24D6953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BF2E-A4D6-4592-BF95-FC213CA8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FDC5-1735-4F38-9EB7-3B828EFD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3AB9-EFF9-4544-AF62-A8C75D41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AC5-6419-43E6-8883-B1CD610D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525B-F24C-46F7-9AC8-6B15CAE2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9839-B192-4AAA-92DF-A5243203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FBA9C-B744-41C6-9814-7DB0E535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696-A6E1-4844-BF39-CF38CD39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2F06-E241-469F-9AE4-7F409031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D59A-42A0-4861-85E2-73A3E9C1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629E-F9C8-429D-9083-2BF8301B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B5FF-55CE-4833-9625-006785CD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AB71-E019-4201-8170-A0C0782A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10E4-60C1-426E-9D8D-E43304EE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AEF3-D878-4672-AB0A-12BC04D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2B6E-E97F-44D8-AA55-455A44FE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77DE-1508-4869-BDB8-0C371B05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6D19A-E4F2-4756-B372-138D45DE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45F-FDAA-493D-840C-10432244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0E1E-6B19-4C66-8D83-DA02BB82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B2EE-85DD-434B-BFBD-87BCEDD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4D9CF-1494-45B9-A81D-C6E5AF5F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4AD5-F2F8-4ED7-890D-B14D624A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99BA6-2E08-4AD6-AE9F-7F2D8094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76D36-15F5-45F6-8B63-AAC07E2F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33FA-AAF7-493A-915E-32F0FF3D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08F0-5A0E-4B55-8EA4-14308272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1A53-C0BF-4921-86B3-DEE8B889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D9FD9-13FB-474D-95F3-B12F9883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475-D185-4ED0-9C3D-82C5524B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6EBC-D609-4CF4-98F1-D912DC96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8337-9215-4F1C-BC31-5179DFAD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66611-E164-4311-A5BB-9FC54480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A29B-77EB-45AB-9CE8-A6A62295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51EBA-349D-4BC4-88CA-85301AC4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EF06-2FA4-4579-AFE2-A9160414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60BE5-EC78-4445-B28E-756D1E05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23525-BEFD-43C1-8DF6-79D7AF7A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42CDA-89E3-456B-B9FA-704342E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9EBFF-A288-437B-BDBA-B420745A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73E-5F3A-4B83-BF13-3728C01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9D8F4-19DF-4522-9A82-662768EA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69B9-9625-42AB-85A8-E09A0638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6C906-B23B-4C22-AD50-2E90A135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D0A5E-7B43-42B9-BF79-2A7E425E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005A0-02EB-4C1E-92B1-22099861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B6EF8-7F77-495B-BFD1-CF36F8E0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92A7-6EAB-4197-9084-E355A933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895ED-7E24-4EB0-B78D-1A86461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0F192-EC17-4891-B1BD-2589C487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08716-722E-405C-93F1-C73D22D8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45C-CE8F-4CA4-B2FF-AFF22A6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6EA85-0439-47E2-BD4F-2F68A9D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958B1-1EB0-4604-A599-CBE48F32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435E0-D5D0-4D22-9EE5-92C80621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974E-EC49-4369-9024-4DFC5530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1657-819C-4011-8D51-98942658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8CE1A-1C80-48B0-B53A-E633CB04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F4C9-7684-4F5B-B9C9-CC0A0FA7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29EBD-C5B5-41F1-8E71-E84863B7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BAC1B-8553-4184-85A5-26CB99ED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E22A-3F80-4EE5-A115-9ED46F2D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E58-5135-4F12-81DE-998D8C64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87813-BB91-45DB-9239-FADC9ADB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98C0E-B55B-4961-8A5F-C3FBF4F4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33377-4BF5-462E-887C-C73758A0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32DF-A5DE-4251-88AE-D46953B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268EF-9C29-4AD5-8AB4-5CF0184F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99B3B-B440-4FE6-B456-41FA5DEB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A7A9-6319-4020-B664-642905D2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36AC-DE60-4992-8944-E489AF73E9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947E-095B-45CB-A40B-8689F08150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9654-D9A2-4C50-A825-47AE4E63221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0E00-FAB2-46B8-B5A7-0792D2D854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1CC4-9E98-461A-81C7-182D746247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DC2-AA8B-43D7-BDEA-E6CC0AC32EB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7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D9BF-BBD1-4AAC-B543-8608515B412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D:\10536 Quit Smoking CDRom\Cover 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8" name="WordArt 6"/>
          <p:cNvSpPr txBox="1"/>
          <p:nvPr/>
        </p:nvSpPr>
        <p:spPr>
          <a:xfrm>
            <a:off x="250920" y="189000"/>
            <a:ext cx="619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сигаретой твоя жизнь под угроз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63480" y="585720"/>
            <a:ext cx="7796160" cy="4282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Сигарета – это бикфордов шнур, на одном конце которого огонь, на другом - дурак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Бернард Шоу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ичины курения среди подростк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ЛЮБОПЫТСТВО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"было прикольно после затяжки пустить табачный дым"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ЗА КОМПАНИЮ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"боялся стать белой вороной"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ЖЕЛАНИЕ ПОЧУВСТВОВАТЬ СЕБЯ "КРУТЫМ"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"хотел походить на взрослых и завоевать авторитет у младших школьников"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НАЛИЧИЕ АКТУАЛ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Ь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НОЙ ПРОБЛ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Е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МЫ: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"ПОКУ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РИШ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-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СРАЗУ У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П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ОКАИВАЕШ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Ь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СЯ"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ПРОТЕСТНАЯ РЕ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КЦ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"сделал это назло родителям после ссоры"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115640" y="549360"/>
            <a:ext cx="831708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точка жизни, плод приносящ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ждая женщина, грудью кормящ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ждая мама, пример подающ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есешь ты, женщина пьюща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т где начало первых страданий,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результаты случайных свидани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ти – уроды, аборты, сироты,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т где трагедии первые но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47636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тановись и послушай сове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пожалеешь ты долгие Ле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у подружек незрелых учись,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пожилых, тех, кто прожили жизн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лько под старость видны все пробел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жита жизнь, волосы бел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ладки морщинок от боли и слез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ти и внуки – букетиком ро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914400" y="185904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точка жизни, плод приносящ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есешь ты, дымом дымяща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оть молода ты пока и цветущ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есешь ты, девушка пьюща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900000" y="946080"/>
            <a:ext cx="7848720" cy="344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Мне бесконечно  жаль людей, чьи жизни истлели на кончике сигареты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адемик Уг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7e7ff"/>
                </a:solidFill>
                <a:uFillTx/>
                <a:latin typeface="Arial"/>
              </a:rPr>
              <a:t>Программа КАК БРОСИТЬ КУРИТЬ?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е сначала, когда и при каких обстоятельствах и сколько вы курите. Просто ведите записи, примерно за месяц картина станет ясной. Проведя эту работу, вы выполните разведку в стане врага и ответите на вопрос: «Какие ситуации, обстоятельства усиливают импульс к курению, какие образы способствуют началу курения?» Чтобы правильно ответить на этот вопрос, надо наблюдать не только внешние, но и внутренние обстоятельства, в частности узнать, с какими переживаниями, желаниями связан импульс к кур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оизведите в сознании обстоятельства, в которых вы приучали себя к курению. Какого рода удовольствие вы при этом получали? Гордились взрослостью? Может быть, вас приняли в свою компанию курильщик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сно представьте то удовлетворение, которое вы получаете в результате выкуренной сигареты. Подумайте, на что оно похоже: на удовольствие от общения, от манипуляции сигаретой, от восприятия запаха дыма, может быть особо приятно снятие напряжения и т. д.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1342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йте количественную характеристику вашей потребности. Для этого можно построить график числа выкуриваемых сигарет в течение недели, для того чтобы проделать эту работу не требуется особая сила воли. Почти любой может составить такого рода карт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наблюдайте, как работает механизм рационализации, с помощью  которого твое Я оправдывает курение, твою неспособность  бросить курить. Формируйте отрицательное отношение к процессу курения. Попробуйте не курить примерно сутки специально, чтобы проследить, как вы будете реагировать на это. Представьте сколько смол и копоти вынуждены усваивать ваши легкие, которые предназначены для поглощения кислор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ервая ата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пределить процесс курения от связанных с ним дел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ычно курение вовлечено в процесс общения, доставляющий радость. Обычный курильщик не в состоянии отделить удовольствие от воздействия табачного дыма от эксплуатируемых им удовольствий: общения, принятия пищи и других действий, в которые включено курение. Надо перестать курить с приятными вам людьми, с товарищами. Если очень захотелось курить, уединитесь. Через некоторое время вы почувствуете, что позыв к курению ослабевает, так как в нем нет той силы удовольствия и приятных пережи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торая ата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должны заменить сопутствующие курению действия другими, нейтральными. Если вы привыкли держать во рту сигарету, замените эти манипуляции чем-то другим, например зубочисткой или мятной конфетой. Хорошо пользоваться жевательной резинкой, которую следуют сосредоточенно пожевать перед и после ку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сильным средством замены импульса к курению является дыхание, которое йоги называют «ситали». Сложите трубочкой язык, и через это отверстие втягивайте в себя воздух. Движение воздуха возбуждает нервные окончания, возникающие при курении. Дальнейшее дыхание состоит в том, чтобы втягиваемый воздух направлять к корню языка и небу, что охлаждает их и устраняет позыв к курению именно в данный моме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ретья ата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Уменьшение импульса к кур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етвертая атак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лное воздержание от курения в течение суток или дву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этом случае через 12 часов вы почувствуете, что у вас улучшился аппетит, компенсируйте наслаждением от пищи и сладостями неприятные ощущения, у вас обостриться обоняние. Ваши зубы будут белее. Голова работает лучше. Если вы накопили 2 суток воздержания, то подумайте трудно ли вам будет воздерживаться дал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z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2362320" y="533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843280" y="260280"/>
            <a:ext cx="5979960" cy="61250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так, всякого, кто слушает слова Мои сии    и исполняет их, уподоблю мужу благоразумному, который построил дом свой на камне; и пошел дождь, и разлились реки, и подули ветры, и устремились на дом тот,  и он не упал, потому что основан был на кам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2984400" y="333360"/>
            <a:ext cx="5980320" cy="61938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всякий, кто слушает сии слова Мои и не исполняет их, уподобится человеку безрассудному, который построил дом свой на песке; и пошел дождь, и разлились реки, и подули ветры, и налегли на дом тот; и он упал, и было падение его великое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От Матфея 7:22-27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4495680" y="533520"/>
            <a:ext cx="41086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смол попадающее в ле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7164360" y="2994120"/>
            <a:ext cx="19051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Optima Cyr"/>
              </a:rPr>
              <a:t>Почерневшие от смол легкие, пораженные раком (бело-розовая область).  Раковая опухоль перекрывает просвет трахеи, проводящей воздух в лег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6"/>
          <p:cNvPicPr/>
          <p:nvPr/>
        </p:nvPicPr>
        <p:blipFill>
          <a:blip r:embed="rId1"/>
          <a:stretch/>
        </p:blipFill>
        <p:spPr>
          <a:xfrm>
            <a:off x="117360" y="111240"/>
            <a:ext cx="4023000" cy="533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32" name="Picture 5" descr="7"/>
          <p:cNvPicPr/>
          <p:nvPr/>
        </p:nvPicPr>
        <p:blipFill>
          <a:blip r:embed="rId2"/>
          <a:stretch/>
        </p:blipFill>
        <p:spPr>
          <a:xfrm>
            <a:off x="3203640" y="2421000"/>
            <a:ext cx="3601800" cy="40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buerger's disea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380880" y="380880"/>
            <a:ext cx="40467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00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олезнь Бюрг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Hmttr-#53-Raynaud's disea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5:34:17Z</dcterms:created>
  <dc:creator>Alexander Kuznetsov</dc:creator>
  <dc:description/>
  <dc:language>en-US</dc:language>
  <cp:lastModifiedBy>Светлана</cp:lastModifiedBy>
  <dcterms:modified xsi:type="dcterms:W3CDTF">2017-09-23T19:47:15Z</dcterms:modified>
  <cp:revision>38</cp:revision>
  <dc:subject/>
  <dc:title>Слайд 1</dc:title>
</cp:coreProperties>
</file>