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2D2-9400-47A4-8B5D-51554D29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2F06-F1B1-41F1-B675-65662197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2F4-3627-4109-B5B1-8B81E8E5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6DD-65DC-43E5-A2D2-D14DB155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282C-D032-4453-A06A-864C3E62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5DD2-F07D-4545-8E95-1BEB6DF8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C6C0-ABA7-4B67-93B1-1AB87E2D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C713-C593-4062-8B97-EAAD2B39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F82D-7C0B-48DF-937B-F66E7321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FDA6-170C-4FE4-B180-12D953FE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04D2-41DC-41AE-8770-A4CC44DE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24F4-1058-4DCB-AD11-785E5D06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EF7F-C6A7-4A63-B558-0388D4F4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2B7D-4A4D-4522-BCA2-DBDCB179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7614-AD1E-4F02-92E0-9C7E107C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FDE3-1B69-47ED-9AB0-EFAE40CE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8CBB-6F94-436F-8A14-06381472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3C21-5549-4B1F-97EE-98655BEF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2C1-033D-4364-86A1-19BB53C9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B35-0219-4C3F-A371-A636620D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2E4E-5BFC-44BE-A673-1F5BBBF7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9EA-2779-433C-A7A6-C7C4BE67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C01-5378-4536-B115-A58C1ADC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5A25-CB8F-47D9-AB41-E4E35027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DAB2-C081-4E2C-96BA-B20465968DA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86AE-5D16-4E8B-A316-3B3DA923D26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9898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HEALTHY LIVING GUIDE</a:t>
            </a:r>
            <a:br>
              <a:rPr sz="4400"/>
            </a:br>
            <a:br>
              <a:rPr sz="4400"/>
            </a:br>
            <a:r>
              <a:rPr b="1" lang="ru-RU" sz="3000" spc="-1" strike="noStrike">
                <a:solidFill>
                  <a:srgbClr val="006666"/>
                </a:solidFill>
                <a:latin typeface="Verdana"/>
              </a:rPr>
              <a:t>8КЛАСС, АНГЛИЙСКИЙ ЯЗЫК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006666"/>
                </a:solidFill>
                <a:latin typeface="Verdana"/>
              </a:rPr>
              <a:t>Ламбина Н.П.</a:t>
            </a:r>
            <a:endParaRPr b="1" lang="en-US" sz="3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2599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Arial"/>
              </a:rPr>
              <a:t>AGREE OR DISAGREE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Healthy mind in a healthy bod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Sport builds character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Sport helps to become friend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It makes you stron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It teaches you about lif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Sport makes men out of boy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It teaches you to be discipline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Sport helps to meet peopl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12000" y="2060640"/>
            <a:ext cx="2746080" cy="29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404640"/>
            <a:ext cx="82440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Arial"/>
              </a:rPr>
              <a:t>ANSWER THE QUESTIONS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When are we healthy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Good health means not being ill”. What can we say about health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What do you think about the human body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Can machine do all the things that the body can do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What does the human body require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Arial"/>
              </a:rPr>
              <a:t>DON’T FORGE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47640" y="1699920"/>
            <a:ext cx="69948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to wash hands before meal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to keep bodies clea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to get up early and do morning exercis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to get enough sleep (not less than 8-9 hours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must sit and stand straigh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Arial"/>
              </a:rPr>
              <a:t>CHECK YOURSELF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835280" y="1989000"/>
          <a:ext cx="5761080" cy="416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989000"/>
                    <a:ext cx="576108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7020000" y="1700280"/>
            <a:ext cx="1441440" cy="1187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Arial"/>
              </a:rPr>
              <a:t>MUST DO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835280" y="2060280"/>
            <a:ext cx="612144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eat low fat food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eat more fibre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eat more fruit and vegetable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be in the fresh air as much a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go in for sport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77080" y="1484280"/>
            <a:ext cx="1706400" cy="1824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948360" y="4653000"/>
            <a:ext cx="1538280" cy="1825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Arial"/>
              </a:rPr>
              <a:t>MUST NOT DO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92000" y="1916280"/>
            <a:ext cx="6994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skip breakfas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eat between meal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eat much sweet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smoke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drink alcohol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take drug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300720" y="2276640"/>
            <a:ext cx="2328840" cy="3552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Arial"/>
              </a:rPr>
              <a:t>REMEMBER FOREV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8560" y="1989000"/>
            <a:ext cx="742788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Health is better than wealth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He, who has health, has hope and he, who has hope, has everythin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n apple a day keeps the doctor awa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Early to bed and early to rise makes a man healthy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wealthy and wis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6699"/>
                </a:solidFill>
                <a:latin typeface="Arial"/>
              </a:rPr>
              <a:t>We wish everybody to be</a:t>
            </a:r>
            <a:r>
              <a:rPr b="1" i="1" lang="ru-RU" sz="4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6699"/>
                </a:solidFill>
                <a:latin typeface="Arial"/>
              </a:rPr>
              <a:t>healthy</a:t>
            </a:r>
            <a:r>
              <a:rPr b="1" i="1" lang="ru-RU" sz="44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i="1" lang="en-US" sz="4400" spc="-1" strike="noStrike">
                <a:solidFill>
                  <a:srgbClr val="006699"/>
                </a:solidFill>
                <a:latin typeface="Arial"/>
              </a:rPr>
              <a:t> wealthy and wise</a:t>
            </a:r>
            <a:r>
              <a:rPr b="1" i="1" lang="ru-RU" sz="4400" spc="-1" strike="noStrike">
                <a:solidFill>
                  <a:srgbClr val="006699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3720960"/>
            <a:ext cx="9144000" cy="3137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6:07:29Z</dcterms:created>
  <dc:creator>=)</dc:creator>
  <dc:description/>
  <dc:language>en-US</dc:language>
  <cp:lastModifiedBy>=)</cp:lastModifiedBy>
  <dcterms:modified xsi:type="dcterms:W3CDTF">2007-05-06T11:07:38Z</dcterms:modified>
  <cp:revision>30</cp:revision>
  <dc:subject/>
  <dc:title>ПРЕЗЕНТАЦИЯ К УРОКУ: «HEALTHY LIVING GUIDE» 8КЛАСС, АНГЛИЙСКИЙ ЯЗЫК.</dc:title>
</cp:coreProperties>
</file>