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87C-3103-4F58-B8BE-BFF3E10A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A18-1D2B-4AD9-8852-044C2747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B7D-6F01-4048-B895-BD94A872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8A1-B45B-4A5E-A04B-2F8E4DF9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D7BF-3245-4B4A-B528-45F3B138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0E33-C9E9-4E05-AAC1-2BFB7245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9E01-FB59-4FC8-9AA5-7F096F56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A260-9D3E-407C-AEE0-93A98A36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B9FF-FB73-4DAC-B3CD-83782355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CBE9-BA18-4403-8A8C-C49F3E56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EEA5-FD8F-40FC-9A92-47F2281B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C6A-45B2-47EB-A711-B5B59AF9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6040-B687-46FD-B435-8CDEAB0A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A03E-54D0-4A26-A30A-5F10063E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B2FB-D8DA-495C-885D-D7A6139D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176A-7F3F-4D18-AEDC-85213A24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FCA4-C6C0-47B4-A204-27ABD8DA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CB4-0D9E-47BC-88E7-6F3FA2AD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1DB-BEAB-4A95-B710-65AD95B6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FDD-7B1D-441A-B1EF-C34155EE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411-4B19-4FBB-9D5E-3FE47651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881-D93E-44E9-A79D-C04458E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C7C-A863-4E54-A985-8ACCA67C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79B-9BFC-4362-ABFE-F0319509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B142-CE9C-461C-A7A9-592FB153A35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9C5D-B84B-4E78-8B94-7AE4FA22642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HEALTHY LIVING GUIDE</a:t>
            </a:r>
            <a:br>
              <a:rPr sz="4400"/>
            </a:br>
            <a:br>
              <a:rPr sz="4400"/>
            </a:br>
            <a:r>
              <a:rPr b="1" lang="ru-RU" sz="3000" spc="-1" strike="noStrike">
                <a:solidFill>
                  <a:srgbClr val="006666"/>
                </a:solidFill>
                <a:latin typeface="Verdana"/>
              </a:rPr>
              <a:t>8КЛАСС, АНГЛИЙСКИЙ ЯЗЫК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6666"/>
                </a:solidFill>
                <a:latin typeface="Verdana"/>
              </a:rPr>
              <a:t>Ламбина Н.П.</a:t>
            </a:r>
            <a:endParaRPr b="1" lang="en-US" sz="3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AGREE OR DISAGREE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Healthy mind in a healthy bod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port builds characte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port helps to become friend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It makes you stro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It teaches you about lif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port makes men out of boy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It teaches you to be discipline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port helps to meet peopl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2000" y="2060640"/>
            <a:ext cx="2746080" cy="29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ANSWER THE QUESTION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When are we healthy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Good health means not being ill”. What can we say about health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What do you think about the human body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Can machine do all the things that the body can do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What does the human body require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DON’T FORGE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69948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o wash hands before meal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o keep bodies clea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o get up early and do morning exercis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o get enough sleep (not less than 8-9 hours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must sit and stand straigh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CHECK YOURSELF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35280" y="1989000"/>
          <a:ext cx="5761080" cy="41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989000"/>
                    <a:ext cx="576108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020000" y="1700280"/>
            <a:ext cx="1441440" cy="118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MUST D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35280" y="2060280"/>
            <a:ext cx="612144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t low fat food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t more fibre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t more fruit and vegetable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be in the fresh air as much a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go in for spor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77080" y="14842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MUST NOT D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92000" y="1916280"/>
            <a:ext cx="6994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kip breakfas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t between meal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t much sweet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moke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drink alcohol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ake drug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300720" y="2276640"/>
            <a:ext cx="2328840" cy="35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REMEMBER FOREV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8560" y="1989000"/>
            <a:ext cx="742788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Health is better than wealth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He, who has health, has hope and he, who has hope, has everyth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n apple a day keeps the doctor awa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Early to bed and early to rise makes a man healthy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wealthy and wis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6699"/>
                </a:solidFill>
                <a:latin typeface="Arial"/>
              </a:rPr>
              <a:t>We wish everybody to be</a:t>
            </a:r>
            <a:r>
              <a:rPr b="1" i="1" lang="ru-RU" sz="4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6699"/>
                </a:solidFill>
                <a:latin typeface="Arial"/>
              </a:rPr>
              <a:t>healthy</a:t>
            </a:r>
            <a:r>
              <a:rPr b="1" i="1" lang="ru-RU" sz="4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i="1" lang="en-US" sz="4400" spc="-1" strike="noStrike">
                <a:solidFill>
                  <a:srgbClr val="006699"/>
                </a:solidFill>
                <a:latin typeface="Arial"/>
              </a:rPr>
              <a:t> wealthy and wise</a:t>
            </a:r>
            <a:r>
              <a:rPr b="1" i="1" lang="ru-RU" sz="4400" spc="-1" strike="noStrike">
                <a:solidFill>
                  <a:srgbClr val="006699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3720960"/>
            <a:ext cx="9144000" cy="3137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6:07:29Z</dcterms:created>
  <dc:creator>=)</dc:creator>
  <dc:description/>
  <dc:language>en-US</dc:language>
  <cp:lastModifiedBy>=)</cp:lastModifiedBy>
  <dcterms:modified xsi:type="dcterms:W3CDTF">2007-05-06T11:07:38Z</dcterms:modified>
  <cp:revision>30</cp:revision>
  <dc:subject/>
  <dc:title>ПРЕЗЕНТАЦИЯ К УРОКУ: «HEALTHY LIVING GUIDE» 8КЛАСС, АНГЛИЙСКИЙ ЯЗЫК.</dc:title>
</cp:coreProperties>
</file>