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3840-3B1C-4C68-AA81-3A028D75B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FC80-7D6D-48AA-95CF-1CA825922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4FCE-60F2-4A52-880E-D8CBF5446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659-6281-4A7C-8143-F32D9D2C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EE0-093C-4206-AFF2-C293A30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6B0-EF1A-4CED-97B7-50366ABE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4C8-3583-42E3-A324-7944C68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2CA2-E833-4EAB-A631-AD10D5F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AEBB6-DB1B-46D8-B897-95C869C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AFA01-4EFE-47DC-89D3-8EF0938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9004-F71B-4B3C-B2DC-15A2C79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0C058-EAF0-4F3A-8612-1D49EF8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FE0E-292B-413E-B453-B7EC4F4C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24F50-7CE5-49DF-9AE7-3DE518C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3DB-0573-42A8-9F12-F0037E7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B15D-66E3-412F-9523-2C15933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F6360-26A4-4693-9AAA-ADA59DD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DF77A-230E-4451-A4AE-0D7C85B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5C33-CE0B-4BE4-9B0B-7EB92E9E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7B844-21AE-4926-ABCE-1F878275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F7DB1-16E0-438B-8C8B-D224F795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265E1-9A13-4424-8F68-B5D182D1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313B0-69BA-4CD9-9417-D6E835E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AA5BD-9BCE-4017-9FB5-557A010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714A5-68E6-436C-9975-DAAE75F0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13F-4053-48E8-BF04-EC530E31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2D15A-A74B-4DC2-9950-B887D1B2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DB4A4-5C4A-445B-BB86-8700A58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89572-D9AE-4407-84EC-BB30759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176E9-7D3D-4554-BEDC-A880EDF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198CA-7D64-4112-AA1C-E63E30C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02E58-2B9D-40D0-8A03-C52B9C6E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E6D1E-F77B-4DDB-8E41-C79769B9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F5FB-9B3F-45A4-9869-3658B242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99DF-DEEC-4842-857E-3D56836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8842-2491-4ABB-8853-C285DF68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839-F010-4009-AAFB-F24EC84B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B337-5779-49C0-BF3D-4D5A2EE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BCDB-E93D-41A4-9443-35CCD6F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D226-FA5C-4C13-BFD0-8E1D108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FF8A-84B4-4053-99E9-FA096F0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E302-212C-46B7-8606-954EB02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80FD-02D8-452D-BCC9-D7AA369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7BBA-B137-488D-9829-AE7EA05E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7A1C-7FB4-456F-8BFA-3EC102D2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3FA1-3677-4D66-A34D-DCFCD683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4AF-A2AA-412F-AA6C-495026D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1EA-B8B7-46E7-A65C-CEBA4383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A74-D9ED-4E5D-B5F7-26C8BC9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3BD-A436-47EA-8003-333828B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E10-8D5E-4881-ADD6-9518ED9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D31D-074E-4236-8FD4-FFB2D1EB02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0505-9603-44CE-A3DA-60A87595BC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FBA-78DF-4289-A54F-3CF870384A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A1F1-227B-4E7C-8925-D26900E3D2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АРИНА ЦВЕТАЕВА</a:t>
            </a:r>
            <a:br>
              <a:rPr sz="4400"/>
            </a:b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ворчество и судьб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Picture 5" descr="marina1"/>
          <p:cNvPicPr/>
          <p:nvPr/>
        </p:nvPicPr>
        <p:blipFill>
          <a:blip r:embed="rId1"/>
          <a:stretch/>
        </p:blipFill>
        <p:spPr>
          <a:xfrm>
            <a:off x="1274760" y="1523880"/>
            <a:ext cx="6585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52280" y="106668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 то время в стране царил голод, холод и  разруха. 27 ноября 1919  М. Цветаева по чьему-то совету отправила Алю и Ирину в Кунцевский приют, где детей не кормили, а обворовывали. В январе 1920  тяжелобольную Алю М. Цветаева забрала из приюта и поселилась у знакомых, а 15 февраля в приюте умерла младшая дочь Ирина. В апреле 1920  М. Цветаева пишет большой лирический цикл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527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52280" y="380880"/>
            <a:ext cx="6919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 мае 1922г. Советская власть разрешила ей с дочерью уехать за границу – к мужу. Встретились они в Берлине, после 3 года   живут в Праге, а с 1925г. переезжают в Париж на долгих 14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знь была трудная, зарабатывала Цветаева на свое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ачалу белая эмиграция приняла Марину, ее охотно печатали и хвалили. Но вскоре всё изменилось. С литературными кругами была в натянутых отношениях, так как «они не Русь любят, а помещичьего «гуся»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адо мной здесь  люто издеваются, играя на моей гордыне, моей нужде и моем бесправии (защиты - нет). …Но…до последней строки буду писа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85800" y="445464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«Я здесь никому не нужна…Все меня выталкивают в Россию, в которую я ехать не могу. Здесь я не нужна, там я невозможн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P1000756"/>
          <p:cNvPicPr/>
          <p:nvPr/>
        </p:nvPicPr>
        <p:blipFill>
          <a:blip r:embed="rId1"/>
          <a:stretch/>
        </p:blipFill>
        <p:spPr>
          <a:xfrm>
            <a:off x="7265880" y="1085760"/>
            <a:ext cx="1859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2824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миграция обернулась не только нищетой и бесконечными скитаниями, но и жгучей тоской по Родин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5" descr="Картинка 3 из 19"/>
          <p:cNvPicPr/>
          <p:nvPr/>
        </p:nvPicPr>
        <p:blipFill>
          <a:blip r:embed="rId1"/>
          <a:stretch/>
        </p:blipFill>
        <p:spPr>
          <a:xfrm>
            <a:off x="152280" y="2286000"/>
            <a:ext cx="4581720" cy="36241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5029200" y="2209680"/>
            <a:ext cx="380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ска по Родине! Д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облаченная мо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е совершенно все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де совершенно один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ы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як дом мне чужд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як храм мне пус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все – равно, и все – едино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 если по дороге – куст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тает, особенно – ряби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4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746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течение времени понятие «Родина» для нее наполняется новым содержанием. Поэтесса  начинает понимать размах русской революции, она начинает чутко прислушиваться к «новому звучанию воздуха». Тоска по России сказывается во многих   лирических стихотворениях, сплетается с думой о новой Родине , которую она еще не видела и не знает,- о Советском Союзе, о его жизни, культуре и поэзи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45720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мае 1927 года М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аева завершила работу над книгой стихов «После России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4" descr="СЛАЙД 18"/>
          <p:cNvPicPr/>
          <p:nvPr/>
        </p:nvPicPr>
        <p:blipFill>
          <a:blip r:embed="rId1"/>
          <a:stretch/>
        </p:blipFill>
        <p:spPr>
          <a:xfrm>
            <a:off x="5791320" y="374760"/>
            <a:ext cx="2973240" cy="4560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402920" y="3020400"/>
            <a:ext cx="374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! Горечь! Вечный привк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губах твоих, о страс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! Горечь! Вечный искус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ончательнее п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от горечи — цел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х, кто молод и хоро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ы от горечи — друг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чью за руку ведё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хлебом ем, с водой глота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ечь-горе, горечь-гру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ь одна трава та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лугах твоих, о 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4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2824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сь для Цветаевой - достояние предков,  Россия - не более как горестное воспоминание «отцов»,  которые потеряли родину,  и  у которых нет надежды обрести ее вновь,  а «детям» остается один путь - домой,  на единственную родину, в СССР. Столь же твердо Цветаева смотрела и на свое будущее. Она понимала, что ее судьба – разделить участь «отцов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ее, что Цветаева написала в эмиграции,  - цикл  гневных  антифашистских стихов  о  растоптанной Чехословакии,  которую она нежно и преданно любила.  Это поистине «плач гнева и любви», Цветаева теряла уже надежду - спасительную веру в жизнь.  Эти стихи ее, - как крик живой, но истерзанной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1920" y="5335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936-37 годах Цветаева уже готовилась к отъезду на Родину. Сначала уехала Ариадна, следом - Сергей Яковлевич. Летом 1939 года Марина с Георгием вернулись в Россию. Арестованы муж и дочь. Начинается Великая Отечественная война. Эвакуация с сыном в небольшой городок Татарии Елабугу. Отъединение сына, болезненно пережившего страшные беды, выпавшие на его долю, резко усугубляло одиночество Марины. Она продолжала работать: готовила сборник, много переводила... Но поэтесса  не знала, что с дочерью и мужем.  Между нею и сыном вырастала полоса отчуждения. И она, под гнетом личных несчастий, в состоянии душевной депрессии, в одиночестве покончила собо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880" y="380520"/>
            <a:ext cx="3276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..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, черная гор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тмившая весь свет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а-пора-п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ворцу вернуть би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бы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бедламе нелю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жи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волками площа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- вы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акулами равн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азываюсь плыть 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из - по теченью спи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надо мне ни ды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шных, ни вещих гл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твой безумный ми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 один - отк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4" descr="СЛАЙД 22"/>
          <p:cNvPicPr/>
          <p:nvPr/>
        </p:nvPicPr>
        <p:blipFill>
          <a:blip r:embed="rId1"/>
          <a:stretch/>
        </p:blipFill>
        <p:spPr>
          <a:xfrm>
            <a:off x="4876920" y="914400"/>
            <a:ext cx="34732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4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4568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1 августа 1941 года Марина Цветаева уходит из жизни, считая этот выбор единственно правильным - "ответ один - отказ"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дьба Марины Цветаевой заставляет вспомнить строки М.Ю. Лермонтов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то, без страданий - жизнь поэ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 что, без бури - океа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В Борисоглебске 2000"/>
          <p:cNvPicPr/>
          <p:nvPr/>
        </p:nvPicPr>
        <p:blipFill>
          <a:blip r:embed="rId1"/>
          <a:stretch/>
        </p:blipFill>
        <p:spPr>
          <a:xfrm>
            <a:off x="5705640" y="1011240"/>
            <a:ext cx="3408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ru-RU" sz="3800" spc="-1" strike="noStrike">
                <a:solidFill>
                  <a:srgbClr val="e5e5ff"/>
                </a:solidFill>
                <a:latin typeface="Garamond"/>
              </a:rPr>
              <a:t>БИОГРАФИЯ ПОЭТЕССЫ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37720"/>
            <a:ext cx="46972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6 сентября 1892 года, с субботы на воскресенье, в полночь, на Иоанна Богослова, в небольшом московском доме  родилась Марина Цветае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Красною кист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Рябина зажгла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Падали листь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Я родила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Спорили сот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Колоко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День был субботни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Иоанн Богос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Picture 5" descr="Картинка 1 из 354"/>
          <p:cNvPicPr/>
          <p:nvPr/>
        </p:nvPicPr>
        <p:blipFill>
          <a:blip r:embed="rId1"/>
          <a:stretch/>
        </p:blipFill>
        <p:spPr>
          <a:xfrm>
            <a:off x="4697280" y="9907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25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25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25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25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25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25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25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25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22" presetSubtype="4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25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50920" y="189000"/>
            <a:ext cx="86421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сковский дом, особенно при жизни матери, умершей, когда Марине было четырнадцать лет, был в полном смысле очагом, родительским гнездом. Семья была высококультурной, с богатыми семейными традициями. Отец - Иван Владимирович, профессор в университете, мать – Мария Александровна, редкостно одаренная в музыке. Все благоприятствовало быстрому и гармоничному духовному развитию детского ума, способностей, дарований. Марина росла среди книг и музыки, поэтому креп ее талант. В первой своей книге Марина Цветаева назвала собственное детство «сказк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Рисунок24"/>
          <p:cNvPicPr/>
          <p:nvPr/>
        </p:nvPicPr>
        <p:blipFill>
          <a:blip r:embed="rId1"/>
          <a:stretch/>
        </p:blipFill>
        <p:spPr>
          <a:xfrm rot="20556000">
            <a:off x="1109160" y="3938760"/>
            <a:ext cx="2154240" cy="2657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Рисунок23"/>
          <p:cNvPicPr/>
          <p:nvPr/>
        </p:nvPicPr>
        <p:blipFill>
          <a:blip r:embed="rId2"/>
          <a:stretch/>
        </p:blipFill>
        <p:spPr>
          <a:xfrm rot="1065600">
            <a:off x="5611680" y="3932280"/>
            <a:ext cx="2162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ee7f9"/>
                </a:solidFill>
                <a:latin typeface="Garamond"/>
              </a:rPr>
              <a:t>   </a:t>
            </a:r>
            <a:r>
              <a:rPr b="1" lang="ru-RU" sz="2900" spc="-1" strike="noStrike">
                <a:solidFill>
                  <a:srgbClr val="eee7f9"/>
                </a:solidFill>
                <a:latin typeface="Garamond"/>
              </a:rPr>
              <a:t>ТВОРЧЕСКИЙ ПУТЬ ПОЭТЕССЫ</a:t>
            </a:r>
            <a:r>
              <a:rPr b="1" lang="ru-RU" sz="2900" spc="-1" strike="noStrike">
                <a:solidFill>
                  <a:srgbClr val="244583"/>
                </a:solidFill>
                <a:latin typeface="Garamond"/>
              </a:rPr>
              <a:t>.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6854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910 году тайком от родителей Марина Цветаева выпустила свой  первый поэтический сборник «Вечерний альбом». Он стал для Марины историей ее законченного дет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Картинка 1 из 62"/>
          <p:cNvPicPr/>
          <p:nvPr/>
        </p:nvPicPr>
        <p:blipFill>
          <a:blip r:embed="rId1"/>
          <a:stretch/>
        </p:blipFill>
        <p:spPr>
          <a:xfrm>
            <a:off x="1066680" y="2514600"/>
            <a:ext cx="2371680" cy="38098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4191120" y="2514600"/>
            <a:ext cx="449568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Мам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таром вальсе штраусовском вперв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услышали твой тихий з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той поры нам чужды все жив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отраден беглый бой ча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, как ты, приветствуем закаты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пиваясь близостью конц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, чем в лучший вечер мы богаты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м тобою вложено в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 бледней лазурный остров — детство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одни на палубе стоим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идно грусть оставила в наследство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ы, о мама, девочкам свои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5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2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 мая 1911 года в Коктебеле, куда Марина приехала в гости к поэту М. Волошину,  решилась судьба поэтессы. Здесь она встретилась с Сергеем Эфроном. В январе 1912 года в Москве они обвенчалис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304920" y="3409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а встреча – чу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– мой самый родной на всю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Картинка 8 из 62"/>
          <p:cNvPicPr/>
          <p:nvPr/>
        </p:nvPicPr>
        <p:blipFill>
          <a:blip r:embed="rId1"/>
          <a:stretch/>
        </p:blipFill>
        <p:spPr>
          <a:xfrm>
            <a:off x="3733920" y="2819520"/>
            <a:ext cx="50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952880" y="457200"/>
            <a:ext cx="335304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период с сентября по  декабрь семья Цветаевой живет в Крыму, где поэтесса  выступает на литературных вечерах и пишет много стихов на тему любв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ероиня Цветаевой не существовала вне любви, что для нее означало вне жизни. Предчувствие любви,  ревность, разочарование в любви, боль разлуки – все присутствует в ее любовной лирик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5" descr="Картинка 3 из 5"/>
          <p:cNvPicPr/>
          <p:nvPr/>
        </p:nvPicPr>
        <p:blipFill>
          <a:blip r:embed="rId1"/>
          <a:stretch/>
        </p:blipFill>
        <p:spPr>
          <a:xfrm>
            <a:off x="914400" y="53352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x_a73351e6"/>
          <p:cNvPicPr/>
          <p:nvPr/>
        </p:nvPicPr>
        <p:blipFill>
          <a:blip r:embed="rId1"/>
          <a:stretch/>
        </p:blipFill>
        <p:spPr>
          <a:xfrm>
            <a:off x="5105520" y="380880"/>
            <a:ext cx="3795480" cy="6143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304920" y="304920"/>
            <a:ext cx="4495680" cy="62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Любовь!       Любовь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И в судорогах, и в гроб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асторожусь –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прельщусь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смущусь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рванус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О милая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и в гробовом сугробе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Ни в облачн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aramond"/>
              </a:rPr>
              <a:t>С тобою не прощусь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это время шла война – мировая, потом гражданская. Жалость и печаль переполняли ее сло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сонница меня толкнула в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, как же ты прекрасен, тусклый Кремль мой!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ночью я целую в груд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 круглую воюющую землю!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Сегодня, ночью я одна в ночи…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ствия народа – вот что, прежде всего, пронзило ее ду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прогневили тебя эти серые хаты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и! – и для чего стольким простреливать груд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езд прошел, и завыли, завыли солд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плыл, заплыл отступающий пу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Белое солнце и низкие, низкие тучи…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3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3000"/>
                                        <p:tgtEl>
                                          <p:spTgt spid="2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0" y="0"/>
            <a:ext cx="9144000" cy="696348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ды революции и гражданской войны (1917 - 1920) были в жизни Цветаевой трудными и драматичны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 апреля 1917 года у Цветаевой родилась вторая дочь Ирина, и сентябрь — октябрь М. Цветаева живет в Феодосии. После Октябрьского переворота, воспринятого М. Цветаевой как непоправимая катастрофа, она приезжает в Москву и чудом застает там мужа, появляются ее трагические стихи о конце, гибели, муках. Октябрьскую  революцию Марина Цветаева не приняла и не поня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 Цветаевой Сергей Эфрон находился в рядах белой Добровольческой армии, и от него с 1918 года  не было ве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 из цикла «Лебединый стан», посвященного именно Белой армии, она демонстративно читала на публичных вече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, чьи широкие ши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ли пару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ьи шпоры весело зве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ьи глаза, как бриллиан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рдце оставляли след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аровательные фр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увших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ожесточеньем в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брали сердце и скалу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и на каждом бранн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б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6</cp:lastModifiedBy>
  <dcterms:modified xsi:type="dcterms:W3CDTF">2012-11-08T08:56:50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