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FAEC-384F-4206-8482-B4D73CBD35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19E0-391F-4FA6-88C0-6939E2292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0CF-B3BB-48BD-8DA2-B5CE38274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0D0-71B3-43AB-A580-38D3C5A3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256-1E83-43E0-A70E-977E1EDD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F15-136B-4D98-8560-82A73A32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A49-27B9-4655-B179-5A7CD103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AC890-B414-401C-9544-AF19061F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7FCB5-AF23-43AF-8FAF-CCDD4B3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67EAA-E51F-4B8B-AE4D-B02B5420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DDD64-5726-4AA5-A089-C3FD2802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0A196-045E-4E2C-84A1-0CD4CD9C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4B765-F43A-4129-A3AC-A31FC29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44E21-F981-4BA9-8BEC-387558E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E68-B723-4198-9D4B-16A8B45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A4FA9-42AB-435F-BA2B-89CDE42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0135F-9F4C-4CCB-9734-C0E5C3A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B8390-C74E-4202-B4CB-F31D0839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135E-BDF2-4BD1-BEAD-6B4386B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70C89-944E-4FA8-8ABA-F62FDB2D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C7C41-43F8-4DAC-865D-082F5C05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D4A7C-0E26-4B56-B840-18B24B3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56528-46F7-4991-B2E4-83DB048D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639FF-62C6-46F1-8D70-79939C84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B3A99-0D47-48E9-97B8-DB54472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777-45C3-40F9-9357-F53471F7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A144C-03D0-4B75-B6B1-76B5D001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A921A-E0A6-4274-AACF-77919EBF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E21CB-586A-4231-8E5A-2331A1A9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F5E85-B220-42CD-AA46-771F5921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7BB2C-9A80-4717-A75F-FC01DDE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A8FA3-D12F-4CB5-9030-2874AC89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4E2E0-E5B2-4F22-9EF7-98648C35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AA48B-DF26-4487-B3C8-CE2B6799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CAB4-8AB8-4B9F-841F-85D983A5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DCDC-A721-4663-9741-F96B206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7B5-C0EB-4211-B593-962C7584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793A-C27C-499A-AEB8-61E6FC0D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EF65-E1A4-48A1-8D12-80AE54D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1FDB5-FFDD-421F-BC1D-A639B07A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AEC2-4299-4451-9D1F-03732A41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A2D1F-85B7-4E59-989D-56049BF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B4F7-0DD1-4B6D-B928-28D8F223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7D10-BDF5-4030-9ECE-7E9E08D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0440-4886-49FB-9A36-51861F6A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9D15-9343-4029-9F2C-38569EA9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88F-3EAA-450B-AEA3-3160815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2C8-67B1-4769-9715-A37619E7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D12-479C-4B0C-98EC-2AA5AC7F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978-6188-4FC0-B358-B4B140A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2A5-6C47-4456-BC1C-6F9F996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DA5A-D2D1-44F3-9B3C-A26EB13213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677-FD97-4114-8929-732ED041EA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C95-8A51-455B-AC5F-58B71769CC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6ABE-542F-48CD-9925-3DA6803E56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АРИНА ЦВЕТАЕВА</a:t>
            </a:r>
            <a:br>
              <a:rPr sz="4400"/>
            </a:b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ворчество и судьб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Picture 5" descr="marina1"/>
          <p:cNvPicPr/>
          <p:nvPr/>
        </p:nvPicPr>
        <p:blipFill>
          <a:blip r:embed="rId1"/>
          <a:stretch/>
        </p:blipFill>
        <p:spPr>
          <a:xfrm>
            <a:off x="1274760" y="1523880"/>
            <a:ext cx="6585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52280" y="106668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 то время в стране царил голод, холод и  разруха. 27 ноября 1919  М. Цветаева по чьему-то совету отправила Алю и Ирину в Кунцевский приют, где детей не кормили, а обворовывали. В январе 1920  тяжелобольную Алю М. Цветаева забрала из приюта и поселилась у знакомых, а 15 февраля в приюте умерла младшая дочь Ирина. В апреле 1920  М. Цветаева пишет большой лирический цикл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527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52280" y="380880"/>
            <a:ext cx="6919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 мае 1922г. Советская власть разрешила ей с дочерью уехать за границу – к мужу. Встретились они в Берлине, после 3 года   живут в Праге, а с 1925г. переезжают в Париж на долгих 14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знь была трудная, зарабатывала Цветаева на своем твор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началу белая эмиграция приняла Марину, ее охотно печатали и хвалили. Но вскоре всё изменилось. С литературными кругами была в натянутых отношениях, так как «они не Русь любят, а помещичьего «гуся»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адо мной здесь  люто издеваются, играя на моей гордыне, моей нужде и моем бесправии (защиты - нет). …Но…до последней строки буду писат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85800" y="445464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«Я здесь никому не нужна…Все меня выталкивают в Россию, в которую я ехать не могу. Здесь я не нужна, там я невозможн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P1000756"/>
          <p:cNvPicPr/>
          <p:nvPr/>
        </p:nvPicPr>
        <p:blipFill>
          <a:blip r:embed="rId1"/>
          <a:stretch/>
        </p:blipFill>
        <p:spPr>
          <a:xfrm>
            <a:off x="7265880" y="1085760"/>
            <a:ext cx="18590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4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2824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миграция обернулась не только нищетой и бесконечными скитаниями, но и жгучей тоской по Родин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8" name="Picture 5" descr="Картинка 3 из 19"/>
          <p:cNvPicPr/>
          <p:nvPr/>
        </p:nvPicPr>
        <p:blipFill>
          <a:blip r:embed="rId1"/>
          <a:stretch/>
        </p:blipFill>
        <p:spPr>
          <a:xfrm>
            <a:off x="152280" y="2286000"/>
            <a:ext cx="4581720" cy="36241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5029200" y="2209680"/>
            <a:ext cx="380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ска по Родине! Д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облаченная мо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не совершенно все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де совершенно один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ы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як дом мне чужд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як храм мне пуст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все – равно, и все – едино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 если по дороге – куст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тает, особенно – ряби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4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746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течение времени понятие «Родина» для нее наполняется новым содержанием. Поэтесса  начинает понимать размах русской революции, она начинает чутко прислушиваться к «новому звучанию воздуха». Тоска по России сказывается во многих   лирических стихотворениях, сплетается с думой о новой Родине , которую она еще не видела и не знает,- о Советском Союзе, о его жизни, культуре и поэзии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457200"/>
            <a:ext cx="3276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мае 1927 года М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аева завершила работу над книгой стихов «После России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4" descr="СЛАЙД 18"/>
          <p:cNvPicPr/>
          <p:nvPr/>
        </p:nvPicPr>
        <p:blipFill>
          <a:blip r:embed="rId1"/>
          <a:stretch/>
        </p:blipFill>
        <p:spPr>
          <a:xfrm>
            <a:off x="5791320" y="374760"/>
            <a:ext cx="2973240" cy="4560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402920" y="3020400"/>
            <a:ext cx="374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чь! Горечь! Вечный привк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губах твоих, о страс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чь! Горечь! Вечный искус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кончательнее п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от горечи — цел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х, кто молод и хорош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ы от горечи — друг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чью за руку ведё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хлебом ем, с водой глота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чь-горе, горечь-гру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ь одна трава та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лугах твоих, о Р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4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28240" y="3045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сь для Цветаевой - достояние предков,  Россия - не более как горестное воспоминание «отцов»,  которые потеряли родину,  и  у которых нет надежды обрести ее вновь,  а «детям» остается один путь - домой,  на единственную родину, в СССР. Столь же твердо Цветаева смотрела и на свое будущее. Она понимала, что ее судьба – разделить участь «отцов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ее, что Цветаева написала в эмиграции,  - цикл  гневных  антифашистских стихов  о  растоптанной Чехословакии,  которую она нежно и преданно любила.  Это поистине «плач гнева и любви», Цветаева теряла уже надежду - спасительную веру в жизнь.  Эти стихи ее, - как крик живой, но истерзанной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1920" y="5335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936-37 годах Цветаева уже готовилась к отъезду на Родину. Сначала уехала Ариадна, следом - Сергей Яковлевич. Летом 1939 года Марина с Георгием вернулись в Россию. Арестованы муж и дочь. Начинается Великая Отечественная война. Эвакуация с сыном в небольшой городок Татарии Елабугу. Отъединение сына, болезненно пережившего страшные беды, выпавшие на его долю, резко усугубляло одиночество Марины. Она продолжала работать: готовила сборник, много переводила... Но поэтесса  не знала, что с дочерью и мужем.  Между нею и сыном вырастала полоса отчуждения. И она, под гнетом личных несчастий, в состоянии душевной депрессии, в одиночестве покончила собой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0880" y="380520"/>
            <a:ext cx="3276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..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, черная гор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тмившая весь свет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а-пора-п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ворцу вернуть бил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- бы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бедламе нелюд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- жи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волками площад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- вы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акулами равн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плыть 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низ - по теченью спи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надо мне ни ды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шных, ни вещих гла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твой безумный ми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 один - отка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4" descr="СЛАЙД 22"/>
          <p:cNvPicPr/>
          <p:nvPr/>
        </p:nvPicPr>
        <p:blipFill>
          <a:blip r:embed="rId1"/>
          <a:stretch/>
        </p:blipFill>
        <p:spPr>
          <a:xfrm>
            <a:off x="4876920" y="914400"/>
            <a:ext cx="34732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4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4568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1 августа 1941 года Марина Цветаева уходит из жизни, считая этот выбор единственно правильным - "ответ один - отказ"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дьба Марины Цветаевой заставляет вспомнить строки М.Ю. Лермонтов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то, без страданий - жизнь поэт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 что, без бури - океа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В Борисоглебске 2000"/>
          <p:cNvPicPr/>
          <p:nvPr/>
        </p:nvPicPr>
        <p:blipFill>
          <a:blip r:embed="rId1"/>
          <a:stretch/>
        </p:blipFill>
        <p:spPr>
          <a:xfrm>
            <a:off x="5705640" y="1011240"/>
            <a:ext cx="34081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ru-RU" sz="3800" spc="-1" strike="noStrike">
                <a:solidFill>
                  <a:srgbClr val="e5e5ff"/>
                </a:solidFill>
                <a:latin typeface="Garamond"/>
              </a:rPr>
              <a:t>БИОГРАФИЯ ПОЭТЕССЫ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837720"/>
            <a:ext cx="46972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6 сентября 1892 года, с субботы на воскресенье, в полночь, на Иоанна Богослова, в небольшом московском доме  родилась Марина Цветае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Красною кист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Рябина зажгла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Падали листь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Я родила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Спорили сот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Колокол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День был субботний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Иоанн Богосл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Picture 5" descr="Картинка 1 из 354"/>
          <p:cNvPicPr/>
          <p:nvPr/>
        </p:nvPicPr>
        <p:blipFill>
          <a:blip r:embed="rId1"/>
          <a:stretch/>
        </p:blipFill>
        <p:spPr>
          <a:xfrm>
            <a:off x="4697280" y="9907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25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25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25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25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25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25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25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25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25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50920" y="189000"/>
            <a:ext cx="86421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сковский дом, особенно при жизни матери, умершей, когда Марине было четырнадцать лет, был в полном смысле очагом, родительским гнездом. Семья была высококультурной, с богатыми семейными традициями. Отец - Иван Владимирович, профессор в университете, мать – Мария Александровна, редкостно одаренная в музыке. Все благоприятствовало быстрому и гармоничному духовному развитию детского ума, способностей, дарований. Марина росла среди книг и музыки, поэтому креп ее талант. В первой своей книге Марина Цветаева назвала собственное детство «сказк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Рисунок24"/>
          <p:cNvPicPr/>
          <p:nvPr/>
        </p:nvPicPr>
        <p:blipFill>
          <a:blip r:embed="rId1"/>
          <a:stretch/>
        </p:blipFill>
        <p:spPr>
          <a:xfrm rot="20556000">
            <a:off x="1109160" y="3938760"/>
            <a:ext cx="2154240" cy="2657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Рисунок23"/>
          <p:cNvPicPr/>
          <p:nvPr/>
        </p:nvPicPr>
        <p:blipFill>
          <a:blip r:embed="rId2"/>
          <a:stretch/>
        </p:blipFill>
        <p:spPr>
          <a:xfrm rot="1065600">
            <a:off x="5611680" y="3932280"/>
            <a:ext cx="2162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ee7f9"/>
                </a:solidFill>
                <a:latin typeface="Garamond"/>
              </a:rPr>
              <a:t>   </a:t>
            </a:r>
            <a:r>
              <a:rPr b="1" lang="ru-RU" sz="2900" spc="-1" strike="noStrike">
                <a:solidFill>
                  <a:srgbClr val="eee7f9"/>
                </a:solidFill>
                <a:latin typeface="Garamond"/>
              </a:rPr>
              <a:t>ТВОРЧЕСКИЙ ПУТЬ ПОЭТЕССЫ</a:t>
            </a:r>
            <a:r>
              <a:rPr b="1" lang="ru-RU" sz="2900" spc="-1" strike="noStrike">
                <a:solidFill>
                  <a:srgbClr val="244583"/>
                </a:solidFill>
                <a:latin typeface="Garamond"/>
              </a:rPr>
              <a:t>.</a:t>
            </a:r>
            <a:endParaRPr b="1" lang="en-US" sz="2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6854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910 году тайком от родителей Марина Цветаева выпустила свой  первый поэтический сборник «Вечерний альбом». Он стал для Марины историей ее законченного дет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Картинка 1 из 62"/>
          <p:cNvPicPr/>
          <p:nvPr/>
        </p:nvPicPr>
        <p:blipFill>
          <a:blip r:embed="rId1"/>
          <a:stretch/>
        </p:blipFill>
        <p:spPr>
          <a:xfrm>
            <a:off x="1066680" y="2514600"/>
            <a:ext cx="2371680" cy="38098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4191120" y="2514600"/>
            <a:ext cx="449568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Мам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таром вальсе штраусовском вперв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услышали твой тихий зов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той поры нам чужды все жив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отраден беглый бой ча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, как ты, приветствуем закаты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пиваясь близостью конц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е, чем в лучший вечер мы богаты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м тобою вложено в серд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е бледней лазурный остров — детство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одни на палубе стоим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идно грусть оставила в наследство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ы, о мама, девочкам свои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5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4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2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 мая 1911 года в Коктебеле, куда Марина приехала в гости к поэту М. Волошину,  решилась судьба поэтессы. Здесь она встретилась с Сергеем Эфроном. В январе 1912 года в Москве они обвенчалис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304920" y="340992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ша встреча – чу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 – мой самый родной на всю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Картинка 8 из 62"/>
          <p:cNvPicPr/>
          <p:nvPr/>
        </p:nvPicPr>
        <p:blipFill>
          <a:blip r:embed="rId1"/>
          <a:stretch/>
        </p:blipFill>
        <p:spPr>
          <a:xfrm>
            <a:off x="3733920" y="2819520"/>
            <a:ext cx="50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952880" y="457200"/>
            <a:ext cx="335304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период с сентября по  декабрь семья Цветаевой живет в Крыму, где поэтесса  выступает на литературных вечерах и пишет много стихов на тему любв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ероиня Цветаевой не существовала вне любви, что для нее означало вне жизни. Предчувствие любви,  ревность, разочарование в любви, боль разлуки – все присутствует в ее любовной лирик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5" descr="Картинка 3 из 5"/>
          <p:cNvPicPr/>
          <p:nvPr/>
        </p:nvPicPr>
        <p:blipFill>
          <a:blip r:embed="rId1"/>
          <a:stretch/>
        </p:blipFill>
        <p:spPr>
          <a:xfrm>
            <a:off x="914400" y="53352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x_a73351e6"/>
          <p:cNvPicPr/>
          <p:nvPr/>
        </p:nvPicPr>
        <p:blipFill>
          <a:blip r:embed="rId1"/>
          <a:stretch/>
        </p:blipFill>
        <p:spPr>
          <a:xfrm>
            <a:off x="5105520" y="380880"/>
            <a:ext cx="3795480" cy="61437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304920" y="304920"/>
            <a:ext cx="4495680" cy="62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Любовь!       Любовь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И в судорогах, и в гроб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Насторожусь –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прельщусь 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смущусь 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   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рванус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О милая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Ни в гробовом сугробе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Ни в облачн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С тобою не прощусь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7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это время шла война – мировая, потом гражданская. Жалость и печаль переполняли ее сло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сонница меня толкнула в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, как же ты прекрасен, тусклый Кремль мой!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ночью я целую в груд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 круглую воюющую землю!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Сегодня, ночью я одна в ночи…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дствия народа – вот что, прежде всего, пронзило ее ду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прогневили тебя эти серые хаты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поди! – и для чего стольким простреливать груд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езд прошел, и завыли, завыли солда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плыл, заплыл отступающий пу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Белое солнце и низкие, низкие тучи…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30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3000"/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0" y="0"/>
            <a:ext cx="9144000" cy="696348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ды революции и гражданской войны (1917 - 1920) были в жизни Цветаевой трудными и драматичны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3 апреля 1917 года у Цветаевой родилась вторая дочь Ирина, и сентябрь — октябрь М. Цветаева живет в Феодосии. После Октябрьского переворота, воспринятого М. Цветаевой как непоправимая катастрофа, она приезжает в Москву и чудом застает там мужа, появляются ее трагические стихи о конце, гибели, муках. Октябрьскую  революцию Марина Цветаева не приняла и не поня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 Цветаевой Сергей Эфрон находился в рядах белой Добровольческой армии, и от него с 1918 года  не было ве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и из цикла «Лебединый стан», посвященного именно Белой армии, она демонстративно читала на публичных вечер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, чьи широкие шин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минали пару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ьи шпоры весело звен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л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ьи глаза, как бриллиан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рдце оставляли след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аровательные фр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увших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ожесточеньем в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брали сердце и скалу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и на каждом бранн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ба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6</cp:lastModifiedBy>
  <dcterms:modified xsi:type="dcterms:W3CDTF">2012-11-08T08:56:50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