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B62-E682-4CC0-9D5A-BBC6294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407-3FB6-46BA-9C25-3A4512D6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91AB7-90FE-4DB0-A03D-4116F08B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75F4-DB1B-4E7D-BAA0-A2E5BE7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5C563-905A-4C2E-89B6-73DF0B29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5FD9-0D7F-4301-9401-37EB2D09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05F0-2BCB-4BFA-B55C-1A4763E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6E5EC-9C42-4C34-B67D-105DCEC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D5E65-6422-4A9E-9FB7-566328DC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A6AF-FFFB-4D15-B0CF-1F6BF9CB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1EA7E-0267-4A96-A97C-CF2C34AB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F4875-8DAC-4412-8212-65AA4826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1C6-ABDB-4A8E-B6C2-AFDA2911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5A9D7-CEB3-4744-8BB0-53F6C999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9943BE-D7AE-4B0F-853D-E2AB11F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925A0-900B-47C5-BA40-50C57FD3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2EC8F-287F-42D5-9E79-0583E6A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3826E3-1E5D-444A-9E45-CAA82BC0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CB7B26-D8E0-4A30-AC6C-387B7C5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7FC9A-605A-43DC-9795-B73570C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D721E-0017-4B5C-9C59-9D3EC07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32A301-731A-4F66-B4B0-4B33918F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3FD3E-A043-4433-B702-C57517D5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5C4-C25D-40C8-B089-A493EA72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01CD1-EEC8-40DC-B952-C9790A42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213F9-3710-4E17-94F3-5593152A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B5973-C78E-4AA8-89AF-E63A35A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58E528-677D-4762-8E6D-1BE6722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0F78DC-7827-4406-8508-511E6DE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AA1AD-179F-418D-89AD-7FF5BF4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478F84-B61B-4922-A016-EDB8ACE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00E2E7-2A1F-4E59-92E4-5857ABF8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5473EF-8440-4615-8634-6B530EC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C96792-A269-4F1A-AF6A-5B65F55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32C-B00F-4583-8F71-84089807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AD5BD0-9222-4264-A7C1-F630DCD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B3E85C-4E2E-453E-B912-C31B38C8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F3DE78-1B27-4FBD-AAC6-81FCDF33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1509C-D8E0-44D9-9E48-A8B79D2F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D34A4-6CF5-44F5-AB7A-06A5B26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4487-A413-4788-AF78-3121AB29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FE2AD-A53C-42F4-8211-4842C7BD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8F1C-849C-4EFD-AA53-CF2C211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3A2F2-7914-466A-B32F-7F3F9792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8AA07-EFC7-456A-A997-C29A2D9E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29DF-98C4-4464-B2C1-B9008DE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B370-5E7C-44C6-9C8A-2922336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9EC86-3533-4D44-A2DE-3B12168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C0AB0-97BC-49AF-B7E4-3431E19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2546F-BEC3-43F7-8593-3387AEE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2F4F5-EE94-4720-BEAD-0B6A7EC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4C35F-7955-445F-A43F-94A50DB1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B293A-B411-4D77-805A-CC6732E2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66404-B990-4FE2-9992-A13339F9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164B7-6BFB-479F-BA44-404948EC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22809-FF83-48CF-9F37-4B2DA9E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8B0-288D-4D98-B5D1-C5164385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7B3BB-A09B-4592-B561-2D53B5DE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533AB-21CC-4ADD-8826-ABDE979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FA7BE-BB64-4AD2-9D68-2E9C6DD9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90BD0-9274-460D-A5B9-D12B3D2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C5047-4E95-4A34-992A-77ED966A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8A6E6-AC18-4787-9E27-25B93F5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242CB-1C78-4A43-AD77-7F5E26AD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AA7B0-112C-4B02-BA34-E66E0584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4BEF7-D217-4D43-A628-4E4A91D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72E28-6C17-414B-971C-C6C7E291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1AC2-D86D-439B-9B5C-E1B0C52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1275E-1C8A-4393-B278-51BF4B4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B2865-37C9-4BE8-A9C1-25F8B095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AECAA-59C6-4276-A9B1-A727119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1F61B-658D-4BE0-B657-74B651B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4CD29-9604-4815-B68C-88042D43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0B76C-002E-4F4C-8A71-2885391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8B567-17FF-49DB-81D4-CF2250A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50252-5E11-46AA-816C-5CAF3A7B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31BB1-1CEC-4445-8E98-749A6FC7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007C2-D467-461B-913D-87433887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5E1-4F84-4731-80A2-D8553B5C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9C87A-A227-4EBE-BC58-7E5321AB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C15DA-D39F-40D8-A5D9-E359CA28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26ECE-8A65-4E51-AFE2-9C2A9CD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F4BF1-A981-473A-803C-01131F2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CB73D-52F2-4703-96D6-48F7E99E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A9548-056A-4795-9649-2C6EA2A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14533-C6C8-40D8-BF56-5FB75BA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D2025-8736-4F4E-9851-63869BC1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14FA8-ECA7-40CF-8A79-E9A1085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1F3C9-3081-45F0-A55C-1BDB552D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000A-05CC-4095-8560-57CE4F07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553B2-CEF5-4C7C-8E5B-A729DF54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8305-0B52-4A59-BE5E-806FAB22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C18-748E-47CF-8314-F8DDFF0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A772-F666-4EE0-BDC0-B9E0905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C04-38B5-447A-85CF-A186CF0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7DE-B856-4D5F-8008-341D704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E89-3773-4BE3-BE24-2C8C91A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717-92B4-4AEF-A3FA-37A3DE5E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2D2A-E3C1-4DC4-B489-7974ACFD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2FC6-C141-4C51-9CF2-F17B20B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E225-63D5-4A41-88CD-8831582A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E0A3-7602-496E-8ED5-7115CB6E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FA1C-0B5A-4173-B8D1-C8CE56B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23C-14F5-4330-80F8-255A1C0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32FA-CBAF-4BB8-AFF8-249E18B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92A2-D202-4841-8294-C34C195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551B-3C00-4672-929F-15394E2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4155-1D79-4EAF-A1D7-52F3226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9D4D-A664-42C4-B593-4C6B98B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7FF3-1C7D-44C8-833D-13A03689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5B25-CAEC-4CE5-BBE7-E966352B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4042-731C-42D1-86D3-020CCFC1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CB02-E850-4B14-AF4B-6F6CC40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B209-56B7-4564-9DAA-3DC8758B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C25-B995-4677-9367-B11E1D6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0D73-53C2-4CD4-B08C-92D7DFB0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6A2E-C5AF-45D1-B65A-64238ADB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C5E5-6FBD-4DD0-A03B-0BB442A7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C1E9-E261-4BA5-B79F-12C1244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3E5B-8740-42EA-B180-D794FBC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832E-26ED-4728-B59E-53BAC72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9E8B-EEFA-4D5D-981E-E94C152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0773-B37E-4774-AEF1-2C97F5E6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88C0-401F-41D0-94EB-2D2FB8F6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B0F0-3BBD-4518-A036-663FF19C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BC2-61F3-413B-9636-57731894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0C50-08EA-493F-918F-F849BDD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A8A2-150A-4A34-B717-6832B29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7980-76BE-4B83-A5FD-04A07C6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009C-4C85-4255-B4BE-29D50D44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206A-E9F9-4651-849B-F94B9BE1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926D-5711-453F-8F3C-8C1E8B2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9E6E-5CE8-4356-8866-73358DE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A839-64F6-4D2B-ABD8-0AFFD4BA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1D2F-4DBE-4C87-8727-D64FFF83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F2D5-9F3C-4F97-9587-E8B70EBE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23-9C80-47CD-A011-93FE346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4FC2-5526-4936-AA74-B009A688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F8ED-2C3C-4031-B611-511DE489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09CF-12B8-451E-BC20-25CD0FEE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66C1-14EA-4142-830A-69EF37B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A25D-53A1-4A1A-8E97-6A1F438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249C-65DF-46B7-B07A-B97DFA6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9FA0-E458-403E-ABC5-A6465A6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169F-F405-42A4-8977-709B243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69324-0E0C-4133-97EB-252A95B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63418-289E-408C-B80B-0C3E84F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0F9-C6E7-40CC-B9BA-A9398C8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0CC4-9F5F-4732-AEE6-67561CF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12E5-BC40-4F8A-936F-35B5A5F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3C23A-0389-41EF-9DCE-483CF680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5475-6E52-4003-A45B-DBA17528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85F1-5FFD-4038-9F23-F9AA4B0C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1547-DE93-4E3D-8A29-9411C9B4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F995-778E-49BA-B2FA-77BA535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4264-6780-4685-A80E-E0D0D7A5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0381-9F4E-4FBD-94E4-803BBD1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DC6D-3FD1-4CD6-A84C-DAC285A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600-0014-4F40-B083-175FFE85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2254-3EA1-4523-A70C-9517EA3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CAEC-EFB6-484D-898A-FC28AC1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84E4-F5E0-4D12-BE14-F3C0014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4A4B-4E48-4F9F-AABA-272E6908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5E1C-9311-47E9-8909-00F2EAED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F323-11FA-4E92-ADAC-CDE03FE0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DA3F-E8A5-4DC3-974F-15C906A3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4C62-C054-4A1A-8B4C-91DEB0AA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1BF6-F559-4DD9-A38B-2DAFE0B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9A2C-0567-4629-958C-C412606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885-AC11-42DA-885D-D1579D01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A91D-23AF-49F1-990F-180DE70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5D8D6-23C6-4CD2-BAEB-7F8BFCC8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2890-D632-4244-86C5-15B2EF1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34B1D-5B7C-41A5-964B-138C61F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97B3-B941-4DCD-8565-376B7BD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B80B-5EF2-4CA1-970A-9667E4AF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1FEA-8DFB-4944-9276-D1AD46C9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7DE4-6915-4DE9-A530-98A74DC8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A3E6A-48D5-4834-A1B5-137BD3D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CFB16-8FBF-4A42-ADCE-ED21D35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E33-80B5-4748-8DE8-BDA840622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6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283-E4AE-4CF1-9AC5-317510731A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84F-4DDA-46BE-944D-9D7267A81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7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8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2A6-AEBE-4F2D-8754-0ED354836A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BF6A-CE34-4163-8310-5951FD2A4F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0FB-DA80-48CD-A3B3-6D23C02935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1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1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175-3EFA-472B-913E-219CD70A983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EAB-AFF5-467E-B837-9DB110A29B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EC2-463C-478D-922A-29529E6570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27D-81F7-4135-A52A-26D8DEB318E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9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9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9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4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452-FCB5-43F6-A3F2-05D99152DA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58D-C884-42CA-AB48-53498EF515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DDD-4E35-4986-93EB-56CCDC3CC9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A4F1-373F-44F6-B6C9-6A8FFB67BA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176-801D-41A4-A647-036E70B89C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5" descr="1 1027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ТЕМА УРОКА:</a:t>
            </a: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ОСНОВНАЯ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ФУНКЦИЯ  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ЗЕЛЕНОГО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   ЛИСТ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. ЧЕТВЕРТЫЙ КОМПОНЕНТ – ЭТО ВЕЩЕСТВА, КОТОРЫЕ ПОДНИМАЮТСЯ ПО СОСУДАМ КОРНЯ, СТЕБЛЯ И ПОПАДАЮТ В СОСУДЫ ЖИЛОК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755640" y="4292640"/>
            <a:ext cx="7920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А,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СТВОРЕННЫЕ МИНЕРАЛЬНЫЕ ВЕЩ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7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Рисунок 3" descr="http://bio.1september.ru/2001/38/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795" name="AutoShape 6"/>
          <p:cNvSpPr/>
          <p:nvPr/>
        </p:nvSpPr>
        <p:spPr>
          <a:xfrm rot="10378200">
            <a:off x="1365120" y="1404720"/>
            <a:ext cx="936720" cy="2232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339120 h 2232000"/>
              <a:gd name="textAreaBottom" fmla="*/ 16916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565" stAng="-5400000" swAng="5400000"/>
                <a:lnTo>
                  <a:pt x="21600" y="13087"/>
                </a:lnTo>
                <a:arcTo wR="21600" hR="6565" stAng="0" swAng="2441057"/>
                <a:lnTo>
                  <a:pt x="7200" y="21225"/>
                </a:lnTo>
                <a:lnTo>
                  <a:pt x="0" y="16391"/>
                </a:lnTo>
                <a:lnTo>
                  <a:pt x="7200" y="10807"/>
                </a:lnTo>
                <a:lnTo>
                  <a:pt x="7200" y="12755"/>
                </a:lnTo>
                <a:arcTo wR="21600" hR="6565" stAng="2441057" swAng="-1848987"/>
                <a:lnTo>
                  <a:pt x="18747" y="9826"/>
                </a:lnTo>
                <a:arcTo wR="21600" hR="6565" stAng="-592070" swAng="-4807930"/>
                <a:close/>
              </a:path>
              <a:path fill="darkenLess" w="21600" h="21600">
                <a:moveTo>
                  <a:pt x="0" y="0"/>
                </a:moveTo>
                <a:arcTo wR="21600" hR="6565" stAng="-5400000" swAng="5400000"/>
                <a:lnTo>
                  <a:pt x="21600" y="13087"/>
                </a:lnTo>
                <a:arcTo wR="21600" hR="6565" stAng="0" swAng="-592070"/>
                <a:lnTo>
                  <a:pt x="18747" y="9826"/>
                </a:lnTo>
                <a:arcTo wR="21600" hR="6565" stAng="-592070" swAng="-4807930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 rot="1558800">
            <a:off x="1290240" y="3419640"/>
            <a:ext cx="873000" cy="1836720"/>
          </a:xfrm>
          <a:prstGeom prst="upArrow">
            <a:avLst>
              <a:gd name="adj1" fmla="val 50000"/>
              <a:gd name="adj2" fmla="val 52598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9"/>
          <p:cNvSpPr/>
          <p:nvPr/>
        </p:nvSpPr>
        <p:spPr>
          <a:xfrm rot="1540200">
            <a:off x="4716360" y="3428640"/>
            <a:ext cx="1224000" cy="1655640"/>
          </a:xfrm>
          <a:prstGeom prst="upArrow">
            <a:avLst>
              <a:gd name="adj1" fmla="val 38000"/>
              <a:gd name="adj2" fmla="val 3781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10"/>
          <p:cNvSpPr/>
          <p:nvPr/>
        </p:nvSpPr>
        <p:spPr>
          <a:xfrm rot="18433800">
            <a:off x="6868440" y="3435840"/>
            <a:ext cx="808200" cy="2089440"/>
          </a:xfrm>
          <a:custGeom>
            <a:avLst/>
            <a:gdLst>
              <a:gd name="textAreaLeft" fmla="*/ 108000 w 808200"/>
              <a:gd name="textAreaRight" fmla="*/ 700200 w 808200"/>
              <a:gd name="textAreaTop" fmla="*/ 339120 h 2089440"/>
              <a:gd name="textAreaBottom" fmla="*/ 154152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11" stAng="-5400000" swAng="-5400000"/>
                <a:lnTo>
                  <a:pt x="0" y="12430"/>
                </a:lnTo>
                <a:arcTo wR="21600" hR="7011" stAng="10800000" swAng="-1511981"/>
                <a:lnTo>
                  <a:pt x="9336" y="20360"/>
                </a:lnTo>
                <a:lnTo>
                  <a:pt x="21600" y="16731"/>
                </a:lnTo>
                <a:lnTo>
                  <a:pt x="9336" y="10621"/>
                </a:lnTo>
                <a:lnTo>
                  <a:pt x="9336" y="12781"/>
                </a:lnTo>
                <a:arcTo wR="21600" hR="7011" stAng="9288019" swAng="1047269"/>
                <a:lnTo>
                  <a:pt x="1678" y="9720"/>
                </a:lnTo>
                <a:arcTo wR="21600" hR="7011" stAng="-10335288" swAng="4935288"/>
                <a:close/>
              </a:path>
              <a:path fill="darkenLess" w="21600" h="21600">
                <a:moveTo>
                  <a:pt x="21600" y="0"/>
                </a:moveTo>
                <a:arcTo wR="21600" hR="7011" stAng="-5400000" swAng="-5400000"/>
                <a:lnTo>
                  <a:pt x="0" y="7011"/>
                </a:lnTo>
                <a:arcTo wR="21600" hR="7011" stAng="10800000" swAng="-464712"/>
                <a:lnTo>
                  <a:pt x="1678" y="9720"/>
                </a:lnTo>
                <a:arcTo wR="21600" hR="7011" stAng="-10335288" swAng="49352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11"/>
          <p:cNvSpPr/>
          <p:nvPr/>
        </p:nvSpPr>
        <p:spPr>
          <a:xfrm rot="2834400">
            <a:off x="7549560" y="369720"/>
            <a:ext cx="722160" cy="2484360"/>
          </a:xfrm>
          <a:prstGeom prst="downArrow">
            <a:avLst>
              <a:gd name="adj1" fmla="val 50000"/>
              <a:gd name="adj2" fmla="val 8600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AutoShape 12"/>
          <p:cNvSpPr/>
          <p:nvPr/>
        </p:nvSpPr>
        <p:spPr>
          <a:xfrm rot="2834400">
            <a:off x="7900560" y="676080"/>
            <a:ext cx="722160" cy="2484360"/>
          </a:xfrm>
          <a:prstGeom prst="downArrow">
            <a:avLst>
              <a:gd name="adj1" fmla="val 50000"/>
              <a:gd name="adj2" fmla="val 8600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AutoShape 13"/>
          <p:cNvSpPr/>
          <p:nvPr/>
        </p:nvSpPr>
        <p:spPr>
          <a:xfrm rot="2834400">
            <a:off x="8078400" y="1363320"/>
            <a:ext cx="722160" cy="2160720"/>
          </a:xfrm>
          <a:prstGeom prst="downArrow">
            <a:avLst>
              <a:gd name="adj1" fmla="val 50000"/>
              <a:gd name="adj2" fmla="val 748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WordArt 4"/>
          <p:cNvSpPr txBox="1"/>
          <p:nvPr/>
        </p:nvSpPr>
        <p:spPr>
          <a:xfrm>
            <a:off x="1763640" y="981000"/>
            <a:ext cx="5977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ОБРАЗУЕТС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ИСТЕ С УЧАСТИЕ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ИХ ВЕЩЕСТВ?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3" name="Picture 29" descr="j0285444"/>
          <p:cNvPicPr/>
          <p:nvPr/>
        </p:nvPicPr>
        <p:blipFill>
          <a:blip r:embed="rId9"/>
          <a:srcRect l="50060" t="0" r="0" b="0"/>
          <a:stretch/>
        </p:blipFill>
        <p:spPr>
          <a:xfrm>
            <a:off x="7667640" y="4437000"/>
            <a:ext cx="8967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2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5000760" y="1928880"/>
            <a:ext cx="4143240" cy="3571920"/>
          </a:xfrm>
          <a:prstGeom prst="rect">
            <a:avLst/>
          </a:prstGeom>
          <a:ln w="0">
            <a:noFill/>
          </a:ln>
        </p:spPr>
      </p:pic>
      <p:sp>
        <p:nvSpPr>
          <p:cNvPr id="806" name="WordArt 2"/>
          <p:cNvSpPr txBox="1"/>
          <p:nvPr/>
        </p:nvSpPr>
        <p:spPr>
          <a:xfrm rot="736800">
            <a:off x="5874840" y="3409560"/>
            <a:ext cx="2603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ахма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7" name="Стрелка вниз 4"/>
          <p:cNvSpPr/>
          <p:nvPr/>
        </p:nvSpPr>
        <p:spPr>
          <a:xfrm rot="19743000">
            <a:off x="-6120" y="17640"/>
            <a:ext cx="9464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Diagram 5"/>
          <p:cNvGrpSpPr/>
          <p:nvPr/>
        </p:nvGrpSpPr>
        <p:grpSpPr>
          <a:xfrm>
            <a:off x="1044720" y="2117520"/>
            <a:ext cx="4340160" cy="3858120"/>
            <a:chOff x="1044720" y="2117520"/>
            <a:chExt cx="4340160" cy="3858120"/>
          </a:xfrm>
        </p:grpSpPr>
        <p:sp>
          <p:nvSpPr>
            <p:cNvPr id="809" name="_s1028"/>
            <p:cNvSpPr/>
            <p:nvPr/>
          </p:nvSpPr>
          <p:spPr>
            <a:xfrm>
              <a:off x="1594080" y="2117520"/>
              <a:ext cx="3241440" cy="324252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1029"/>
            <p:cNvSpPr/>
            <p:nvPr/>
          </p:nvSpPr>
          <p:spPr>
            <a:xfrm rot="10800000">
              <a:off x="1594080" y="2733120"/>
              <a:ext cx="3241440" cy="324252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gradFill rotWithShape="0">
              <a:gsLst>
                <a:gs pos="0">
                  <a:srgbClr val="00c600"/>
                </a:gs>
                <a:gs pos="100000">
                  <a:srgbClr val="000099"/>
                </a:gs>
              </a:gsLst>
              <a:lin ang="189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_s1030"/>
            <p:cNvSpPr/>
            <p:nvPr/>
          </p:nvSpPr>
          <p:spPr>
            <a:xfrm>
              <a:off x="3938760" y="3324240"/>
              <a:ext cx="14461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1031"/>
            <p:cNvSpPr/>
            <p:nvPr/>
          </p:nvSpPr>
          <p:spPr>
            <a:xfrm>
              <a:off x="1044720" y="3324240"/>
              <a:ext cx="14461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WordArt 19"/>
            <p:cNvSpPr txBox="1"/>
            <p:nvPr/>
          </p:nvSpPr>
          <p:spPr>
            <a:xfrm>
              <a:off x="1619280" y="3573360"/>
              <a:ext cx="309744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УГЛЕВОДЫ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14" name="WordArt 14"/>
          <p:cNvSpPr txBox="1"/>
          <p:nvPr/>
        </p:nvSpPr>
        <p:spPr>
          <a:xfrm>
            <a:off x="1116000" y="620640"/>
            <a:ext cx="705636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ческие веществ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WordArt 16"/>
          <p:cNvSpPr txBox="1"/>
          <p:nvPr/>
        </p:nvSpPr>
        <p:spPr>
          <a:xfrm>
            <a:off x="5292720" y="422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КИ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WordArt 17"/>
          <p:cNvSpPr txBox="1"/>
          <p:nvPr/>
        </p:nvSpPr>
        <p:spPr>
          <a:xfrm>
            <a:off x="2340000" y="2492280"/>
            <a:ext cx="15429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АХ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7" name="WordArt 18"/>
          <p:cNvSpPr txBox="1"/>
          <p:nvPr/>
        </p:nvSpPr>
        <p:spPr>
          <a:xfrm rot="20641800">
            <a:off x="2484360" y="4941720"/>
            <a:ext cx="20084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РАХМ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8" name="WordArt 20"/>
          <p:cNvSpPr txBox="1"/>
          <p:nvPr/>
        </p:nvSpPr>
        <p:spPr>
          <a:xfrm>
            <a:off x="6443640" y="53006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РЫ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8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0" name="Рисунок SmartArt 3" descr="Рис. 1. Опыт Пристли с мышами"/>
          <p:cNvPicPr/>
          <p:nvPr/>
        </p:nvPicPr>
        <p:blipFill>
          <a:blip r:embed="rId1"/>
          <a:stretch/>
        </p:blipFill>
        <p:spPr>
          <a:xfrm>
            <a:off x="571680" y="0"/>
            <a:ext cx="80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24000" y="3573000"/>
            <a:ext cx="84247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ОТОСИНТЕЗ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ПРОЦЕСС ОБРАЗОВАНИЯ ОРГАНИЧЕСКИХ ВЕЩЕСТВ ИЗ ВОДЫ И УГЛЕКИСЛОГО ГАЗА ПОД ДЕЙСТВИЕМ СОЛНЕЧНОГО СВЕ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071800" y="857160"/>
            <a:ext cx="68580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Когда – то, где – то на Землю упал луч солнца, но он упал не на бесплодную почву, он упал на зеленую былинку пшеничного ростка, или, лучше сказать, на хлорофилловое зерно. Ударяясь о него, он потух, перестал быть светом, но не исчез…В той или другой форме он вошел в состав хлеба, который послужил нам пищей. Он преобразился в наши мускулы, в наши нервы… Этот луч солнца согревает нас. Он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приводит нас в движение. Быть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может, в эту минуту он играет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в нашем мозгу.</a:t>
            </a:r>
            <a:br>
              <a:rPr sz="2400"/>
            </a:b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                                             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                                               К.А.Тимирязе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23" name="Рисунок 4" descr="К.А. Тимирязев за работой"/>
          <p:cNvPicPr/>
          <p:nvPr/>
        </p:nvPicPr>
        <p:blipFill>
          <a:blip r:embed="rId1"/>
          <a:stretch/>
        </p:blipFill>
        <p:spPr>
          <a:xfrm>
            <a:off x="0" y="4429080"/>
            <a:ext cx="35481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25" name="Содержимое 3" descr="Рис. 2. Опыт Гельмонта с ивовой ветк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такое фотосинтез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образуется в листьях при фотосинтез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условия необходимы для фотосинтеза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WordArt 4"/>
          <p:cNvSpPr txBox="1"/>
          <p:nvPr/>
        </p:nvSpPr>
        <p:spPr>
          <a:xfrm>
            <a:off x="0" y="1844640"/>
            <a:ext cx="85154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ИЕ КОМПОНЕНТ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УЖНЫ ДЛЯ ВЫПОЛН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НОВНОЙ ФУНКЦИ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ЕЛЕНОГО ЛИСТА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grpSp>
        <p:nvGrpSpPr>
          <p:cNvPr id="768" name="Group 7"/>
          <p:cNvGrpSpPr/>
          <p:nvPr/>
        </p:nvGrpSpPr>
        <p:grpSpPr>
          <a:xfrm>
            <a:off x="179280" y="260280"/>
            <a:ext cx="1806480" cy="1577880"/>
            <a:chOff x="179280" y="260280"/>
            <a:chExt cx="1806480" cy="1577880"/>
          </a:xfrm>
        </p:grpSpPr>
        <p:sp>
          <p:nvSpPr>
            <p:cNvPr id="769" name="AutoShape 6"/>
            <p:cNvSpPr/>
            <p:nvPr/>
          </p:nvSpPr>
          <p:spPr>
            <a:xfrm>
              <a:off x="179280" y="260280"/>
              <a:ext cx="180648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8"/>
            <p:cNvSpPr/>
            <p:nvPr/>
          </p:nvSpPr>
          <p:spPr>
            <a:xfrm>
              <a:off x="206280" y="264960"/>
              <a:ext cx="1776240" cy="1443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9"/>
            <p:cNvSpPr/>
            <p:nvPr/>
          </p:nvSpPr>
          <p:spPr>
            <a:xfrm>
              <a:off x="912600" y="406080"/>
              <a:ext cx="858960" cy="86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0"/>
            <p:cNvSpPr/>
            <p:nvPr/>
          </p:nvSpPr>
          <p:spPr>
            <a:xfrm>
              <a:off x="1446120" y="307800"/>
              <a:ext cx="1317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"/>
            <p:cNvSpPr/>
            <p:nvPr/>
          </p:nvSpPr>
          <p:spPr>
            <a:xfrm>
              <a:off x="1465200" y="418680"/>
              <a:ext cx="1029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>
              <a:off x="1228320" y="636120"/>
              <a:ext cx="387360" cy="48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>
              <a:off x="1025280" y="601200"/>
              <a:ext cx="371520" cy="15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>
              <a:off x="179280" y="676080"/>
              <a:ext cx="11088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5"/>
            <p:cNvSpPr/>
            <p:nvPr/>
          </p:nvSpPr>
          <p:spPr>
            <a:xfrm>
              <a:off x="282240" y="676080"/>
              <a:ext cx="827280" cy="9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6"/>
            <p:cNvSpPr/>
            <p:nvPr/>
          </p:nvSpPr>
          <p:spPr>
            <a:xfrm>
              <a:off x="274320" y="858600"/>
              <a:ext cx="436680" cy="80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7"/>
            <p:cNvSpPr/>
            <p:nvPr/>
          </p:nvSpPr>
          <p:spPr>
            <a:xfrm>
              <a:off x="661680" y="1634760"/>
              <a:ext cx="311040" cy="2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0" name="Рисунок 4" descr="{92220EFA-0342-46ED-AC0B-A3083461F6C1}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831" name="Line 5"/>
          <p:cNvSpPr/>
          <p:nvPr/>
        </p:nvSpPr>
        <p:spPr>
          <a:xfrm>
            <a:off x="1332000" y="1916280"/>
            <a:ext cx="431640" cy="144144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34,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ИТЬ НА ВОПРОСЫ В КОНЦЕ ПАРАГРАФ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1. ДЛЯ ПОЛУЧЕНИЯ ПЕРВОГО КОМПОНЕНТА РАСТЕНИЯ ПРИСПОСОБИЛИСЬ СПЕЦИАЛЬНО РАСПОЛАГАТЬ ЛИСТЬЯ В ВИДЕ МОЗАИКИ ИЛИ ПРИКОРНЕВЫХ РОЗЕ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ДЛЯ ПОЛУЧЕНИЯ ПЕРВОГО КОМПОНЕНТА РАСТЕНИЯ ПРИСПОСОБИЛИСЬ СПЕЦИАЛЬНО РАСПОЛАГАТЬ ЛИСТЬЯ В ВИДЕ МОЗАИКИ ИЛИ ПРИКОРНЕВЫХ РОЗЕТОК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3"/>
          <p:cNvSpPr txBox="1"/>
          <p:nvPr/>
        </p:nvSpPr>
        <p:spPr>
          <a:xfrm>
            <a:off x="6227640" y="5013360"/>
            <a:ext cx="259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. БОЛЬШИНСТВО РАСТЕНИЙ ИМЕЮТ ЛИСТЬЯ ЗЕЛЕНОГО ЦВЕТА.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БЛАГОДАРЯ КАКОМУ ВЕЩЕСТВУ ОНИ ИМЕЮТ ТАКУЮ ОКРАС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. БОЛЬШИНСТВО РАСТЕНИЙ ИМЕЮТ ЛИСТЬЯ ЗЕЛЕНОГО ЦВЕТА.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БЛАГОДАРЯ КАКОМУ ВЕЩЕСТВУ ОНИ ИМЕЮТ ТАКУЮ ОКРАС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WordArt 3"/>
          <p:cNvSpPr txBox="1"/>
          <p:nvPr/>
        </p:nvSpPr>
        <p:spPr>
          <a:xfrm>
            <a:off x="2627280" y="494172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ЛОРОФИЛЛ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7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ТРЕТИЙ КОМПОНЕНТ – ЭТО ГАЗ, КОТОРЫЙ ВЫДЕЛЯЮТ В АТМОСФЕРУ ПРИ ДЫХАНИИ ВСЕ ЖИВЫЕ ОРГАН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ТРЕТИЙ КОМПОНЕНТ – ЭТО ГАЗ, КОТОРЫЙ ВЫДЕЛЯЮТ В АТМОСФЕРУ ПРИ ДЫХАНИИ ВСЕ ЖИВЫЕ ОРГАН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3"/>
          <p:cNvSpPr txBox="1"/>
          <p:nvPr/>
        </p:nvSpPr>
        <p:spPr>
          <a:xfrm>
            <a:off x="684360" y="486900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ЕКИСЛЫЙ Г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7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. ЧЕТВЕРТЫЙ КОМПОНЕНТ – ЭТО ВЕЩЕСТВА, КОТОРЫЕ ПОДНИМАЮТСЯ ПО СОСУДАМ КОРНЯ, СТЕБЛЯ И ПОПАДАЮТ В СОСУДЫ ЖИЛОК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5:07:48Z</dcterms:created>
  <dc:creator>Юлия</dc:creator>
  <dc:description/>
  <dc:language>en-US</dc:language>
  <cp:lastModifiedBy>User</cp:lastModifiedBy>
  <dcterms:modified xsi:type="dcterms:W3CDTF">2008-02-19T20:14:33Z</dcterms:modified>
  <cp:revision>20</cp:revision>
  <dc:subject/>
  <dc:title>ТЕМА УРОКА: ОСНОВНАЯ ФУНКЦИЯ ЗЕЛЕНОГО ЛИСТА</dc:title>
</cp:coreProperties>
</file>