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1.wmf" ContentType="image/x-wmf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0420-BA54-48EE-9B1D-D10DC63C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F042-97C3-4087-BC32-67E7EB3C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5B366-39FB-44D4-9205-793C571A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EFEF2-E5B7-47C2-9BCB-392C6161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B7CB3-A539-4AC6-BC30-BCC6FC9E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C1056-3D3C-421D-895D-258FF323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8420F-6328-47B6-83F1-A2E8C373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F81E4-245D-4CE6-8138-3A51C351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683D7-7CA1-4A1C-A440-1CBCCF96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6FD55-7A23-4FF0-9B35-CA174A05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3DF29-66E5-4762-905D-813A5BE7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80E4A5-6193-4709-BFC2-133BCC29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08D-2C83-4A1B-91C1-906BC272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A2EF0B-9805-4D93-AF49-7F682DB6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3993B4-4111-4D1E-894A-7EC3B06C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4CDD11-B22B-40F8-A9E1-E86D7DA4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A3F5E1-EFCA-4072-B75E-2C23786C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2AE58E-5E02-49C9-B974-4B08FBFA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43AD66-A39F-4D18-9804-83E3EB04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AEB417-89B9-45DC-A65A-59697A96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8B71E9-7663-4AB0-BF29-C3F763CB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BAEE25-6821-4ADB-BEDF-A341740D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A92A84-2D52-4B8C-A333-58EA6AF4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09B-A761-46C8-8941-6EEAC5E8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F80350-7B46-40AF-A89F-7871111A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3E2563-4EC2-467C-B6E4-83E233B0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21347B-6A31-4200-99E2-E4EBB97A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6D7EF9-442F-404D-8F4C-C4C50A75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D3593B-4BB2-4B09-B70F-B4ABCCAB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4AF56D-A1AE-4146-A756-79AAD1C2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FE9AEE-DF05-4976-B08C-7C0B8820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91B272-5635-409A-A91A-7DC4ABAA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CFCA66-CB14-4757-94D2-1563BFE7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CD6E9A-0F62-4278-8BEF-9EAC5B96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4DA6-A663-4290-BE75-575274A4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531B8F-25EF-4280-820A-C3760947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F849D2-3422-434C-B65A-F615D391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F76E42-E1E9-47CE-879A-10D3DF98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AD3B6-38FE-48EF-B4C1-43632E8D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BB0CA-0806-43B1-834E-205F2AC5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5C80F-7D66-4B60-96AB-3E80D01F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0E074-8341-44D4-BC19-3D973F15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EFD2C-3045-4671-AB3E-16A699C2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E7EDF-88A6-49A2-9232-DFB04793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049E8-EBAD-4A3A-9CBC-E64844FF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B230-670A-4942-9F08-1EC65517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338CB-3F2A-42FF-A887-B70E7851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16C53-A3C6-4AEE-BA97-C33A98BA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A580F-82B9-4075-9919-AE6BEF61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A0E55-F63A-4E0B-9ADC-DA81A183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A24E0-661F-4218-AFB9-28CB259A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0B939F-A2AB-4600-9A4F-A6D70981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F7DB9-F614-470B-ABF3-0F59390E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5FFB8-3B0C-4404-A4EC-D006A226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DBA83F-BE54-4ECF-8995-856A3FB6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ED094-CAB0-44D1-86CD-6DC18A17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0761-AC5C-4384-8039-E967092B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A7FC9-F019-4A97-A33D-ACF08DE1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0D9C7-3DC9-4AE0-83D0-B7BBFBD2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022DC2-E755-493E-B60C-28835725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750583-579E-4987-80DF-1018C458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59DF3F-7561-486E-A3CB-8EC0B375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C8598-36A1-4B77-B209-72E6C4B5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A44042-390F-4F57-9A02-CBDD37BD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579C20-CDBB-4DC5-9B95-474F89F3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E1F9AA-6077-459B-B3E5-CFCA2B03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A19126-5B0F-4CDC-93BE-D49C15F7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8628-A666-4E17-8FCF-67746B37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A8B64-ABF8-4D0C-AFD6-FE0FE1B8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6501F-6F87-4821-AA5E-23CAF245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AB6E4-0F77-4851-A943-FCB68367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D62E46-665B-4078-AEDF-A6BF296A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FF9BE5-841D-4665-AEEE-E03A4899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FA442-2730-4872-8976-FB2E0909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0A42AB-B2D8-4BC1-A09F-14DB4274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250D8-4292-42C4-AF89-1BC84DB2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AFBE9D-45D5-41AF-9BC7-2E96B8F9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B5274F-4D0D-4DAE-B764-CF5269D0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6F4E-1A67-4A90-81C4-FDEF4ADC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4002F8-04B3-4797-9719-5D44B61A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B53A51-3072-4E5D-BFBC-6B6B3CDD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BAECA4-7B77-4D98-9ADE-DFF566E8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11F68-C861-4400-94FA-E9C8268C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DFE898-CAC2-49BA-B3E5-78F93A37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D4C47D-4001-4D9A-BF7D-C55C196F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4B468C-CDA5-4EDD-9588-6FC8D007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1A17A5-8AC9-4D32-85F7-228ADCAD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C26234-89E0-413E-86B1-C715AEF3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D1D747-4F63-4E5D-B005-EAFCDE09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77AB-799B-4963-9EA4-8F8D9E03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27C214-7ADA-408F-93C0-2C3C073B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4EFC-1E54-43F4-9F3D-D6E8F8A7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856-B99E-48E1-A82A-0A4C4BDF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BFB7-3EFF-4DA4-998E-38BCA059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C69B-FC46-4893-8D20-7A3CEC7A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00ED-8B16-4A82-B8DB-56BE6BD0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CB29-FC02-44B8-B706-5D9E39D8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0EA7-0C24-49B8-A2F3-9464EDB1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96640-9C56-4CE8-9F3A-12EC7BEA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7D7E0-9F1A-48CB-9BCE-64D5FF45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A299B-5D31-40DB-8937-04DDDB92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B6DFE-2126-40A8-BF7E-8A9730C5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CE767-A776-4434-A615-3F3369D7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A28-4283-43B7-AC8B-2C8BF89B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60CE5-11E7-46B4-8349-997AC569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098A0-9F18-4DBD-895E-7F003967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50461-20CF-4909-AE76-D4807276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FF92B-61FE-4CB0-938A-13A98670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C8F98-B8C2-4005-A8AC-49526DB8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BCE96-0E73-4075-8107-07BB1CA0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7CBDF-EAD8-47A2-BA1B-7D3A3664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E046B-D687-4C04-B51D-5C0CAB90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8B17B-C32F-4055-9B64-3F8C5B99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CC755-1DEA-41DD-9CE0-70FB2E85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075-C8A6-4404-ACE5-FE198708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7BDD6-9AE8-4882-AB4A-C96C7534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03020-B039-4AC3-8114-9CC960D3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4BAD7-5FEC-4E3E-B659-C6F9727B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DB3A4-8AD4-49F2-AB3E-645740EF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41F78-1BC7-42E6-BD9E-32A9D77B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B218F-B1DF-40D1-94BD-FF2E3E68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1F901-C059-4581-BF88-AE448F7B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64565-A2A9-46C4-8B14-C6C91DBD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CC41B-C439-48ED-8B26-7B9C3A81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0B202-BEF3-484E-B196-9A1C093A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E233-5535-4D54-A6E4-514E4E96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448FB-950B-41C7-A0E1-8F271F95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6098B-A3CB-4189-9D60-652D5AD2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EE7B4-CAC6-406C-A48E-9E6E0377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8B0F9-8158-4489-BD7C-02CB3622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7D4DB-54F3-46CF-A5F9-3DDE2E80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21073-6077-4365-92BA-98F2D4C6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D842D-68C3-46A4-A857-47C15303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8F990-4B9E-4342-82C4-EC818F8D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D1D6F-1764-4B7A-A9C3-621380EA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D33EF-AF00-4337-84AC-D0633D3F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367-BE20-4394-AC65-7F81A6EB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2365F-525B-4724-8CBC-6ACA098D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FD2A6-55ED-4C9F-B910-17C1095A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7E17D-5CAB-41B0-86C8-72E194D9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BD09A-37D5-466E-B8CE-A85ED83F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36622-1FD2-4892-AC62-AB0E3AEC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81ADC-AE03-4BE0-9A8E-3D833820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31FA0-AF0A-45AE-B5B0-63DB1087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144A3-0F01-46BE-921D-B02AED08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C0E8B-3028-455A-BF1A-00939540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2C113-9914-412B-940C-A569F86E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750-E517-4F4B-A7ED-F9489D4F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A64D2-0243-4E69-84D5-7176B1CC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CFE70-C53D-454B-BBA1-D9D061FB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65B4E-1B68-40F7-806A-60C54969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9C8A5-DCF9-4491-B7B5-B6004E21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70EC0-B150-4490-8AE0-6695226E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27698-231B-4EE9-B5DF-0E4B3043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38AC2-92DE-412B-85FF-5622C0FB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EC73A-FAA9-4EAD-A6C7-7A384884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407F3-4748-4EC8-9E3F-8F7D4EEF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AF8F2-ED0D-44FE-BBD2-D1EA4E83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2643-B6D0-4B2A-9819-0540400B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63064-DF52-4C3C-8974-24D9A3F4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EDE8F-471D-463D-AEC9-3810DA40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46001-9306-4F1B-A7BA-85C54455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B2A40-ED75-4325-A97E-89E1B7C7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51E05-36AC-47F3-A9D0-2D668D14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B94AB-3FB2-48C8-8DF3-15A561C6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9C21C-152A-4E37-8430-CA35538D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35106-EB11-49B5-894E-10B9E572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55574-2852-4E9C-AEAA-FF407069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E39F6-F641-492D-B760-9AFD046E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CE73-DA78-4634-A651-2AB02E6F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DA7A5-FEBF-43BF-8BD1-5BF1996D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6B897-14D5-4172-B4FE-0D2A797E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734FC-77F0-4753-9C79-E8B66314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4B43D-1849-4117-B4C5-E5C1D80F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19B81-FDF1-4925-AB63-ED0D6256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19D54-A7D7-451A-BC3B-129EF25A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5AC29-3CF9-4F3A-9F71-7BA4230E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96A59-FFF6-487C-81E7-5EFEA267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5939B-01A8-4030-A254-89C3F85E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D9F89-BC01-4B93-8BB9-F323D14A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36C2-9B86-4E7E-B3D0-4B83212CBE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64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68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7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5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77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C058-33FB-4AF8-BE53-4DACF7BB660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97DF-C126-483D-A3F5-ED9452D2FE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68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7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7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78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58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8A9A-F785-4AEC-9FB1-91C0E873D6D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9AB6-5D47-449E-A10D-C6AC60E7B4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0695-8AB2-4DAA-B905-223135571B6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715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716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8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719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1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4E90-9FDE-4EDD-B0CF-20BBBE32729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B773-F489-42B8-9E53-F8F51A9E4FC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F616-CD1B-4D73-8B1A-B271314F83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99C1-F2CD-4AA7-841D-9ABA129AF85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1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8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91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9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3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9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4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1897-1EAB-458B-A500-EA4BBCE9373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C5BB-1B18-4625-8981-FE26D4221B0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5D2F-B911-4CAF-9DE0-7D5434F8A20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FD48-FC71-4B67-A86D-8A0F36A337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16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78D4-2D0A-4022-AA42-BDE38E8B22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5" descr="1 1027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ТЕМА УРОКА:</a:t>
            </a:r>
            <a:r>
              <a:rPr b="1" i="1" lang="ru-RU" sz="6000" spc="-1" strike="noStrike">
                <a:solidFill>
                  <a:srgbClr val="ffff00"/>
                </a:solidFill>
                <a:latin typeface="Arial Black"/>
              </a:rPr>
              <a:t>  </a:t>
            </a:r>
            <a:br>
              <a:rPr sz="6000"/>
            </a:br>
            <a:r>
              <a:rPr b="1" i="1" lang="ru-RU" sz="6000" spc="-1" strike="noStrike">
                <a:solidFill>
                  <a:srgbClr val="ffff00"/>
                </a:solidFill>
                <a:latin typeface="Arial Black"/>
              </a:rPr>
              <a:t>          ОСНОВНАЯ  </a:t>
            </a:r>
            <a:br>
              <a:rPr sz="6000"/>
            </a:br>
            <a:r>
              <a:rPr b="1" i="1" lang="ru-RU" sz="6000" spc="-1" strike="noStrike">
                <a:solidFill>
                  <a:srgbClr val="ffff00"/>
                </a:solidFill>
                <a:latin typeface="Arial Black"/>
              </a:rPr>
              <a:t>           ФУНКЦИЯ    </a:t>
            </a:r>
            <a:br>
              <a:rPr sz="6000"/>
            </a:br>
            <a:r>
              <a:rPr b="1" i="1" lang="ru-RU" sz="6000" spc="-1" strike="noStrike">
                <a:solidFill>
                  <a:srgbClr val="ffff00"/>
                </a:solidFill>
                <a:latin typeface="Arial Black"/>
              </a:rPr>
              <a:t>           ЗЕЛЕНОГО </a:t>
            </a:r>
            <a:br>
              <a:rPr sz="6000"/>
            </a:br>
            <a:r>
              <a:rPr b="1" i="1" lang="ru-RU" sz="6000" spc="-1" strike="noStrike">
                <a:solidFill>
                  <a:srgbClr val="ffff00"/>
                </a:solidFill>
                <a:latin typeface="Arial Black"/>
              </a:rPr>
              <a:t>              ЛИСТА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4. ЧЕТВЕРТЫЙ КОМПОНЕНТ – ЭТО ВЕЩЕСТВА, КОТОРЫЕ ПОДНИМАЮТСЯ ПО СОСУДАМ КОРНЯ, СТЕБЛЯ И ПОПАДАЮТ В СОСУДЫ ЖИЛОК ЛИ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WordArt 3"/>
          <p:cNvSpPr txBox="1"/>
          <p:nvPr/>
        </p:nvSpPr>
        <p:spPr>
          <a:xfrm>
            <a:off x="755640" y="4292640"/>
            <a:ext cx="7920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ДА,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СТВОРЕННЫЕ МИНЕРАЛЬНЫЕ ВЕЩЕСТ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7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Рисунок 3" descr="http://bio.1september.ru/2001/38/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795" name="AutoShape 6"/>
          <p:cNvSpPr/>
          <p:nvPr/>
        </p:nvSpPr>
        <p:spPr>
          <a:xfrm rot="10378200">
            <a:off x="1365120" y="1404720"/>
            <a:ext cx="936720" cy="2232000"/>
          </a:xfrm>
          <a:custGeom>
            <a:avLst/>
            <a:gdLst>
              <a:gd name="textAreaLeft" fmla="*/ 125280 w 936720"/>
              <a:gd name="textAreaRight" fmla="*/ 811440 w 936720"/>
              <a:gd name="textAreaTop" fmla="*/ 339120 h 2232000"/>
              <a:gd name="textAreaBottom" fmla="*/ 16916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565" stAng="-5400000" swAng="5400000"/>
                <a:lnTo>
                  <a:pt x="21600" y="13087"/>
                </a:lnTo>
                <a:arcTo wR="21600" hR="6565" stAng="0" swAng="2441057"/>
                <a:lnTo>
                  <a:pt x="7200" y="21225"/>
                </a:lnTo>
                <a:lnTo>
                  <a:pt x="0" y="16391"/>
                </a:lnTo>
                <a:lnTo>
                  <a:pt x="7200" y="10807"/>
                </a:lnTo>
                <a:lnTo>
                  <a:pt x="7200" y="12755"/>
                </a:lnTo>
                <a:arcTo wR="21600" hR="6565" stAng="2441057" swAng="-1848987"/>
                <a:lnTo>
                  <a:pt x="18747" y="9826"/>
                </a:lnTo>
                <a:arcTo wR="21600" hR="6565" stAng="-592070" swAng="-4807930"/>
                <a:close/>
              </a:path>
              <a:path fill="darkenLess" w="21600" h="21600">
                <a:moveTo>
                  <a:pt x="0" y="0"/>
                </a:moveTo>
                <a:arcTo wR="21600" hR="6565" stAng="-5400000" swAng="5400000"/>
                <a:lnTo>
                  <a:pt x="21600" y="13087"/>
                </a:lnTo>
                <a:arcTo wR="21600" hR="6565" stAng="0" swAng="-592070"/>
                <a:lnTo>
                  <a:pt x="18747" y="9826"/>
                </a:lnTo>
                <a:arcTo wR="21600" hR="6565" stAng="-592070" swAng="-4807930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AutoShape 8"/>
          <p:cNvSpPr/>
          <p:nvPr/>
        </p:nvSpPr>
        <p:spPr>
          <a:xfrm rot="1558800">
            <a:off x="1290240" y="3419640"/>
            <a:ext cx="873000" cy="1836720"/>
          </a:xfrm>
          <a:prstGeom prst="upArrow">
            <a:avLst>
              <a:gd name="adj1" fmla="val 50000"/>
              <a:gd name="adj2" fmla="val 52598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AutoShape 9"/>
          <p:cNvSpPr/>
          <p:nvPr/>
        </p:nvSpPr>
        <p:spPr>
          <a:xfrm rot="1540200">
            <a:off x="4716360" y="3428640"/>
            <a:ext cx="1224000" cy="1655640"/>
          </a:xfrm>
          <a:prstGeom prst="upArrow">
            <a:avLst>
              <a:gd name="adj1" fmla="val 38000"/>
              <a:gd name="adj2" fmla="val 3781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AutoShape 10"/>
          <p:cNvSpPr/>
          <p:nvPr/>
        </p:nvSpPr>
        <p:spPr>
          <a:xfrm rot="18433800">
            <a:off x="6868440" y="3435840"/>
            <a:ext cx="808200" cy="2089440"/>
          </a:xfrm>
          <a:custGeom>
            <a:avLst/>
            <a:gdLst>
              <a:gd name="textAreaLeft" fmla="*/ 108000 w 808200"/>
              <a:gd name="textAreaRight" fmla="*/ 700200 w 808200"/>
              <a:gd name="textAreaTop" fmla="*/ 339120 h 2089440"/>
              <a:gd name="textAreaBottom" fmla="*/ 1541520 h 208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011" stAng="-5400000" swAng="-5400000"/>
                <a:lnTo>
                  <a:pt x="0" y="12430"/>
                </a:lnTo>
                <a:arcTo wR="21600" hR="7011" stAng="10800000" swAng="-1511981"/>
                <a:lnTo>
                  <a:pt x="9336" y="20360"/>
                </a:lnTo>
                <a:lnTo>
                  <a:pt x="21600" y="16731"/>
                </a:lnTo>
                <a:lnTo>
                  <a:pt x="9336" y="10621"/>
                </a:lnTo>
                <a:lnTo>
                  <a:pt x="9336" y="12781"/>
                </a:lnTo>
                <a:arcTo wR="21600" hR="7011" stAng="9288019" swAng="1047269"/>
                <a:lnTo>
                  <a:pt x="1678" y="9720"/>
                </a:lnTo>
                <a:arcTo wR="21600" hR="7011" stAng="-10335288" swAng="4935288"/>
                <a:close/>
              </a:path>
              <a:path fill="darkenLess" w="21600" h="21600">
                <a:moveTo>
                  <a:pt x="21600" y="0"/>
                </a:moveTo>
                <a:arcTo wR="21600" hR="7011" stAng="-5400000" swAng="-5400000"/>
                <a:lnTo>
                  <a:pt x="0" y="7011"/>
                </a:lnTo>
                <a:arcTo wR="21600" hR="7011" stAng="10800000" swAng="-464712"/>
                <a:lnTo>
                  <a:pt x="1678" y="9720"/>
                </a:lnTo>
                <a:arcTo wR="21600" hR="7011" stAng="-10335288" swAng="4935288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AutoShape 11"/>
          <p:cNvSpPr/>
          <p:nvPr/>
        </p:nvSpPr>
        <p:spPr>
          <a:xfrm rot="2834400">
            <a:off x="7549560" y="369720"/>
            <a:ext cx="722160" cy="2484360"/>
          </a:xfrm>
          <a:prstGeom prst="downArrow">
            <a:avLst>
              <a:gd name="adj1" fmla="val 50000"/>
              <a:gd name="adj2" fmla="val 8600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AutoShape 12"/>
          <p:cNvSpPr/>
          <p:nvPr/>
        </p:nvSpPr>
        <p:spPr>
          <a:xfrm rot="2834400">
            <a:off x="7900560" y="676080"/>
            <a:ext cx="722160" cy="2484360"/>
          </a:xfrm>
          <a:prstGeom prst="downArrow">
            <a:avLst>
              <a:gd name="adj1" fmla="val 50000"/>
              <a:gd name="adj2" fmla="val 8600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AutoShape 13"/>
          <p:cNvSpPr/>
          <p:nvPr/>
        </p:nvSpPr>
        <p:spPr>
          <a:xfrm rot="2834400">
            <a:off x="8078400" y="1363320"/>
            <a:ext cx="722160" cy="2160720"/>
          </a:xfrm>
          <a:prstGeom prst="downArrow">
            <a:avLst>
              <a:gd name="adj1" fmla="val 50000"/>
              <a:gd name="adj2" fmla="val 74801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WordArt 4"/>
          <p:cNvSpPr txBox="1"/>
          <p:nvPr/>
        </p:nvSpPr>
        <p:spPr>
          <a:xfrm>
            <a:off x="1763640" y="981000"/>
            <a:ext cx="5977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ОБРАЗУЕТС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ЛИСТЕ С УЧАСТИЕМ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ИХ ВЕЩЕСТВ?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3" name="Picture 29" descr="j0285444"/>
          <p:cNvPicPr/>
          <p:nvPr/>
        </p:nvPicPr>
        <p:blipFill>
          <a:blip r:embed="rId9"/>
          <a:srcRect l="50060" t="0" r="0" b="0"/>
          <a:stretch/>
        </p:blipFill>
        <p:spPr>
          <a:xfrm>
            <a:off x="7667640" y="4437000"/>
            <a:ext cx="89676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5072040" cy="6858000"/>
          </a:xfrm>
          <a:prstGeom prst="rect">
            <a:avLst/>
          </a:prstGeom>
          <a:ln w="0">
            <a:noFill/>
          </a:ln>
        </p:spPr>
      </p:pic>
      <p:pic>
        <p:nvPicPr>
          <p:cNvPr id="805" name="Рисунок 2" descr=""/>
          <p:cNvPicPr/>
          <p:nvPr/>
        </p:nvPicPr>
        <p:blipFill>
          <a:blip r:embed="rId2">
            <a:lum bright="2000"/>
          </a:blip>
          <a:stretch/>
        </p:blipFill>
        <p:spPr>
          <a:xfrm>
            <a:off x="5000760" y="1928880"/>
            <a:ext cx="4143240" cy="3571920"/>
          </a:xfrm>
          <a:prstGeom prst="rect">
            <a:avLst/>
          </a:prstGeom>
          <a:ln w="0">
            <a:noFill/>
          </a:ln>
        </p:spPr>
      </p:pic>
      <p:sp>
        <p:nvSpPr>
          <p:cNvPr id="806" name="WordArt 2"/>
          <p:cNvSpPr txBox="1"/>
          <p:nvPr/>
        </p:nvSpPr>
        <p:spPr>
          <a:xfrm rot="736800">
            <a:off x="5874840" y="3409560"/>
            <a:ext cx="260352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рахмал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7" name="Стрелка вниз 4"/>
          <p:cNvSpPr/>
          <p:nvPr/>
        </p:nvSpPr>
        <p:spPr>
          <a:xfrm rot="19743000">
            <a:off x="-6120" y="17640"/>
            <a:ext cx="946440" cy="107136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ff00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Diagram 5"/>
          <p:cNvGrpSpPr/>
          <p:nvPr/>
        </p:nvGrpSpPr>
        <p:grpSpPr>
          <a:xfrm>
            <a:off x="1044720" y="2117520"/>
            <a:ext cx="4340160" cy="3858120"/>
            <a:chOff x="1044720" y="2117520"/>
            <a:chExt cx="4340160" cy="3858120"/>
          </a:xfrm>
        </p:grpSpPr>
        <p:sp>
          <p:nvSpPr>
            <p:cNvPr id="809" name="_s1028"/>
            <p:cNvSpPr/>
            <p:nvPr/>
          </p:nvSpPr>
          <p:spPr>
            <a:xfrm>
              <a:off x="1594080" y="2117520"/>
              <a:ext cx="3241440" cy="3242520"/>
            </a:xfrm>
            <a:custGeom>
              <a:avLst/>
              <a:gdLst>
                <a:gd name="textAreaLeft" fmla="*/ 0 w 3241440"/>
                <a:gd name="textAreaRight" fmla="*/ 3241800 w 3241440"/>
                <a:gd name="textAreaTop" fmla="*/ 0 h 3242520"/>
                <a:gd name="textAreaBottom" fmla="*/ 3242880 h 32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000099"/>
                </a:gs>
              </a:gsLst>
              <a:lin ang="81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_s1029"/>
            <p:cNvSpPr/>
            <p:nvPr/>
          </p:nvSpPr>
          <p:spPr>
            <a:xfrm rot="10800000">
              <a:off x="1594080" y="2733120"/>
              <a:ext cx="3241440" cy="3242520"/>
            </a:xfrm>
            <a:custGeom>
              <a:avLst/>
              <a:gdLst>
                <a:gd name="textAreaLeft" fmla="*/ 0 w 3241440"/>
                <a:gd name="textAreaRight" fmla="*/ 3241800 w 3241440"/>
                <a:gd name="textAreaTop" fmla="*/ 0 h 3242520"/>
                <a:gd name="textAreaBottom" fmla="*/ 3242880 h 32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gradFill rotWithShape="0">
              <a:gsLst>
                <a:gs pos="0">
                  <a:srgbClr val="00c600"/>
                </a:gs>
                <a:gs pos="100000">
                  <a:srgbClr val="000099"/>
                </a:gs>
              </a:gsLst>
              <a:lin ang="18900000"/>
            </a:gradFill>
            <a:ln w="93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_s1030"/>
            <p:cNvSpPr/>
            <p:nvPr/>
          </p:nvSpPr>
          <p:spPr>
            <a:xfrm>
              <a:off x="3938760" y="3324240"/>
              <a:ext cx="1446120" cy="14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_s1031"/>
            <p:cNvSpPr/>
            <p:nvPr/>
          </p:nvSpPr>
          <p:spPr>
            <a:xfrm>
              <a:off x="1044720" y="3324240"/>
              <a:ext cx="1446120" cy="14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WordArt 19"/>
            <p:cNvSpPr txBox="1"/>
            <p:nvPr/>
          </p:nvSpPr>
          <p:spPr>
            <a:xfrm>
              <a:off x="1619280" y="3573360"/>
              <a:ext cx="3097440" cy="790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УГЛЕВОДЫ</a:t>
              </a:r>
              <a:endPara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814" name="WordArt 14"/>
          <p:cNvSpPr txBox="1"/>
          <p:nvPr/>
        </p:nvSpPr>
        <p:spPr>
          <a:xfrm>
            <a:off x="1116000" y="620640"/>
            <a:ext cx="7056360" cy="388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ические веществ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5" name="WordArt 16"/>
          <p:cNvSpPr txBox="1"/>
          <p:nvPr/>
        </p:nvSpPr>
        <p:spPr>
          <a:xfrm>
            <a:off x="5292720" y="422100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ЛКИ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6" name="WordArt 17"/>
          <p:cNvSpPr txBox="1"/>
          <p:nvPr/>
        </p:nvSpPr>
        <p:spPr>
          <a:xfrm>
            <a:off x="2340000" y="2492280"/>
            <a:ext cx="15429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АХА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17" name="WordArt 18"/>
          <p:cNvSpPr txBox="1"/>
          <p:nvPr/>
        </p:nvSpPr>
        <p:spPr>
          <a:xfrm rot="20641800">
            <a:off x="2484360" y="4941720"/>
            <a:ext cx="2008440" cy="7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КРАХМ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18" name="WordArt 20"/>
          <p:cNvSpPr txBox="1"/>
          <p:nvPr/>
        </p:nvSpPr>
        <p:spPr>
          <a:xfrm>
            <a:off x="6443640" y="530064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РЫ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8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0" name="Рисунок SmartArt 3" descr="Рис. 1. Опыт Пристли с мышами"/>
          <p:cNvPicPr/>
          <p:nvPr/>
        </p:nvPicPr>
        <p:blipFill>
          <a:blip r:embed="rId1"/>
          <a:stretch/>
        </p:blipFill>
        <p:spPr>
          <a:xfrm>
            <a:off x="571680" y="0"/>
            <a:ext cx="807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24000" y="3573000"/>
            <a:ext cx="842472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ФОТОСИНТЕЗ –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ПРОЦЕСС ОБРАЗОВАНИЯ ОРГАНИЧЕСКИХ ВЕЩЕСТВ ИЗ ВОДЫ И УГЛЕКИСЛОГО ГАЗА ПОД ДЕЙСТВИЕМ СОЛНЕЧНОГО СВЕ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071800" y="857160"/>
            <a:ext cx="68580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8c0039"/>
                </a:solidFill>
                <a:latin typeface="Arial"/>
              </a:rPr>
              <a:t>Когда – то, где – то на Землю упал луч солнца, но он упал не на бесплодную почву, он упал на зеленую былинку пшеничного ростка, или, лучше сказать, на хлорофилловое зерно. Ударяясь о него, он потух, перестал быть светом, но не исчез…В той или другой форме он вошел в состав хлеба, который послужил нам пищей. Он преобразился в наши мускулы, в наши нервы… Этот луч солнца согревает нас. Он </a:t>
            </a:r>
            <a:r>
              <a:rPr b="0" i="1" lang="en-US" sz="2400" spc="-1" strike="noStrike">
                <a:solidFill>
                  <a:srgbClr val="8c0039"/>
                </a:solidFill>
                <a:latin typeface="Arial"/>
              </a:rPr>
              <a:t>  </a:t>
            </a:r>
            <a:br>
              <a:rPr sz="2400"/>
            </a:br>
            <a:r>
              <a:rPr b="0" i="1" lang="en-US" sz="2400" spc="-1" strike="noStrike">
                <a:solidFill>
                  <a:srgbClr val="8c0039"/>
                </a:solidFill>
                <a:latin typeface="Arial"/>
              </a:rPr>
              <a:t>                     </a:t>
            </a:r>
            <a:r>
              <a:rPr b="0" i="1" lang="ru-RU" sz="2400" spc="-1" strike="noStrike">
                <a:solidFill>
                  <a:srgbClr val="8c0039"/>
                </a:solidFill>
                <a:latin typeface="Arial"/>
              </a:rPr>
              <a:t>приводит нас в движение. Быть </a:t>
            </a:r>
            <a:r>
              <a:rPr b="0" i="1" lang="en-US" sz="2400" spc="-1" strike="noStrike">
                <a:solidFill>
                  <a:srgbClr val="8c0039"/>
                </a:solidFill>
                <a:latin typeface="Arial"/>
              </a:rPr>
              <a:t>   </a:t>
            </a:r>
            <a:br>
              <a:rPr sz="2400"/>
            </a:br>
            <a:r>
              <a:rPr b="0" i="1" lang="en-US" sz="2400" spc="-1" strike="noStrike">
                <a:solidFill>
                  <a:srgbClr val="8c0039"/>
                </a:solidFill>
                <a:latin typeface="Arial"/>
              </a:rPr>
              <a:t>                     </a:t>
            </a:r>
            <a:r>
              <a:rPr b="0" i="1" lang="ru-RU" sz="2400" spc="-1" strike="noStrike">
                <a:solidFill>
                  <a:srgbClr val="8c0039"/>
                </a:solidFill>
                <a:latin typeface="Arial"/>
              </a:rPr>
              <a:t>может, в эту минуту он играет </a:t>
            </a:r>
            <a:r>
              <a:rPr b="0" i="1" lang="en-US" sz="2400" spc="-1" strike="noStrike">
                <a:solidFill>
                  <a:srgbClr val="8c0039"/>
                </a:solidFill>
                <a:latin typeface="Arial"/>
              </a:rPr>
              <a:t>  </a:t>
            </a:r>
            <a:br>
              <a:rPr sz="2400"/>
            </a:br>
            <a:r>
              <a:rPr b="0" i="1" lang="en-US" sz="2400" spc="-1" strike="noStrike">
                <a:solidFill>
                  <a:srgbClr val="8c0039"/>
                </a:solidFill>
                <a:latin typeface="Arial"/>
              </a:rPr>
              <a:t>                     </a:t>
            </a:r>
            <a:r>
              <a:rPr b="0" i="1" lang="ru-RU" sz="2400" spc="-1" strike="noStrike">
                <a:solidFill>
                  <a:srgbClr val="8c0039"/>
                </a:solidFill>
                <a:latin typeface="Arial"/>
              </a:rPr>
              <a:t>в нашем мозгу.</a:t>
            </a:r>
            <a:br>
              <a:rPr sz="2400"/>
            </a:br>
            <a:r>
              <a:rPr b="0" i="1" lang="ru-RU" sz="2400" spc="-1" strike="noStrike">
                <a:solidFill>
                  <a:srgbClr val="8c0039"/>
                </a:solidFill>
                <a:latin typeface="Arial"/>
              </a:rPr>
              <a:t>                                                                 </a:t>
            </a:r>
            <a:br>
              <a:rPr sz="2400"/>
            </a:br>
            <a:r>
              <a:rPr b="0" i="1" lang="ru-RU" sz="2400" spc="-1" strike="noStrike">
                <a:solidFill>
                  <a:srgbClr val="8c0039"/>
                </a:solidFill>
                <a:latin typeface="Arial"/>
              </a:rPr>
              <a:t>                                               К.А.Тимирязев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823" name="Рисунок 4" descr="К.А. Тимирязев за работой"/>
          <p:cNvPicPr/>
          <p:nvPr/>
        </p:nvPicPr>
        <p:blipFill>
          <a:blip r:embed="rId1"/>
          <a:stretch/>
        </p:blipFill>
        <p:spPr>
          <a:xfrm>
            <a:off x="0" y="4429080"/>
            <a:ext cx="354816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825" name="Содержимое 3" descr="Рис. 2. Опыт Гельмонта с ивовой ветко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то такое фотосинтез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то образуется в листьях при фотосинтез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ие условия необходимы для фотосинтеза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WordArt 4"/>
          <p:cNvSpPr txBox="1"/>
          <p:nvPr/>
        </p:nvSpPr>
        <p:spPr>
          <a:xfrm>
            <a:off x="0" y="1844640"/>
            <a:ext cx="851544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КАКИЕ КОМПОНЕНТ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УЖНЫ ДЛЯ ВЫПОЛНЕНИЯ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СНОВНОЙ ФУНКЦИИ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ЕЛЕНОГО ЛИСТА?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grpSp>
        <p:nvGrpSpPr>
          <p:cNvPr id="768" name="Group 7"/>
          <p:cNvGrpSpPr/>
          <p:nvPr/>
        </p:nvGrpSpPr>
        <p:grpSpPr>
          <a:xfrm>
            <a:off x="179280" y="260280"/>
            <a:ext cx="1806480" cy="1577880"/>
            <a:chOff x="179280" y="260280"/>
            <a:chExt cx="1806480" cy="1577880"/>
          </a:xfrm>
        </p:grpSpPr>
        <p:sp>
          <p:nvSpPr>
            <p:cNvPr id="769" name="AutoShape 6"/>
            <p:cNvSpPr/>
            <p:nvPr/>
          </p:nvSpPr>
          <p:spPr>
            <a:xfrm>
              <a:off x="179280" y="260280"/>
              <a:ext cx="1806480" cy="15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Freeform 8"/>
            <p:cNvSpPr/>
            <p:nvPr/>
          </p:nvSpPr>
          <p:spPr>
            <a:xfrm>
              <a:off x="206280" y="264960"/>
              <a:ext cx="1776240" cy="14439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Freeform 9"/>
            <p:cNvSpPr/>
            <p:nvPr/>
          </p:nvSpPr>
          <p:spPr>
            <a:xfrm>
              <a:off x="912600" y="406080"/>
              <a:ext cx="858960" cy="86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Freeform 10"/>
            <p:cNvSpPr/>
            <p:nvPr/>
          </p:nvSpPr>
          <p:spPr>
            <a:xfrm>
              <a:off x="1446120" y="307800"/>
              <a:ext cx="131760" cy="11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Freeform 11"/>
            <p:cNvSpPr/>
            <p:nvPr/>
          </p:nvSpPr>
          <p:spPr>
            <a:xfrm>
              <a:off x="1465200" y="418680"/>
              <a:ext cx="10296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12"/>
            <p:cNvSpPr/>
            <p:nvPr/>
          </p:nvSpPr>
          <p:spPr>
            <a:xfrm>
              <a:off x="1228320" y="636120"/>
              <a:ext cx="387360" cy="48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13"/>
            <p:cNvSpPr/>
            <p:nvPr/>
          </p:nvSpPr>
          <p:spPr>
            <a:xfrm>
              <a:off x="1025280" y="601200"/>
              <a:ext cx="371520" cy="15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14"/>
            <p:cNvSpPr/>
            <p:nvPr/>
          </p:nvSpPr>
          <p:spPr>
            <a:xfrm>
              <a:off x="179280" y="676080"/>
              <a:ext cx="110880" cy="12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15"/>
            <p:cNvSpPr/>
            <p:nvPr/>
          </p:nvSpPr>
          <p:spPr>
            <a:xfrm>
              <a:off x="282240" y="676080"/>
              <a:ext cx="827280" cy="96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16"/>
            <p:cNvSpPr/>
            <p:nvPr/>
          </p:nvSpPr>
          <p:spPr>
            <a:xfrm>
              <a:off x="274320" y="858600"/>
              <a:ext cx="436680" cy="80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17"/>
            <p:cNvSpPr/>
            <p:nvPr/>
          </p:nvSpPr>
          <p:spPr>
            <a:xfrm>
              <a:off x="661680" y="1634760"/>
              <a:ext cx="311040" cy="20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0" name="Рисунок 4" descr="{92220EFA-0342-46ED-AC0B-A3083461F6C1}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831" name="Line 5"/>
          <p:cNvSpPr/>
          <p:nvPr/>
        </p:nvSpPr>
        <p:spPr>
          <a:xfrm>
            <a:off x="1332000" y="1916280"/>
            <a:ext cx="431640" cy="1441440"/>
          </a:xfrm>
          <a:prstGeom prst="line">
            <a:avLst/>
          </a:prstGeom>
          <a:ln w="41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§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 34,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ТВЕТИТЬ НА ВОПРОСЫ В КОНЦЕ ПАРАГРАФ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1. ДЛЯ ПОЛУЧЕНИЯ ПЕРВОГО КОМПОНЕНТА РАСТЕНИЯ ПРИСПОСОБИЛИСЬ СПЕЦИАЛЬНО РАСПОЛАГАТЬ ЛИСТЬЯ В ВИДЕ МОЗАИКИ ИЛИ ПРИКОРНЕВЫХ РОЗЕ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 algn="ctr"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ДЛЯ ПОЛУЧЕНИЯ ПЕРВОГО КОМПОНЕНТА РАСТЕНИЯ ПРИСПОСОБИЛИСЬ СПЕЦИАЛЬНО РАСПОЛАГАТЬ ЛИСТЬЯ В ВИДЕ МОЗАИКИ ИЛИ ПРИКОРНЕВЫХ РОЗЕТОК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WordArt 3"/>
          <p:cNvSpPr txBox="1"/>
          <p:nvPr/>
        </p:nvSpPr>
        <p:spPr>
          <a:xfrm>
            <a:off x="6227640" y="5013360"/>
            <a:ext cx="259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Е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7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2. БОЛЬШИНСТВО РАСТЕНИЙ ИМЕЮТ ЛИСТЬЯ ЗЕЛЕНОГО ЦВЕТА.</a:t>
            </a:r>
            <a:br>
              <a:rPr sz="4400"/>
            </a:b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БЛАГОДАРЯ КАКОМУ ВЕЩЕСТВУ ОНИ ИМЕЮТ ТАКУЮ ОКРАС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2. БОЛЬШИНСТВО РАСТЕНИЙ ИМЕЮТ ЛИСТЬЯ ЗЕЛЕНОГО ЦВЕТА.</a:t>
            </a:r>
            <a:br>
              <a:rPr sz="4400"/>
            </a:b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БЛАГОДАРЯ КАКОМУ ВЕЩЕСТВУ ОНИ ИМЕЮТ ТАКУЮ ОКРАС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WordArt 3"/>
          <p:cNvSpPr txBox="1"/>
          <p:nvPr/>
        </p:nvSpPr>
        <p:spPr>
          <a:xfrm>
            <a:off x="2627280" y="4941720"/>
            <a:ext cx="5400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ХЛОРОФИЛЛ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7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3. ТРЕТИЙ КОМПОНЕНТ – ЭТО ГАЗ, КОТОРЫЙ ВЫДЕЛЯЮТ В АТМОСФЕРУ ПРИ ДЫХАНИИ ВСЕ ЖИВЫЕ ОРГАНИЗ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3. ТРЕТИЙ КОМПОНЕНТ – ЭТО ГАЗ, КОТОРЫЙ ВЫДЕЛЯЮТ В АТМОСФЕРУ ПРИ ДЫХАНИИ ВСЕ ЖИВЫЕ ОРГАНИЗ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WordArt 3"/>
          <p:cNvSpPr txBox="1"/>
          <p:nvPr/>
        </p:nvSpPr>
        <p:spPr>
          <a:xfrm>
            <a:off x="684360" y="4869000"/>
            <a:ext cx="806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ГЛЕКИСЛЫЙ ГА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7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4. ЧЕТВЕРТЫЙ КОМПОНЕНТ – ЭТО ВЕЩЕСТВА, КОТОРЫЕ ПОДНИМАЮТСЯ ПО СОСУДАМ КОРНЯ, СТЕБЛЯ И ПОПАДАЮТ В СОСУДЫ ЖИЛОК ЛИ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5:07:48Z</dcterms:created>
  <dc:creator>Юлия</dc:creator>
  <dc:description/>
  <dc:language>en-US</dc:language>
  <cp:lastModifiedBy>User</cp:lastModifiedBy>
  <dcterms:modified xsi:type="dcterms:W3CDTF">2008-02-19T20:14:33Z</dcterms:modified>
  <cp:revision>20</cp:revision>
  <dc:subject/>
  <dc:title>ТЕМА УРОКА: ОСНОВНАЯ ФУНКЦИЯ ЗЕЛЕНОГО ЛИСТА</dc:title>
</cp:coreProperties>
</file>