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0C6-2E21-4ED7-8F1D-0766CF9A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8A9-1CB5-47C2-AE8E-50FF2E0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A28-8BB6-424C-8553-5161F78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989-AEDF-4240-96E4-E49DB2AF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399-A531-45FD-9A0B-BBCB96A3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F59-E072-4D24-856D-6D44C2E5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B75-06D5-4124-9ECC-CE2633C5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310-A8AD-417A-9C34-2FB06087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B91-7A23-4588-B1B0-3C4A884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538-0F7B-480E-8CFD-87D220C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967-0812-4960-A5D8-403D737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80D-DE40-421E-BD15-4223C1BA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50BC-5647-4D04-A5D3-2B3AD2129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55070871_dlja-sajjtov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4503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504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Павлович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5877000"/>
            <a:ext cx="370512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60 – 19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00720" y="403560"/>
            <a:ext cx="446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В челове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лжно быть вс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крас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лицо, и одеж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душа, и мыс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4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619280" y="573408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ая лавка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ганро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80px-Chekhov_with_family_01"/>
          <p:cNvPicPr/>
          <p:nvPr/>
        </p:nvPicPr>
        <p:blipFill>
          <a:blip r:embed="rId2"/>
          <a:stretch/>
        </p:blipFill>
        <p:spPr>
          <a:xfrm>
            <a:off x="0" y="0"/>
            <a:ext cx="6119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p5-331"/>
          <p:cNvPicPr/>
          <p:nvPr/>
        </p:nvPicPr>
        <p:blipFill>
          <a:blip r:embed="rId1"/>
          <a:stretch/>
        </p:blipFill>
        <p:spPr>
          <a:xfrm>
            <a:off x="900000" y="333360"/>
            <a:ext cx="4465800" cy="612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62"/>
          <p:cNvPicPr/>
          <p:nvPr/>
        </p:nvPicPr>
        <p:blipFill>
          <a:blip r:embed="rId2"/>
          <a:stretch/>
        </p:blipFill>
        <p:spPr>
          <a:xfrm>
            <a:off x="5076720" y="260280"/>
            <a:ext cx="3775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_ea7a_1f7e3f21_XL"/>
          <p:cNvPicPr/>
          <p:nvPr/>
        </p:nvPicPr>
        <p:blipFill>
          <a:blip r:embed="rId1"/>
          <a:stretch/>
        </p:blipFill>
        <p:spPr>
          <a:xfrm>
            <a:off x="324000" y="260280"/>
            <a:ext cx="4286160" cy="563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50px-Three_sisters_Chekhov"/>
          <p:cNvPicPr/>
          <p:nvPr/>
        </p:nvPicPr>
        <p:blipFill>
          <a:blip r:embed="rId2"/>
          <a:stretch/>
        </p:blipFill>
        <p:spPr>
          <a:xfrm rot="21049200">
            <a:off x="5076360" y="404280"/>
            <a:ext cx="2381400" cy="294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каштанка"/>
          <p:cNvPicPr/>
          <p:nvPr/>
        </p:nvPicPr>
        <p:blipFill>
          <a:blip r:embed="rId3"/>
          <a:stretch/>
        </p:blipFill>
        <p:spPr>
          <a:xfrm>
            <a:off x="6659640" y="3716280"/>
            <a:ext cx="2187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42217094_sahalin1_16big"/>
          <p:cNvPicPr/>
          <p:nvPr/>
        </p:nvPicPr>
        <p:blipFill>
          <a:blip r:embed="rId1"/>
          <a:stretch/>
        </p:blipFill>
        <p:spPr>
          <a:xfrm>
            <a:off x="0" y="0"/>
            <a:ext cx="6300720" cy="5661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71640" y="609300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71640" y="5877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ездка на Сахал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лд"/>
          <p:cNvPicPr/>
          <p:nvPr/>
        </p:nvPicPr>
        <p:blipFill>
          <a:blip r:embed="rId1"/>
          <a:stretch/>
        </p:blipFill>
        <p:spPr>
          <a:xfrm>
            <a:off x="1116000" y="69228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gB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358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he"/>
          <p:cNvPicPr/>
          <p:nvPr/>
        </p:nvPicPr>
        <p:blipFill>
          <a:blip r:embed="rId2"/>
          <a:stretch/>
        </p:blipFill>
        <p:spPr>
          <a:xfrm>
            <a:off x="5940360" y="260280"/>
            <a:ext cx="28098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атель о своих произведениях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сть на сцене все будет так же сложно и так же вместе с тем просто, как в жизни. Люди обедают, только обедают, а в это время слагается их  счастье и разбиваются их жизни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hehov1"/>
          <p:cNvPicPr/>
          <p:nvPr/>
        </p:nvPicPr>
        <p:blipFill>
          <a:blip r:embed="rId1"/>
          <a:stretch/>
        </p:blipFill>
        <p:spPr>
          <a:xfrm>
            <a:off x="4859280" y="234936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39640" y="549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тношениях с людьми побольше искренности,  сердца и прост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братья"/>
          <p:cNvPicPr/>
          <p:nvPr/>
        </p:nvPicPr>
        <p:blipFill>
          <a:blip r:embed="rId2"/>
          <a:stretch/>
        </p:blipFill>
        <p:spPr>
          <a:xfrm>
            <a:off x="611280" y="234936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19:36Z</dcterms:created>
  <dc:creator>1</dc:creator>
  <dc:description/>
  <dc:language>en-US</dc:language>
  <cp:lastModifiedBy>User</cp:lastModifiedBy>
  <dcterms:modified xsi:type="dcterms:W3CDTF">2015-02-08T06:58:58Z</dcterms:modified>
  <cp:revision>8</cp:revision>
  <dc:subject/>
  <dc:title>                 Антон Павлович                          Чехов</dc:title>
</cp:coreProperties>
</file>