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323-B9FB-466F-AF65-414CB265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481-C4B9-45CA-92A5-3C2BD991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670-86FA-4128-8EF0-A5C9D526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CEF-F0B7-48D6-AF0F-C70EFA6B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294-627E-47FA-BF12-89B9A1F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FA0-A6B6-4CCB-AA8C-056E3CF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6F0-902D-4C79-A868-089805A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843-0453-45C3-A3B8-1A19CAD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307-BF54-4095-AD5B-F42ADC7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30A-955D-4748-A356-534929F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FB3-8DFF-4DB8-8935-A5718B2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4D1-F223-47BF-9210-2CECAFF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C4A-AC93-4386-B8C9-3499F62D0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55070871_dlja-sajjtov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450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504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Павлович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5877000"/>
            <a:ext cx="37051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60 – 19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00720" y="403560"/>
            <a:ext cx="446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В челове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лжно быть вс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крас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лицо, и одеж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душа, и мыс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4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619280" y="573408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ая лавка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ганро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80px-Chekhov_with_family_01"/>
          <p:cNvPicPr/>
          <p:nvPr/>
        </p:nvPicPr>
        <p:blipFill>
          <a:blip r:embed="rId2"/>
          <a:stretch/>
        </p:blipFill>
        <p:spPr>
          <a:xfrm>
            <a:off x="0" y="0"/>
            <a:ext cx="6119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p5-331"/>
          <p:cNvPicPr/>
          <p:nvPr/>
        </p:nvPicPr>
        <p:blipFill>
          <a:blip r:embed="rId1"/>
          <a:stretch/>
        </p:blipFill>
        <p:spPr>
          <a:xfrm>
            <a:off x="900000" y="333360"/>
            <a:ext cx="4465800" cy="612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62"/>
          <p:cNvPicPr/>
          <p:nvPr/>
        </p:nvPicPr>
        <p:blipFill>
          <a:blip r:embed="rId2"/>
          <a:stretch/>
        </p:blipFill>
        <p:spPr>
          <a:xfrm>
            <a:off x="5076720" y="260280"/>
            <a:ext cx="3775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_ea7a_1f7e3f21_XL"/>
          <p:cNvPicPr/>
          <p:nvPr/>
        </p:nvPicPr>
        <p:blipFill>
          <a:blip r:embed="rId1"/>
          <a:stretch/>
        </p:blipFill>
        <p:spPr>
          <a:xfrm>
            <a:off x="324000" y="260280"/>
            <a:ext cx="4286160" cy="563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50px-Three_sisters_Chekhov"/>
          <p:cNvPicPr/>
          <p:nvPr/>
        </p:nvPicPr>
        <p:blipFill>
          <a:blip r:embed="rId2"/>
          <a:stretch/>
        </p:blipFill>
        <p:spPr>
          <a:xfrm rot="21049200">
            <a:off x="5076360" y="404280"/>
            <a:ext cx="2381400" cy="294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штанка"/>
          <p:cNvPicPr/>
          <p:nvPr/>
        </p:nvPicPr>
        <p:blipFill>
          <a:blip r:embed="rId3"/>
          <a:stretch/>
        </p:blipFill>
        <p:spPr>
          <a:xfrm>
            <a:off x="6659640" y="3716280"/>
            <a:ext cx="2187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42217094_sahalin1_16big"/>
          <p:cNvPicPr/>
          <p:nvPr/>
        </p:nvPicPr>
        <p:blipFill>
          <a:blip r:embed="rId1"/>
          <a:stretch/>
        </p:blipFill>
        <p:spPr>
          <a:xfrm>
            <a:off x="0" y="0"/>
            <a:ext cx="6300720" cy="566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71640" y="60930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71640" y="587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ездка на Сахал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лд"/>
          <p:cNvPicPr/>
          <p:nvPr/>
        </p:nvPicPr>
        <p:blipFill>
          <a:blip r:embed="rId1"/>
          <a:stretch/>
        </p:blipFill>
        <p:spPr>
          <a:xfrm>
            <a:off x="1116000" y="69228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gB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8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he"/>
          <p:cNvPicPr/>
          <p:nvPr/>
        </p:nvPicPr>
        <p:blipFill>
          <a:blip r:embed="rId2"/>
          <a:stretch/>
        </p:blipFill>
        <p:spPr>
          <a:xfrm>
            <a:off x="5940360" y="260280"/>
            <a:ext cx="28098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атель о своих произведениях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сть на сцене все будет так же сложно и так же вместе с тем просто, как в жизни. Люди обедают, только обедают, а в это время слагается их  счастье и разбиваются их жизни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hehov1"/>
          <p:cNvPicPr/>
          <p:nvPr/>
        </p:nvPicPr>
        <p:blipFill>
          <a:blip r:embed="rId1"/>
          <a:stretch/>
        </p:blipFill>
        <p:spPr>
          <a:xfrm>
            <a:off x="4859280" y="234936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9640" y="549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тношениях с людьми побольше искренности,  сердца и про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братья"/>
          <p:cNvPicPr/>
          <p:nvPr/>
        </p:nvPicPr>
        <p:blipFill>
          <a:blip r:embed="rId2"/>
          <a:stretch/>
        </p:blipFill>
        <p:spPr>
          <a:xfrm>
            <a:off x="611280" y="234936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19:36Z</dcterms:created>
  <dc:creator>1</dc:creator>
  <dc:description/>
  <dc:language>en-US</dc:language>
  <cp:lastModifiedBy>User</cp:lastModifiedBy>
  <dcterms:modified xsi:type="dcterms:W3CDTF">2015-02-08T06:58:58Z</dcterms:modified>
  <cp:revision>8</cp:revision>
  <dc:subject/>
  <dc:title>                 Антон Павлович                          Чехов</dc:title>
</cp:coreProperties>
</file>