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9.jpeg" ContentType="image/jpeg"/>
  <Override PartName="/ppt/media/image12.jpeg" ContentType="image/jpeg"/>
  <Override PartName="/ppt/media/image34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A623-EE49-4616-8BD0-6A80653A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0FC-C367-4886-BD0A-4B8651A0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31A-3EAD-48F4-8E23-656056CA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07E-656A-4DD0-A86F-E59B0354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981-A320-4948-A707-1405CDBD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14E-3344-456D-B582-1ECD769C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135-B8DC-46A0-9E11-9B6AE1FF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7CE-167E-4BC5-8D4C-32C2266D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90A-36E8-4DD2-951C-D56CBD3E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A11-E56E-45D5-B23B-962BD0F2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210-1590-4FEF-8AE1-D2DCF9A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823-7AFB-4B7C-96C0-1DD4D17D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A9D9-B9A5-4DD4-ADB9-18BBC655E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&amp;Dcy;&amp;IEcy;&amp;Tcy;&amp;YAcy;&amp;Mcy; &amp;Ocy; &amp;Kcy;&amp;Ocy;&amp;Scy;&amp;Mcy;&amp;Ocy;&amp;Scy;&amp;IEcy; 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3886560"/>
            <a:ext cx="5715000" cy="206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54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ла: воспитатель                              Гамирова Эльмира Ханиф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ДОУ «Детский сад № 97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нь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&amp;Ncy;&amp;acy; &amp;bcy;&amp;ocy;&amp;rcy;&amp;tcy;&amp;ucy; &amp;pcy;&amp;iecy;&amp;rcy;&amp;vcy;&amp;ocy;&amp;gcy;&amp;ocy; &amp;scy;&amp;pcy;&amp;ucy;&amp;tcy;&amp;ncy;&amp;icy;&amp;kcy;&amp;acy; &amp;bcy;&amp;ycy;&amp;lcy;&amp;icy; &amp;dcy;&amp;vcy;&amp;iecy; &amp;scy;&amp;ocy;&amp;bcy;&amp;acy;&amp;kcy;&amp;icy; – &amp;Bcy;&amp;iecy;&amp;lcy;&amp;kcy;&amp;acy; &amp;icy; &amp;Scy;&amp;tcy;&amp;rcy;&amp;iecy;&amp;lcy;&amp;kcy;&amp;acy;. &amp;Ocy;&amp;ncy;&amp;icy; &amp;pcy;&amp;iecy;&amp;rcy;&amp;vcy;&amp;ycy;&amp;mcy;&amp;icy; &amp;pcy;&amp;ocy;&amp;kcy;&amp;o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057400" y="4724280"/>
            <a:ext cx="266688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2 &amp;acy;&amp;pcy;&amp;rcy;&amp;iecy;&amp;lcy;&amp;yacy; 1961 &amp;gcy;&amp;ocy;&amp;dcy;&amp;acy; &amp;scy;&amp;ocy;&amp;vcy;&amp;iecy;&amp;tcy;&amp;scy;&amp;kcy;&amp;icy;&amp;jcy; &amp;kcy;&amp;ocy;&amp;scy;&amp;mcy;&amp;ocy;&amp;ncy;&amp;acy;&amp;vcy;&amp;tcy; &amp;YUcy;&amp;rcy;&amp;icy;&amp;jcy; &amp;Acy;&amp;lcy;&amp;iecy;&amp;kcy;&amp;scy;&amp;iecy;&amp;iecy;&amp;vcy;&amp;icy;&amp;chcy; &amp;Gcy;&amp;acy;&amp;gcy;&amp;acy;&amp;rcy;&amp;icy;&amp;ncy; &amp;vcy;&amp;pcy;&amp;iecy;&amp;rcy;&amp;vcy;&amp;ycy;&amp;iecy; &amp;vcy; &amp;mcy;&amp;i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&amp;Scy;&amp;vcy;&amp;ocy;&amp;jcy; &amp;pcy;&amp;iecy;&amp;rcy;&amp;vcy;&amp;ycy;&amp;jcy; &amp;pcy;&amp;ocy;&amp;lcy;&amp;iecy;&amp;tcy; &amp;YUcy;.&amp;Acy;. &amp;Gcy;&amp;acy;&amp;gcy;&amp;acy;&amp;rcy;&amp;icy;&amp;ncy; &amp;scy;&amp;ocy;&amp;vcy;&amp;iecy;&amp;rcy;&amp;shcy;&amp;icy;&amp;lcy; &amp;ncy;&amp;acy; &amp;kcy;&amp;ocy;&amp;scy;&amp;mcy;&amp;icy;&amp;chcy;&amp;iecy;&amp;scy;&amp;kcy;&amp;ocy;&amp;mcy; &amp;kcy;&amp;ocy;&amp;rcy;&amp;acy;&amp;bcy;&amp;lcy;&amp;iecy; «&amp;Vcy;&amp;ocy;&amp;scy;&amp;tcy;&amp;ocy;&amp;kcy;- 1»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&amp;Icy;&amp;zcy; &amp;kcy;&amp;ocy;&amp;scy;&amp;mcy;&amp;icy;&amp;chcy;&amp;iecy;&amp;scy;&amp;kcy;&amp;ocy;&amp;gcy;&amp;ocy; &amp;pcy;&amp;rcy;&amp;ocy;&amp;scy;&amp;tcy;&amp;rcy;&amp;acy;&amp;ncy;&amp;scy;&amp;tcy;&amp;vcy;&amp;acy; &amp;YUcy;&amp;rcy;&amp;icy;&amp;jcy; &amp;Gcy;&amp;acy;&amp;gcy;&amp;acy;&amp;rcy;&amp;icy;&amp;ncy; &amp;ucy;&amp;vcy;&amp;icy;&amp;dcy;&amp;iecy;&amp;lcy; &amp;ncy;&amp;acy;&amp;shcy;&amp;ucy; &amp;pcy;&amp;lcy;&amp;acy;&amp;ncy;&amp;iecy;&amp;tcy;&amp;ucy; – &amp;Zcy;&amp;iecy;&amp;mcy;&amp;lcy;&amp;yacy;, &amp;ocy;&amp;ncy;&amp;acy; &amp;bcy;&amp;y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8 &amp;mcy;&amp;acy;&amp;rcy;&amp;tcy;&amp;acy; 1965 &amp;gcy;&amp;ocy;&amp;dcy;&amp;acy; &amp;lcy;&amp;iecy;&amp;tcy;&amp;chcy;&amp;icy;&amp;kcy;-&amp;kcy;&amp;ocy;&amp;scy;&amp;mcy;&amp;ocy;&amp;ncy;&amp;acy;&amp;vcy;&amp;tcy; &amp;Scy;&amp;Scy;&amp;Scy;&amp;Rcy; &amp;Acy;&amp;lcy;&amp;iecy;&amp;kcy;&amp;scy;&amp;iecy;&amp;jcy; &amp;Lcy;&amp;iecy;&amp;ocy;&amp;ncy;&amp;ocy;&amp;vcy; &amp;vcy;&amp;pcy;&amp;iecy;&amp;rcy;&amp;vcy;&amp;ycy;&amp;iecy; &amp;vcy; &amp;icy;&amp;scy;&amp;tcy;&amp;ocy;&amp;rcy;&amp;icy;&amp;icy; &amp;scy;&amp;ocy;&amp;v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lide_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&amp;Vcy; &amp;kcy;&amp;ocy;&amp;scy;&amp;mcy;&amp;ocy;&amp;scy;&amp;iecy; &amp;ocy;&amp;chcy;&amp;iecy;&amp;ncy;&amp;softcy; &amp;khcy;&amp;ocy;&amp;lcy;&amp;ocy;&amp;dcy;&amp;ncy;&amp;ocy; &amp;icy; &amp;ocy;&amp;chcy;&amp;iecy;&amp;ncy;&amp;softcy; &amp;mcy;&amp;acy;&amp;lcy;&amp;ocy; &amp;vcy;&amp;ocy;&amp;zcy;&amp;dcy;&amp;ucy;&amp;khcy;&amp;acy;, &amp;pcy;&amp;ocy;&amp;ecy;&amp;tcy;&amp;ocy;&amp;mcy;&amp;ucy; &amp;ncy;&amp;acy; &amp;kcy;&amp;ocy;&amp;scy;&amp;mcy;&amp;ocy;&amp;ncy;&amp;acy;&amp;vcy;&amp;tcy;&amp;acy;, &amp;kcy;&amp;ocy;&amp;tcy;&amp;ocy;&amp;rcy;&amp;ycy;&amp;j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Бортовой подогреватель пищи и тубы с едой"/>
          <p:cNvPicPr/>
          <p:nvPr/>
        </p:nvPicPr>
        <p:blipFill>
          <a:blip r:embed="rId1"/>
          <a:stretch/>
        </p:blipFill>
        <p:spPr>
          <a:xfrm>
            <a:off x="25560" y="28440"/>
            <a:ext cx="9144000" cy="70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&amp;Ecy;&amp;tcy;&amp;ocy; –&amp;ncy;&amp;acy;&amp;shcy;&amp;acy; &amp;pcy;&amp;lcy;&amp;acy;&amp;ncy;&amp;iecy;&amp;tcy;&amp;acy; &amp;Zcy;&amp;iecy;&amp;mcy;&amp;lcy;&amp;yacy;. &amp;Scy;&amp;icy;&amp;ncy;&amp;icy;&amp;iecy; &amp;pcy;&amp;yacy;&amp;tcy;&amp;ncy;&amp;acy; &amp;ncy;&amp;acy; &amp;ncy;&amp;acy;&amp;shcy;&amp;iecy;&amp;jcy; &amp;pcy;&amp;lcy;&amp;acy;&amp;ncy;&amp;iecy;&amp;tcy;&amp;iecy; – &amp;ecy;&amp;tcy;&amp;ocy; &amp;vcy;&amp;ocy;&amp;dcy;&amp;acy; – &amp;mcy;&amp;ocy;&amp;rcy;&amp;yacy; &amp;icy; &amp;ocy;&amp;kcy;&amp;ie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 &amp;Acy; &amp;tcy;&amp;acy;&amp;kcy; &amp;vcy;&amp;ycy;&amp;gcy;&amp;lcy;&amp;yacy;&amp;dcy;&amp;icy;&amp;tcy; &amp;Lcy;&amp;ucy;&amp;ncy;&amp;acy;, &amp;iecy;&amp;scy;&amp;lcy;&amp;icy; &amp;pcy;&amp;ocy;&amp;dcy;&amp;lcy;&amp;iecy;&amp;tcy;&amp;iecy;&amp;tcy;&amp;softcy; &amp;kcy; &amp;ncy;&amp;iecy;&amp;jcy; &amp;pcy;&amp;ocy;&amp;bcy;&amp;lcy;&amp;icy;&amp;zhcy;&amp;iecy;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&amp;Dcy;&amp;lcy;&amp;yacy; &amp;tcy;&amp;ocy;&amp;gcy;&amp;ocy;, &amp;chcy;&amp;tcy;&amp;ocy;&amp;bcy;&amp;ycy; &amp;lcy;&amp;ucy;&amp;chcy;&amp;shcy;&amp;iecy; &amp;icy;&amp;zcy;&amp;ucy;&amp;chcy;&amp;icy;&amp;tcy;&amp;softcy; &amp;Lcy;&amp;ucy;&amp;ncy;&amp;ucy;, &amp;lcy;&amp;yucy;&amp;dcy;&amp;icy; &amp;icy;&amp;zcy;&amp;ocy;&amp;bcy;&amp;rcy;&amp;iecy;&amp;lcy;&amp;icy; &amp;lcy;&amp;ucy;&amp;ncy;&amp;ocy;&amp;khcy;&amp;ocy;&amp;dcy; &amp;icy; &amp;dcy;&amp;ocy;&amp;scy;&amp;tcy;&amp;acy;&amp;vcy;&amp;icy;&amp;lcy;&amp;icy; &amp;iecy;&amp;gcy;&amp;ocy; &amp;ncy;&amp;a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&amp;Acy; &amp;vcy;&amp;ocy;&amp;tcy; &amp;tcy;&amp;acy;&amp;kcy;&amp;icy;&amp;mcy; &amp;kcy;&amp;ocy;&amp;scy;&amp;mcy;&amp;ocy;&amp;ncy;&amp;acy;&amp;vcy;&amp;tcy;&amp;ycy; &amp;ucy;&amp;vcy;&amp;icy;&amp;dcy;&amp;iecy;&amp;lcy;&amp;icy; &amp;Scy;&amp;ocy;&amp;lcy;&amp;ncy;&amp;tscy;&amp;iecy; – &amp;ocy;&amp;gcy;&amp;rcy;&amp;ocy;&amp;mcy;&amp;ncy;&amp;ycy;&amp;jcy; &amp;rcy;&amp;acy;&amp;scy;&amp;kcy;&amp;acy;&amp;lcy;&amp;iecy;&amp;ncy;&amp;ncy;&amp;ycy;&amp;jcy; &amp;ocy;&amp;gcy;&amp;ncy;&amp;iecy;&amp;ncy;&amp;ncy;&amp;ycy;&amp;jcy; &amp;shcy;&amp;acy;&amp;rcy;.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 &amp;Acy; &amp;vcy;&amp;ocy;&amp;kcy;&amp;rcy;&amp;ucy;&amp;gcy; &amp;Scy;&amp;ocy;&amp;lcy;&amp;ncy;&amp;tscy;&amp;acy; &amp;vcy;&amp;rcy;&amp;acy;&amp;shchcy;&amp;acy;&amp;yucy;&amp;tcy;&amp;scy;&amp;yacy; &amp;vcy;&amp;scy;&amp;iecy; &amp;pcy;&amp;lcy;&amp;acy;&amp;ncy;&amp;iecy;&amp;tcy;&amp;ycy; &amp;scy;&amp;ocy;&amp;lcy;&amp;ncy;&amp;iecy;&amp;chcy;&amp;ncy;&amp;ocy;&amp;jcy; &amp;scy;&amp;icy;&amp;scy;&amp;tcy;&amp;iecy;&amp;mcy;&amp;ycy;.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&amp;Vcy; &amp;kcy;&amp;ocy;&amp;scy;&amp;mcy;&amp;ocy;&amp;scy; &amp;zcy;&amp;acy;&amp;pcy;&amp;ucy;&amp;shchcy;&amp;iecy;&amp;ncy;&amp;ycy; &amp;icy;&amp;scy;&amp;kcy;&amp;ucy;&amp;scy;&amp;scy;&amp;tcy;&amp;vcy;&amp;iecy;&amp;ncy;&amp;ncy;&amp;ycy;&amp;iecy; &amp;scy;&amp;pcy;&amp;ucy;&amp;tcy;&amp;ncy;&amp;icy;&amp;kcy;&amp;icy; &amp;Zcy;&amp;iecy;&amp;mcy;&amp;lcy;&amp;icy;. &amp;Scy; &amp;icy;&amp;khcy; &amp;pcy;&amp;ocy;&amp;mcy;&amp;ocy;&amp;shchcy;&amp;softcy;&amp;yucy; &amp;pcy;&amp;rcy;&amp;ocy;&amp;vcy;&amp;ocy;&amp;dcy;&amp;yacy;&amp;tcy;&amp;scy;&amp;yacy; &amp;ncy;&amp;acy;&amp;ucy;&amp;chcy;&amp;n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img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age?id=817063320988&amp;t=20&amp;plc=WEB&amp;tkn=*xteLSlm9bujPlx_rdt2Rh7jID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"/>
          <p:cNvPicPr/>
          <p:nvPr/>
        </p:nvPicPr>
        <p:blipFill>
          <a:blip r:embed="rId2"/>
          <a:stretch/>
        </p:blipFill>
        <p:spPr>
          <a:xfrm>
            <a:off x="2133720" y="3505320"/>
            <a:ext cx="4038480" cy="1376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"/>
          <p:cNvPicPr/>
          <p:nvPr/>
        </p:nvPicPr>
        <p:blipFill>
          <a:blip r:embed="rId3"/>
          <a:stretch/>
        </p:blipFill>
        <p:spPr>
          <a:xfrm>
            <a:off x="4343400" y="5029200"/>
            <a:ext cx="4572000" cy="152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"/>
          <p:cNvPicPr/>
          <p:nvPr/>
        </p:nvPicPr>
        <p:blipFill>
          <a:blip r:embed="rId4"/>
          <a:stretch/>
        </p:blipFill>
        <p:spPr>
          <a:xfrm>
            <a:off x="1066680" y="1828800"/>
            <a:ext cx="3962520" cy="1360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1" descr="tungus_750_auto_5_80"/>
          <p:cNvPicPr/>
          <p:nvPr/>
        </p:nvPicPr>
        <p:blipFill>
          <a:blip r:embed="rId5"/>
          <a:stretch/>
        </p:blipFill>
        <p:spPr>
          <a:xfrm>
            <a:off x="4038480" y="152280"/>
            <a:ext cx="2495520" cy="1524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"/>
          <p:cNvPicPr/>
          <p:nvPr/>
        </p:nvPicPr>
        <p:blipFill>
          <a:blip r:embed="rId6"/>
          <a:stretch/>
        </p:blipFill>
        <p:spPr>
          <a:xfrm>
            <a:off x="4572000" y="1828800"/>
            <a:ext cx="1438200" cy="1362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"/>
          <p:cNvPicPr/>
          <p:nvPr/>
        </p:nvPicPr>
        <p:blipFill>
          <a:blip r:embed="rId7"/>
          <a:stretch/>
        </p:blipFill>
        <p:spPr>
          <a:xfrm>
            <a:off x="2133720" y="3505320"/>
            <a:ext cx="4038480" cy="1376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"/>
          <p:cNvPicPr/>
          <p:nvPr/>
        </p:nvPicPr>
        <p:blipFill>
          <a:blip r:embed="rId8"/>
          <a:stretch/>
        </p:blipFill>
        <p:spPr>
          <a:xfrm>
            <a:off x="6172200" y="3473280"/>
            <a:ext cx="17146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 &amp;Scy;&amp;pcy;&amp;acy;&amp;scy;&amp;icy;&amp;bcy;&amp;ocy; &amp;zcy;&amp;acy; &amp;vcy;&amp;ncy;&amp;icy;&amp;mcy;&amp;acy;&amp;ncy;&amp;icy;&amp;iecy;.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r_12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2-aprelya-den-kosmonavtiki1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&amp;Dcy;&amp;acy;&amp;vcy;&amp;acy;&amp;jcy;&amp;tcy;&amp;iecy; &amp;pcy;&amp;ocy;&amp;scy;&amp;mcy;&amp;ocy;&amp;tcy;&amp;rcy;&amp;icy;&amp;mcy; &amp;vcy; &amp;ncy;&amp;ocy;&amp;chcy;&amp;ncy;&amp;ocy;&amp;iecy; &amp;ncy;&amp;iecy;&amp;bcy;&amp;ocy;! &amp;Tcy;&amp;acy;&amp;mcy; &amp;scy;&amp;tcy;&amp;ocy;&amp;lcy;&amp;softcy;&amp;kcy;&amp;ocy; &amp;kcy;&amp;rcy;&amp;acy;&amp;scy;&amp;icy;&amp;vcy;&amp;ycy;&amp;khcy; &amp;zcy;&amp;vcy;&amp;iecy;&amp;zcy;&amp;dcy;! &amp;Lcy;&amp;yucy;&amp;dcy;&amp;icy; &amp;scy; &amp;scy;&amp;acy;&amp;mcy;&amp;ycy;&amp;khcy; &amp;dcy;&amp;acy;&amp;v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&amp;Icy; &amp;vcy;&amp;ocy;&amp;tcy; &amp;ocy;&amp;dcy;&amp;ncy;&amp;acy;&amp;zhcy;&amp;dcy;&amp;ycy;, &amp;scy;&amp;mcy;&amp;ocy;&amp;tcy;&amp;rcy;&amp;iecy;&amp;lcy; &amp;chcy;&amp;iecy;&amp;lcy;&amp;ocy;&amp;vcy;&amp;iecy;&amp;kcy; &amp;ncy;&amp;acy; &amp;zcy;&amp;vcy;&amp;iecy;&amp;zcy;&amp;dcy;&amp;ncy;&amp;ocy;&amp;iecy; &amp;ncy;&amp;iecy;&amp;bcy;&amp;ocy; &amp;icy; &amp;iecy;&amp;mcy;&amp;ucy; &amp;zcy;&amp;acy;&amp;khcy;&amp;ocy;&amp;tcy;&amp;iecy;&amp;lcy;&amp;ocy;&amp;scy;&amp;softcy; &amp;ucy;&amp;zcy;&amp;ncy;&amp;acy;&amp;tcy;&amp;softcy;, &amp;chcy;&amp;tcy;&amp;o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&amp;Ncy;&amp;iecy;&amp;bcy;&amp;ocy; &amp;ncy;&amp;acy;&amp;dcy; &amp;ncy;&amp;acy;&amp;shcy;&amp;iecy;&amp;jcy; &amp;gcy;&amp;ocy;&amp;lcy;&amp;ocy;&amp;vcy;&amp;ocy;&amp;jcy; &amp;ucy;&amp;scy;&amp;ycy;&amp;pcy;&amp;acy;&amp;ncy;&amp;ocy; &amp;mcy;&amp;ncy;&amp;ocy;&amp;zhcy;&amp;iecy;&amp;scy;&amp;tcy;&amp;vcy;&amp;ocy;&amp;mcy; &amp;zcy;&amp;vcy;&amp;iecy;&amp;zcy;&amp;dcy;. &amp;Ocy;&amp;ncy;&amp;icy; &amp;pcy;&amp;ocy;&amp;khcy;&amp;ocy;&amp;zhcy;&amp;icy; &amp;ncy;&amp;acy; &amp;mcy;&amp;acy;&amp;lcy;&amp;iecy;&amp;ncy;&amp;softcy;&amp;kcy;&amp;icy;&amp;iecy; &amp;scy;&amp;vcy;&amp;iecy;&amp;r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71194251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&amp;Ncy;&amp;ocy; &amp;lcy;&amp;yucy;&amp;dcy;&amp;icy; &amp;khcy;&amp;ocy;&amp;tcy;&amp;iecy;&amp;lcy;&amp;icy; &amp;zcy;&amp;ncy;&amp;acy;&amp;tcy;&amp;softcy;, &amp;iecy;&amp;scy;&amp;tcy;&amp;softcy; &amp;lcy;&amp;icy; &amp;zhcy;&amp;icy;&amp;zcy;&amp;ncy;&amp;softcy; &amp;ncy;&amp;acy; &amp;dcy;&amp;rcy;&amp;ucy;&amp;gcy;&amp;icy;&amp;khcy; &amp;pcy;&amp;lcy;&amp;acy;&amp;ncy;&amp;iecy;&amp;tcy;&amp;acy;&amp;khcy;. &amp;Acy; &amp;chcy;&amp;tcy;&amp;ocy;&amp;bcy;&amp;ycy; &amp;ecy;&amp;tcy;&amp;ocy; &amp;ucy;&amp;zcy;&amp;ncy;&amp;acy;&amp;tcy;&amp;softcy;, &amp;n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5T19:49:11Z</dcterms:created>
  <dc:creator>пк</dc:creator>
  <dc:description/>
  <dc:language>en-US</dc:language>
  <cp:lastModifiedBy>пк1</cp:lastModifiedBy>
  <dcterms:modified xsi:type="dcterms:W3CDTF">2017-09-23T22:30:4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