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15.png" ContentType="image/pn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-1800" y="720"/>
            <a:ext cx="1008036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>
              <a:gd name="textAreaLeft" fmla="*/ 0 w 5707080"/>
              <a:gd name="textAreaRight" fmla="*/ 5707440 w 5707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>
              <a:gd name="textAreaLeft" fmla="*/ 0 w 5762520"/>
              <a:gd name="textAreaRight" fmla="*/ 5762880 w 5762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>
              <a:gd name="textAreaLeft" fmla="*/ 0 w 2260800"/>
              <a:gd name="textAreaRight" fmla="*/ 2261160 w 22608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4280" cy="717480"/>
          </a:xfrm>
          <a:custGeom>
            <a:avLst/>
            <a:gdLst>
              <a:gd name="textAreaLeft" fmla="*/ 0 w 5894280"/>
              <a:gd name="textAreaRight" fmla="*/ 5894640 w 58942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287280">
              <a:spcAft>
                <a:spcPts val="1426"/>
              </a:spcAft>
              <a:buSzPct val="111603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2400" y="995040"/>
            <a:ext cx="860760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000"/>
            </a:br>
            <a:br>
              <a:rPr sz="8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576360" y="1979640"/>
            <a:ext cx="87519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Что такое полезные ископае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) витамин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) древние вещест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) все природные богатства, которые люди добывают из глубины земли или с ее поверх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76120" y="287280"/>
            <a:ext cx="91281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ыча      полезных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опаемых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Б-Добыча нефти"/>
          <p:cNvPicPr/>
          <p:nvPr/>
        </p:nvPicPr>
        <p:blipFill>
          <a:blip r:embed="rId1"/>
          <a:stretch/>
        </p:blipFill>
        <p:spPr>
          <a:xfrm>
            <a:off x="276120" y="2033640"/>
            <a:ext cx="3095640" cy="552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Б-добыча"/>
          <p:cNvPicPr/>
          <p:nvPr/>
        </p:nvPicPr>
        <p:blipFill>
          <a:blip r:embed="rId2"/>
          <a:stretch/>
        </p:blipFill>
        <p:spPr>
          <a:xfrm>
            <a:off x="4319640" y="2700360"/>
            <a:ext cx="4049640" cy="2986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5919840" y="4573440"/>
            <a:ext cx="1497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рь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74200" y="1392120"/>
            <a:ext cx="16408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важи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280" y="179280"/>
            <a:ext cx="90597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бывают уголь двумя способами: в карьерах и шахтах. Так же в карьерах добывают глину и известня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7848720" y="6372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Карь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4032360" cy="27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400720" y="3203640"/>
            <a:ext cx="3805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8069760" y="52927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ах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16000" y="68436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887640" y="3995640"/>
            <a:ext cx="3695760" cy="30243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43164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шахтах добывают не только уголь, но и железную р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7280" y="179280"/>
            <a:ext cx="95774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обыч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фти и природного га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роят буровые вышки и бурят высокие скважины. По ним нефть сначала сама поднимается из земли, а потом ей приходится «помогать». Для этого ее выкачивают мощными насосам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16000" y="4284720"/>
            <a:ext cx="4010040" cy="2981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256360" y="2843280"/>
            <a:ext cx="42037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727280" y="4500720"/>
            <a:ext cx="330192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287280" y="250920"/>
            <a:ext cx="95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ные районы страны нефть и газ поступает по нефте-проводам и газопроводам. Это длинные магистрали из т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87280" y="1547640"/>
            <a:ext cx="4464000" cy="220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6769080" y="50752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4"/>
          <a:stretch/>
        </p:blipFill>
        <p:spPr>
          <a:xfrm>
            <a:off x="5545080" y="1258920"/>
            <a:ext cx="43592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4"/>
          <p:cNvSpPr/>
          <p:nvPr/>
        </p:nvSpPr>
        <p:spPr>
          <a:xfrm>
            <a:off x="3452760" y="684360"/>
            <a:ext cx="2700360" cy="1269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шах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452760" y="2906640"/>
            <a:ext cx="2857680" cy="12700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р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371760" y="5049720"/>
            <a:ext cx="3016440" cy="1508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кваж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03760" y="1001880"/>
            <a:ext cx="25034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Каменный уг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71640" y="3059280"/>
            <a:ext cx="1188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еф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997560" y="5261040"/>
            <a:ext cx="1096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Гл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29720" y="973080"/>
            <a:ext cx="2304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Железная 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29000" y="3195720"/>
            <a:ext cx="1697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Известня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7246440" y="5281560"/>
            <a:ext cx="23284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Природный г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2658960" y="12412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2658960" y="1319040"/>
            <a:ext cx="134964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2103480" y="3382920"/>
            <a:ext cx="142884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 flipV="1">
            <a:off x="2022480" y="3938400"/>
            <a:ext cx="1827360" cy="15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 flipH="1">
            <a:off x="6151320" y="116064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 flipH="1">
            <a:off x="6310080" y="34624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 flipH="1">
            <a:off x="6230880" y="5526000"/>
            <a:ext cx="103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896000" y="1619280"/>
            <a:ext cx="3889080" cy="2916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60360" y="3564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936720" y="395280"/>
            <a:ext cx="1366920" cy="129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4360" y="539640"/>
            <a:ext cx="58179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родный га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 rot="10800000">
            <a:off x="936720" y="466560"/>
            <a:ext cx="635040" cy="1192320"/>
          </a:xfrm>
          <a:custGeom>
            <a:avLst/>
            <a:gdLst>
              <a:gd name="textAreaLeft" fmla="*/ 132120 w 635040"/>
              <a:gd name="textAreaRight" fmla="*/ 502920 w 635040"/>
              <a:gd name="textAreaTop" fmla="*/ 248400 h 1192320"/>
              <a:gd name="textAreaBottom" fmla="*/ 94392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040" bIns="5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224000" y="2700360"/>
            <a:ext cx="3240000" cy="30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256440" y="4859280"/>
            <a:ext cx="36576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56000" y="255600"/>
            <a:ext cx="5891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лезные ру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647640" y="611280"/>
            <a:ext cx="954000" cy="873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008000" y="2124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335640" y="4022640"/>
            <a:ext cx="34498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24000" y="255600"/>
            <a:ext cx="452268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дные ру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19280" y="684360"/>
            <a:ext cx="208908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60360" y="3995640"/>
            <a:ext cx="3038400" cy="327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3240000" y="17636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8920" y="19080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На  какие группы можно распределить полезные ископаемы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47640" y="255600"/>
            <a:ext cx="3887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ф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0"/>
          <p:cNvSpPr/>
          <p:nvPr/>
        </p:nvSpPr>
        <p:spPr>
          <a:xfrm rot="10800000">
            <a:off x="718920" y="466200"/>
            <a:ext cx="865080" cy="1584360"/>
          </a:xfrm>
          <a:custGeom>
            <a:avLst/>
            <a:gdLst>
              <a:gd name="textAreaLeft" fmla="*/ 180000 w 865080"/>
              <a:gd name="textAreaRight" fmla="*/ 685080 w 865080"/>
              <a:gd name="textAreaTop" fmla="*/ 330120 h 1584360"/>
              <a:gd name="textAreaBottom" fmla="*/ 12542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040" bIns="5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6408720" y="1332000"/>
            <a:ext cx="2808360" cy="2870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287280" y="2843280"/>
            <a:ext cx="50040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4"/>
          <p:cNvSpPr/>
          <p:nvPr/>
        </p:nvSpPr>
        <p:spPr>
          <a:xfrm>
            <a:off x="3452760" y="684360"/>
            <a:ext cx="2700360" cy="1269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шах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3452760" y="2906640"/>
            <a:ext cx="2857680" cy="12700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р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371760" y="5049720"/>
            <a:ext cx="3016440" cy="1508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кваж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03760" y="1001880"/>
            <a:ext cx="25034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Каменный уг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971640" y="3059280"/>
            <a:ext cx="1188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еф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997560" y="5261040"/>
            <a:ext cx="1096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Гл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029720" y="973080"/>
            <a:ext cx="2304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Железная 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29000" y="3195720"/>
            <a:ext cx="1697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Известня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246440" y="5281560"/>
            <a:ext cx="23284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Природный г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658960" y="12412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2658960" y="1319040"/>
            <a:ext cx="134964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2103480" y="3382920"/>
            <a:ext cx="142884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V="1">
            <a:off x="2022480" y="3938400"/>
            <a:ext cx="1827360" cy="15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151320" y="116064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6310080" y="34624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6230880" y="5526000"/>
            <a:ext cx="103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503280" y="376560"/>
            <a:ext cx="91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ченые изучают полезные ископае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е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рхе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и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трои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503280" y="376560"/>
            <a:ext cx="91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ченые изучают полезные ископае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ге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рхе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и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трои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673200" y="366840"/>
            <a:ext cx="881208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ие проблем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5880" y="2031840"/>
            <a:ext cx="93441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разработке месторождений – нарушаются ме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итаний растений и живот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95440" y="3354480"/>
            <a:ext cx="638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добыче полезных ископаемых – засоряется земля, воды, возду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15880" y="4862520"/>
            <a:ext cx="9507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транспортировке – разливается нефть, радиоактивные ископаемые излучают губительное для всего живого излуч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503280" y="681120"/>
            <a:ext cx="914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ешает экологические пробле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е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эк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и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трои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503280" y="681120"/>
            <a:ext cx="914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ешает экологические пробле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е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эк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иоло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трои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2000" y="394920"/>
            <a:ext cx="8607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258920"/>
            <a:ext cx="88948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5280" indent="-324000"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учить условные знаки и способы добычи полезных ископаем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60480" y="0"/>
            <a:ext cx="1014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280" y="3348000"/>
            <a:ext cx="352908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н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7280" y="2509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672000" y="2700360"/>
            <a:ext cx="2873160" cy="2154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3763080" y="5003640"/>
            <a:ext cx="26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6985080" y="450072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6912000" y="2556000"/>
            <a:ext cx="2881440" cy="1800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9"/>
          <p:cNvSpPr/>
          <p:nvPr/>
        </p:nvSpPr>
        <p:spPr>
          <a:xfrm>
            <a:off x="7548840" y="6804000"/>
            <a:ext cx="162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47280" y="684000"/>
            <a:ext cx="860580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>
              <a:spcAft>
                <a:spcPts val="1426"/>
              </a:spcAft>
              <a:buSzPct val="12579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Подбери слова, которые характеризуют эти полезные ископаем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нит: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ина: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естняк: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а для справок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елого цвета, хорошо лепится, твердый, непрозрачный, негорючий, мягкая, серого или  красного цвета, хорошо полиру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47280" y="684000"/>
            <a:ext cx="860580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>
              <a:spcAft>
                <a:spcPts val="1426"/>
              </a:spcAft>
              <a:buSzPct val="12579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Подбери слова, которые характеризуют эти полезные ископаем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нит: твёрдый, непрозрачный, негорючий, серого или  красного цвета, хорошо полиру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ина: хорошо лепится, непрозрачный, негорючий, мягк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естняк: белого цвета, непрозрачный, негорюч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buSzPct val="12579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а для справок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елого цвета, хорошо лепится, твердый, непрозрачный, негорючий, мягкая, серого или  красного цвета, хорошо полиру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4000" y="3924360"/>
            <a:ext cx="21384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5" descr="http://im7-tub-ru.yandex.net/i?id=302551293-10-72&amp;n=21"/>
          <p:cNvPicPr/>
          <p:nvPr/>
        </p:nvPicPr>
        <p:blipFill>
          <a:blip r:embed="rId1"/>
          <a:stretch/>
        </p:blipFill>
        <p:spPr>
          <a:xfrm>
            <a:off x="6624720" y="1832040"/>
            <a:ext cx="2233440" cy="31608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"/>
          <p:cNvSpPr/>
          <p:nvPr/>
        </p:nvSpPr>
        <p:spPr>
          <a:xfrm>
            <a:off x="1079640" y="1187280"/>
            <a:ext cx="2376360" cy="1935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900000"/>
            <a:ext cx="21384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,,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664000" y="900000"/>
            <a:ext cx="21380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,,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608360" y="250920"/>
            <a:ext cx="33847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8000" y="1403280"/>
            <a:ext cx="52563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а, где в глубинах земли или на её поверхности залегают полезные ископаемые, называю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есторождени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16000" y="4572000"/>
            <a:ext cx="482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ают полезные ископаемые, отыскивают месторожд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еолог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331128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696000" y="3132000"/>
            <a:ext cx="318312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896000" y="5292720"/>
            <a:ext cx="25286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-57240" y="0"/>
            <a:ext cx="100933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9-24T18:48:50Z</dcterms:modified>
  <cp:revision>45</cp:revision>
  <dc:subject/>
  <dc:title>Окружающий мир. 3 класс.  Полезные ископаемые.</dc:title>
</cp:coreProperties>
</file>