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7.wmf" ContentType="image/x-wmf"/>
  <Override PartName="/ppt/media/image1.png" ContentType="image/png"/>
  <Override PartName="/ppt/media/image21.gif" ContentType="image/gif"/>
  <Override PartName="/ppt/media/image3.wmf" ContentType="image/x-wmf"/>
  <Override PartName="/ppt/media/image4.wmf" ContentType="image/x-wmf"/>
  <Override PartName="/ppt/media/image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5BE-D5AB-4DF2-939C-D87A316A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FCF-BA63-4D35-A97C-3BBB32CC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A4F-B307-4900-BBC1-7A3A4F4F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2A3-5D2B-40AD-9B64-66A78CF6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2A5-0753-4BB8-B1A9-3E4F06F8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6A5-1E83-4644-BDA2-9B6D407E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C63-DF04-4C39-AB92-743209DB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B70-D9BC-4086-AF71-112545B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FB2-2F43-4E6E-90F6-0235F3D4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353-5E70-4451-B6A8-1FC030B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F12-BE23-4EEB-867C-0EFE6A0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FD5-5563-4FFA-820F-70A7ABF7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7081-8B5D-4B87-B362-DC114F5B4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981000"/>
            <a:ext cx="496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математи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3 класс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7527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3640" y="1052640"/>
            <a:ext cx="34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0х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х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х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х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х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300х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х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00: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х10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0: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1052640"/>
            <a:ext cx="4498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1х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0: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2х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3х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4х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х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3х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х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х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х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692360" y="1052640"/>
            <a:ext cx="2057040" cy="1797840"/>
            <a:chOff x="1692360" y="1052640"/>
            <a:chExt cx="2057040" cy="179784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692360" y="1052640"/>
              <a:ext cx="2017800" cy="12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856880" y="2451600"/>
              <a:ext cx="189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умываю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924360" y="981000"/>
            <a:ext cx="2209680" cy="2151360"/>
            <a:chOff x="3924360" y="981000"/>
            <a:chExt cx="2209680" cy="215136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4228920" y="981000"/>
              <a:ext cx="1752120" cy="17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24360" y="273348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завтрака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56360" y="1052640"/>
            <a:ext cx="2819160" cy="2367000"/>
            <a:chOff x="6156360" y="1052640"/>
            <a:chExt cx="2819160" cy="236700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469560" y="1052640"/>
              <a:ext cx="1806120" cy="18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156360" y="302076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работаю на уро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26920" y="3500280"/>
            <a:ext cx="3810240" cy="2456280"/>
            <a:chOff x="826920" y="3500280"/>
            <a:chExt cx="3810240" cy="245628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1969920" y="3500280"/>
              <a:ext cx="162108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6920" y="555768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иду домой после уро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72000" y="3573360"/>
            <a:ext cx="2514240" cy="2198880"/>
            <a:chOff x="4572000" y="3573360"/>
            <a:chExt cx="2514240" cy="2198880"/>
          </a:xfrm>
        </p:grpSpPr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4807440" y="3573360"/>
              <a:ext cx="185940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5373360"/>
              <a:ext cx="25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играю на улиц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948360" y="3716280"/>
            <a:ext cx="1600200" cy="2761560"/>
            <a:chOff x="6948360" y="3716280"/>
            <a:chExt cx="1600200" cy="2761560"/>
          </a:xfrm>
        </p:grpSpPr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6948360" y="3716280"/>
              <a:ext cx="147960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24320" y="5164200"/>
              <a:ext cx="1524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дела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домашн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зад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920" y="981000"/>
            <a:ext cx="631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ыходной день Дима 35 минут игр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мпьютерные игры, а играл на улице в 4 раза больше. Сколько всего времени Дима играл в выходной д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0" r="0" b="2223"/>
          <a:stretch/>
        </p:blipFill>
        <p:spPr>
          <a:xfrm>
            <a:off x="3419640" y="3357720"/>
            <a:ext cx="3024000" cy="2232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56000" y="105264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)  35 ∙ 4 = 140 (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2) 140 + 35 = 175 (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75 мин = 2 ч 55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2223"/>
          <a:stretch/>
        </p:blipFill>
        <p:spPr>
          <a:xfrm>
            <a:off x="2987640" y="3068640"/>
            <a:ext cx="3529080" cy="244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сшифруйте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5400" y="184464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л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живи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л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ч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4200" y="2708280"/>
            <a:ext cx="64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ещанног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6 месяце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5680" y="3645000"/>
            <a:ext cx="65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лу время, а потех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4760" y="458136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 дней  12 месяце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корм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24000" y="2421000"/>
            <a:ext cx="5832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урок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659640" y="692280"/>
            <a:ext cx="720720" cy="62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5940360" y="1440000"/>
            <a:ext cx="72072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7236000" y="1341360"/>
            <a:ext cx="7207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1916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3 м    20 см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12дм     4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321300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200 г    19 ч    40 мин   10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Прочита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9280" y="1341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Единицы времени,      соотношения между 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14000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95640" y="2781360"/>
            <a:ext cx="15051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00720" y="2997360"/>
            <a:ext cx="1447920" cy="1218600"/>
            <a:chOff x="6300720" y="2997360"/>
            <a:chExt cx="1447920" cy="1218600"/>
          </a:xfrm>
        </p:grpSpPr>
        <p:sp>
          <p:nvSpPr>
            <p:cNvPr id="50" name=""/>
            <p:cNvSpPr/>
            <p:nvPr/>
          </p:nvSpPr>
          <p:spPr>
            <a:xfrm>
              <a:off x="6300720" y="3058200"/>
              <a:ext cx="1447920" cy="1157760"/>
            </a:xfrm>
            <a:prstGeom prst="parallelogram">
              <a:avLst>
                <a:gd name="adj" fmla="val 31266"/>
              </a:avLst>
            </a:prstGeom>
            <a:gradFill rotWithShape="0">
              <a:gsLst>
                <a:gs pos="0">
                  <a:srgbClr val="bcb800"/>
                </a:gs>
                <a:gs pos="100000">
                  <a:srgbClr val="808080"/>
                </a:gs>
              </a:gsLst>
              <a:lin ang="8100000"/>
            </a:grad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6523200" y="2997360"/>
              <a:ext cx="98496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2360" y="1989000"/>
            <a:ext cx="7076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екунда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месяц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утки      год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минута        нед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Расположите единицы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ремени: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    1 вариант – начиная с наибольшей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    2 вариант – начиная с наимень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1692360" y="5380200"/>
            <a:ext cx="6918120" cy="563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340000" y="4836960"/>
            <a:ext cx="6264360" cy="56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203640" y="4292640"/>
            <a:ext cx="5400720" cy="56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924360" y="3733920"/>
            <a:ext cx="4686120" cy="563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643280" y="3200400"/>
            <a:ext cx="3967200" cy="563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5364000" y="2637000"/>
            <a:ext cx="3246480" cy="563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6227640" y="2060640"/>
            <a:ext cx="2382840" cy="563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877080" y="1484280"/>
            <a:ext cx="1733400" cy="563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10160" y="494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1440" y="43657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386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6520" y="3284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3440" y="278136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6520" y="220356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800" y="162720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50160" y="1052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Выраз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1914840"/>
            <a:ext cx="64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сутках: 48ч, 96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) в часах: 2 сут., 120 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) в  секундах: 5 мин, 15 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) в минутах: 600с, 5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47440" y="512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1440" y="1433520"/>
            <a:ext cx="56502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8ч = 2 сут             96ч = 4 с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сут. = 48 ч          120 мин= 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 мин. = 300с       15мин. = 900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00 с  = 10 мин     5ч = 30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00360" y="765000"/>
            <a:ext cx="4548240" cy="4903920"/>
          </a:xfrm>
          <a:custGeom>
            <a:avLst/>
            <a:gdLst/>
            <a:ahLst/>
            <a:rect l="l" t="t" r="r" b="b"/>
            <a:pathLst>
              <a:path w="2865" h="3089">
                <a:moveTo>
                  <a:pt x="1393" y="65"/>
                </a:moveTo>
                <a:cubicBezTo>
                  <a:pt x="1070" y="0"/>
                  <a:pt x="1209" y="50"/>
                  <a:pt x="505" y="57"/>
                </a:cubicBezTo>
                <a:cubicBezTo>
                  <a:pt x="487" y="63"/>
                  <a:pt x="466" y="63"/>
                  <a:pt x="449" y="73"/>
                </a:cubicBezTo>
                <a:cubicBezTo>
                  <a:pt x="431" y="83"/>
                  <a:pt x="418" y="101"/>
                  <a:pt x="401" y="113"/>
                </a:cubicBezTo>
                <a:cubicBezTo>
                  <a:pt x="380" y="145"/>
                  <a:pt x="334" y="195"/>
                  <a:pt x="321" y="233"/>
                </a:cubicBezTo>
                <a:cubicBezTo>
                  <a:pt x="316" y="249"/>
                  <a:pt x="314" y="267"/>
                  <a:pt x="305" y="281"/>
                </a:cubicBezTo>
                <a:cubicBezTo>
                  <a:pt x="289" y="305"/>
                  <a:pt x="266" y="326"/>
                  <a:pt x="257" y="353"/>
                </a:cubicBezTo>
                <a:cubicBezTo>
                  <a:pt x="246" y="386"/>
                  <a:pt x="254" y="370"/>
                  <a:pt x="233" y="401"/>
                </a:cubicBezTo>
                <a:cubicBezTo>
                  <a:pt x="213" y="500"/>
                  <a:pt x="146" y="575"/>
                  <a:pt x="121" y="673"/>
                </a:cubicBezTo>
                <a:cubicBezTo>
                  <a:pt x="118" y="793"/>
                  <a:pt x="118" y="913"/>
                  <a:pt x="113" y="1033"/>
                </a:cubicBezTo>
                <a:cubicBezTo>
                  <a:pt x="113" y="1044"/>
                  <a:pt x="107" y="1054"/>
                  <a:pt x="105" y="1065"/>
                </a:cubicBezTo>
                <a:cubicBezTo>
                  <a:pt x="94" y="1116"/>
                  <a:pt x="84" y="1166"/>
                  <a:pt x="73" y="1217"/>
                </a:cubicBezTo>
                <a:cubicBezTo>
                  <a:pt x="65" y="1252"/>
                  <a:pt x="49" y="1321"/>
                  <a:pt x="49" y="1321"/>
                </a:cubicBezTo>
                <a:cubicBezTo>
                  <a:pt x="46" y="1676"/>
                  <a:pt x="46" y="2030"/>
                  <a:pt x="41" y="2385"/>
                </a:cubicBezTo>
                <a:cubicBezTo>
                  <a:pt x="40" y="2439"/>
                  <a:pt x="9" y="2545"/>
                  <a:pt x="9" y="2545"/>
                </a:cubicBezTo>
                <a:cubicBezTo>
                  <a:pt x="13" y="2648"/>
                  <a:pt x="0" y="2770"/>
                  <a:pt x="65" y="2857"/>
                </a:cubicBezTo>
                <a:cubicBezTo>
                  <a:pt x="80" y="2918"/>
                  <a:pt x="126" y="2959"/>
                  <a:pt x="177" y="2993"/>
                </a:cubicBezTo>
                <a:cubicBezTo>
                  <a:pt x="229" y="3028"/>
                  <a:pt x="170" y="3009"/>
                  <a:pt x="233" y="3033"/>
                </a:cubicBezTo>
                <a:cubicBezTo>
                  <a:pt x="246" y="3038"/>
                  <a:pt x="294" y="3047"/>
                  <a:pt x="305" y="3049"/>
                </a:cubicBezTo>
                <a:cubicBezTo>
                  <a:pt x="354" y="3082"/>
                  <a:pt x="403" y="3080"/>
                  <a:pt x="465" y="3081"/>
                </a:cubicBezTo>
                <a:cubicBezTo>
                  <a:pt x="670" y="3086"/>
                  <a:pt x="876" y="3086"/>
                  <a:pt x="1081" y="3089"/>
                </a:cubicBezTo>
                <a:cubicBezTo>
                  <a:pt x="1153" y="3086"/>
                  <a:pt x="1225" y="3085"/>
                  <a:pt x="1297" y="3081"/>
                </a:cubicBezTo>
                <a:cubicBezTo>
                  <a:pt x="1382" y="3076"/>
                  <a:pt x="1473" y="3048"/>
                  <a:pt x="1561" y="3041"/>
                </a:cubicBezTo>
                <a:cubicBezTo>
                  <a:pt x="1625" y="3028"/>
                  <a:pt x="1691" y="3014"/>
                  <a:pt x="1753" y="2993"/>
                </a:cubicBezTo>
                <a:cubicBezTo>
                  <a:pt x="1862" y="2957"/>
                  <a:pt x="1783" y="2974"/>
                  <a:pt x="1841" y="2945"/>
                </a:cubicBezTo>
                <a:cubicBezTo>
                  <a:pt x="1895" y="2918"/>
                  <a:pt x="1947" y="2884"/>
                  <a:pt x="2001" y="2857"/>
                </a:cubicBezTo>
                <a:cubicBezTo>
                  <a:pt x="2071" y="2822"/>
                  <a:pt x="2143" y="2781"/>
                  <a:pt x="2209" y="2737"/>
                </a:cubicBezTo>
                <a:cubicBezTo>
                  <a:pt x="2225" y="2727"/>
                  <a:pt x="2246" y="2732"/>
                  <a:pt x="2265" y="2729"/>
                </a:cubicBezTo>
                <a:cubicBezTo>
                  <a:pt x="2295" y="2723"/>
                  <a:pt x="2333" y="2719"/>
                  <a:pt x="2361" y="2705"/>
                </a:cubicBezTo>
                <a:cubicBezTo>
                  <a:pt x="2451" y="2660"/>
                  <a:pt x="2540" y="2609"/>
                  <a:pt x="2625" y="2553"/>
                </a:cubicBezTo>
                <a:cubicBezTo>
                  <a:pt x="2652" y="2535"/>
                  <a:pt x="2672" y="2516"/>
                  <a:pt x="2697" y="2497"/>
                </a:cubicBezTo>
                <a:cubicBezTo>
                  <a:pt x="2712" y="2485"/>
                  <a:pt x="2745" y="2465"/>
                  <a:pt x="2745" y="2465"/>
                </a:cubicBezTo>
                <a:cubicBezTo>
                  <a:pt x="2756" y="2433"/>
                  <a:pt x="2766" y="2401"/>
                  <a:pt x="2777" y="2369"/>
                </a:cubicBezTo>
                <a:cubicBezTo>
                  <a:pt x="2786" y="2342"/>
                  <a:pt x="2816" y="2324"/>
                  <a:pt x="2825" y="2297"/>
                </a:cubicBezTo>
                <a:cubicBezTo>
                  <a:pt x="2833" y="2273"/>
                  <a:pt x="2841" y="2249"/>
                  <a:pt x="2849" y="2225"/>
                </a:cubicBezTo>
                <a:cubicBezTo>
                  <a:pt x="2854" y="2209"/>
                  <a:pt x="2865" y="2177"/>
                  <a:pt x="2865" y="2177"/>
                </a:cubicBezTo>
                <a:cubicBezTo>
                  <a:pt x="2862" y="2006"/>
                  <a:pt x="2865" y="1836"/>
                  <a:pt x="2857" y="1665"/>
                </a:cubicBezTo>
                <a:cubicBezTo>
                  <a:pt x="2857" y="1655"/>
                  <a:pt x="2845" y="1650"/>
                  <a:pt x="2841" y="1641"/>
                </a:cubicBezTo>
                <a:cubicBezTo>
                  <a:pt x="2813" y="1578"/>
                  <a:pt x="2844" y="1606"/>
                  <a:pt x="2801" y="1577"/>
                </a:cubicBezTo>
                <a:cubicBezTo>
                  <a:pt x="2786" y="1533"/>
                  <a:pt x="2771" y="1488"/>
                  <a:pt x="2745" y="1449"/>
                </a:cubicBezTo>
                <a:cubicBezTo>
                  <a:pt x="2719" y="1321"/>
                  <a:pt x="2697" y="1191"/>
                  <a:pt x="2665" y="1065"/>
                </a:cubicBezTo>
                <a:cubicBezTo>
                  <a:pt x="2662" y="1052"/>
                  <a:pt x="2648" y="959"/>
                  <a:pt x="2633" y="937"/>
                </a:cubicBezTo>
                <a:cubicBezTo>
                  <a:pt x="2600" y="888"/>
                  <a:pt x="2571" y="838"/>
                  <a:pt x="2545" y="785"/>
                </a:cubicBezTo>
                <a:cubicBezTo>
                  <a:pt x="2538" y="748"/>
                  <a:pt x="2533" y="727"/>
                  <a:pt x="2513" y="697"/>
                </a:cubicBezTo>
                <a:cubicBezTo>
                  <a:pt x="2501" y="650"/>
                  <a:pt x="2469" y="617"/>
                  <a:pt x="2441" y="577"/>
                </a:cubicBezTo>
                <a:cubicBezTo>
                  <a:pt x="2385" y="497"/>
                  <a:pt x="2274" y="393"/>
                  <a:pt x="2177" y="369"/>
                </a:cubicBezTo>
                <a:cubicBezTo>
                  <a:pt x="2133" y="325"/>
                  <a:pt x="2066" y="313"/>
                  <a:pt x="2009" y="289"/>
                </a:cubicBezTo>
                <a:cubicBezTo>
                  <a:pt x="1935" y="258"/>
                  <a:pt x="1859" y="221"/>
                  <a:pt x="1793" y="177"/>
                </a:cubicBezTo>
                <a:cubicBezTo>
                  <a:pt x="1784" y="171"/>
                  <a:pt x="1772" y="172"/>
                  <a:pt x="1761" y="169"/>
                </a:cubicBezTo>
                <a:cubicBezTo>
                  <a:pt x="1705" y="153"/>
                  <a:pt x="1649" y="143"/>
                  <a:pt x="1593" y="129"/>
                </a:cubicBezTo>
                <a:cubicBezTo>
                  <a:pt x="1519" y="111"/>
                  <a:pt x="1475" y="65"/>
                  <a:pt x="1393" y="65"/>
                </a:cubicBezTo>
                <a:close/>
              </a:path>
            </a:pathLst>
          </a:custGeom>
          <a:solidFill>
            <a:srgbClr val="ffff99">
              <a:alpha val="51000"/>
            </a:srgbClr>
          </a:solidFill>
          <a:ln w="12600">
            <a:solidFill>
              <a:srgbClr val="f4e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2590920" cy="2122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 rot="729000">
            <a:off x="4356000" y="3284640"/>
            <a:ext cx="3124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солнечные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часы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0" t="4668" r="0" b="1945"/>
          <a:stretch/>
        </p:blipFill>
        <p:spPr>
          <a:xfrm>
            <a:off x="826920" y="981000"/>
            <a:ext cx="287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2307960" cy="234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0" r="142" b="-115"/>
          <a:stretch/>
        </p:blipFill>
        <p:spPr>
          <a:xfrm>
            <a:off x="2268360" y="3141720"/>
            <a:ext cx="2136960" cy="264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rcRect l="0" t="0" r="29" b="0"/>
          <a:stretch/>
        </p:blipFill>
        <p:spPr>
          <a:xfrm>
            <a:off x="5003640" y="3141720"/>
            <a:ext cx="23511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FuckYouBill</cp:lastModifiedBy>
  <dcterms:modified xsi:type="dcterms:W3CDTF">2010-04-22T18:23:56Z</dcterms:modified>
  <cp:revision>16</cp:revision>
  <dc:subject/>
  <dc:title>Слайд 1</dc:title>
</cp:coreProperties>
</file>