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10F0-3011-4998-AE88-FF00B72B4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9C69-F23B-4DD9-AD7A-7EC26C7689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B143-138E-4498-BB68-038899F6D7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55F-0B23-476A-AD05-AD9125D23CA5}" type="datetime3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C421-E175-4108-B759-7FD1A56C82F8}" type="datetime3">
              <a:rPr b="0" lang="ru-RU" sz="1200" spc="-1" strike="noStrike">
                <a:solidFill>
                  <a:srgbClr val="1f497d"/>
                </a:solidFill>
                <a:latin typeface="Comic Sans MS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807732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южетная иг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как диагностическое средств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и форма организаци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мониторинга в ДОУ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24000" y="620640"/>
            <a:ext cx="8569080" cy="647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МБДОУ Центр развития ребенка – детский сад №8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42920" y="1989000"/>
          <a:ext cx="7345440" cy="4378320"/>
        </p:xfrm>
        <a:graphic>
          <a:graphicData uri="http://schemas.openxmlformats.org/drawingml/2006/table">
            <a:tbl>
              <a:tblPr/>
              <a:tblGrid>
                <a:gridCol w="1657440"/>
                <a:gridCol w="1871640"/>
                <a:gridCol w="1440000"/>
                <a:gridCol w="1331640"/>
                <a:gridCol w="1044720"/>
              </a:tblGrid>
              <a:tr h="324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озрас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ю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одолж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с колоб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и к трем медве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6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шебные бусы «Бабушки-загадуш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ское путеше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Африку с доктором Айболи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утешествие по сказка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одготов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страну знаний с Незнай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«Умницы и Ум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769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3284640"/>
            <a:ext cx="8077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ниторинг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– это наблюдение за каким-либо процессом с целью выявления его соответствия желаемому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Объектом внимани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ического мониторинга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является </a:t>
            </a:r>
            <a:r>
              <a:rPr b="0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результат педагогической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Comic Sans MS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61128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826920" y="3213000"/>
            <a:ext cx="3024360" cy="21607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omic Sans MS"/>
              </a:rPr>
              <a:t>усвоения программного содержания по образовательным обла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4932360" y="3284640"/>
            <a:ext cx="3024360" cy="216036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omic Sans MS"/>
              </a:rPr>
              <a:t>личностные результаты развития ребенка; целевые ориент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11"/>
          <p:cNvCxnSpPr/>
          <p:nvPr/>
        </p:nvCxnSpPr>
        <p:spPr>
          <a:xfrm flipH="1">
            <a:off x="2626920" y="2565360"/>
            <a:ext cx="650160" cy="50400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arrow" w="med"/>
          </a:ln>
        </p:spPr>
      </p:cxnSp>
      <p:cxnSp>
        <p:nvCxnSpPr>
          <p:cNvPr id="97" name="Прямая со стрелкой 12"/>
          <p:cNvCxnSpPr/>
          <p:nvPr/>
        </p:nvCxnSpPr>
        <p:spPr>
          <a:xfrm>
            <a:off x="5795640" y="2565000"/>
            <a:ext cx="577080" cy="57708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300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ЦЕЛЕВЫЕ ОРИЕНТ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Инициативность и самостоятельность (ребенок способен выбирать себе род занятий, партнеров, умеет воплощать свои замыс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Уверенность в своих силах, положительное отношение к себе и другим (сопереживание, умение разрешать конфли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Умение соблюдать нормы и правила, развитое воображение,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Развитая ус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Хорошо развитая крупная и мелкая мото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Способность к волевым усилиям в раз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Любознательность, склонность к экспериментированию и наблюдениям, способность к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С введением в действие Федеральных государственного образовательного стандарта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возникает необход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изменения подхода к оценке освоения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расширения возможностей использования игровой деятельности в образователь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520" y="1773000"/>
            <a:ext cx="807696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7964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578040"/>
            <a:ext cx="80769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06" name="Дата 5"/>
          <p:cNvSpPr/>
          <p:nvPr/>
        </p:nvSpPr>
        <p:spPr>
          <a:xfrm>
            <a:off x="571500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080-0980-46BF-82FC-80F7213B7CB0}" type="datetime3">
              <a:rPr b="0" lang="ru-RU" sz="1200" spc="-1" strike="noStrike">
                <a:solidFill>
                  <a:srgbClr val="1f497d"/>
                </a:solidFill>
                <a:latin typeface="Comic Sans MS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дзаголовок 6"/>
          <p:cNvSpPr/>
          <p:nvPr/>
        </p:nvSpPr>
        <p:spPr>
          <a:xfrm>
            <a:off x="755640" y="1700280"/>
            <a:ext cx="78836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4932360" y="4076640"/>
            <a:ext cx="3384720" cy="115272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ФОРМА ОРГАНИЗАЦИИ ПЕДАГ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4932360" y="2781360"/>
            <a:ext cx="3384720" cy="93492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РЕДСТВО ЛИЧНОСТНОГО РАЗВИТИЯ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4932360" y="1844640"/>
            <a:ext cx="3384720" cy="64764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АМОСТОЯТЕЛЬНАЯ ДЕТ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дзаголовок 6"/>
          <p:cNvSpPr/>
          <p:nvPr/>
        </p:nvSpPr>
        <p:spPr>
          <a:xfrm>
            <a:off x="755640" y="1889280"/>
            <a:ext cx="78836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6"/>
          <p:cNvCxnSpPr/>
          <p:nvPr/>
        </p:nvCxnSpPr>
        <p:spPr>
          <a:xfrm>
            <a:off x="3059280" y="2204640"/>
            <a:ext cx="1442160" cy="2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Прямая со стрелкой 17"/>
          <p:cNvCxnSpPr/>
          <p:nvPr/>
        </p:nvCxnSpPr>
        <p:spPr>
          <a:xfrm>
            <a:off x="3059280" y="2924280"/>
            <a:ext cx="1442160" cy="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Прямая со стрелкой 19"/>
          <p:cNvCxnSpPr/>
          <p:nvPr/>
        </p:nvCxnSpPr>
        <p:spPr>
          <a:xfrm>
            <a:off x="3132000" y="4220640"/>
            <a:ext cx="1440360" cy="2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Прямая со стрелкой 20"/>
          <p:cNvCxnSpPr/>
          <p:nvPr/>
        </p:nvCxnSpPr>
        <p:spPr>
          <a:xfrm flipH="1">
            <a:off x="2050200" y="3573000"/>
            <a:ext cx="2520" cy="793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8" name="Скругленный прямоугольник 24"/>
          <p:cNvSpPr/>
          <p:nvPr/>
        </p:nvSpPr>
        <p:spPr>
          <a:xfrm>
            <a:off x="468360" y="4581360"/>
            <a:ext cx="3743280" cy="19432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omic Sans MS"/>
              </a:rPr>
              <a:t>ЭФФЕКТИВНОЕ ДИАГНОСТИЧЕСКОЕ СРЕДСТВО И ФОРМА ОРГАНИЗАЦИИ МОНИТ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Создание универсальной диагностики усвоения образовательной программы у дошкольников с учетом возрастных особ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611280" y="1844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omic Sans MS"/>
              </a:rPr>
              <a:t>ЦЕЛЬ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1 этап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- объединение педагогов в творчески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2 этап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- работа в творческих группах – выбор тематического сюжета будущей игры, подбор диагностических задании в соответствии с содержанием рабочих программ ДОУ и пакета диагностических методик для каждой возрастн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3этап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- изготовление и подбор необходимого методического материала, составление карт наблю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4 этап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- апробация игр, внесение изме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Documents and Settings\sonka\Рабочий стол\Рисунок1.jpg"/>
          <p:cNvPicPr/>
          <p:nvPr/>
        </p:nvPicPr>
        <p:blipFill>
          <a:blip r:embed="rId2"/>
          <a:stretch/>
        </p:blipFill>
        <p:spPr>
          <a:xfrm>
            <a:off x="4716360" y="1628640"/>
            <a:ext cx="3384720" cy="2446560"/>
          </a:xfrm>
          <a:prstGeom prst="rect">
            <a:avLst/>
          </a:prstGeom>
          <a:ln w="25560">
            <a:solidFill>
              <a:srgbClr val="ffff66"/>
            </a:solidFill>
            <a:miter/>
          </a:ln>
        </p:spPr>
      </p:pic>
      <p:pic>
        <p:nvPicPr>
          <p:cNvPr id="132" name="Picture 2" descr="F:\игра - диагностика 1\фото средняя\S6305592.JPG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400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2916360" y="4149720"/>
            <a:ext cx="3384360" cy="2536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1:33:45Z</dcterms:created>
  <dc:creator/>
  <dc:description/>
  <cp:keywords/>
  <dc:language>en-US</dc:language>
  <cp:lastModifiedBy/>
  <dcterms:modified xsi:type="dcterms:W3CDTF">2017-09-24T13:35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2859990</vt:lpwstr>
  </property>
</Properties>
</file>