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0527-F156-4B8E-85DB-D2AF5D4D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C24-53C5-49E2-A9BC-0815E6D2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AD7-C325-4B11-8C40-428B883E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03C-B476-4415-BB12-659063F2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A69A-E354-43FF-8593-5E866207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B048-D787-4E16-B66C-C858FD76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5ADE-668F-439D-8F4E-AD794E13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D63E-5346-44AD-8078-BDC5057B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D489-2D55-4617-AF0C-EAE20523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5412-A9A1-4934-B347-810FB04D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E5A5-4136-4858-898E-39175E33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148-AC12-4A7A-A371-2F51494E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5C87-7BAB-443F-AD3F-E9CE65CD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EF8D-69CC-4CED-A2A6-00F268C4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5CFB-75D0-4970-A7D0-C826B134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30B5-AA49-4E76-BB57-00FD4331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7CAA-5019-44BE-8F36-B919C2B0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320B0-CD87-42BE-8CC4-E60630D0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AE7D-A04D-46EF-8545-7C0FDF73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1700-A5AA-48C8-A8E8-ECDB9906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424F-86AE-427C-A560-5BC807D3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9FD1-275D-4DBB-AB89-44B0ED15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90B-2521-43F8-B2F6-752D822C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F2E9-4186-4D96-B3DB-4366641C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A090B-7EEE-4907-A2E4-5E52A440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18BA-D12B-4CCD-B9F3-EFBE6C93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423A9-AF2F-44A7-BAF9-335879B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7C5B-5FE9-4AE3-97B5-219E8FAD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B7D5-CC28-4547-B0EF-E00D03B8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A0C7-55B2-44B6-9A90-8E0EC8ED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B5FB4-1920-4D26-A2BA-099274BF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F4174-1A52-4715-99EF-3D0151A5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70D9C-AB87-447C-8916-72B90764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3B8-2429-4B5D-BA29-3224DFED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22000-4790-45CF-B398-8BF3F643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DBB2A-CCBC-40C5-A4E0-625DEFA2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7A525-9A63-4391-B82C-E2893158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EFF9A-A5E9-475E-9D68-72182FD4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6530C-D965-48D4-98FD-3AF40FFF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F8DA1-A60B-48E3-8893-5276939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FEE48-C3D8-4DA1-BA16-EF864B0F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3573C-CA6A-4327-91DF-3F459DF2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DFEEF-0DCF-4267-8319-052ACB4A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F70E1-412F-4289-AABA-1DB2B209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AA7-D602-4BE2-8854-CC75D256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BB90C-EDBF-42C6-85B0-0CB9BFDD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CBD74-6797-41D6-A562-930C5410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4755A-3C25-4EBE-839A-4CE27792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98D8-35F9-4931-BC2D-6D267120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652D-539B-4E4E-8629-653593C4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CEA22-24B8-4BD3-AD46-493BB64B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2C903-EE0C-4E49-9A5B-AFF8654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C00F1-C556-4DD3-B68F-420C718F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C3C5D-7A61-4AD6-A84D-60EAEAB3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A54B-45FA-48DF-85B8-2A632F3D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B43-7E7B-43E4-80C7-8B3AD918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E3EA2-FCBF-4D18-9E31-10DE45F5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9ABD7-142C-416D-88AA-7A431687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F0EF7-F2F1-4B32-A995-46EAED78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48B7C-ADC5-4351-9186-05762AC2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A8F3B-0516-4B39-9DF9-AF3D5A7C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4BCC5-90AC-4980-9DAA-E7D78AFC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125B2-EA8B-4B92-98E3-6866F385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CC2BE-D009-4FB3-925D-61FBF91E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E2E63-1544-4FCA-BA44-4B18FACD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2F798-5AC2-4C02-A758-EF41D2D5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3EC-CBC2-4F06-B3BA-1B331684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AF2C0-EE92-4090-AC9E-C1F7414B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4C10D-400F-444A-99B3-D6789098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8BF61-02CA-40DE-A6A2-CD8B491A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839EE-19FA-431D-8F00-5CCCBA76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17A27-8934-417C-991F-B702BE1E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34C9E-7E0C-4EE0-B22E-14374775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C391D-86F2-49DC-A9F3-0149F9C7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E49EB-1ED3-48C1-81A5-B9CB14F4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14F28-E88D-418E-A9F9-B3E4A121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31F75-8D88-45C1-AEFD-222A9B7E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F1A-7F76-47E9-AD73-4064F610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1D60B-CD21-4F27-B3FE-A786B600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8E2A6-0509-488F-9828-AEFD686B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5D999-D94A-41E1-AD7C-D3D3A5D5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EB169-AACD-49A0-9DC4-0551C50F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74CC8-0A25-4911-8DCE-D1BB039F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0FD-4B71-4ACF-A85F-59EC1E32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912D-B514-4E1D-ADFD-9CF189451F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4D1E-55E9-4FF0-8E00-1D032C63F2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FAB1-BC8C-4BAF-B13C-4E5503C192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36CC-C48B-4995-809B-A409F8FDB09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FAD2-4202-4E0D-95AF-8446696D22A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E75F-26FA-4C7A-9D19-225F7C8585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8126-E4D7-49D1-A3EB-74B8D92CED4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31720" y="692280"/>
            <a:ext cx="7407000" cy="5689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социально-коммуникативных игр в воспитании и обучении детей дошкольного возраста с ОВЗ</a:t>
            </a:r>
            <a:r>
              <a:rPr b="1" lang="ru-RU" sz="4000" spc="-1" strike="noStrike">
                <a:solidFill>
                  <a:srgbClr val="320e04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187280" y="1557000"/>
            <a:ext cx="749808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2" descr=""/>
          <p:cNvPicPr/>
          <p:nvPr/>
        </p:nvPicPr>
        <p:blipFill>
          <a:blip r:embed="rId1"/>
          <a:stretch/>
        </p:blipFill>
        <p:spPr>
          <a:xfrm>
            <a:off x="1008000" y="33336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14"/>
          <p:cNvGraphicFramePr/>
          <p:nvPr/>
        </p:nvGraphicFramePr>
        <p:xfrm>
          <a:off x="1523880" y="145404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540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3" name="Схема 1" descr=""/>
          <p:cNvPicPr/>
          <p:nvPr/>
        </p:nvPicPr>
        <p:blipFill>
          <a:blip r:embed="rId3"/>
          <a:stretch/>
        </p:blipFill>
        <p:spPr>
          <a:xfrm>
            <a:off x="1030320" y="542880"/>
            <a:ext cx="784548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357200" y="62028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85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85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–выступает как форма социализации ребёнка с ОВЗ (по ФГОС ДО)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8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8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о-коммуникативные игры делятся на групп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85080" indent="-603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ы, ориентированные на развитие информационно-коммуникативных умений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85080" indent="-603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ы, ориентированные на развитие регуляционно-коммуникативных умений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85080" indent="-603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ы, ориентированные на развитие аффективно-коммуникативных умени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85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85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8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332000" y="1413000"/>
            <a:ext cx="7488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6" name="Diagram 4"/>
          <p:cNvGrpSpPr/>
          <p:nvPr/>
        </p:nvGrpSpPr>
        <p:grpSpPr>
          <a:xfrm>
            <a:off x="2297880" y="621000"/>
            <a:ext cx="5340240" cy="5146200"/>
            <a:chOff x="2297880" y="621000"/>
            <a:chExt cx="5340240" cy="5146200"/>
          </a:xfrm>
        </p:grpSpPr>
        <p:sp>
          <p:nvSpPr>
            <p:cNvPr id="327" name="_s1028"/>
            <p:cNvSpPr/>
            <p:nvPr/>
          </p:nvSpPr>
          <p:spPr>
            <a:xfrm flipH="1" flipV="1">
              <a:off x="3646800" y="2963160"/>
              <a:ext cx="66312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1029"/>
            <p:cNvSpPr/>
            <p:nvPr/>
          </p:nvSpPr>
          <p:spPr>
            <a:xfrm>
              <a:off x="2297880" y="2055600"/>
              <a:ext cx="1385280" cy="1385280"/>
            </a:xfrm>
            <a:prstGeom prst="ellipse">
              <a:avLst/>
            </a:prstGeom>
            <a:solidFill>
              <a:srgbClr val="06da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авы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еодолен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тресс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_s1030"/>
            <p:cNvSpPr/>
            <p:nvPr/>
          </p:nvSpPr>
          <p:spPr>
            <a:xfrm flipH="1">
              <a:off x="4153320" y="3949200"/>
              <a:ext cx="40752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1031"/>
            <p:cNvSpPr/>
            <p:nvPr/>
          </p:nvSpPr>
          <p:spPr>
            <a:xfrm>
              <a:off x="3053160" y="4381920"/>
              <a:ext cx="1385280" cy="1385280"/>
            </a:xfrm>
            <a:prstGeom prst="ellipse">
              <a:avLst/>
            </a:prstGeom>
            <a:solidFill>
              <a:srgbClr val="06da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авы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альтернативы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агресс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032"/>
            <p:cNvSpPr/>
            <p:nvPr/>
          </p:nvSpPr>
          <p:spPr>
            <a:xfrm>
              <a:off x="5373720" y="3949200"/>
              <a:ext cx="409680" cy="56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033"/>
            <p:cNvSpPr/>
            <p:nvPr/>
          </p:nvSpPr>
          <p:spPr>
            <a:xfrm>
              <a:off x="5498280" y="4381920"/>
              <a:ext cx="1385280" cy="1385280"/>
            </a:xfrm>
            <a:prstGeom prst="ellipse">
              <a:avLst/>
            </a:prstGeom>
            <a:solidFill>
              <a:srgbClr val="06da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авы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адапт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034"/>
            <p:cNvSpPr/>
            <p:nvPr/>
          </p:nvSpPr>
          <p:spPr>
            <a:xfrm flipV="1">
              <a:off x="5624280" y="2961720"/>
              <a:ext cx="66132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035"/>
            <p:cNvSpPr/>
            <p:nvPr/>
          </p:nvSpPr>
          <p:spPr>
            <a:xfrm>
              <a:off x="6252840" y="2057400"/>
              <a:ext cx="1385280" cy="1385280"/>
            </a:xfrm>
            <a:prstGeom prst="ellipse">
              <a:avLst/>
            </a:prstGeom>
            <a:solidFill>
              <a:srgbClr val="06da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авы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общения с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верстника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036"/>
            <p:cNvSpPr/>
            <p:nvPr/>
          </p:nvSpPr>
          <p:spPr>
            <a:xfrm flipV="1">
              <a:off x="4967280" y="2004480"/>
              <a:ext cx="0" cy="69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037"/>
            <p:cNvSpPr/>
            <p:nvPr/>
          </p:nvSpPr>
          <p:spPr>
            <a:xfrm>
              <a:off x="4275360" y="621000"/>
              <a:ext cx="1385280" cy="1385280"/>
            </a:xfrm>
            <a:prstGeom prst="ellipse">
              <a:avLst/>
            </a:prstGeom>
            <a:solidFill>
              <a:srgbClr val="06da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авы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обхожден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 чувства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038"/>
            <p:cNvSpPr/>
            <p:nvPr/>
          </p:nvSpPr>
          <p:spPr>
            <a:xfrm>
              <a:off x="4275360" y="2700000"/>
              <a:ext cx="1385280" cy="1385280"/>
            </a:xfrm>
            <a:prstGeom prst="ellipse">
              <a:avLst/>
            </a:prstGeom>
            <a:solidFill>
              <a:srgbClr val="eaeb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циальны</a:t>
              </a: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авы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643040" y="404280"/>
            <a:ext cx="710568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85080" indent="-603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ы направлены на развитие у детей с ОВЗ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85080" indent="-603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увство единства, сплоченности, умение действовать в коллективе, снятие телесных барьеров. Пр.: «Клеевой ручеек»,  «Слепец и поводырь», «Волшебные водоросли» и др.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685080" indent="-603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мение устанавливать доброжелательные отношения, замечать положительные качества других и выражать это словами, делать комплименты. Пр.: «Вежливые слова», «Волшебный букет цветов»,  «Подарок для всех» и др.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685080" indent="-603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мение решать конфликтные ситуации и преодоление конфликтов в общении друг с другом. Пр.: «Игры- ситуации», «Коврик примирения», «Руки знакомятся, руки сорятся, руки мирятся»  др.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685080" indent="-603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витие не вербальных и предметных способов взаимодействия. Пр.: «Изобрази пословицу», «Разговор через стекло», « Закорючка» идр.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685080" indent="-603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благоприятной атмосферы непосредственного, свободного общения и эмоциональной близости. Пр.: «Пресс-конференция», «Пойми меня», «Без маски» и т.д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58560" y="249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900"/>
            </a:b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2T10:11:34Z</dcterms:created>
  <dc:creator>VAMP</dc:creator>
  <dc:description/>
  <dc:language>en-US</dc:language>
  <cp:lastModifiedBy>Haker</cp:lastModifiedBy>
  <dcterms:modified xsi:type="dcterms:W3CDTF">2016-11-22T15:57:13Z</dcterms:modified>
  <cp:revision>36</cp:revision>
  <dc:subject/>
  <dc:title>Слайд 1</dc:title>
</cp:coreProperties>
</file>