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37B-8F45-4A2D-A856-9FCBD234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F2E-D0E5-40F2-9A33-049165EA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4AB-64E8-4C6F-BBA0-5B58FA68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91D-66D5-4B06-9936-D3567C44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98E6-1F71-4012-B93D-D0F46353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09BD-9078-4BAD-BEB3-789E615D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1E5B-C0FC-4D9E-B66D-3E9AA29D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0748-34D9-45A4-BE51-208C38AE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A2B1-59A0-4331-B6E9-FAE18E1C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D689-885E-4DAF-86A7-43E37A8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02CF-6FEB-41D4-81E9-3398665E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7CC-DBCF-4352-92CA-BCDB2BA2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B7C6-4510-4A9D-8EA1-2A0C109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142C-5C88-4663-ACAB-CB7781D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215F-E9B5-420C-86FD-1C01A415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F17F-BA9F-47D7-ADEB-B0F6ED23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2412-4574-4B9F-AFFD-A6BFFB0B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E83-2E81-4B46-ACA6-7131F0EB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F0F-C89F-4A1D-A4D4-1A19378A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2C6-FA25-4716-B50A-96EE1354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936-8CE4-43F3-B11E-AF2F353B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922-3F84-48B5-A422-D165F10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5C2-2FFC-4E51-A9F6-BFA58D0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824-37A8-4A53-8C97-3B6C59DF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69D0-FA94-47F9-B79F-946F9460FF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E694-9064-4058-B26D-A730B9EF04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1323360"/>
            <a:ext cx="7632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урока: А.С.Пушкин «Капитанская доч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овление личности Петра Гринё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реги честь смол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латье сн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о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 Грине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 Фамилия, имя, отчество отца героя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  Фамилия, имя, отчество матери героя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  Количество детей в семье Гриневых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  Возраст героя к тому времени, когда он «выучился русской грамоте»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  Предмет, бережно хранимый матерью Гринева с момента крещения сына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 Учебное пособие, из которого юный Петр изготовил бумажного змея во время «урока»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вание полка, куда герой был зачислен на службу еще до своего появления на свет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 Город, где Петр проигрался в бильярд по дороге к месту службы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Алкогольный напиток, впервые попробованный Гриневым по настоянию Зурина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 Воинское звание, присвоенное Гриневу в Белогорской крепости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 Оружие, которым герой был ранен на дуэли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  Русский поэ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ека, который «очень похвалял» стихотворные «опыты» Гринева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.  Город, куда Гринев был отправлен после ареста, дабы предстать перед Следственной комиссией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.  Наказание, каким государыня императрица заменила герою смертную казнь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.  Реликвия, которую «показывают» потомки Гринева всем гостям своего семейства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ЛЮ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ндрей Петрович Грине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вдотья Васильевна Ю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евять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а двенадцатом году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орочк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еографическая карт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мёновский полк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имбирск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Пунш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ручик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Шпаг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Л.Я. Сумароко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азан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ечное поселение в Сибир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исьмо Екатерины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к отцу Гринёва, содержащее «оправдание его сына»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г ли Пётр Гринёв запятнать свою честь в тех или иных ситуация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то оказал большое влияние на формирование личности юного Петруш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поступают герои в ситуациях выбор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туальна ли повесть в современное врем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ступки и чув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ысль о службе в Петербурге  – восхищ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арнизонная скука – разочар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оигрыш 100 рублей в биллиярд -  угрызение совести, стыда и раская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ездка в буран – самонадеян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Заячий тулуп – благодар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емья Миронова – привязан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Шутки и колкости Швабрина в адрес  семьи Миронова и Маши – негод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тношение к Маше – любов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единок -  благородство, смел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ощение Швабрина – незлопамят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исьмо от отца – оскорбл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олезнь матери – огорч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есть о пугачёвщине, пленный – башкирец, весть о захвате Нижнеозёрной крепости, смерть родителей Маши, предательство Швабрина – потряс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умы о Маше – беспок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ыбор: оставаться в крепости, подвластной злодею – любовь к Маш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ли явиться на службу полезной отечеству – долг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знать бродягу государем – малодуш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звать его обманщиком – опасность – долг (правду) верность долгу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аша у попа – тревог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исьмо от Маши – отчая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ешение вернуться в Белогорскую крепость – твёрдость и решительность, смел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алмыцкая сказка –  честность, прямодуш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ворянин Швабрин в ногах у Пугачёва – ненависть, гнев и презр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тношение к Пугачёву – сочувствие и понимание человека, дипломатич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есть об аресте – суда не боялся: совесть была чист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опрос – чистосердечное объяснение истины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мя Маши – благород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391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553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1800000" cy="4372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835280" y="765000"/>
            <a:ext cx="518472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480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учиться наблюдать характеры героев по их поступк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анализировать поступки героя и выявить черты его характе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учиться приводить свои ассоци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11280" y="776160"/>
            <a:ext cx="424836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ндрей Петрович Гринёв доказал свою верность заветам отца, не изменил тому, что считал своим долгом и своей честью, он достойно прошёл школу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ледить путь духовного становления героя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вивать навыки анализа текс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тивац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голь Н.В. «Пушкин поведал простую, безыскусственную повесть русской жизни. В нём выступили истинно русские характеры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оварь Ожег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.И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сть – совокупность высших морально – этических принципов лич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оинство – сознание своих человеческих прав, своей моральной ценности и уважение их в себ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лагородство – 1.Высокие нравственные качества                                                         2.высокое достоинство, красо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прос мотиваци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овите героя повести, которому присущи эти каче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ние на ассоциативное мышл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ведите ассоциации по ощущению к слову «чес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чностно – ориентированное зада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ывают ли в вашей жизни ситуации, когда нужно сделать выбор: Как поступи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южетная кан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и юность, среда, воспитавшая геро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явление характера при первом вступлении в самостоятельную жиз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к окружающим в период мирной жизни в Белогорской креп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рия любви к Маш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лагие» потряс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рия отношений с Пугачёвым (характер развивается и определяются взгляды на жизнь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черты героя и типичность образ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16:24Z</dcterms:created>
  <dc:creator>user</dc:creator>
  <dc:description/>
  <dc:language>en-US</dc:language>
  <cp:lastModifiedBy>ruser</cp:lastModifiedBy>
  <dcterms:modified xsi:type="dcterms:W3CDTF">2011-01-16T12:04:10Z</dcterms:modified>
  <cp:revision>5</cp:revision>
  <dc:subject/>
  <dc:title>Слайд 1</dc:title>
</cp:coreProperties>
</file>