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F9F1-F97D-4578-BD43-299E04965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BE98-2999-44FA-8A22-4309E9E5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2A69-E87C-4F18-8504-BBB8D558D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56D3-E2AF-43F2-A796-ACBE9161A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6486-D1B2-4125-9691-0799F0649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3F49-1752-4B6D-B745-70DF1637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398C-C07D-48A4-842A-3555465D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71FB-74C3-4EEF-AB32-EFDC2A23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3CB4-CE75-46B1-9E09-1973BFD5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1CA7A-6A30-48D0-AA6E-69E6DAFC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2663-74A3-4555-AC46-3FE8AEB9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F799-CD3D-43F4-BD03-AD787E6D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6C5B-EB25-46B4-B95B-27DA1127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4B0C-D654-415E-99AE-13FBFB3A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21396-6439-4E83-8BF3-193FBBD9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0DF2-7EFF-4A7F-B7B5-D939D00AF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F7AD-5B70-49CB-881E-A039E8FE9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12EE-8B58-4DC1-B261-41697CEF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7667-9672-4459-996A-111F7023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F07C-54A8-44D8-ADAB-80CDE45A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CDF2-EE84-4FD2-BC2B-3D1761AB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F087-389A-412A-AFD2-B630E34E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1A0B-F42B-45F6-9D8D-82055D8E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219C-9A2C-46C0-9966-A38AA668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AD52-2681-4CE4-AF9B-8F4B974D431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0816-A5B3-4487-BA12-356A3F6FC2B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755640" y="1323360"/>
            <a:ext cx="763272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ма урока: А.С.Пушкин «Капитанская дочк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ановление личности Петра Гринё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ереги честь смолод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платье сно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лов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Анке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етр Гринев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  Фамилия, имя, отчество отца героя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  Фамилия, имя, отчество матери героя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  Количество детей в семье Гриневых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  Возраст героя к тому времени, когда он «выучился русской грамоте»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  Предмет, бережно хранимый матерью Гринева с момента крещения сына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 Учебное пособие, из которого юный Петр изготовил бумажного змея во время «урока»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7.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звание полка, куда герой был зачислен на службу еще до своего появления на свет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.  Город, где Петр проигрался в бильярд по дороге к месту службы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. Алкогольный напиток, впервые попробованный Гриневым по настоянию Зурина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.  Воинское звание, присвоенное Гриневу в Белогорской крепости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1. Оружие, которым герой был ранен на дуэли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  Русский поэ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ека, который «очень похвалял» стихотворные «опыты» Гринева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3.  Город, куда Гринев был отправлен после ареста, дабы предстать перед Следственной комиссией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4.  Наказание, каким государыня императрица заменила герою смертную казнь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5.  Реликвия, которую «показывают» потомки Гринева всем гостям своего семейства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ЛЮЧ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Андрей Петрович Гринев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Авдотья Васильевна Ю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Девять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На двенадцатом году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орочка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Географическая карта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емёновский полк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имбирск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.Пунш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Поручик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Шпаг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Л.Я. Сумароков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Казань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Вечное поселение в Сибир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Письмо Екатерины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к отцу Гринёва, содержащее «оправдание его сына»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роблемный вопрос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ог ли Пётр Гринёв запятнать свою честь в тех или иных ситуациях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опросы уро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то оказал большое влияние на формирование личности юного Петруш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 поступают герои в ситуациях выбор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ктуальна ли повесть в современное время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оступки и чувст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Мысль о службе в Петербурге  – восхищение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Гарнизонная скука – разочарование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роигрыш 100 рублей в биллиярд -  угрызение совести, стыда и раскаяние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оездка в буран – самонадеянность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Заячий тулуп – благодарность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Семья Миронова – привязанность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Шутки и колкости Швабрина в адрес  семьи Миронова и Маши – негодование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Отношение к Маше – любовь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оединок -  благородство, смелость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рощение Швабрина – незлопамятность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исьмо от отца – оскорбление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Болезнь матери – огорчение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есть о пугачёвщине, пленный – башкирец, весть о захвате Нижнеозёрной крепости, смерть родителей Маши, предательство Швабрина – потрясение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Думы о Маше – беспокойство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ыбор: оставаться в крепости, подвластной злодею – любовь к Маше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или явиться на службу полезной отечеству – долг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ризнать бродягу государем – малодушие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назвать его обманщиком – опасность – долг (правду) верность долгу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Маша у попа – тревог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исьмо от Маши – отчаяние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Решение вернуться в Белогорскую крепость – твёрдость и решительность, смелость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Калмыцкая сказка –  честность, прямодушие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Дворянин Швабрин в ногах у Пугачёва – ненависть, гнев и презрение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Отношение к Пугачёву – сочувствие и понимание человека, дипломатичность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есть об аресте – суда не боялся: совесть была чиста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Допрос – чистосердечное объяснение истины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Имя Маши – благородство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268360" y="549360"/>
            <a:ext cx="439128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655308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1800000" cy="43722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835280" y="765000"/>
            <a:ext cx="5184720" cy="48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332000" y="836640"/>
            <a:ext cx="648000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адачи урок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учиться наблюдать характеры героев по их поступка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анализировать поступки героя и выявить черты его характер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учиться приводить свои ассоциац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411280" y="776160"/>
            <a:ext cx="424836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Андрей Петрович Гринёв доказал свою верность заветам отца, не изменил тому, что считал своим долгом и своей честью, он достойно прошёл школу жизн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следить путь духовного становления героя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звивать навыки анализа текст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отивация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оголь Н.В. «Пушкин поведал простую, безыскусственную повесть русской жизни. В нём выступили истинно русские характеры…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ловарь Ожегов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.И.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есть – совокупность высших морально – этических принципов лично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стоинство – сознание своих человеческих прав, своей моральной ценности и уважение их в себ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лагородство – 1.Высокие нравственные качества                                                         2.высокое достоинство, красот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опрос мотивации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зовите героя повести, которому присущи эти качеств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Задание на ассоциативное мышление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иведите ассоциации по ощущению к слову «честь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ичностно – ориентированное задание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ывают ли в вашей жизни ситуации, когда нужно сделать выбор: Как поступить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южетная кан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ство и юность, среда, воспитавшая геро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явление характера при первом вступлении в самостоятельную жизн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ношение к окружающим в период мирной жизни в Белогорской креп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тория любви к Маш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Благие» потряс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тория отношений с Пугачёвым (характер развивается и определяются взгляды на жизнь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е черты героя и типичность образ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5:16:24Z</dcterms:created>
  <dc:creator>user</dc:creator>
  <dc:description/>
  <dc:language>en-US</dc:language>
  <cp:lastModifiedBy>ruser</cp:lastModifiedBy>
  <dcterms:modified xsi:type="dcterms:W3CDTF">2011-01-16T12:04:10Z</dcterms:modified>
  <cp:revision>5</cp:revision>
  <dc:subject/>
  <dc:title>Слайд 1</dc:title>
</cp:coreProperties>
</file>