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png" ContentType="image/png"/>
  <Override PartName="/ppt/media/image35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DC31-A16E-4162-9F40-5C18F1583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5E40-9F80-42C8-8493-171569EEF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B9C-F23F-4C02-BE17-9633D05AC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F0DB-BB0A-482D-8B2A-77A357DA9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88A-6541-48BD-BF80-5B30F80A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316-6DAB-409D-BAD1-FC974C1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083-0138-4ED7-8AE3-3E8D28A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DA1-92A4-4534-98DE-3186F23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8D59-7427-4A72-9186-6A2D1290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DEF-CD60-492B-9A87-AE4438B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D79E-7156-49F5-A386-03D4262A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B0B4-D8FC-4EF0-BBF7-D5CA3515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D67-A3A5-4CC0-800A-AB0D9B7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FD7-3FD8-4CFA-A181-6684EFC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8F63-5832-494F-8027-9EC588B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A5B-0C8B-4D31-9527-5B84D69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AC1E-CCF9-4C62-8BD1-12A8416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1BB-E5FA-43A3-BF25-0A536DB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C592-FF9E-4BC8-9103-8F58684E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B2F-FBA9-4176-8E37-61A6F8FB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FADA-BEE4-44C4-B9A2-F675DEE8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8181-08D8-4A15-8351-67E358AD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D455-CFEF-4D91-AAA0-F228595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426B-AC30-4617-A2AB-2CA297EC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6DDA-F5E0-4450-A6B7-AA8DA141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8E14-82A8-4C62-8A41-B898F20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85D-1F30-4CE8-97BF-3DA6B091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3F86-D170-40E4-A973-16B4754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FAFD-257C-43C9-827C-4CA15E1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8558-C2FA-456B-B76D-C1AD85E6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8FB7-8A63-415C-80B3-82956D4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A1DA-F37E-4C10-AB76-D4FFDFF7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D0B2-955D-4FEE-8D31-DAC2B90B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903F-FECB-43BD-B69B-1A1550B0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1240-8D21-4BE3-9B54-68DEB775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39FC-284E-4F02-9011-7786B11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44F3-A5FC-44A9-A08C-D369902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063-2212-4DF8-A75E-2708D16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E189-FD76-4CEE-9E08-EA9AA77B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9C66-F5C2-4E5A-B2F3-112DBAD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9DFD-0802-4BC3-B249-9B9A228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C2E2-7D54-4E99-8561-132ACEB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00C8-605E-4480-81EF-4534B7F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8060-D491-437A-8E8B-68E6F834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E1AF-AC95-452B-BD0A-EC0EF7C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7ECE-D886-4893-A39C-E35FB7F0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FBEE-9554-4A21-9424-7C868CFB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0487-6C3C-49D7-950C-EE041F96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93A-4278-4B24-9F5D-E1464CFE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078AB-D0DC-4C31-B746-A2164FA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4ECC-0B1C-410A-AB22-F00E6A2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89614-9767-468D-ADB8-2269387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07B6-3AFB-4E99-A21F-45AFF0B0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32E9-9ECD-4C75-B0DE-4F1A127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61E9-7D81-4529-8ACF-C9E4D09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A6E4-2EFB-4B8D-9AA4-FB17068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B23E-EE15-4404-9582-1977614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8041-B88B-4CE8-B1F9-FD8E04D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FC50-229F-44B1-8F6C-87814E75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2ED-F580-4153-BCB1-C1CD595C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8DA5-5E35-42F4-8D04-05AD0424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EB9D-0B47-4EFC-81DA-3B38AE6C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6629-BF67-44ED-86EC-87184E8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62E7B-CC23-4076-8735-74416BE7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FAC7-4FF8-4DAC-9358-ECF3DBB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0D30-9C77-49FB-A603-41C736C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06C0-8F8B-4436-B650-1C89E48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DC47E-B0FA-4799-8D95-FAEA48D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C4BA-B8D8-4181-B346-4D20082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8579D-2AC6-4FC2-B594-D5B5C8C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103-241A-4FFE-B940-39989B6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0602-8759-4814-A905-B8A9FCB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6DD3-D4F8-441E-883E-D08D3AC7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8B9A-3516-40A2-B96E-4464948B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09B-D90D-4364-AE1A-58A246B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674-CD36-433A-AE34-B4DD589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2C77-9731-4BF1-80E6-A19D27AE8A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A1C-9896-4085-9233-8159E083790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A19C-92AC-4ABE-83B2-017B27DB31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947-9954-4245-8F30-47977D9840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A73-2793-43B6-B1A6-0968A335F6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8DFC-D1BC-46DB-B9A9-EDE98B46FF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 flipV="1" rot="10800000">
            <a:off x="395280" y="4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е  бюджетное дошкольное образовательное учреждение «Детский сад комбинированного вида №8 «Белоснеж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7640" y="1916280"/>
            <a:ext cx="6228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2951280" y="3573360"/>
            <a:ext cx="619272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теля группы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щеразвивающей 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ей   с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до 7 лет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рины  Леонидо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. Мегион –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дубовая роща"/>
          <p:cNvPicPr/>
          <p:nvPr/>
        </p:nvPicPr>
        <p:blipFill>
          <a:blip r:embed="rId1"/>
          <a:stretch/>
        </p:blipFill>
        <p:spPr>
          <a:xfrm>
            <a:off x="468360" y="2997360"/>
            <a:ext cx="3143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75564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педагогом по экологическому 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05200" cy="3888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435640" y="2060640"/>
            <a:ext cx="331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икторина по произведениям В. Биан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тение произведений Л. Такташевой о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е по теме «Фотографы и художн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: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эстетического восприятия окружающе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1042920" y="620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музыкальным руковод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9912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3"/>
          <p:cNvSpPr/>
          <p:nvPr/>
        </p:nvSpPr>
        <p:spPr>
          <a:xfrm>
            <a:off x="4859280" y="162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4788000" y="227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"/>
          <p:cNvSpPr/>
          <p:nvPr/>
        </p:nvSpPr>
        <p:spPr>
          <a:xfrm>
            <a:off x="4716360" y="1989000"/>
            <a:ext cx="395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роприят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ушание музыкальных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блюдения,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зыкальные пальчиковые 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4" descr="E:\SDvcvC11185.jpg"/>
          <p:cNvPicPr/>
          <p:nvPr/>
        </p:nvPicPr>
        <p:blipFill>
          <a:blip r:embed="rId1"/>
          <a:stretch/>
        </p:blipFill>
        <p:spPr>
          <a:xfrm>
            <a:off x="250920" y="1052640"/>
            <a:ext cx="2415960" cy="331308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2"/>
          <p:cNvSpPr/>
          <p:nvPr/>
        </p:nvSpPr>
        <p:spPr>
          <a:xfrm>
            <a:off x="1476360" y="6206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P115034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96000" y="765000"/>
            <a:ext cx="3024000" cy="3168720"/>
          </a:xfrm>
          <a:prstGeom prst="rect">
            <a:avLst/>
          </a:prstGeom>
          <a:ln w="28440">
            <a:solidFill>
              <a:srgbClr val="464646"/>
            </a:solidFill>
            <a:miter/>
          </a:ln>
        </p:spPr>
      </p:pic>
      <p:pic>
        <p:nvPicPr>
          <p:cNvPr id="317" name="Рисунок 4" descr="E:\P1150719.JPG"/>
          <p:cNvPicPr/>
          <p:nvPr/>
        </p:nvPicPr>
        <p:blipFill>
          <a:blip r:embed="rId3"/>
          <a:stretch/>
        </p:blipFill>
        <p:spPr>
          <a:xfrm>
            <a:off x="2627280" y="3213000"/>
            <a:ext cx="3549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779400" y="1481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3" descr=""/>
          <p:cNvPicPr/>
          <p:nvPr/>
        </p:nvPicPr>
        <p:blipFill>
          <a:blip r:embed="rId2"/>
          <a:stretch/>
        </p:blipFill>
        <p:spPr>
          <a:xfrm>
            <a:off x="96840" y="255600"/>
            <a:ext cx="3908520" cy="1019160"/>
          </a:xfrm>
          <a:prstGeom prst="rect">
            <a:avLst/>
          </a:prstGeom>
          <a:ln w="0">
            <a:noFill/>
          </a:ln>
        </p:spPr>
      </p:pic>
      <p:pic>
        <p:nvPicPr>
          <p:cNvPr id="320" name="Содержимое 4" descr="CIMG0295.JPG"/>
          <p:cNvPicPr/>
          <p:nvPr/>
        </p:nvPicPr>
        <p:blipFill>
          <a:blip r:embed="rId3"/>
          <a:stretch/>
        </p:blipFill>
        <p:spPr>
          <a:xfrm>
            <a:off x="4648320" y="90792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4716360" y="4941720"/>
            <a:ext cx="38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ещение группой ОН « А» 6-7л. выставки группы ОН « Б»6-7л. для просматривания пейзаж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35827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714240" y="172800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70000"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традиционные формы консультирования: стенгазеты, речевой уголок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игр и упражнений, направленных на обогащение и активизацию словаря в домашни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ведение тематических  выставок, развл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800" y="7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осенний пейзаж"/>
          <p:cNvPicPr/>
          <p:nvPr/>
        </p:nvPicPr>
        <p:blipFill>
          <a:blip r:embed="rId2"/>
          <a:stretch/>
        </p:blipFill>
        <p:spPr>
          <a:xfrm>
            <a:off x="5286240" y="435780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5"/>
          <p:cNvSpPr/>
          <p:nvPr/>
        </p:nvSpPr>
        <p:spPr>
          <a:xfrm>
            <a:off x="714240" y="4714920"/>
            <a:ext cx="50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3" descr="CIMG0114.JPG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24000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CIMG0116.JPG"/>
          <p:cNvPicPr/>
          <p:nvPr/>
        </p:nvPicPr>
        <p:blipFill>
          <a:blip r:embed="rId2"/>
          <a:stretch/>
        </p:blipFill>
        <p:spPr>
          <a:xfrm>
            <a:off x="4500720" y="357336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Admin\Мои документы\Фото0027.jpg"/>
          <p:cNvPicPr/>
          <p:nvPr/>
        </p:nvPicPr>
        <p:blipFill>
          <a:blip r:embed="rId3"/>
          <a:stretch/>
        </p:blipFill>
        <p:spPr>
          <a:xfrm>
            <a:off x="4643280" y="404640"/>
            <a:ext cx="4249800" cy="288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Фото0031.jpg"/>
          <p:cNvPicPr/>
          <p:nvPr/>
        </p:nvPicPr>
        <p:blipFill>
          <a:blip r:embed="rId4"/>
          <a:stretch/>
        </p:blipFill>
        <p:spPr>
          <a:xfrm>
            <a:off x="684360" y="3860640"/>
            <a:ext cx="345600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Содержимое 3" descr="CIMG0326.JPG"/>
          <p:cNvPicPr/>
          <p:nvPr/>
        </p:nvPicPr>
        <p:blipFill>
          <a:blip r:embed="rId1"/>
          <a:stretch/>
        </p:blipFill>
        <p:spPr>
          <a:xfrm>
            <a:off x="179280" y="1484280"/>
            <a:ext cx="3961080" cy="4032360"/>
          </a:xfrm>
          <a:prstGeom prst="rect">
            <a:avLst/>
          </a:prstGeom>
          <a:ln w="0">
            <a:noFill/>
          </a:ln>
        </p:spPr>
      </p:pic>
      <p:pic>
        <p:nvPicPr>
          <p:cNvPr id="332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CIMG0287.JPG"/>
          <p:cNvPicPr/>
          <p:nvPr/>
        </p:nvPicPr>
        <p:blipFill>
          <a:blip r:embed="rId3"/>
          <a:stretch/>
        </p:blipFill>
        <p:spPr>
          <a:xfrm>
            <a:off x="4427640" y="148428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" descr=""/>
          <p:cNvPicPr/>
          <p:nvPr/>
        </p:nvPicPr>
        <p:blipFill>
          <a:blip r:embed="rId2"/>
          <a:stretch/>
        </p:blipFill>
        <p:spPr>
          <a:xfrm>
            <a:off x="4140360" y="2979720"/>
            <a:ext cx="4608360" cy="3402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5"/>
          <p:cNvSpPr/>
          <p:nvPr/>
        </p:nvSpPr>
        <p:spPr>
          <a:xfrm>
            <a:off x="521964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оставление описательного  рассказа по пейзажной карти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755640" y="4762440"/>
            <a:ext cx="309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оллективное рассказывание по пейзажной  карт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Мои документы\Фото0030.jpg"/>
          <p:cNvPicPr/>
          <p:nvPr/>
        </p:nvPicPr>
        <p:blipFill>
          <a:blip r:embed="rId1"/>
          <a:stretch/>
        </p:blipFill>
        <p:spPr>
          <a:xfrm>
            <a:off x="620640" y="466560"/>
            <a:ext cx="3735360" cy="274644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CIMG0319.JPG"/>
          <p:cNvPicPr/>
          <p:nvPr/>
        </p:nvPicPr>
        <p:blipFill>
          <a:blip r:embed="rId2"/>
          <a:stretch/>
        </p:blipFill>
        <p:spPr>
          <a:xfrm>
            <a:off x="2627280" y="3500280"/>
            <a:ext cx="424836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3" descr="CIMG0292.JPG"/>
          <p:cNvPicPr/>
          <p:nvPr/>
        </p:nvPicPr>
        <p:blipFill>
          <a:blip r:embed="rId3"/>
          <a:stretch/>
        </p:blipFill>
        <p:spPr>
          <a:xfrm>
            <a:off x="5003640" y="47628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15884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CIMG0334.JPG"/>
          <p:cNvPicPr/>
          <p:nvPr/>
        </p:nvPicPr>
        <p:blipFill>
          <a:blip r:embed="rId2"/>
          <a:stretch/>
        </p:blipFill>
        <p:spPr>
          <a:xfrm>
            <a:off x="2411280" y="1773360"/>
            <a:ext cx="4824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214200" y="214200"/>
            <a:ext cx="8715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ма  само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«Пейзажная картина, как средств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развития связной речи у старших дошкольников»</a:t>
            </a:r>
            <a:br>
              <a:rPr sz="4400"/>
            </a:br>
            <a:br>
              <a:rPr sz="3600"/>
            </a:b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2" descr="золотая осень.jpg"/>
          <p:cNvPicPr/>
          <p:nvPr/>
        </p:nvPicPr>
        <p:blipFill>
          <a:blip r:embed="rId1"/>
          <a:stretch/>
        </p:blipFill>
        <p:spPr>
          <a:xfrm>
            <a:off x="6084720" y="4581360"/>
            <a:ext cx="266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Содержимое 3" descr="CIMG0335.JPG"/>
          <p:cNvPicPr/>
          <p:nvPr/>
        </p:nvPicPr>
        <p:blipFill>
          <a:blip r:embed="rId1"/>
          <a:stretch/>
        </p:blipFill>
        <p:spPr>
          <a:xfrm>
            <a:off x="468360" y="189000"/>
            <a:ext cx="2374920" cy="259236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CIMG0336.JPG"/>
          <p:cNvPicPr/>
          <p:nvPr/>
        </p:nvPicPr>
        <p:blipFill>
          <a:blip r:embed="rId2"/>
          <a:stretch/>
        </p:blipFill>
        <p:spPr>
          <a:xfrm>
            <a:off x="6443640" y="189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3" descr="CIMG0338.JPG"/>
          <p:cNvPicPr/>
          <p:nvPr/>
        </p:nvPicPr>
        <p:blipFill>
          <a:blip r:embed="rId3"/>
          <a:stretch/>
        </p:blipFill>
        <p:spPr>
          <a:xfrm>
            <a:off x="395280" y="3357720"/>
            <a:ext cx="2592360" cy="26492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3" descr="CIMG0340.JPG"/>
          <p:cNvPicPr/>
          <p:nvPr/>
        </p:nvPicPr>
        <p:blipFill>
          <a:blip r:embed="rId4"/>
          <a:stretch/>
        </p:blipFill>
        <p:spPr>
          <a:xfrm>
            <a:off x="6443640" y="3357720"/>
            <a:ext cx="2376360" cy="264924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3" descr="CIMG0339.JPG"/>
          <p:cNvPicPr/>
          <p:nvPr/>
        </p:nvPicPr>
        <p:blipFill>
          <a:blip r:embed="rId5"/>
          <a:stretch/>
        </p:blipFill>
        <p:spPr>
          <a:xfrm>
            <a:off x="3276720" y="1890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3" descr="CIMG0337.JPG"/>
          <p:cNvPicPr/>
          <p:nvPr/>
        </p:nvPicPr>
        <p:blipFill>
          <a:blip r:embed="rId6"/>
          <a:stretch/>
        </p:blipFill>
        <p:spPr>
          <a:xfrm>
            <a:off x="3348000" y="3429000"/>
            <a:ext cx="287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665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 М. М., Яшина В. И. Методика развития речи и обучения родному языку дошкольников.:Учебн. пособие для студентов. [Текст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]/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 М. М., Яшина В. И. - М., 2000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, М.М. Речевое развитие дошкольников [Текст] / М.М. Алексеева, В.И. Яшина. – М. 1999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Бондаренко, А.К. Дидактические игры в детском саду [Текст] / А.К. Бондаренко. – М., 1985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Бородич А. М. Методика развития речи детей. Учебн. пособие для студентов. [Текст] А.М. Бородич. - М.: 1981 С. 70-72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енгер Л. А., Мухина В. С. Психология. [Текст] /Л.А. Венгер, В.С. Мухина. - М., 1988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етлугина Н. А. Основные проблемы художественного творчества детей// Художественное творчество и ребенок. [Текст]/ Н.А. Ветлугина. - М., 1972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оспитание детей в старшей группе детского сада. [Текст]  / Сост. Г. М. Лямина./  -М., 198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ыготский Л.С.Воображение и творчество в детском возрасте.        [Текст] / Л.С. Выготский. - М.: 1967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Детство: Программа развития и воспитания детей в детском саду[Текст]/Под ред. Т. И, Бабаевой, 3. А. Михайловой, Л. М. Гурович. - СПб.: Детство, 2004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нятия по развитию речи в детском саду. Программа и конспекты. [Текст] /Под ред. О. С, Ушаковой. - М, 2001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3арубина Н. Д. Методика обучения связной речи. [Текст] /Н.Д. Зарубина – М., 1977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убарева Н. М. Дети и изобразительное искусство. [Текст]/ Н.М. Зубарева. -М, 1969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12600" y="18360"/>
            <a:ext cx="10814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осень"/>
          <p:cNvPicPr/>
          <p:nvPr/>
        </p:nvPicPr>
        <p:blipFill>
          <a:blip r:embed="rId1"/>
          <a:stretch/>
        </p:blipFill>
        <p:spPr>
          <a:xfrm>
            <a:off x="214200" y="214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142920" y="228600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Georgia"/>
                <a:ea typeface="Tahoma"/>
              </a:rPr>
              <a:t>Василий Поленов. Золотая ос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2960" y="20160"/>
            <a:ext cx="12124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7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березовая роща"/>
          <p:cNvPicPr/>
          <p:nvPr/>
        </p:nvPicPr>
        <p:blipFill>
          <a:blip r:embed="rId2"/>
          <a:stretch/>
        </p:blipFill>
        <p:spPr>
          <a:xfrm>
            <a:off x="3071880" y="2357280"/>
            <a:ext cx="2928960" cy="20718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6"/>
          <p:cNvSpPr/>
          <p:nvPr/>
        </p:nvSpPr>
        <p:spPr>
          <a:xfrm>
            <a:off x="3143160" y="44290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саак Левитан. Березовая рощ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глушь"/>
          <p:cNvPicPr/>
          <p:nvPr/>
        </p:nvPicPr>
        <p:blipFill>
          <a:blip r:embed="rId3"/>
          <a:stretch/>
        </p:blipFill>
        <p:spPr>
          <a:xfrm>
            <a:off x="5857920" y="214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9"/>
          <p:cNvSpPr/>
          <p:nvPr/>
        </p:nvSpPr>
        <p:spPr>
          <a:xfrm>
            <a:off x="6357960" y="2286000"/>
            <a:ext cx="357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ван Шишкин. Лесная глушь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3320" y="21240"/>
            <a:ext cx="12290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оттепель"/>
          <p:cNvPicPr/>
          <p:nvPr/>
        </p:nvPicPr>
        <p:blipFill>
          <a:blip r:embed="rId4"/>
          <a:stretch/>
        </p:blipFill>
        <p:spPr>
          <a:xfrm>
            <a:off x="214200" y="4572000"/>
            <a:ext cx="2928960" cy="19288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12"/>
          <p:cNvSpPr/>
          <p:nvPr/>
        </p:nvSpPr>
        <p:spPr>
          <a:xfrm>
            <a:off x="214200" y="650088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Алексей Саврасов. Зимний пейзаж (Оттепе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0" descr="половодье"/>
          <p:cNvPicPr/>
          <p:nvPr/>
        </p:nvPicPr>
        <p:blipFill>
          <a:blip r:embed="rId5"/>
          <a:stretch/>
        </p:blipFill>
        <p:spPr>
          <a:xfrm>
            <a:off x="5929200" y="4572000"/>
            <a:ext cx="3000600" cy="19288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5"/>
          <p:cNvSpPr/>
          <p:nvPr/>
        </p:nvSpPr>
        <p:spPr>
          <a:xfrm>
            <a:off x="5857920" y="650088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саак Левитан. Весна. Большая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63640" y="27385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4040"/>
                </a:solidFill>
                <a:latin typeface="Arial"/>
                <a:ea typeface="Arial"/>
              </a:rPr>
              <a:t>Спасибо за вним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3" descr="картина2.jpg"/>
          <p:cNvPicPr/>
          <p:nvPr/>
        </p:nvPicPr>
        <p:blipFill>
          <a:blip r:embed="rId1"/>
          <a:stretch/>
        </p:blipFill>
        <p:spPr>
          <a:xfrm>
            <a:off x="5643720" y="42148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картина1.jpg"/>
          <p:cNvPicPr/>
          <p:nvPr/>
        </p:nvPicPr>
        <p:blipFill>
          <a:blip r:embed="rId2"/>
          <a:stretch/>
        </p:blipFill>
        <p:spPr>
          <a:xfrm>
            <a:off x="500040" y="42876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учение особенностей построения дошкольниками описательных  рассказов по пейзажной карти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1" name="Рисунок 3" descr="картина.jpg"/>
          <p:cNvPicPr/>
          <p:nvPr/>
        </p:nvPicPr>
        <p:blipFill>
          <a:blip r:embed="rId2"/>
          <a:stretch/>
        </p:blipFill>
        <p:spPr>
          <a:xfrm>
            <a:off x="5580000" y="4292640"/>
            <a:ext cx="3063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учить теоретические основы проблемы развития связной речи у детей старшего дошкольного возраста посредством  пейзажной картины в психолого-педагогических, лингвистических и методических источника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тивизация педагогического потенциала педагогов и родите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связной речи у детей старшего дошкольного возраста посредством пейзажной  картин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1042920" y="223920"/>
            <a:ext cx="7345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Пейзажная картина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такой жанр живописи, который отражает красоту родной природы. Она представляет собой творческое переосмысление реального мира. Пейзажная картина учит детей видеть прекрасное в жизни, воспитывает эстетическое отношение к природе и к живописи, и что самое важное, пейзажная картина является средством развития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Содержимое 3" descr="Фото024.JPG"/>
          <p:cNvPicPr/>
          <p:nvPr/>
        </p:nvPicPr>
        <p:blipFill>
          <a:blip r:embed="rId1"/>
          <a:stretch/>
        </p:blipFill>
        <p:spPr>
          <a:xfrm>
            <a:off x="5508720" y="3860640"/>
            <a:ext cx="31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539640" y="563760"/>
            <a:ext cx="806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чь считается связной, если для нее характер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держ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хорошее знание предмета, о котором говори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оч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правдивое изображение окружающей действительности,     подбор слов и словосочетаний, наиболее подходящих к данному содержанию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логич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последовательное изложение мысле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ясность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понятность для окружающи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авильность, чистота, богатств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разнообраз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1547640" y="12682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24000" y="333360"/>
          <a:ext cx="8496000" cy="6248520"/>
        </p:xfrm>
        <a:graphic>
          <a:graphicData uri="http://schemas.openxmlformats.org/drawingml/2006/table">
            <a:tbl>
              <a:tblPr/>
              <a:tblGrid>
                <a:gridCol w="2203200"/>
                <a:gridCol w="3413160"/>
                <a:gridCol w="287964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Деятельность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Подготовительный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(сентябр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е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очнение имеющейся информации, обсужден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     проблемы.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ение источников информации. Постановка задач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ормирование задач, накопление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бор и уточнение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тез и анализ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бор оптимального варианта. Уточнение план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 с информац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иагностир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еспечение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формление пособий, игр по речевому развит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Основ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(октябрь – апрел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олнение поставленной цели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 по развитию ре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тей старшего дошколь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раста во всех ви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ятель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Заключ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(апрел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 выполненной  работы, достигнут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иагностирование детей.    Оценка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900000" y="907920"/>
            <a:ext cx="74883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 к выбору пейзажных картин для развития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детей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удожественная ценность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ответствие содержания картины жизненному  и   художественному  опыту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стота замысла и композиции         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листичность пейзажной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педагогом дополнительного образования по изобрази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513320" cy="37432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3"/>
          <p:cNvSpPr/>
          <p:nvPr/>
        </p:nvSpPr>
        <p:spPr>
          <a:xfrm>
            <a:off x="5148360" y="206064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5219640" y="249228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художественных 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блюдения, 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4:08:18Z</dcterms:created>
  <dc:creator>SamLab.ws</dc:creator>
  <dc:description/>
  <dc:language>en-US</dc:language>
  <cp:lastModifiedBy>ирина</cp:lastModifiedBy>
  <dcterms:modified xsi:type="dcterms:W3CDTF">2013-03-18T19:47:35Z</dcterms:modified>
  <cp:revision>211</cp:revision>
  <dc:subject/>
  <dc:title>Слайд 1</dc:title>
</cp:coreProperties>
</file>