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5.png" ContentType="image/png"/>
  <Override PartName="/ppt/media/image35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12.jpeg" ContentType="image/jpeg"/>
  <Override PartName="/ppt/media/image4.png" ContentType="image/png"/>
  <Override PartName="/ppt/media/image48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85C0-1DB6-40F7-A9FC-7BEAC3F94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75CD-61DF-4DD4-8197-196426640C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76CE-E22A-4FEC-89AF-6AFE0D9690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5D21-908E-435B-8A7C-AA1049A99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BA8-EF5F-4191-AF5D-37EB853D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A17-4830-4B15-A887-478F0BB0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101-8A74-48C7-B340-54A0E7AE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719-B184-4F68-B288-CF8EA4F0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CB30-3EF7-4F03-957C-17070696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90A5-A2BE-4823-9D23-4A36748D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16DB-FC41-4167-8025-1FB89C37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6BE1-69C7-4033-80ED-B614AD58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A114-A0E5-43CE-A2EC-701BA415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980D-5BF3-4DFF-BE01-E33A21BE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B9FE-A422-42E3-9920-593D1824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8A6-7BA7-4F54-BAC3-88F6C79E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124D-1A0C-4D89-AFCA-186C9506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301B-F45A-47F1-93D4-9913605A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9E92-435D-4781-9853-DAAA6345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5147-A314-42B8-A14A-AF6FD604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F4C1-4727-445D-974C-887AAB1C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944AC-6727-45FD-8365-FFEC21B7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FF147-F3C9-4DFD-A544-7328139F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63D15-A6B3-49B0-A8C5-9EA47A30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06188-4962-4D8A-BE2B-20D0ACDD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C16D-7275-491F-8087-D9822FA9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7F5-1C42-48A0-82DF-CCFD705C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215D5-664C-44B5-8177-56C2F2DA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00DA7-C5C2-47D3-8691-8E8A901A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01107-72CA-4BBB-8187-0E942EF5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8668-D11A-447D-AAEF-ABDBBE42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C5DF6-D090-419F-9EF1-B05013F3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E58C-5047-4521-8732-0D5BFD4E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1A35E-C4C0-462F-BBBD-2AFFFE17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1A073-2128-4379-85DF-7AF63E74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5A783-6F75-40DF-AC90-98F5729C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87915-ADD7-43AE-9484-CC708409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87E-9882-4114-9DE1-B847EE35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F01CD-AF21-48EA-891F-4F6FEB48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14DB0-3834-425F-85B6-3B77D950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F5A5D-524D-4DAA-A37F-C710974F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AC15-C62E-4ED0-A25B-A73E4DB7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2897A-490B-4AE9-B828-D884AF10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579CF-7830-4654-8760-89D46E0A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E8109-2C19-4137-B5BC-CAF9D991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D3DBB-9878-4D4F-BDA3-C921AB8F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D438D-454F-4A1D-A90D-C37FDC35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CEA4E-B3BF-4860-9660-CD0F2BD5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8F3-DF19-4FBA-AB4D-B41005A0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C4EAF-3E05-40D5-9DCC-7DCC6444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17A7B-1DC3-402F-AAB0-20D376DE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7A433-BB0B-48C8-BDDC-30E32C66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7B81C-2BEB-497D-9AE7-535847B2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AA779-26FC-4F31-A47E-6381DA90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B661B-026E-4F23-BD69-F3B647BE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35963-2691-45BD-A484-2D2AF96D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11AEE-9850-4AAE-B190-F4B3D9E6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9CF8E-FDF7-47D1-9398-D3CCFD6E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9F1E4-ED7A-46DA-966B-AD51A126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7E1-F62B-498A-8D39-AB0F41DE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121D1-8194-43C0-A29B-443EF9A9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5A5C7-2D88-4F34-88FD-9AE27CB1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13D3D-5C2B-4CA1-87FA-FF195B6F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BA95C-1710-4A13-8D5D-C9C070ED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173ED-8674-40A8-B7CE-5B2FBAB5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726E9-0A24-49C4-891A-4204DCF0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3C623-8621-4572-BFFD-7EFB20EB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F66F7-F56A-4DE2-8A1B-AC089153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2AD33-6D2F-48E9-9392-CCC2C61F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8BC07-2950-4FE9-9568-B58C409A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F8B0-0BCC-4EEB-BFA4-D52B68AD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FC644-432A-43AF-AFCC-42D3C45D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6582C-D6CA-4A4B-9C38-76BE34ED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7CB03-39B9-4BA7-AACF-EC0F4DD6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2D7-2323-495B-BF38-D767088F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19E-11A7-43CE-808F-652598DB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3C07-71A8-4A34-83DF-B24D16D592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2637-55BA-4513-B32B-74292473156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2478-7CA2-4F4B-88BB-BD195468FC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8AB5-9B08-4BC1-8859-C7D32CDF08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5FA9-2184-4F11-919F-DFD0CF4A2F3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E7D9-6925-46B9-BFB5-88E55CD7F0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 flipV="1" rot="10800000">
            <a:off x="395280" y="476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униципальное  бюджетное дошкольное образовательное учреждение «Детский сад комбинированного вида №8 «Белоснеж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1547640" y="1916280"/>
            <a:ext cx="6228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езент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 самообразов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2951280" y="3573360"/>
            <a:ext cx="6192720" cy="30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ателя группы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щеразвивающей  направ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тей   с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до 7 лет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рины  Леонидов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НОН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. Мегион –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дубовая роща"/>
          <p:cNvPicPr/>
          <p:nvPr/>
        </p:nvPicPr>
        <p:blipFill>
          <a:blip r:embed="rId1"/>
          <a:stretch/>
        </p:blipFill>
        <p:spPr>
          <a:xfrm>
            <a:off x="468360" y="2997360"/>
            <a:ext cx="3143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755640" y="404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заимодействие с педагогом по экологическому образ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Рисунок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705200" cy="3888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3"/>
          <p:cNvSpPr/>
          <p:nvPr/>
        </p:nvSpPr>
        <p:spPr>
          <a:xfrm>
            <a:off x="5435640" y="2060640"/>
            <a:ext cx="331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икторина по произведениям В. Бианк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тение произведений Л. Такташевой о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ие по теме «Фотографы и художн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: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эстетического восприятия окружающе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"/>
          <p:cNvSpPr/>
          <p:nvPr/>
        </p:nvSpPr>
        <p:spPr>
          <a:xfrm>
            <a:off x="1042920" y="62064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заимодействие с музыкальным руководи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Рисунок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399120" cy="403236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3"/>
          <p:cNvSpPr/>
          <p:nvPr/>
        </p:nvSpPr>
        <p:spPr>
          <a:xfrm>
            <a:off x="4859280" y="1628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4788000" y="2276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5"/>
          <p:cNvSpPr/>
          <p:nvPr/>
        </p:nvSpPr>
        <p:spPr>
          <a:xfrm>
            <a:off x="4716360" y="1989000"/>
            <a:ext cx="3959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роприят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лушание музыкальных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вл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блюдения, бес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ссматривание иллюст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узыкальные пальчиковые 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4" descr="E:\SDvcvC11185.jpg"/>
          <p:cNvPicPr/>
          <p:nvPr/>
        </p:nvPicPr>
        <p:blipFill>
          <a:blip r:embed="rId1"/>
          <a:stretch/>
        </p:blipFill>
        <p:spPr>
          <a:xfrm>
            <a:off x="250920" y="1052640"/>
            <a:ext cx="2415960" cy="331308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2"/>
          <p:cNvSpPr/>
          <p:nvPr/>
        </p:nvSpPr>
        <p:spPr>
          <a:xfrm>
            <a:off x="1476360" y="62064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P1150348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796000" y="765000"/>
            <a:ext cx="3024000" cy="3168720"/>
          </a:xfrm>
          <a:prstGeom prst="rect">
            <a:avLst/>
          </a:prstGeom>
          <a:ln w="28440">
            <a:solidFill>
              <a:srgbClr val="464646"/>
            </a:solidFill>
            <a:miter/>
          </a:ln>
        </p:spPr>
      </p:pic>
      <p:pic>
        <p:nvPicPr>
          <p:cNvPr id="317" name="Рисунок 4" descr="E:\P1150719.JPG"/>
          <p:cNvPicPr/>
          <p:nvPr/>
        </p:nvPicPr>
        <p:blipFill>
          <a:blip r:embed="rId3"/>
          <a:stretch/>
        </p:blipFill>
        <p:spPr>
          <a:xfrm>
            <a:off x="2627280" y="3213000"/>
            <a:ext cx="3549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Объект 4" descr=""/>
          <p:cNvPicPr/>
          <p:nvPr/>
        </p:nvPicPr>
        <p:blipFill>
          <a:blip r:embed="rId1"/>
          <a:stretch/>
        </p:blipFill>
        <p:spPr>
          <a:xfrm>
            <a:off x="779400" y="14810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319" name="Заголовок 3" descr=""/>
          <p:cNvPicPr/>
          <p:nvPr/>
        </p:nvPicPr>
        <p:blipFill>
          <a:blip r:embed="rId2"/>
          <a:stretch/>
        </p:blipFill>
        <p:spPr>
          <a:xfrm>
            <a:off x="96840" y="255600"/>
            <a:ext cx="3908520" cy="1019160"/>
          </a:xfrm>
          <a:prstGeom prst="rect">
            <a:avLst/>
          </a:prstGeom>
          <a:ln w="0">
            <a:noFill/>
          </a:ln>
        </p:spPr>
      </p:pic>
      <p:pic>
        <p:nvPicPr>
          <p:cNvPr id="320" name="Содержимое 4" descr="CIMG0295.JPG"/>
          <p:cNvPicPr/>
          <p:nvPr/>
        </p:nvPicPr>
        <p:blipFill>
          <a:blip r:embed="rId3"/>
          <a:stretch/>
        </p:blipFill>
        <p:spPr>
          <a:xfrm>
            <a:off x="4648320" y="907920"/>
            <a:ext cx="4038480" cy="367344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4"/>
          <p:cNvSpPr/>
          <p:nvPr/>
        </p:nvSpPr>
        <p:spPr>
          <a:xfrm>
            <a:off x="4716360" y="4941720"/>
            <a:ext cx="38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сещение группой ОН « А» 6-7л. выставки группы ОН « Б»6-7л. для просматривания пейзаж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2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8242200" cy="35827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"/>
          <p:cNvSpPr/>
          <p:nvPr/>
        </p:nvSpPr>
        <p:spPr>
          <a:xfrm>
            <a:off x="714240" y="1728000"/>
            <a:ext cx="77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70000">
              <a:buClr>
                <a:srgbClr val="000000"/>
              </a:buClr>
              <a:buFont typeface="Wingdings" charset="2"/>
              <a:buChar char=""/>
              <a:tabLst>
                <a:tab algn="l" pos="58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традиционные формы консультирования: стенгазеты, речевой уголок для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8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дбор игр и упражнений, направленных на обогащение и активизацию словаря в домашних услов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8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ведение тематических  выставок, развле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1800" y="7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осенний пейзаж"/>
          <p:cNvPicPr/>
          <p:nvPr/>
        </p:nvPicPr>
        <p:blipFill>
          <a:blip r:embed="rId2"/>
          <a:stretch/>
        </p:blipFill>
        <p:spPr>
          <a:xfrm>
            <a:off x="5286240" y="4357800"/>
            <a:ext cx="3143520" cy="214308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5"/>
          <p:cNvSpPr/>
          <p:nvPr/>
        </p:nvSpPr>
        <p:spPr>
          <a:xfrm>
            <a:off x="714240" y="4714920"/>
            <a:ext cx="50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Содержимое 3" descr="CIMG0114.JPG"/>
          <p:cNvPicPr/>
          <p:nvPr/>
        </p:nvPicPr>
        <p:blipFill>
          <a:blip r:embed="rId1"/>
          <a:stretch/>
        </p:blipFill>
        <p:spPr>
          <a:xfrm>
            <a:off x="179280" y="333360"/>
            <a:ext cx="4032360" cy="3240000"/>
          </a:xfrm>
          <a:prstGeom prst="rect">
            <a:avLst/>
          </a:prstGeom>
          <a:ln w="0">
            <a:noFill/>
          </a:ln>
        </p:spPr>
      </p:pic>
      <p:pic>
        <p:nvPicPr>
          <p:cNvPr id="328" name="Содержимое 3" descr="CIMG0116.JPG"/>
          <p:cNvPicPr/>
          <p:nvPr/>
        </p:nvPicPr>
        <p:blipFill>
          <a:blip r:embed="rId2"/>
          <a:stretch/>
        </p:blipFill>
        <p:spPr>
          <a:xfrm>
            <a:off x="4500720" y="3573360"/>
            <a:ext cx="4464000" cy="30956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Admin\Мои документы\Фото0027.jpg"/>
          <p:cNvPicPr/>
          <p:nvPr/>
        </p:nvPicPr>
        <p:blipFill>
          <a:blip r:embed="rId3"/>
          <a:stretch/>
        </p:blipFill>
        <p:spPr>
          <a:xfrm>
            <a:off x="4643280" y="404640"/>
            <a:ext cx="4249800" cy="2880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C:\Documents and Settings\Admin\Мои документы\Фото0031.jpg"/>
          <p:cNvPicPr/>
          <p:nvPr/>
        </p:nvPicPr>
        <p:blipFill>
          <a:blip r:embed="rId4"/>
          <a:stretch/>
        </p:blipFill>
        <p:spPr>
          <a:xfrm>
            <a:off x="684360" y="3860640"/>
            <a:ext cx="345600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Содержимое 3" descr="CIMG0326.JPG"/>
          <p:cNvPicPr/>
          <p:nvPr/>
        </p:nvPicPr>
        <p:blipFill>
          <a:blip r:embed="rId1"/>
          <a:stretch/>
        </p:blipFill>
        <p:spPr>
          <a:xfrm>
            <a:off x="179280" y="1484280"/>
            <a:ext cx="3961080" cy="4032360"/>
          </a:xfrm>
          <a:prstGeom prst="rect">
            <a:avLst/>
          </a:prstGeom>
          <a:ln w="0">
            <a:noFill/>
          </a:ln>
        </p:spPr>
      </p:pic>
      <p:pic>
        <p:nvPicPr>
          <p:cNvPr id="332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33" name="Содержимое 3" descr="CIMG0287.JPG"/>
          <p:cNvPicPr/>
          <p:nvPr/>
        </p:nvPicPr>
        <p:blipFill>
          <a:blip r:embed="rId3"/>
          <a:stretch/>
        </p:blipFill>
        <p:spPr>
          <a:xfrm>
            <a:off x="4427640" y="1484280"/>
            <a:ext cx="45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Содержимое 3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679640" cy="352908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2" descr=""/>
          <p:cNvPicPr/>
          <p:nvPr/>
        </p:nvPicPr>
        <p:blipFill>
          <a:blip r:embed="rId2"/>
          <a:stretch/>
        </p:blipFill>
        <p:spPr>
          <a:xfrm>
            <a:off x="4140360" y="2979720"/>
            <a:ext cx="4608360" cy="340200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5"/>
          <p:cNvSpPr/>
          <p:nvPr/>
        </p:nvSpPr>
        <p:spPr>
          <a:xfrm>
            <a:off x="5219640" y="26028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Составление описательного  рассказа по пейзажной картин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6"/>
          <p:cNvSpPr/>
          <p:nvPr/>
        </p:nvSpPr>
        <p:spPr>
          <a:xfrm>
            <a:off x="755640" y="4762440"/>
            <a:ext cx="309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Коллективное рассказывание по пейзажной  карти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Admin\Мои документы\Фото0030.jpg"/>
          <p:cNvPicPr/>
          <p:nvPr/>
        </p:nvPicPr>
        <p:blipFill>
          <a:blip r:embed="rId1"/>
          <a:stretch/>
        </p:blipFill>
        <p:spPr>
          <a:xfrm>
            <a:off x="620640" y="466560"/>
            <a:ext cx="3735360" cy="2746440"/>
          </a:xfrm>
          <a:prstGeom prst="rect">
            <a:avLst/>
          </a:prstGeom>
          <a:ln w="0">
            <a:noFill/>
          </a:ln>
        </p:spPr>
      </p:pic>
      <p:pic>
        <p:nvPicPr>
          <p:cNvPr id="339" name="Содержимое 3" descr="CIMG0319.JPG"/>
          <p:cNvPicPr/>
          <p:nvPr/>
        </p:nvPicPr>
        <p:blipFill>
          <a:blip r:embed="rId2"/>
          <a:stretch/>
        </p:blipFill>
        <p:spPr>
          <a:xfrm>
            <a:off x="2627280" y="3500280"/>
            <a:ext cx="4248360" cy="2808360"/>
          </a:xfrm>
          <a:prstGeom prst="rect">
            <a:avLst/>
          </a:prstGeom>
          <a:ln w="0">
            <a:noFill/>
          </a:ln>
        </p:spPr>
      </p:pic>
      <p:pic>
        <p:nvPicPr>
          <p:cNvPr id="340" name="Содержимое 3" descr="CIMG0292.JPG"/>
          <p:cNvPicPr/>
          <p:nvPr/>
        </p:nvPicPr>
        <p:blipFill>
          <a:blip r:embed="rId3"/>
          <a:stretch/>
        </p:blipFill>
        <p:spPr>
          <a:xfrm>
            <a:off x="5003640" y="47628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7440" cy="115884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5" descr="CIMG0334.JPG"/>
          <p:cNvPicPr/>
          <p:nvPr/>
        </p:nvPicPr>
        <p:blipFill>
          <a:blip r:embed="rId2"/>
          <a:stretch/>
        </p:blipFill>
        <p:spPr>
          <a:xfrm>
            <a:off x="2411280" y="1773360"/>
            <a:ext cx="48247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5"/>
          <p:cNvSpPr/>
          <p:nvPr/>
        </p:nvSpPr>
        <p:spPr>
          <a:xfrm>
            <a:off x="214200" y="214200"/>
            <a:ext cx="87156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ема  самообраз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«Пейзажная картина, как средств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развития связной речи у старших дошкольников»</a:t>
            </a:r>
            <a:br>
              <a:rPr sz="4400"/>
            </a:br>
            <a:br>
              <a:rPr sz="3600"/>
            </a:br>
            <a:r>
              <a:rPr b="1" lang="ru-RU" sz="3600" spc="-1" strike="noStrike">
                <a:solidFill>
                  <a:srgbClr val="595959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2" descr="золотая осень.jpg"/>
          <p:cNvPicPr/>
          <p:nvPr/>
        </p:nvPicPr>
        <p:blipFill>
          <a:blip r:embed="rId1"/>
          <a:stretch/>
        </p:blipFill>
        <p:spPr>
          <a:xfrm>
            <a:off x="6084720" y="4581360"/>
            <a:ext cx="2664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Содержимое 3" descr="CIMG0335.JPG"/>
          <p:cNvPicPr/>
          <p:nvPr/>
        </p:nvPicPr>
        <p:blipFill>
          <a:blip r:embed="rId1"/>
          <a:stretch/>
        </p:blipFill>
        <p:spPr>
          <a:xfrm>
            <a:off x="468360" y="189000"/>
            <a:ext cx="2374920" cy="2592360"/>
          </a:xfrm>
          <a:prstGeom prst="rect">
            <a:avLst/>
          </a:prstGeom>
          <a:ln w="0">
            <a:noFill/>
          </a:ln>
        </p:spPr>
      </p:pic>
      <p:pic>
        <p:nvPicPr>
          <p:cNvPr id="344" name="Содержимое 3" descr="CIMG0336.JPG"/>
          <p:cNvPicPr/>
          <p:nvPr/>
        </p:nvPicPr>
        <p:blipFill>
          <a:blip r:embed="rId2"/>
          <a:stretch/>
        </p:blipFill>
        <p:spPr>
          <a:xfrm>
            <a:off x="6443640" y="18900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345" name="Содержимое 3" descr="CIMG0338.JPG"/>
          <p:cNvPicPr/>
          <p:nvPr/>
        </p:nvPicPr>
        <p:blipFill>
          <a:blip r:embed="rId3"/>
          <a:stretch/>
        </p:blipFill>
        <p:spPr>
          <a:xfrm>
            <a:off x="395280" y="3357720"/>
            <a:ext cx="2592360" cy="2649240"/>
          </a:xfrm>
          <a:prstGeom prst="rect">
            <a:avLst/>
          </a:prstGeom>
          <a:ln w="0">
            <a:noFill/>
          </a:ln>
        </p:spPr>
      </p:pic>
      <p:pic>
        <p:nvPicPr>
          <p:cNvPr id="346" name="Содержимое 3" descr="CIMG0340.JPG"/>
          <p:cNvPicPr/>
          <p:nvPr/>
        </p:nvPicPr>
        <p:blipFill>
          <a:blip r:embed="rId4"/>
          <a:stretch/>
        </p:blipFill>
        <p:spPr>
          <a:xfrm>
            <a:off x="6443640" y="3357720"/>
            <a:ext cx="2376360" cy="2649240"/>
          </a:xfrm>
          <a:prstGeom prst="rect">
            <a:avLst/>
          </a:prstGeom>
          <a:ln w="0">
            <a:noFill/>
          </a:ln>
        </p:spPr>
      </p:pic>
      <p:pic>
        <p:nvPicPr>
          <p:cNvPr id="347" name="Содержимое 3" descr="CIMG0339.JPG"/>
          <p:cNvPicPr/>
          <p:nvPr/>
        </p:nvPicPr>
        <p:blipFill>
          <a:blip r:embed="rId5"/>
          <a:stretch/>
        </p:blipFill>
        <p:spPr>
          <a:xfrm>
            <a:off x="3276720" y="189000"/>
            <a:ext cx="2735280" cy="2592360"/>
          </a:xfrm>
          <a:prstGeom prst="rect">
            <a:avLst/>
          </a:prstGeom>
          <a:ln w="0">
            <a:noFill/>
          </a:ln>
        </p:spPr>
      </p:pic>
      <p:pic>
        <p:nvPicPr>
          <p:cNvPr id="348" name="Содержимое 3" descr="CIMG0337.JPG"/>
          <p:cNvPicPr/>
          <p:nvPr/>
        </p:nvPicPr>
        <p:blipFill>
          <a:blip r:embed="rId6"/>
          <a:stretch/>
        </p:blipFill>
        <p:spPr>
          <a:xfrm>
            <a:off x="3348000" y="3429000"/>
            <a:ext cx="287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6652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7646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Алексеева М. М., Яшина В. И. Методика развития речи и обучения родному языку дошкольников.:Учебн. пособие для студентов. [Текст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]/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Алексеева М. М., Яшина В. И. - М., 2000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Алексеева, М.М. Речевое развитие дошкольников [Текст] / М.М. Алексеева, В.И. Яшина. – М. 1999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Бондаренко, А.К. Дидактические игры в детском саду [Текст] / А.К. Бондаренко. – М., 1985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Бородич А. М. Методика развития речи детей. Учебн. пособие для студентов. [Текст] А.М. Бородич. - М.: 1981 С. 70-72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Венгер Л. А., Мухина В. С. Психология. [Текст] /Л.А. Венгер, В.С. Мухина. - М., 1988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Ветлугина Н. А. Основные проблемы художественного творчества детей// Художественное творчество и ребенок. [Текст]/ Н.А. Ветлугина. - М., 1972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Воспитание детей в старшей группе детского сада. [Текст]  / Сост. Г. М. Лямина./  -М., 1984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Выготский Л.С.Воображение и творчество в детском возрасте.        [Текст] / Л.С. Выготский. - М.: 1967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Детство: Программа развития и воспитания детей в детском саду[Текст]/Под ред. Т. И, Бабаевой, 3. А. Михайловой, Л. М. Гурович. - СПб.: Детство, 2004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Занятия по развитию речи в детском саду. Программа и конспекты. [Текст] /Под ред. О. С, Ушаковой. - М, 2001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3арубина Н. Д. Методика обучения связной речи. [Текст] /Н.Д. Зарубина – М., 1977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Зубарева Н. М. Дети и изобразительное искусство. [Текст]/ Н.М. Зубарева. -М, 1969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"/>
          <p:cNvSpPr/>
          <p:nvPr/>
        </p:nvSpPr>
        <p:spPr>
          <a:xfrm>
            <a:off x="12600" y="18360"/>
            <a:ext cx="108144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181818"/>
                </a:solidFill>
                <a:latin typeface="Tahoma"/>
                <a:ea typeface="Tahoma"/>
              </a:rPr>
              <a:t>  </a:t>
            </a:r>
            <a:r>
              <a:rPr b="0" lang="ru-RU" sz="2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осень"/>
          <p:cNvPicPr/>
          <p:nvPr/>
        </p:nvPicPr>
        <p:blipFill>
          <a:blip r:embed="rId1"/>
          <a:stretch/>
        </p:blipFill>
        <p:spPr>
          <a:xfrm>
            <a:off x="214200" y="214200"/>
            <a:ext cx="3071880" cy="207180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142920" y="2286000"/>
            <a:ext cx="35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Georgia"/>
                <a:ea typeface="Tahoma"/>
              </a:rPr>
              <a:t>Василий Поленов. Золотая ос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12960" y="20160"/>
            <a:ext cx="12124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900" spc="-1" strike="noStrike">
                <a:solidFill>
                  <a:srgbClr val="181818"/>
                </a:solidFill>
                <a:latin typeface="Tahoma"/>
                <a:ea typeface="Tahoma"/>
              </a:rPr>
              <a:t>  </a:t>
            </a:r>
            <a:r>
              <a:rPr b="0" lang="ru-RU" sz="27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березовая роща"/>
          <p:cNvPicPr/>
          <p:nvPr/>
        </p:nvPicPr>
        <p:blipFill>
          <a:blip r:embed="rId2"/>
          <a:stretch/>
        </p:blipFill>
        <p:spPr>
          <a:xfrm>
            <a:off x="3071880" y="2357280"/>
            <a:ext cx="2928960" cy="20718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6"/>
          <p:cNvSpPr/>
          <p:nvPr/>
        </p:nvSpPr>
        <p:spPr>
          <a:xfrm>
            <a:off x="3143160" y="4429080"/>
            <a:ext cx="30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ahoma"/>
                <a:ea typeface="Tahoma"/>
              </a:rPr>
              <a:t>Исаак Левитан. Березовая роща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глушь"/>
          <p:cNvPicPr/>
          <p:nvPr/>
        </p:nvPicPr>
        <p:blipFill>
          <a:blip r:embed="rId3"/>
          <a:stretch/>
        </p:blipFill>
        <p:spPr>
          <a:xfrm>
            <a:off x="5857920" y="214200"/>
            <a:ext cx="3071880" cy="207180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9"/>
          <p:cNvSpPr/>
          <p:nvPr/>
        </p:nvSpPr>
        <p:spPr>
          <a:xfrm>
            <a:off x="6357960" y="2286000"/>
            <a:ext cx="357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ahoma"/>
                <a:ea typeface="Tahoma"/>
              </a:rPr>
              <a:t>Иван Шишкин. Лесная глушь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13320" y="21240"/>
            <a:ext cx="122904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181818"/>
                </a:solidFill>
                <a:latin typeface="Tahoma"/>
                <a:ea typeface="Tahoma"/>
              </a:rPr>
              <a:t>  </a:t>
            </a:r>
            <a:r>
              <a:rPr b="0" lang="ru-RU" sz="2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8" descr="оттепель"/>
          <p:cNvPicPr/>
          <p:nvPr/>
        </p:nvPicPr>
        <p:blipFill>
          <a:blip r:embed="rId4"/>
          <a:stretch/>
        </p:blipFill>
        <p:spPr>
          <a:xfrm>
            <a:off x="214200" y="4572000"/>
            <a:ext cx="2928960" cy="19288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12"/>
          <p:cNvSpPr/>
          <p:nvPr/>
        </p:nvSpPr>
        <p:spPr>
          <a:xfrm>
            <a:off x="214200" y="6500880"/>
            <a:ext cx="44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ahoma"/>
                <a:ea typeface="Tahoma"/>
              </a:rPr>
              <a:t>Алексей Саврасов. Зимний пейзаж (Оттепел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10" descr="половодье"/>
          <p:cNvPicPr/>
          <p:nvPr/>
        </p:nvPicPr>
        <p:blipFill>
          <a:blip r:embed="rId5"/>
          <a:stretch/>
        </p:blipFill>
        <p:spPr>
          <a:xfrm>
            <a:off x="5929200" y="4572000"/>
            <a:ext cx="3000600" cy="192888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15"/>
          <p:cNvSpPr/>
          <p:nvPr/>
        </p:nvSpPr>
        <p:spPr>
          <a:xfrm>
            <a:off x="5857920" y="6500880"/>
            <a:ext cx="32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ahoma"/>
                <a:ea typeface="Tahoma"/>
              </a:rPr>
              <a:t>Исаак Левитан. Весна. Большая 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863640" y="27385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4040"/>
                </a:solidFill>
                <a:latin typeface="Arial"/>
                <a:ea typeface="Arial"/>
              </a:rPr>
              <a:t>Спасибо за внима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Рисунок 3" descr="картина2.jpg"/>
          <p:cNvPicPr/>
          <p:nvPr/>
        </p:nvPicPr>
        <p:blipFill>
          <a:blip r:embed="rId1"/>
          <a:stretch/>
        </p:blipFill>
        <p:spPr>
          <a:xfrm>
            <a:off x="5643720" y="42148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5" descr="картина1.jpg"/>
          <p:cNvPicPr/>
          <p:nvPr/>
        </p:nvPicPr>
        <p:blipFill>
          <a:blip r:embed="rId2"/>
          <a:stretch/>
        </p:blipFill>
        <p:spPr>
          <a:xfrm>
            <a:off x="500040" y="428760"/>
            <a:ext cx="3071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учение особенностей построения дошкольниками описательных  рассказов по пейзажной картин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1" name="Рисунок 3" descr="картина.jpg"/>
          <p:cNvPicPr/>
          <p:nvPr/>
        </p:nvPicPr>
        <p:blipFill>
          <a:blip r:embed="rId2"/>
          <a:stretch/>
        </p:blipFill>
        <p:spPr>
          <a:xfrm>
            <a:off x="5580000" y="4292640"/>
            <a:ext cx="30639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зучить теоретические основы проблемы развития связной речи у детей старшего дошкольного возраста посредством  пейзажной картины в психолого-педагогических, лингвистических и методических источниках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ктивизация педагогического потенциала педагогов и родителей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итие связной речи у детей старшего дошкольного возраста посредством пейзажной  картин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3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1042920" y="223920"/>
            <a:ext cx="7345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Пейзажная картина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такой жанр живописи, который отражает красоту родной природы. Она представляет собой творческое переосмысление реального мира. Пейзажная картина учит детей видеть прекрасное в жизни, воспитывает эстетическое отношение к природе и к живописи, и что самое важное, пейзажная картина является средством развития связ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Содержимое 3" descr="Фото024.JPG"/>
          <p:cNvPicPr/>
          <p:nvPr/>
        </p:nvPicPr>
        <p:blipFill>
          <a:blip r:embed="rId1"/>
          <a:stretch/>
        </p:blipFill>
        <p:spPr>
          <a:xfrm>
            <a:off x="5508720" y="3860640"/>
            <a:ext cx="31669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539640" y="563760"/>
            <a:ext cx="80647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Речь считается связной, если для нее характер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одержа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(хорошее знание предмета, о котором говоритс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точност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(правдивое изображение окружающей действительности,     подбор слов и словосочетаний, наиболее подходящих к данному содержанию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логичност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(последовательное изложение мыслей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ясность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(понятность для окружающи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авильность, чистота, богатство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(разнообраз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1"/>
          <p:cNvSpPr/>
          <p:nvPr/>
        </p:nvSpPr>
        <p:spPr>
          <a:xfrm>
            <a:off x="1547640" y="12682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3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24000" y="333360"/>
          <a:ext cx="8496000" cy="6248520"/>
        </p:xfrm>
        <a:graphic>
          <a:graphicData uri="http://schemas.openxmlformats.org/drawingml/2006/table">
            <a:tbl>
              <a:tblPr/>
              <a:tblGrid>
                <a:gridCol w="2203200"/>
                <a:gridCol w="3413160"/>
                <a:gridCol w="287964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Эта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Деятельность педаг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Подготовительный </a:t>
                      </a: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 (сентябр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b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пределение 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точнение имеющейся информации, обсуждение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b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нализ     проблемы.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пределение источников информации. Постановка задач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ормирование задач, накопление информ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b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бор и уточнение информ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интез и анализ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бор оптимального варианта. Уточнение плана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 с информаци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иагностир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b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еспечение сре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формление пособий, игр по речевому развитию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Основ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(октябрь – апрель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b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полнение поставленной цели и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 по развитию реч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тей старшего дошкольн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озраста во всех вид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ятельност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Заключит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def5fa"/>
                          </a:solidFill>
                          <a:latin typeface="Georgia"/>
                        </a:rPr>
                        <a:t>(апрель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4b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нализ выполненной  работы, достигнут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иагностирование детей.    Оценка результа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1"/>
          <p:cNvSpPr/>
          <p:nvPr/>
        </p:nvSpPr>
        <p:spPr>
          <a:xfrm>
            <a:off x="900000" y="907920"/>
            <a:ext cx="748836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я  к выбору пейзажных картин для развития связн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детей старшего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удожественная ценность кар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ответствие содержания картины жизненному  и   художественному  опыту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стота замысла и композиции          кар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алистичность пейзажной кар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1"/>
          <p:cNvSpPr/>
          <p:nvPr/>
        </p:nvSpPr>
        <p:spPr>
          <a:xfrm>
            <a:off x="539640" y="404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заимодействие с педагогом дополнительного образования по изобрази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2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513320" cy="374328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3"/>
          <p:cNvSpPr/>
          <p:nvPr/>
        </p:nvSpPr>
        <p:spPr>
          <a:xfrm>
            <a:off x="5148360" y="206064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еро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4"/>
          <p:cNvSpPr/>
          <p:nvPr/>
        </p:nvSpPr>
        <p:spPr>
          <a:xfrm>
            <a:off x="5219640" y="249228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ение художественных произве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блюдения, бес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матривание иллюст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движ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суль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4:08:18Z</dcterms:created>
  <dc:creator>SamLab.ws</dc:creator>
  <dc:description/>
  <dc:language>en-US</dc:language>
  <cp:lastModifiedBy>ирина</cp:lastModifiedBy>
  <dcterms:modified xsi:type="dcterms:W3CDTF">2013-03-18T19:47:35Z</dcterms:modified>
  <cp:revision>211</cp:revision>
  <dc:subject/>
  <dc:title>Слайд 1</dc:title>
</cp:coreProperties>
</file>