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D5E-7509-40C8-9D39-D849DD99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02C-2E26-4E70-AF2C-72A8C63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7D1-9000-4B8C-BDF2-60AB8CF8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4DF-E6B8-4279-9076-8776E5BC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C18-2300-45B1-A127-CE9E30BF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A478-F3E1-4186-BF49-DE5F6FDB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DD26-51D7-4DA0-BE64-A8B3E74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C41-F4CA-4C8D-883B-72A50AC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6A89-5C68-4877-B7D6-065B5FA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3EAD-F883-40F4-B1B3-2DBB8672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55A-DC78-4103-9B41-1B226FFD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BB3-FA36-4879-B31E-277A3FD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4687-6456-41A5-8B74-1787555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97A-0906-4FAB-A302-152BE96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476D-DA19-4E11-98EA-656D438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A36D-4065-4F18-B579-DE66E425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9FB-E0CE-4CBE-829E-5068A167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A90-4D7B-42AF-9EED-94D1E55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B87-CCF9-4A0E-9533-F00C67CA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0A-141C-4B94-8738-36335ED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B56-31D1-4E06-87EC-C0225CD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CCB-B9B6-426B-B752-A4DF268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F59-5F12-46E2-8B58-16681A1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7A6-7DAF-4C43-B9A5-A229B45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9382-727C-4B22-B536-C28FB081B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668F-F4F6-40E2-8560-0FE9A1FD0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Презентация к урок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по учебному предмет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«Окружающий мир» в 1-ом класс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на тему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«Кто такие птицы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7"/>
                </a:solidFill>
                <a:latin typeface="Arial Narrow"/>
              </a:rPr>
              <a:t>Трифонова Светлана Анатольев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Narrow"/>
              </a:rPr>
              <a:t>учитель начальных клас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Narrow"/>
              </a:rPr>
              <a:t>МБОУ «СОШ № 114» г.Каз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052280"/>
            <a:ext cx="8007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Умею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   </a:t>
            </a: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лет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Есть  крыль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рисунок  бабочки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341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муравей"/>
          <p:cNvPicPr/>
          <p:nvPr/>
        </p:nvPicPr>
        <p:blipFill>
          <a:blip r:embed="rId2"/>
          <a:stretch/>
        </p:blipFill>
        <p:spPr>
          <a:xfrm>
            <a:off x="324000" y="3870360"/>
            <a:ext cx="36003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55280" y="76500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Тело  покрыто  перьям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лет"/>
          <p:cNvPicPr/>
          <p:nvPr/>
        </p:nvPicPr>
        <p:blipFill>
          <a:blip r:embed="rId1"/>
          <a:stretch/>
        </p:blipFill>
        <p:spPr>
          <a:xfrm>
            <a:off x="395280" y="1484280"/>
            <a:ext cx="345600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ноч"/>
          <p:cNvPicPr/>
          <p:nvPr/>
        </p:nvPicPr>
        <p:blipFill>
          <a:blip r:embed="rId2"/>
          <a:stretch/>
        </p:blipFill>
        <p:spPr>
          <a:xfrm>
            <a:off x="4932360" y="4221000"/>
            <a:ext cx="3186000" cy="2403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белка"/>
          <p:cNvPicPr/>
          <p:nvPr/>
        </p:nvPicPr>
        <p:blipFill>
          <a:blip r:embed="rId3"/>
          <a:stretch/>
        </p:blipFill>
        <p:spPr>
          <a:xfrm>
            <a:off x="468360" y="4221000"/>
            <a:ext cx="3168720" cy="226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84"/>
          <p:cNvPicPr/>
          <p:nvPr/>
        </p:nvPicPr>
        <p:blipFill>
          <a:blip r:embed="rId4"/>
          <a:stretch/>
        </p:blipFill>
        <p:spPr>
          <a:xfrm>
            <a:off x="4716360" y="260280"/>
            <a:ext cx="3087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55640" y="241920"/>
            <a:ext cx="756144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«Курица  летает  плох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но  ученые  относят  е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к  группе  птиц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,  потому  что  самый  главный  признак  этой  группы  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ерья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мение  летать  не  является  главным  признаком  группы»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184"/>
          <p:cNvPicPr/>
          <p:nvPr/>
        </p:nvPicPr>
        <p:blipFill>
          <a:blip r:embed="rId1"/>
          <a:stretch/>
        </p:blipFill>
        <p:spPr>
          <a:xfrm>
            <a:off x="5292720" y="2781360"/>
            <a:ext cx="20192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то  такие  птиц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меют  лет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  птиц  есть  крыл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Тело  покрыто  перь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сти  т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Го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улов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ры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о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Хвост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черепаха"/>
          <p:cNvPicPr/>
          <p:nvPr/>
        </p:nvPicPr>
        <p:blipFill>
          <a:blip r:embed="rId1"/>
          <a:stretch/>
        </p:blipFill>
        <p:spPr>
          <a:xfrm>
            <a:off x="250920" y="458136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голубь"/>
          <p:cNvPicPr/>
          <p:nvPr/>
        </p:nvPicPr>
        <p:blipFill>
          <a:blip r:embed="rId2"/>
          <a:stretch/>
        </p:blipFill>
        <p:spPr>
          <a:xfrm>
            <a:off x="5435640" y="2637000"/>
            <a:ext cx="3409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гуси"/>
          <p:cNvPicPr/>
          <p:nvPr/>
        </p:nvPicPr>
        <p:blipFill>
          <a:blip r:embed="rId1"/>
          <a:stretch/>
        </p:blipFill>
        <p:spPr>
          <a:xfrm>
            <a:off x="971640" y="981000"/>
            <a:ext cx="7426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черепаха"/>
          <p:cNvPicPr/>
          <p:nvPr/>
        </p:nvPicPr>
        <p:blipFill>
          <a:blip r:embed="rId1"/>
          <a:stretch/>
        </p:blipFill>
        <p:spPr>
          <a:xfrm>
            <a:off x="395280" y="3284640"/>
            <a:ext cx="2212920" cy="29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кормушка"/>
          <p:cNvPicPr/>
          <p:nvPr/>
        </p:nvPicPr>
        <p:blipFill>
          <a:blip r:embed="rId2"/>
          <a:stretch/>
        </p:blipFill>
        <p:spPr>
          <a:xfrm>
            <a:off x="3995640" y="26028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крмушка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26920" y="976680"/>
            <a:ext cx="44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 старый  наш  знаком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живет  на  крыше  дом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инноногий,  безголос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летает  на  ох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 лягушками  к  болоту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аист"/>
          <p:cNvPicPr/>
          <p:nvPr/>
        </p:nvPicPr>
        <p:blipFill>
          <a:blip r:embed="rId1"/>
          <a:stretch/>
        </p:blipFill>
        <p:spPr>
          <a:xfrm>
            <a:off x="6156360" y="189000"/>
            <a:ext cx="22003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дятел"/>
          <p:cNvPicPr/>
          <p:nvPr/>
        </p:nvPicPr>
        <p:blipFill>
          <a:blip r:embed="rId2"/>
          <a:stretch/>
        </p:blipFill>
        <p:spPr>
          <a:xfrm>
            <a:off x="6012000" y="4006800"/>
            <a:ext cx="2447640" cy="2301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898200" y="3958560"/>
            <a:ext cx="442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в  своей  лесной  пал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сит  пестренький  халат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деревья  леч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учит  -  и  легч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ареоооо"/>
          <p:cNvPicPr/>
          <p:nvPr/>
        </p:nvPicPr>
        <p:blipFill>
          <a:blip r:embed="rId1"/>
          <a:stretch/>
        </p:blipFill>
        <p:spPr>
          <a:xfrm>
            <a:off x="3276720" y="549360"/>
            <a:ext cx="5040360" cy="45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черепаха"/>
          <p:cNvPicPr/>
          <p:nvPr/>
        </p:nvPicPr>
        <p:blipFill>
          <a:blip r:embed="rId2"/>
          <a:stretch/>
        </p:blipFill>
        <p:spPr>
          <a:xfrm>
            <a:off x="539640" y="299736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ппрарар"/>
          <p:cNvPicPr/>
          <p:nvPr/>
        </p:nvPicPr>
        <p:blipFill>
          <a:blip r:embed="rId1"/>
          <a:stretch/>
        </p:blipFill>
        <p:spPr>
          <a:xfrm>
            <a:off x="1042920" y="620640"/>
            <a:ext cx="2625840" cy="2624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павлин"/>
          <p:cNvPicPr/>
          <p:nvPr/>
        </p:nvPicPr>
        <p:blipFill>
          <a:blip r:embed="rId2"/>
          <a:stretch/>
        </p:blipFill>
        <p:spPr>
          <a:xfrm>
            <a:off x="2484360" y="3933720"/>
            <a:ext cx="2712960" cy="26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opugai2"/>
          <p:cNvPicPr/>
          <p:nvPr/>
        </p:nvPicPr>
        <p:blipFill>
          <a:blip r:embed="rId3"/>
          <a:stretch/>
        </p:blipFill>
        <p:spPr>
          <a:xfrm>
            <a:off x="5580000" y="692280"/>
            <a:ext cx="3105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пингвин"/>
          <p:cNvPicPr/>
          <p:nvPr/>
        </p:nvPicPr>
        <p:blipFill>
          <a:blip r:embed="rId1"/>
          <a:stretch/>
        </p:blipFill>
        <p:spPr>
          <a:xfrm>
            <a:off x="4859280" y="429264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впап"/>
          <p:cNvPicPr/>
          <p:nvPr/>
        </p:nvPicPr>
        <p:blipFill>
          <a:blip r:embed="rId2"/>
          <a:stretch/>
        </p:blipFill>
        <p:spPr>
          <a:xfrm>
            <a:off x="1187280" y="981000"/>
            <a:ext cx="2598840" cy="396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апрпо"/>
          <p:cNvPicPr/>
          <p:nvPr/>
        </p:nvPicPr>
        <p:blipFill>
          <a:blip r:embed="rId3"/>
          <a:stretch/>
        </p:blipFill>
        <p:spPr>
          <a:xfrm>
            <a:off x="4643280" y="836640"/>
            <a:ext cx="286236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908280"/>
            <a:ext cx="568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вно  царскую  корон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ит  он  свои  р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  лишайник,  мох  зеле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 снежные  л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павлин"/>
          <p:cNvPicPr/>
          <p:nvPr/>
        </p:nvPicPr>
        <p:blipFill>
          <a:blip r:embed="rId1"/>
          <a:stretch/>
        </p:blipFill>
        <p:spPr>
          <a:xfrm>
            <a:off x="5724360" y="4002120"/>
            <a:ext cx="2951280" cy="22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8076"/>
          <p:cNvPicPr/>
          <p:nvPr/>
        </p:nvPicPr>
        <p:blipFill>
          <a:blip r:embed="rId2"/>
          <a:stretch/>
        </p:blipFill>
        <p:spPr>
          <a:xfrm>
            <a:off x="6516720" y="620640"/>
            <a:ext cx="1927080" cy="2930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322200" y="3490920"/>
            <a:ext cx="463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живает  в  странах  жарк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  в  нежарких 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 зоопа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 спесив  он,  и  хвастли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ому  что  хвост  краси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 любуется  он  с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 показывает  на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павлин"/>
          <p:cNvPicPr/>
          <p:nvPr/>
        </p:nvPicPr>
        <p:blipFill>
          <a:blip r:embed="rId3"/>
          <a:stretch/>
        </p:blipFill>
        <p:spPr>
          <a:xfrm>
            <a:off x="5796000" y="4005360"/>
            <a:ext cx="295128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59680" y="835560"/>
            <a:ext cx="606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 деревьями,  ку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лькнуло  быстро  пла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лькнуло,  пробежа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 ни  дыма,  ни  пожар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лиса"/>
          <p:cNvPicPr/>
          <p:nvPr/>
        </p:nvPicPr>
        <p:blipFill>
          <a:blip r:embed="rId1"/>
          <a:stretch/>
        </p:blipFill>
        <p:spPr>
          <a:xfrm>
            <a:off x="3203640" y="3357720"/>
            <a:ext cx="2460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аист"/>
          <p:cNvPicPr/>
          <p:nvPr/>
        </p:nvPicPr>
        <p:blipFill>
          <a:blip r:embed="rId1"/>
          <a:stretch/>
        </p:blipFill>
        <p:spPr>
          <a:xfrm>
            <a:off x="684360" y="476280"/>
            <a:ext cx="2044440" cy="23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дятел"/>
          <p:cNvPicPr/>
          <p:nvPr/>
        </p:nvPicPr>
        <p:blipFill>
          <a:blip r:embed="rId2"/>
          <a:stretch/>
        </p:blipFill>
        <p:spPr>
          <a:xfrm>
            <a:off x="6300720" y="620640"/>
            <a:ext cx="2087640" cy="2247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f8076"/>
          <p:cNvPicPr/>
          <p:nvPr/>
        </p:nvPicPr>
        <p:blipFill>
          <a:blip r:embed="rId3"/>
          <a:stretch/>
        </p:blipFill>
        <p:spPr>
          <a:xfrm>
            <a:off x="900000" y="3860640"/>
            <a:ext cx="189576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павлин"/>
          <p:cNvPicPr/>
          <p:nvPr/>
        </p:nvPicPr>
        <p:blipFill>
          <a:blip r:embed="rId4"/>
          <a:stretch/>
        </p:blipFill>
        <p:spPr>
          <a:xfrm>
            <a:off x="6443640" y="3860640"/>
            <a:ext cx="237024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лиса"/>
          <p:cNvPicPr/>
          <p:nvPr/>
        </p:nvPicPr>
        <p:blipFill>
          <a:blip r:embed="rId5"/>
          <a:stretch/>
        </p:blipFill>
        <p:spPr>
          <a:xfrm>
            <a:off x="3564000" y="2349360"/>
            <a:ext cx="221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619280" y="69228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47640" y="4437000"/>
            <a:ext cx="583272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ЕР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0"/>
          <p:cNvSpPr txBox="1"/>
          <p:nvPr/>
        </p:nvSpPr>
        <p:spPr>
          <a:xfrm>
            <a:off x="755640" y="206064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 такие  птицы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900000" y="2145240"/>
            <a:ext cx="77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«</a:t>
            </a:r>
            <a:r>
              <a:rPr b="0" lang="ru-RU" sz="4800" spc="-1" strike="noStrike">
                <a:solidFill>
                  <a:srgbClr val="ffffff"/>
                </a:solidFill>
                <a:latin typeface="Impact"/>
              </a:rPr>
              <a:t>Д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орогие  первоклассники!  Я  приглашаю  вас  на  экскурсию  в  лес.  Здесь  так  много    интересного!</a:t>
            </a:r>
            <a:r>
              <a:rPr b="0" lang="ru-RU" sz="4800" spc="-1" strike="noStrike">
                <a:solidFill>
                  <a:srgbClr val="ffffff"/>
                </a:solidFill>
                <a:latin typeface="Impact"/>
              </a:rPr>
              <a:t>»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конверт"/>
          <p:cNvPicPr/>
          <p:nvPr/>
        </p:nvPicPr>
        <p:blipFill>
          <a:blip r:embed="rId1"/>
          <a:stretch/>
        </p:blipFill>
        <p:spPr>
          <a:xfrm>
            <a:off x="611280" y="260280"/>
            <a:ext cx="3024000" cy="22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oto7409"/>
          <p:cNvPicPr/>
          <p:nvPr/>
        </p:nvPicPr>
        <p:blipFill>
          <a:blip r:embed="rId1"/>
          <a:stretch/>
        </p:blipFill>
        <p:spPr>
          <a:xfrm>
            <a:off x="1835280" y="1989000"/>
            <a:ext cx="5688000" cy="3753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468360" y="404640"/>
            <a:ext cx="38815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го  мы  мож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3924360" y="105264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третить  в  лес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8:00:35Z</dcterms:created>
  <dc:creator>Sveta</dc:creator>
  <dc:description/>
  <dc:language>en-US</dc:language>
  <cp:lastModifiedBy>Igor</cp:lastModifiedBy>
  <dcterms:modified xsi:type="dcterms:W3CDTF">2017-04-19T17:14:2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