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3006-CC7A-40C7-A615-46AEBD9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8AD6-8EA1-4B65-97B6-30AC750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E678-FE5E-4604-BC72-D0ACF525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E06A-7D65-4D8B-8F5E-8402CFB3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74C7-09B6-433E-A5D8-9351E619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954C-49A7-4C5C-8B5B-6639D13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3BF1-6177-4428-8F28-E9B3DA14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8B3-4BA2-43BE-9C26-E4572E02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44EC-78C1-4870-8BE1-4C099EF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B10-DE71-4AA0-9A50-22400E76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F93-A457-45A2-8CB4-DC5A912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6EF6-0C72-4620-A128-0137599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1ED5-D9DA-4619-A560-436D81B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AD50-9455-4EF7-A532-229E58D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9D96-BD7F-437B-9D89-9821BE5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ACCF-97C6-44B6-B949-195AC068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9B0-CCBF-425E-92C0-B2E16544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0BEC-F2C6-446D-8527-C7EF874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1C4D-8AC5-4CB4-8BE2-7DD4EC6D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F2B6-F767-4E02-8864-C65DE231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5237-333E-4AC0-925F-8E4703D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A095-B2EB-4A3E-82E4-4E9037B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98F8-EBFE-4E1C-A8A0-99440D3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6FE1-F551-4C04-BA68-23174E8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225B-73CF-48A5-80C1-0770ADFC8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65E5-E46F-4629-B5D7-2164DC8679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84582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Лингвистический</a:t>
            </a:r>
            <a:br>
              <a:rPr sz="8000"/>
            </a:b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КВН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WELCOME"/>
          <p:cNvPicPr/>
          <p:nvPr/>
        </p:nvPicPr>
        <p:blipFill>
          <a:blip r:embed="rId1"/>
          <a:stretch/>
        </p:blipFill>
        <p:spPr>
          <a:xfrm>
            <a:off x="324000" y="1125360"/>
            <a:ext cx="2419200" cy="432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ECLFILS"/>
          <p:cNvPicPr/>
          <p:nvPr/>
        </p:nvPicPr>
        <p:blipFill>
          <a:blip r:embed="rId2"/>
          <a:stretch/>
        </p:blipFill>
        <p:spPr>
          <a:xfrm>
            <a:off x="6443640" y="2997360"/>
            <a:ext cx="1903320" cy="35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447920" y="304920"/>
            <a:ext cx="600228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3276720" y="1828800"/>
            <a:ext cx="2133360" cy="40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95200" y="1523880"/>
            <a:ext cx="1609920" cy="362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3" descr="MP00640_"/>
          <p:cNvPicPr/>
          <p:nvPr/>
        </p:nvPicPr>
        <p:blipFill>
          <a:blip r:embed="rId1"/>
          <a:stretch/>
        </p:blipFill>
        <p:spPr>
          <a:xfrm>
            <a:off x="2209680" y="1752480"/>
            <a:ext cx="2133720" cy="265752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4495680" y="1600200"/>
            <a:ext cx="175284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6858000" y="533520"/>
            <a:ext cx="1847880" cy="570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7391520" y="2819520"/>
            <a:ext cx="87768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3962520" y="1371600"/>
            <a:ext cx="1522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267080" y="1371600"/>
            <a:ext cx="1526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752480" y="228600"/>
            <a:ext cx="5180040" cy="632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2971800" y="3276720"/>
            <a:ext cx="252576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981080" y="304920"/>
            <a:ext cx="4440240" cy="61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2209680" y="3962520"/>
            <a:ext cx="2925720" cy="23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362320" y="228600"/>
            <a:ext cx="3914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Ж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1295280" y="2819520"/>
            <a:ext cx="6553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048120" y="3657600"/>
            <a:ext cx="2687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2590920" y="304920"/>
            <a:ext cx="423864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447920" y="3124080"/>
            <a:ext cx="6751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2362320" y="4191120"/>
            <a:ext cx="4951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И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3200400" y="609480"/>
            <a:ext cx="4197240" cy="40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1676520" y="1693800"/>
            <a:ext cx="2992320" cy="516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752480" y="457200"/>
            <a:ext cx="4364280" cy="32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5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4038480" y="1828800"/>
            <a:ext cx="35607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EN00354_"/>
          <p:cNvPicPr/>
          <p:nvPr/>
        </p:nvPicPr>
        <p:blipFill>
          <a:blip r:embed="rId1"/>
          <a:stretch/>
        </p:blipFill>
        <p:spPr>
          <a:xfrm>
            <a:off x="3124080" y="2438280"/>
            <a:ext cx="2590920" cy="25210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3"/>
          <p:cNvSpPr txBox="1"/>
          <p:nvPr/>
        </p:nvSpPr>
        <p:spPr>
          <a:xfrm>
            <a:off x="6553080" y="2286000"/>
            <a:ext cx="190512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20574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2860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5909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59436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57150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54864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380880" y="2971800"/>
            <a:ext cx="2286000" cy="33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28195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 - ШУ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К СКАЗАТЬ ПРАВИЛЬНО?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ов нет зуб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ей нет зуб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 нет зуб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7" descr="CRCTR485"/>
          <p:cNvPicPr/>
          <p:nvPr/>
        </p:nvPicPr>
        <p:blipFill>
          <a:blip r:embed="rId1"/>
          <a:stretch/>
        </p:blipFill>
        <p:spPr>
          <a:xfrm>
            <a:off x="4427640" y="2349360"/>
            <a:ext cx="4464000" cy="434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 ВАМ  ПРИВЕТствие…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Ы НАЧИНАЕМ КВН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УСТЬ БУД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НТЕРЕСНЫ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С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ЛОВЕСНОЙ БИТВ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ЗУЛЬТА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УДАЧИ ВСЕ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ПЕРЁД, РЕБЯТА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9" descr="PROGR074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НАЙДИ НАЧАЛ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 К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 _ К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 _ К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 _ _ К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 _ _ _ _ К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4" descr="CRCTR068"/>
          <p:cNvPicPr/>
          <p:nvPr/>
        </p:nvPicPr>
        <p:blipFill>
          <a:blip r:embed="rId1"/>
          <a:stretch/>
        </p:blipFill>
        <p:spPr>
          <a:xfrm>
            <a:off x="4643280" y="1989000"/>
            <a:ext cx="4040280" cy="40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ЗНАЙ ГОР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В + СТ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Г + ВОДА =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ОСКА + РОМ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 + ВАТА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LANDS107"/>
          <p:cNvPicPr/>
          <p:nvPr/>
        </p:nvPicPr>
        <p:blipFill>
          <a:blip r:embed="rId1"/>
          <a:stretch/>
        </p:blipFill>
        <p:spPr>
          <a:xfrm>
            <a:off x="6629400" y="3816360"/>
            <a:ext cx="2514600" cy="304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LANDS084"/>
          <p:cNvPicPr/>
          <p:nvPr/>
        </p:nvPicPr>
        <p:blipFill>
          <a:blip r:embed="rId2"/>
          <a:stretch/>
        </p:blipFill>
        <p:spPr>
          <a:xfrm>
            <a:off x="250920" y="2205000"/>
            <a:ext cx="3510000" cy="365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И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Закончен КВН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ришла пор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тоги подвест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се баллы подсчитат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 лидеров назвать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4" descr="ALTTR048"/>
          <p:cNvPicPr/>
          <p:nvPr/>
        </p:nvPicPr>
        <p:blipFill>
          <a:blip r:embed="rId1"/>
          <a:stretch/>
        </p:blipFill>
        <p:spPr>
          <a:xfrm>
            <a:off x="6084720" y="2133720"/>
            <a:ext cx="2922840" cy="40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547640" y="2133720"/>
            <a:ext cx="619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ОГО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И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КУРС ПЕРВЫЙ! </a:t>
            </a: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«Фонетическая разминк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кажите слова, в котор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букв больше, чем звуков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ём            счасть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стный        Май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итаю             юж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ездка          нол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эт                чест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PROGR004"/>
          <p:cNvPicPr/>
          <p:nvPr/>
        </p:nvPicPr>
        <p:blipFill>
          <a:blip r:embed="rId1"/>
          <a:stretch/>
        </p:blipFill>
        <p:spPr>
          <a:xfrm>
            <a:off x="4572000" y="2031840"/>
            <a:ext cx="4321080" cy="413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Фонетическая размин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колько звуков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  предложен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Два цветочка в цветнике разрастаются, листочками переплетаются, солнышку улыбаю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FLOWERS2"/>
          <p:cNvPicPr/>
          <p:nvPr/>
        </p:nvPicPr>
        <p:blipFill>
          <a:blip r:embed="rId1"/>
          <a:stretch/>
        </p:blipFill>
        <p:spPr>
          <a:xfrm>
            <a:off x="457200" y="1870200"/>
            <a:ext cx="4038480" cy="398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Фонетический блиц-о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Господа конкурсанты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йчас времени даром вы не теряйт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а вопросы мои быстр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твечай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этого скорость мышления включай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Мозги напрягайте, бал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олучайте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FENCING2"/>
          <p:cNvPicPr/>
          <p:nvPr/>
        </p:nvPicPr>
        <p:blipFill>
          <a:blip r:embed="rId1"/>
          <a:stretch/>
        </p:blipFill>
        <p:spPr>
          <a:xfrm>
            <a:off x="5708520" y="1700280"/>
            <a:ext cx="267516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Профессиональный конк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ставьте букв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овите професс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ЦЕДАПР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ИТКАРТ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ХИТАЧ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CRCTR059"/>
          <p:cNvPicPr/>
          <p:nvPr/>
        </p:nvPicPr>
        <p:blipFill>
          <a:blip r:embed="rId1"/>
          <a:stretch/>
        </p:blipFill>
        <p:spPr>
          <a:xfrm>
            <a:off x="7164360" y="4149720"/>
            <a:ext cx="1806480" cy="245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ARISTR1"/>
          <p:cNvPicPr/>
          <p:nvPr/>
        </p:nvPicPr>
        <p:blipFill>
          <a:blip r:embed="rId2"/>
          <a:stretch/>
        </p:blipFill>
        <p:spPr>
          <a:xfrm>
            <a:off x="0" y="1628640"/>
            <a:ext cx="1486080" cy="2686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OOKING2"/>
          <p:cNvPicPr/>
          <p:nvPr/>
        </p:nvPicPr>
        <p:blipFill>
          <a:blip r:embed="rId3"/>
          <a:stretch/>
        </p:blipFill>
        <p:spPr>
          <a:xfrm>
            <a:off x="1332000" y="4437000"/>
            <a:ext cx="1859040" cy="221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YNET065"/>
          <p:cNvPicPr/>
          <p:nvPr/>
        </p:nvPicPr>
        <p:blipFill>
          <a:blip r:embed="rId4"/>
          <a:stretch/>
        </p:blipFill>
        <p:spPr>
          <a:xfrm>
            <a:off x="6012000" y="1052640"/>
            <a:ext cx="2208240" cy="32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Лексический бой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оспода конкурсанты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барьеру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стоит необычная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хват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 должны, не задумываясь, быстр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ать ответы на мои загад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FRDAY079"/>
          <p:cNvPicPr/>
          <p:nvPr/>
        </p:nvPicPr>
        <p:blipFill>
          <a:blip r:embed="rId1"/>
          <a:stretch/>
        </p:blipFill>
        <p:spPr>
          <a:xfrm>
            <a:off x="457200" y="1895400"/>
            <a:ext cx="403848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ВНИМАНИЕ! 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дёт вас новое испытание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х, и трудное предстоит вам задание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ассивных сейчас бы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должн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мните: «Один за всех, и все за одного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1" descr="KNIGH072"/>
          <p:cNvPicPr/>
          <p:nvPr/>
        </p:nvPicPr>
        <p:blipFill>
          <a:blip r:embed="rId1"/>
          <a:stretch/>
        </p:blipFill>
        <p:spPr>
          <a:xfrm>
            <a:off x="5364000" y="1628640"/>
            <a:ext cx="32022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ОТГАДАЙ РЕБУСЫ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00:33Z</dcterms:created>
  <dc:creator>Admin</dc:creator>
  <dc:description/>
  <dc:language>en-US</dc:language>
  <cp:lastModifiedBy>Elena</cp:lastModifiedBy>
  <dcterms:modified xsi:type="dcterms:W3CDTF">2016-10-05T20:06:48Z</dcterms:modified>
  <cp:revision>8</cp:revision>
  <dc:subject/>
  <dc:title>Лингвистический КВН</dc:title>
</cp:coreProperties>
</file>