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6F9-FB60-4ED0-91BE-B739CCE1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6B4-C313-45AD-8D27-3F87F4DB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91A-B55A-4EC4-99A1-88C9AA38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A78-CCCF-4F91-91A9-569A1901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9E9-24A0-48E9-9F07-0E170A0E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0F7-620D-4208-A4A6-F619462D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60B-7B9A-4B13-ACD8-0BA51E5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CF9-6E35-4520-B044-C05D563C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18C-1865-4371-973F-ED9753D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894-08F3-446B-A4D7-F7BAA90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85D-8F60-483F-88CE-7B09B56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1A6-C194-4745-9495-057DE27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D9A-0CCB-4C4D-B8D5-B5A70FF1C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57120" y="1844640"/>
            <a:ext cx="82868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стер –класс на тему;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Удивительное причас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28760" y="526680"/>
            <a:ext cx="83581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мастер –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приёмами организации деятельности учащихся на уроках русского язы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ставить положительный опыт по стимулированию творческих способностей  на уроках русского язы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творческую атмосферу и позитивный настрой участников мастер-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500040" y="1000080"/>
            <a:ext cx="70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хожи…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511px-Портрет_писателя_Владимира_Ивановича_Даля"/>
          <p:cNvPicPr/>
          <p:nvPr/>
        </p:nvPicPr>
        <p:blipFill>
          <a:blip r:embed="rId1"/>
          <a:stretch/>
        </p:blipFill>
        <p:spPr>
          <a:xfrm>
            <a:off x="468360" y="620640"/>
            <a:ext cx="4203720" cy="540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076720" y="249228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…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часть речи, причастная к глаголу, в образе прилагательного»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.И.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57120" y="71424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Фрейе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учающая структура, помогающая учащимся глубоко понять и осознать изучаемое понятие в концеп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рассматривают какое-либо понятие с разных сторон, записывая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и необязательные характеристики, примеры и антиприм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 flipH="1">
            <a:off x="213480" y="1156680"/>
            <a:ext cx="800100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28800" y="565560"/>
            <a:ext cx="70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t Thoughts 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мыс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28760" y="936360"/>
            <a:ext cx="8429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еативного мышл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уникального реце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6:32:19Z</dcterms:created>
  <dc:creator>6</dc:creator>
  <dc:description/>
  <dc:language>en-US</dc:language>
  <cp:lastModifiedBy>Айрат</cp:lastModifiedBy>
  <dcterms:modified xsi:type="dcterms:W3CDTF">2017-08-20T21:17:40Z</dcterms:modified>
  <cp:revision>36</cp:revision>
  <dc:subject/>
  <dc:title>Слайд 1</dc:title>
</cp:coreProperties>
</file>