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C77-9AFE-49A0-8DFA-00146AF9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D9A-7DAD-4B6E-8053-4E34D37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A7A-7D61-4E9B-B6C3-49B62799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096-3120-44F8-A3F1-8D1E0693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EDA-24E2-4911-873F-09730CB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5EF-FD7C-4A53-8E20-1E5143D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A9F-1BEF-4B5F-986D-8461B60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32F-5337-409D-8BD0-8D91E98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A29-4CC2-4A62-81BC-6363CEC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224-07D8-4278-8BD7-37BE113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1CF-C136-4CCE-83AA-B7E98C7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3C0-2D6C-4662-AB5B-AEF3CC6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0ECD-CF40-4E34-A5DA-F5D6F71B1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57120" y="1844640"/>
            <a:ext cx="82868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стер –класс на тему;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Удивительное причас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28760" y="526680"/>
            <a:ext cx="83581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мастер –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приёмами организации деятельности учащихся на уроках русского язы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ставить положительный опыт по стимулированию творческих способностей  на уроках русского язы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творческую атмосферу и позитивный настрой участников мастер-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500040" y="1000080"/>
            <a:ext cx="70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хожи…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511px-Портрет_писателя_Владимира_Ивановича_Даля"/>
          <p:cNvPicPr/>
          <p:nvPr/>
        </p:nvPicPr>
        <p:blipFill>
          <a:blip r:embed="rId1"/>
          <a:stretch/>
        </p:blipFill>
        <p:spPr>
          <a:xfrm>
            <a:off x="468360" y="620640"/>
            <a:ext cx="4203720" cy="540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076720" y="249228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…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часть речи, причастная к глаголу, в образе прилагательного»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.И.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57120" y="71424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Фрейе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учающая структура, помогающая учащимся глубоко понять и осознать изучаемое понятие в концеп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рассматривают какое-либо понятие с разных сторон, записывая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и необязательные характеристики, примеры и антиприм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 flipH="1">
            <a:off x="213480" y="1156680"/>
            <a:ext cx="800100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28800" y="565560"/>
            <a:ext cx="70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t Thoughts 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мыс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28760" y="936360"/>
            <a:ext cx="8429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еативного мышл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уникального реце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6:32:19Z</dcterms:created>
  <dc:creator>6</dc:creator>
  <dc:description/>
  <dc:language>en-US</dc:language>
  <cp:lastModifiedBy>Айрат</cp:lastModifiedBy>
  <dcterms:modified xsi:type="dcterms:W3CDTF">2017-08-20T21:17:40Z</dcterms:modified>
  <cp:revision>36</cp:revision>
  <dc:subject/>
  <dc:title>Слайд 1</dc:title>
</cp:coreProperties>
</file>