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DA99-07E7-4190-8FCE-45623674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8A89-A7A3-4D9C-B2E0-95017333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789D-5B93-4DDD-AA48-8AD9EF3A2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75D3-35A3-4ED7-933C-3D6E4C444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248F-0A85-483B-AD0D-CFFFC618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61C0-7756-4583-8626-A8A51FC5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F1CB-75D8-4C44-9765-102E1179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5535-0122-49AF-B0CE-C337E9C7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AFDA-32F3-45C2-9511-3BFEC1E9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5D39-F2EC-4E5C-86ED-ACF960D2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FABA-9E0D-4955-9309-D53B9DF9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8320-8001-418F-8FE3-9A4ADAB9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5A66-1C41-4A2B-9D51-8A94B57E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7CE3-E93A-4502-8481-54ECCA41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A7CC-7758-43FE-9438-075411B8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1A1C-51B2-414F-8093-8CCD90194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8C44-4E53-41A0-9BFB-7682AE8FC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7C80-3830-4CEA-A5EE-EEB2DF5D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6F61-AA97-418D-AE31-A9C89AA9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7649-E304-4AFF-97B6-DC51F0AB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9EC2-246D-4A9B-A630-59C32C22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E2C9-C81E-4561-8115-ADD41AB9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C561-1FB0-439A-B91A-FDC132C5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E837-B2A5-4C98-913C-3BA60F1B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00B2-2AAF-49E1-98B4-A30414A397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97A4-F9D7-47DC-9C8F-14A1754E44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547280" y="5084640"/>
            <a:ext cx="647892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оспитатели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3924360" y="404280"/>
            <a:ext cx="4751280" cy="3380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оект с дошкольниками «Молоко и молочные продукты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Модель трёх вопросов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8360" y="1197000"/>
          <a:ext cx="7920000" cy="5062680"/>
        </p:xfrm>
        <a:graphic>
          <a:graphicData uri="http://schemas.openxmlformats.org/drawingml/2006/table">
            <a:tbl>
              <a:tblPr/>
              <a:tblGrid>
                <a:gridCol w="2808360"/>
                <a:gridCol w="2735280"/>
                <a:gridCol w="2376360"/>
              </a:tblGrid>
              <a:tr h="57636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Что мы знаем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Что мы хотим узнать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Что мы узнали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4486320">
                <a:tc>
                  <a:txBody>
                    <a:bodyPr lIns="46440" rIns="4644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Comic Sans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Молоко даёт корова, коз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Comic Sans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Молоко полезное, потому что от него растут и в нём много витаминов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Comic Sans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Если молоко, будут крепкие зубы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Comic Sans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Из молока варят суп и кашу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Comic Sans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Из него делают творог и сметану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Comic Sans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Йогурт вкусный и он имеет разный вку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Comic Sans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Кефир кислый, а снежок сладкий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Comic Sans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Как получают простоквашу из молока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Comic Sans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Кто придумал делать сыр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Comic Sans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Какие вкусности можно приготовить из молока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Comic Sans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Хочу узнать загадки или стихи про молоко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Comic Sans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Как готовят творог из молока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89280" y="4941360"/>
            <a:ext cx="377172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йте дети молоко, будете здоров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2" descr="C:\Users\Cortez\Desktop\загруженное.jpg"/>
          <p:cNvPicPr/>
          <p:nvPr/>
        </p:nvPicPr>
        <p:blipFill>
          <a:blip r:embed="rId1"/>
          <a:stretch/>
        </p:blipFill>
        <p:spPr>
          <a:xfrm>
            <a:off x="1020600" y="1844640"/>
            <a:ext cx="6575760" cy="27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000" y="187200"/>
            <a:ext cx="687204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Актуальность проект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7993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язательным и незаменимым продуктом детского питания является молоко. Оно по своему химическому составу и биологическим свойствам занимает исключительное место среди продуктов животного происхождения, используемых в питание детей всех возрастных групп. Но не все дети с удовольствием пьют молоко и едят блюда, приготовленные на основе молока и молочных продуктов (каши, молочные супы, творожные запеканки, сыр, бутерброды с маслом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j0211583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Проблема проект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19748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ти дошкольного возраста не понимают значимости молока и молочных продуктов в развитии своего организм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21" descr="C:\Users\Cortez\Desktop\проекты дошкольников\загруженное (1).jpg"/>
          <p:cNvPicPr/>
          <p:nvPr/>
        </p:nvPicPr>
        <p:blipFill>
          <a:blip r:embed="rId1"/>
          <a:stretch/>
        </p:blipFill>
        <p:spPr>
          <a:xfrm>
            <a:off x="6084720" y="2886120"/>
            <a:ext cx="1943280" cy="3343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2" descr="C:\Users\Cortez\Desktop\проекты дошкольников\загруженное (2).jpg"/>
          <p:cNvPicPr/>
          <p:nvPr/>
        </p:nvPicPr>
        <p:blipFill>
          <a:blip r:embed="rId2"/>
          <a:stretch/>
        </p:blipFill>
        <p:spPr>
          <a:xfrm>
            <a:off x="1979640" y="3284640"/>
            <a:ext cx="2428920" cy="188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Основополагающий вопро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5640" y="1828800"/>
            <a:ext cx="7265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чем детям нужно молоко и молочные продукты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9" descr="C:\Users\Cortez\Desktop\проекты дошкольников\загруженное.jpg"/>
          <p:cNvPicPr/>
          <p:nvPr/>
        </p:nvPicPr>
        <p:blipFill>
          <a:blip r:embed="rId1"/>
          <a:stretch/>
        </p:blipFill>
        <p:spPr>
          <a:xfrm>
            <a:off x="6156360" y="2924280"/>
            <a:ext cx="1514520" cy="3028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C:\Users\Cortez\Desktop\проекты дошкольников\images (2).jpg"/>
          <p:cNvPicPr/>
          <p:nvPr/>
        </p:nvPicPr>
        <p:blipFill>
          <a:blip r:embed="rId2"/>
          <a:stretch/>
        </p:blipFill>
        <p:spPr>
          <a:xfrm>
            <a:off x="1908000" y="3357720"/>
            <a:ext cx="274320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Цель проект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0160" y="2205000"/>
            <a:ext cx="748368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ирование представления у детей о пользе молока и молочных продуктов для организма челове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8" descr="C:\Users\Cortez\Desktop\проекты дошкольников\images.jpg"/>
          <p:cNvPicPr/>
          <p:nvPr/>
        </p:nvPicPr>
        <p:blipFill>
          <a:blip r:embed="rId1"/>
          <a:stretch/>
        </p:blipFill>
        <p:spPr>
          <a:xfrm>
            <a:off x="5435640" y="407664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115640" y="1557360"/>
            <a:ext cx="75596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Помочь детям узнать, что молоко входит в состав многих продуктов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Расширить знания детей о молочных продуктах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Формировать исследовательские навыки (поиск информации в энциклопедиях и других литературных источниках, из общения со взрослыми и сверстниками, телевизионных передач)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Развивать познавательный интерес к исследовательской деятельности, желание познавать новое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Воспитывать умение работать в коллективе, желание делиться информацией, участвовать в совместной опытно-экспериментальной деятельности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Задачи проект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341000"/>
            <a:ext cx="7696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сследовательский,  внутригрупповой, краткосроч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1 неделя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mic Sans MS"/>
              </a:rPr>
              <a:t>Участники проекта: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спитатели, дети, родител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mic Sans MS"/>
              </a:rPr>
              <a:t>Продукт проекта: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нижки-малышки «Мой любимый молочный продукт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Тип проекта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5" descr="C:\Users\Cortez\Desktop\images (1).jpg"/>
          <p:cNvPicPr/>
          <p:nvPr/>
        </p:nvPicPr>
        <p:blipFill>
          <a:blip r:embed="rId1"/>
          <a:stretch/>
        </p:blipFill>
        <p:spPr>
          <a:xfrm>
            <a:off x="5435640" y="4467240"/>
            <a:ext cx="3057480" cy="214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6981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ети узнают о пользе и значении молочных продуктов;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учатся видеть результаты своего труда и рассказывать о своей деятельност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Предполагаемый результа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8" descr="C:\Users\Cortez\Desktop\images.jpg"/>
          <p:cNvPicPr/>
          <p:nvPr/>
        </p:nvPicPr>
        <p:blipFill>
          <a:blip r:embed="rId1"/>
          <a:stretch/>
        </p:blipFill>
        <p:spPr>
          <a:xfrm>
            <a:off x="4643280" y="4149720"/>
            <a:ext cx="3090960" cy="200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Этапы проект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68360" y="1125360"/>
          <a:ext cx="7704000" cy="5226120"/>
        </p:xfrm>
        <a:graphic>
          <a:graphicData uri="http://schemas.openxmlformats.org/drawingml/2006/table">
            <a:tbl>
              <a:tblPr/>
              <a:tblGrid>
                <a:gridCol w="2709720"/>
                <a:gridCol w="4994280"/>
              </a:tblGrid>
              <a:tr h="351000">
                <a:tc>
                  <a:txBody>
                    <a:bodyPr lIns="63720" rIns="63720" tIns="0" bIns="0" anchor="t">
                      <a:noAutofit/>
                    </a:bodyPr>
                    <a:p>
                      <a:pPr marL="106200" indent="-106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эта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marL="106200" indent="-106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892520">
                <a:tc>
                  <a:txBody>
                    <a:bodyPr lIns="63720" rIns="63720" tIns="0" bIns="0" anchor="t">
                      <a:noAutofit/>
                    </a:bodyPr>
                    <a:p>
                      <a:pPr marL="111240" indent="-1080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Подготовите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Создание копилки, состоящей из принесённых детьми упаковок от молочных продук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Разработка конспектов занят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Сбор информации о молоке и молочных продукта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2207880">
                <a:tc>
                  <a:txBody>
                    <a:bodyPr lIns="63720" rIns="63720" tIns="0" bIns="0" anchor="t">
                      <a:noAutofit/>
                    </a:bodyPr>
                    <a:p>
                      <a:pPr marL="106200" indent="-106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Основ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Comic Sans MS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Проведение опытов с молок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Comic Sans MS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Разучивание стихотворений, загадок о молоке и молочных продукта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Comic Sans MS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Просмотр презентаций, сказок, мультфильмов о пользе молочных продук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261800">
                <a:tc>
                  <a:txBody>
                    <a:bodyPr lIns="63720" rIns="63720" tIns="0" bIns="0" anchor="t">
                      <a:noAutofit/>
                    </a:bodyPr>
                    <a:p>
                      <a:pPr marL="106200" indent="-106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Заключите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marL="291960" indent="-285480" algn="ctr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Итоговое развлечение «Все о молоке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291960" indent="-285480" algn="ctr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Изготовление книжек-малышек «Мой любимый молочный продукт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7:00:44Z</dcterms:created>
  <dc:creator>Vasena</dc:creator>
  <dc:description/>
  <dc:language>en-US</dc:language>
  <cp:lastModifiedBy>administrator</cp:lastModifiedBy>
  <dcterms:modified xsi:type="dcterms:W3CDTF">2016-03-14T09:28:24Z</dcterms:modified>
  <cp:revision>15</cp:revision>
  <dc:subject/>
  <dc:title>ЯДОВИТЫЕ ГРИБЫ И ЯГОДЫ</dc:title>
</cp:coreProperties>
</file>