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EAA-E3F0-4C7E-A014-FDB0965C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D4A-EEFE-408E-B013-9FBFE4A0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930-A8BE-4A3D-89FD-A60D2FD0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688-30BF-45D3-82B1-5E32323A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B412-ECB5-48C6-8010-14777257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C4D6-74D2-4FED-83C9-525C9CC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2247-43C3-4EC8-811D-B9655233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7F3F-0DDA-4C3C-8A4C-B724DDA3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1ABA-C638-4462-8CDC-9003E7B1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CD96-DBB2-4094-BC9F-7F6E84E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AC90-E48E-44E6-85F0-1755FFDC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5A7-6B08-4DEB-8EAA-88DECCD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578-B369-4629-A8B3-6AF64E34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A549-48BE-4DE1-885A-884C9558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F264-21AE-4CFB-9954-C2B019FD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43C6-CD24-4BFF-A703-E50D5A02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F8F7-5DF0-4C77-8B56-C710BA07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387-202B-4707-BC06-B29B1BEF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A99-A338-453C-810B-6B12524F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42C-FDC2-472C-A8BD-4CEFA0E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67A-6EA5-4DDC-BEC8-C0E32E3A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13D-A090-415F-B0DA-3CAADDA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546-D368-4CA2-A360-8B664FE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95D-40E0-433A-9959-2B7BCA3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72B-1E75-4632-A477-F896E42EA5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54C-5957-41C9-83AB-25A7B7982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7280" y="5084640"/>
            <a:ext cx="64789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питатели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924360" y="404280"/>
            <a:ext cx="4751280" cy="3380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ект с дошкольниками «Молоко и молочные продукт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Модель трёх вопрос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197000"/>
          <a:ext cx="7920000" cy="5062680"/>
        </p:xfrm>
        <a:graphic>
          <a:graphicData uri="http://schemas.openxmlformats.org/drawingml/2006/table">
            <a:tbl>
              <a:tblPr/>
              <a:tblGrid>
                <a:gridCol w="2808360"/>
                <a:gridCol w="2735280"/>
                <a:gridCol w="2376360"/>
              </a:tblGrid>
              <a:tr h="576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Что мы знае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Что мы хотим узна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Что мы узнал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4486320"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Молоко даёт корова, коз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Молоко полезное, потому что от него растут и в нём много витамин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Если молоко, будут крепкие зуб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з молока варят суп и каш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з него делают творог и сметан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Йогурт вкусный и он имеет разный вку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ефир кислый, а снежок сладкий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ак получают простоквашу из молок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то придумал делать сыр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акие вкусности можно приготовить из моло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Хочу узнать загадки или стихи про молок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Как готовят творог из моло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89280" y="4941360"/>
            <a:ext cx="37717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йте дети молоко, будете здоров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" descr="C:\Users\Cortez\Desktop\загруженное.jpg"/>
          <p:cNvPicPr/>
          <p:nvPr/>
        </p:nvPicPr>
        <p:blipFill>
          <a:blip r:embed="rId1"/>
          <a:stretch/>
        </p:blipFill>
        <p:spPr>
          <a:xfrm>
            <a:off x="1020600" y="1844640"/>
            <a:ext cx="6575760" cy="27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187200"/>
            <a:ext cx="68720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язательным и незаменимым продуктом детского питания является молоко. Оно по своему химическому составу и биологическим свойствам занимает исключительное место среди продуктов животного происхождения, используемых в питание детей всех возрастных групп. Но не все дети с удовольствием пьют молоко и едят блюда, приготовленные на основе молока и молочных продуктов (каши, молочные супы, творожные запеканки, сыр, бутерброды с масл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j021158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Проблема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197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и дошкольного возраста не понимают значимости молока и молочных продуктов в развитии своего организ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1" descr="C:\Users\Cortez\Desktop\проекты дошкольников\загруженное (1).jpg"/>
          <p:cNvPicPr/>
          <p:nvPr/>
        </p:nvPicPr>
        <p:blipFill>
          <a:blip r:embed="rId1"/>
          <a:stretch/>
        </p:blipFill>
        <p:spPr>
          <a:xfrm>
            <a:off x="6084720" y="2886120"/>
            <a:ext cx="1943280" cy="33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C:\Users\Cortez\Desktop\проекты дошкольников\загруженное (2).jpg"/>
          <p:cNvPicPr/>
          <p:nvPr/>
        </p:nvPicPr>
        <p:blipFill>
          <a:blip r:embed="rId2"/>
          <a:stretch/>
        </p:blipFill>
        <p:spPr>
          <a:xfrm>
            <a:off x="1979640" y="328464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Основополагающий вопро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5640" y="1828800"/>
            <a:ext cx="726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чем детям нужно молоко и молочные продук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9" descr="C:\Users\Cortez\Desktop\проекты дошкольников\загруженное.jpg"/>
          <p:cNvPicPr/>
          <p:nvPr/>
        </p:nvPicPr>
        <p:blipFill>
          <a:blip r:embed="rId1"/>
          <a:stretch/>
        </p:blipFill>
        <p:spPr>
          <a:xfrm>
            <a:off x="6156360" y="2924280"/>
            <a:ext cx="1514520" cy="30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Cortez\Desktop\проекты дошкольников\images (2).jpg"/>
          <p:cNvPicPr/>
          <p:nvPr/>
        </p:nvPicPr>
        <p:blipFill>
          <a:blip r:embed="rId2"/>
          <a:stretch/>
        </p:blipFill>
        <p:spPr>
          <a:xfrm>
            <a:off x="1908000" y="3357720"/>
            <a:ext cx="27432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0160" y="2205000"/>
            <a:ext cx="74836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я у детей о пользе молока и молочных продуктов для организма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C:\Users\Cortez\Desktop\проекты дошкольников\images.jpg"/>
          <p:cNvPicPr/>
          <p:nvPr/>
        </p:nvPicPr>
        <p:blipFill>
          <a:blip r:embed="rId1"/>
          <a:stretch/>
        </p:blipFill>
        <p:spPr>
          <a:xfrm>
            <a:off x="5435640" y="4076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7559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Помочь детям узнать, что молоко входит в состав многих продуктов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асширить знания детей о молочных продуктах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Формировать исследовательские навыки (поиск информации в энциклопедиях и других литературных источниках, из общения со взрослыми и сверстниками, телевизионных передач)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азвивать познавательный интерес к исследовательской деятельности, желание познавать новое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Воспитывать умение работать в коллективе, желание делиться информацией, участвовать в совместной опытно-экспериментальной деятельности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следовательский,  внутригрупповой, краткосроч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 неделя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Участники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тели, дети, роди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Продукт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нижки-малышки «Мой любимый молочный продукт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Тип проект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C:\Users\Cortez\Desktop\images (1).jpg"/>
          <p:cNvPicPr/>
          <p:nvPr/>
        </p:nvPicPr>
        <p:blipFill>
          <a:blip r:embed="rId1"/>
          <a:stretch/>
        </p:blipFill>
        <p:spPr>
          <a:xfrm>
            <a:off x="5435640" y="4467240"/>
            <a:ext cx="3057480" cy="21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ти узнают о пользе и значении молочных продуктов;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атся видеть результаты своего труда и рассказывать о своей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Предполагаемый результа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8" descr="C:\Users\Cortez\Desktop\images.jpg"/>
          <p:cNvPicPr/>
          <p:nvPr/>
        </p:nvPicPr>
        <p:blipFill>
          <a:blip r:embed="rId1"/>
          <a:stretch/>
        </p:blipFill>
        <p:spPr>
          <a:xfrm>
            <a:off x="4643280" y="4149720"/>
            <a:ext cx="309096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Этапы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125360"/>
          <a:ext cx="7704000" cy="5226120"/>
        </p:xfrm>
        <a:graphic>
          <a:graphicData uri="http://schemas.openxmlformats.org/drawingml/2006/table">
            <a:tbl>
              <a:tblPr/>
              <a:tblGrid>
                <a:gridCol w="2709720"/>
                <a:gridCol w="4994280"/>
              </a:tblGrid>
              <a:tr h="351000"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892520">
                <a:tc>
                  <a:txBody>
                    <a:bodyPr lIns="63720" rIns="63720" tIns="0" bIns="0" anchor="t">
                      <a:noAutofit/>
                    </a:bodyPr>
                    <a:p>
                      <a:pPr marL="111240" indent="-1080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Создание копилки, состоящей из принесённых детьми упаковок от молочных проду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Разработка конспектов зан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Сбор информации о молоке и молочных продук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2207880"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роведение опытов с мол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Разучивание стихотворений, загадок о молоке и молочных продук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Просмотр презентаций, сказок, мультфильмов о пользе молочных проду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261800">
                <a:tc>
                  <a:txBody>
                    <a:bodyPr lIns="63720" rIns="63720" tIns="0" bIns="0" anchor="t">
                      <a:noAutofit/>
                    </a:bodyPr>
                    <a:p>
                      <a:pPr marL="106200" indent="-106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Заключ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marL="291960" indent="-285480" algn="ctr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тоговое развлечение «Все о молок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291960" indent="-285480" algn="ctr">
                        <a:lnSpc>
                          <a:spcPct val="115000"/>
                        </a:lnSpc>
                        <a:buClr>
                          <a:srgbClr val="0070c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Изготовление книжек-малышек «Мой любимый молочный проду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7:00:44Z</dcterms:created>
  <dc:creator>Vasena</dc:creator>
  <dc:description/>
  <dc:language>en-US</dc:language>
  <cp:lastModifiedBy>administrator</cp:lastModifiedBy>
  <dcterms:modified xsi:type="dcterms:W3CDTF">2016-03-14T09:28:24Z</dcterms:modified>
  <cp:revision>15</cp:revision>
  <dc:subject/>
  <dc:title>ЯДОВИТЫЕ ГРИБЫ И ЯГОДЫ</dc:title>
</cp:coreProperties>
</file>