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3.wmf" ContentType="image/x-wmf"/>
  <Override PartName="/ppt/media/image29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C42-456E-463F-AE48-BF4198E5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37A-9A31-40B5-9C55-A4D91226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B25-1330-4243-B4E3-15D759DF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094-89D5-41D4-925F-20899569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7C0F-FC84-4274-8A16-4BBD14D1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3C59-4CDF-4553-971B-D8247FC8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F6CA-4BD0-469A-B204-D7D4AF4B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3304-D9B0-4980-B0EC-EDC250A5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416A-A7A3-4B51-868D-6AAAD823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A1CC-6DBB-4A67-8B95-2948A7A6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0992-879D-4CD0-A732-F3B175DD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AA4-AC62-4740-B3AD-220F5E4C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757F-CB27-4D37-875C-035D2D8F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D807-01F3-4F04-80A3-386E12F7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3838-3F88-482C-A801-B722D2D9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6368-EA24-4C08-8264-12A7FC91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C4C6-6239-4AC3-8D9D-A4CDDF1B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18A-06D4-4E07-ABB8-E76368BF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C47-4AB3-4101-B8EF-BAA4FC6B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195-C8D8-4753-9273-5DFA04AB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820-D8B3-4C27-B319-A89B8A51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A6A-FC7D-4EC5-AEA2-7B3493B0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9C2-F2C8-4AEC-9CA6-968DC0C0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860-BF5E-4B8A-A58A-CC73CD2C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6691-4C1A-4ABF-99EA-B08F443A8E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D2BF-CF77-4BD2-9122-038D2E4C5C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9" descr="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«НАШИ ПОМОЩНИКИ»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Verdana"/>
              </a:rPr>
              <a:t>путеводитель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Verdana"/>
              </a:rPr>
              <a:t>по справочной литератур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18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j0300912"/>
          <p:cNvPicPr/>
          <p:nvPr/>
        </p:nvPicPr>
        <p:blipFill>
          <a:blip r:embed="rId3"/>
          <a:stretch/>
        </p:blipFill>
        <p:spPr>
          <a:xfrm>
            <a:off x="8385120" y="6137280"/>
            <a:ext cx="75888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пропущенное сло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о … бои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валится, тот с горы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… глаза что плошки, а не видят ни крош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сть … берё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лежачий камень и … не теч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ков бояться – в … не ходи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ШИ ПОМОЩНИКИ - ЭНЦИКЛОПЕД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нциклопед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это научн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равочное пособие в форм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оваря по всем или отдельны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раслям знаний, адресованное либ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широким массам, либо специалистам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7" descr="книги2"/>
          <p:cNvPicPr/>
          <p:nvPr/>
        </p:nvPicPr>
        <p:blipFill>
          <a:blip r:embed="rId1"/>
          <a:stretch/>
        </p:blipFill>
        <p:spPr>
          <a:xfrm>
            <a:off x="2843280" y="4365720"/>
            <a:ext cx="3168720" cy="22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32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ШИ ПОМОЩНИКИ - ЭНЦИКЛОПЕД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рвоначально словом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нциклопедия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усском язы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ли тольк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ранцузскую «Энциклопедию, и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олковый словарь наук, искусств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месел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последствии это сло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тало нарицательны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435640" y="1844640"/>
            <a:ext cx="2736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9" descr="8с"/>
          <p:cNvPicPr/>
          <p:nvPr/>
        </p:nvPicPr>
        <p:blipFill>
          <a:blip r:embed="rId1"/>
          <a:stretch/>
        </p:blipFill>
        <p:spPr>
          <a:xfrm>
            <a:off x="5292720" y="1844640"/>
            <a:ext cx="31669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1" name="Picture 10" descr="слоник"/>
          <p:cNvPicPr/>
          <p:nvPr/>
        </p:nvPicPr>
        <p:blipFill>
          <a:blip r:embed="rId2"/>
          <a:stretch/>
        </p:blipFill>
        <p:spPr>
          <a:xfrm>
            <a:off x="8172360" y="5805360"/>
            <a:ext cx="971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712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6" descr="к1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898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нциклопед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тественные        нау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хнические нау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ладные нау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щественные нау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286000" y="29718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18" descr="слоник"/>
          <p:cNvPicPr/>
          <p:nvPr/>
        </p:nvPicPr>
        <p:blipFill>
          <a:blip r:embed="rId2"/>
          <a:stretch/>
        </p:blipFill>
        <p:spPr>
          <a:xfrm>
            <a:off x="0" y="5805360"/>
            <a:ext cx="97164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ШИ ПОМОЩНИКИ - ЭНЦИКЛОПЕД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863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Энциклопедии бываю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азные. Те из них, что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могут ответить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на любой вопрос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называют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универсальными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. Он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бывают и для взрослых, 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для детей. Например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это многотомная энциклопеди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«Я познаю мир»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«Всё обо всем», книги серии «Мо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первая энциклопедия»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Picture 6" descr="энц1"/>
          <p:cNvPicPr/>
          <p:nvPr/>
        </p:nvPicPr>
        <p:blipFill>
          <a:blip r:embed="rId1"/>
          <a:stretch/>
        </p:blipFill>
        <p:spPr>
          <a:xfrm>
            <a:off x="2411280" y="2781360"/>
            <a:ext cx="1944720" cy="180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1" name="Picture 7" descr="яс"/>
          <p:cNvPicPr/>
          <p:nvPr/>
        </p:nvPicPr>
        <p:blipFill>
          <a:blip r:embed="rId2"/>
          <a:stretch/>
        </p:blipFill>
        <p:spPr>
          <a:xfrm>
            <a:off x="755640" y="1628640"/>
            <a:ext cx="1368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2" name="Picture 8" descr="слоник"/>
          <p:cNvPicPr/>
          <p:nvPr/>
        </p:nvPicPr>
        <p:blipFill>
          <a:blip r:embed="rId3"/>
          <a:stretch/>
        </p:blipFill>
        <p:spPr>
          <a:xfrm>
            <a:off x="0" y="602136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5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5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5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932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ШИ ПОМОЩНИКИ - ЭНЦИКЛОПЕД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 других энциклопедиях материал собран по какой-то одной отрасли науки или деятельности. Такие энциклопедии называются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отраслевыми.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Например,  издательство «Росмэн» выпустило энциклопедии по темам «Наука», «История», «География»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51640" y="1773000"/>
            <a:ext cx="57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7" descr="22с"/>
          <p:cNvPicPr/>
          <p:nvPr/>
        </p:nvPicPr>
        <p:blipFill>
          <a:blip r:embed="rId1"/>
          <a:stretch/>
        </p:blipFill>
        <p:spPr>
          <a:xfrm>
            <a:off x="6227640" y="3645000"/>
            <a:ext cx="1368720" cy="180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7" name="Picture 8" descr="12с"/>
          <p:cNvPicPr/>
          <p:nvPr/>
        </p:nvPicPr>
        <p:blipFill>
          <a:blip r:embed="rId2"/>
          <a:stretch/>
        </p:blipFill>
        <p:spPr>
          <a:xfrm>
            <a:off x="7164360" y="1557360"/>
            <a:ext cx="1368360" cy="194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8" name="Picture 9" descr="энц"/>
          <p:cNvPicPr/>
          <p:nvPr/>
        </p:nvPicPr>
        <p:blipFill>
          <a:blip r:embed="rId3"/>
          <a:stretch/>
        </p:blipFill>
        <p:spPr>
          <a:xfrm>
            <a:off x="5076720" y="1557360"/>
            <a:ext cx="1366920" cy="194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9" name="Picture 11" descr="слоник"/>
          <p:cNvPicPr/>
          <p:nvPr/>
        </p:nvPicPr>
        <p:blipFill>
          <a:blip r:embed="rId4"/>
          <a:stretch/>
        </p:blipFill>
        <p:spPr>
          <a:xfrm>
            <a:off x="8388360" y="5877000"/>
            <a:ext cx="755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6059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устроены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энциклопедии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последних страницах энциклопед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оложены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лфавитны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 предметный указатели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казат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мён, список терминов или понятий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их помощью гораздо легче и быстре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йти нужную информацию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5" descr="поиск инф"/>
          <p:cNvPicPr/>
          <p:nvPr/>
        </p:nvPicPr>
        <p:blipFill>
          <a:blip r:embed="rId1"/>
          <a:stretch/>
        </p:blipFill>
        <p:spPr>
          <a:xfrm>
            <a:off x="7236000" y="260280"/>
            <a:ext cx="1657080" cy="1800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слоник"/>
          <p:cNvPicPr/>
          <p:nvPr/>
        </p:nvPicPr>
        <p:blipFill>
          <a:blip r:embed="rId2"/>
          <a:stretch/>
        </p:blipFill>
        <p:spPr>
          <a:xfrm>
            <a:off x="179280" y="5805360"/>
            <a:ext cx="827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6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6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6160"/>
                            </p:stCondLst>
                            <p:childTnLst>
                              <p:par>
                                <p:cTn id="6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6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работать с энциклопедиям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ачала нужно выбр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нциклопедию нужного направления (отрасли).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Например, вопрос звучит так: «Когда и где жил древний ученый - математик Пифагор?»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ой том энциклопедии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м понадобится? </a:t>
            </a:r>
            <a:r>
              <a:rPr b="1" lang="ru-RU" sz="2800" spc="-1" strike="noStrike">
                <a:solidFill>
                  <a:srgbClr val="ffcc66"/>
                </a:solidFill>
                <a:latin typeface="Verdana"/>
              </a:rPr>
              <a:t>Математи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5" descr="слоник"/>
          <p:cNvPicPr/>
          <p:nvPr/>
        </p:nvPicPr>
        <p:blipFill>
          <a:blip r:embed="rId1"/>
          <a:stretch/>
        </p:blipFill>
        <p:spPr>
          <a:xfrm>
            <a:off x="8207280" y="5877000"/>
            <a:ext cx="936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6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6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6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работать с энциклопедией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ьмём энциклопедию п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тематике серии «Аванта+»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кроем указатель имён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алфавиту отыщем нужное нам  имя –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Пифагор.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ядом с именем ученого мы увидим  номера страниц, на которых содержится  более подробная информация о нё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слоник"/>
          <p:cNvPicPr/>
          <p:nvPr/>
        </p:nvPicPr>
        <p:blipFill>
          <a:blip r:embed="rId1"/>
          <a:stretch/>
        </p:blipFill>
        <p:spPr>
          <a:xfrm>
            <a:off x="0" y="5877000"/>
            <a:ext cx="971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6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6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6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работать с энциклопедией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, например, вопрос поставлен так: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«Что такое многогранник?»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ходим в этой же энциклопедии предметный указатель, а в нём по алфавиту – слово «многогранник». Рядом с этим словом – номер нужной нам страницы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4" descr="слоник"/>
          <p:cNvPicPr/>
          <p:nvPr/>
        </p:nvPicPr>
        <p:blipFill>
          <a:blip r:embed="rId1"/>
          <a:stretch/>
        </p:blipFill>
        <p:spPr>
          <a:xfrm>
            <a:off x="8207280" y="5877000"/>
            <a:ext cx="936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7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ши помощник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в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5068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Словарь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нига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торая содержит список сл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определениям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ругими объяснениями ил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указаниям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их произношение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перевод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другие языки и т.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10" descr="книги1"/>
          <p:cNvPicPr/>
          <p:nvPr/>
        </p:nvPicPr>
        <p:blipFill>
          <a:blip r:embed="rId1"/>
          <a:stretch/>
        </p:blipFill>
        <p:spPr>
          <a:xfrm>
            <a:off x="5508720" y="1844640"/>
            <a:ext cx="3240000" cy="295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5" name="Picture 13" descr="слоник"/>
          <p:cNvPicPr/>
          <p:nvPr/>
        </p:nvPicPr>
        <p:blipFill>
          <a:blip r:embed="rId2"/>
          <a:stretch/>
        </p:blipFill>
        <p:spPr>
          <a:xfrm>
            <a:off x="8136000" y="5661000"/>
            <a:ext cx="1008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16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ши помощники - справочн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равочник –  младший брат энциклопедии и словаря. Материал здесь расположен по отдельным темам. Одни справочники подскажут названия рек, морей, городов, другие расскажут о растениях, животных, кораблях или самолетах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4" descr="слоник"/>
          <p:cNvPicPr/>
          <p:nvPr/>
        </p:nvPicPr>
        <p:blipFill>
          <a:blip r:embed="rId1"/>
          <a:stretch/>
        </p:blipFill>
        <p:spPr>
          <a:xfrm>
            <a:off x="8207280" y="5877000"/>
            <a:ext cx="936720" cy="981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1с"/>
          <p:cNvPicPr/>
          <p:nvPr/>
        </p:nvPicPr>
        <p:blipFill>
          <a:blip r:embed="rId2"/>
          <a:stretch/>
        </p:blipFill>
        <p:spPr>
          <a:xfrm>
            <a:off x="1042920" y="4365720"/>
            <a:ext cx="1263600" cy="17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7" name="Picture 8" descr="спр1"/>
          <p:cNvPicPr/>
          <p:nvPr/>
        </p:nvPicPr>
        <p:blipFill>
          <a:blip r:embed="rId3"/>
          <a:stretch/>
        </p:blipFill>
        <p:spPr>
          <a:xfrm>
            <a:off x="6732720" y="4365720"/>
            <a:ext cx="1224000" cy="158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8" name="Picture 9" descr="справ2"/>
          <p:cNvPicPr/>
          <p:nvPr/>
        </p:nvPicPr>
        <p:blipFill>
          <a:blip r:embed="rId4"/>
          <a:stretch/>
        </p:blipFill>
        <p:spPr>
          <a:xfrm>
            <a:off x="4788000" y="4724280"/>
            <a:ext cx="1152360" cy="158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9" name="Picture 10" descr="справ1"/>
          <p:cNvPicPr/>
          <p:nvPr/>
        </p:nvPicPr>
        <p:blipFill>
          <a:blip r:embed="rId5"/>
          <a:stretch/>
        </p:blipFill>
        <p:spPr>
          <a:xfrm>
            <a:off x="3059280" y="4724280"/>
            <a:ext cx="1225440" cy="16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нные словари и энциклопед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427640" y="1844640"/>
            <a:ext cx="403848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Российский энциклопедический словар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Всемирный биографический энциклопедический словар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Всемирная история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-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тернет-издание энциклопедического словар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03280" y="3213000"/>
            <a:ext cx="1090800" cy="1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Picture 7" descr="слоник"/>
          <p:cNvPicPr/>
          <p:nvPr/>
        </p:nvPicPr>
        <p:blipFill>
          <a:blip r:embed="rId1"/>
          <a:stretch/>
        </p:blipFill>
        <p:spPr>
          <a:xfrm>
            <a:off x="0" y="5877000"/>
            <a:ext cx="900000" cy="981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энц9"/>
          <p:cNvPicPr/>
          <p:nvPr/>
        </p:nvPicPr>
        <p:blipFill>
          <a:blip r:embed="rId2"/>
          <a:stretch/>
        </p:blipFill>
        <p:spPr>
          <a:xfrm>
            <a:off x="250920" y="1844640"/>
            <a:ext cx="230508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5" name="Picture 11" descr="энц5"/>
          <p:cNvPicPr/>
          <p:nvPr/>
        </p:nvPicPr>
        <p:blipFill>
          <a:blip r:embed="rId3"/>
          <a:stretch/>
        </p:blipFill>
        <p:spPr>
          <a:xfrm>
            <a:off x="2411280" y="4005360"/>
            <a:ext cx="1729080" cy="20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7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7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7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нные словари и энциклопед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435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Энциклопедический словарь Брокгауза и Ефро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Энциклопедия «Мифы народов мир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Энциклопедия «Народы и религии мир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8" descr="энц2"/>
          <p:cNvPicPr/>
          <p:nvPr/>
        </p:nvPicPr>
        <p:blipFill>
          <a:blip r:embed="rId1"/>
          <a:stretch/>
        </p:blipFill>
        <p:spPr>
          <a:xfrm>
            <a:off x="7020000" y="3429000"/>
            <a:ext cx="1728720" cy="17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9" name="Picture 10" descr="энц8"/>
          <p:cNvPicPr/>
          <p:nvPr/>
        </p:nvPicPr>
        <p:blipFill>
          <a:blip r:embed="rId2"/>
          <a:stretch/>
        </p:blipFill>
        <p:spPr>
          <a:xfrm rot="21438600">
            <a:off x="5000760" y="1628640"/>
            <a:ext cx="1793880" cy="187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0" name="Picture 11" descr="слоник"/>
          <p:cNvPicPr/>
          <p:nvPr/>
        </p:nvPicPr>
        <p:blipFill>
          <a:blip r:embed="rId3"/>
          <a:stretch/>
        </p:blipFill>
        <p:spPr>
          <a:xfrm>
            <a:off x="8209080" y="5877000"/>
            <a:ext cx="934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7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7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7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8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356000" y="1989000"/>
            <a:ext cx="122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5с"/>
          <p:cNvPicPr/>
          <p:nvPr/>
        </p:nvPicPr>
        <p:blipFill>
          <a:blip r:embed="rId1"/>
          <a:stretch/>
        </p:blipFill>
        <p:spPr>
          <a:xfrm>
            <a:off x="395280" y="476280"/>
            <a:ext cx="1944720" cy="194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3" name="Picture 5" descr="127с"/>
          <p:cNvPicPr/>
          <p:nvPr/>
        </p:nvPicPr>
        <p:blipFill>
          <a:blip r:embed="rId2"/>
          <a:stretch/>
        </p:blipFill>
        <p:spPr>
          <a:xfrm>
            <a:off x="684360" y="3068640"/>
            <a:ext cx="1944720" cy="194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4" name="Picture 6" descr="энц11"/>
          <p:cNvPicPr/>
          <p:nvPr/>
        </p:nvPicPr>
        <p:blipFill>
          <a:blip r:embed="rId3"/>
          <a:stretch/>
        </p:blipFill>
        <p:spPr>
          <a:xfrm>
            <a:off x="3708360" y="4653000"/>
            <a:ext cx="2158920" cy="194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5" name="Picture 7" descr="энц7"/>
          <p:cNvPicPr/>
          <p:nvPr/>
        </p:nvPicPr>
        <p:blipFill>
          <a:blip r:embed="rId4"/>
          <a:stretch/>
        </p:blipFill>
        <p:spPr>
          <a:xfrm>
            <a:off x="6948360" y="476280"/>
            <a:ext cx="187344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6" name="Oval 10"/>
          <p:cNvSpPr/>
          <p:nvPr/>
        </p:nvSpPr>
        <p:spPr>
          <a:xfrm>
            <a:off x="3059280" y="1628640"/>
            <a:ext cx="3240000" cy="2708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3924360" y="5373720"/>
            <a:ext cx="23032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помним всё!</a:t>
            </a:r>
            <a:br>
              <a:rPr sz="40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Блиц - опрос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14" descr="энц2"/>
          <p:cNvPicPr/>
          <p:nvPr/>
        </p:nvPicPr>
        <p:blipFill>
          <a:blip r:embed="rId6"/>
          <a:stretch/>
        </p:blipFill>
        <p:spPr>
          <a:xfrm>
            <a:off x="6804000" y="3141720"/>
            <a:ext cx="2016000" cy="187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0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СЁЛЫЕ ЗАДАЧ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3280" y="1600200"/>
            <a:ext cx="37450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ван-царевич и ег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ратья пуска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трелы. Три стрел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пали на купече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вор, четыре – 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оярский, а восем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летели 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известн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правлен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олько стре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пустили братья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5" descr="иван2"/>
          <p:cNvPicPr/>
          <p:nvPr/>
        </p:nvPicPr>
        <p:blipFill>
          <a:blip r:embed="rId1"/>
          <a:stretch/>
        </p:blipFill>
        <p:spPr>
          <a:xfrm>
            <a:off x="1403280" y="1989000"/>
            <a:ext cx="2165400" cy="27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74" name="Picture 6" descr="слоник"/>
          <p:cNvPicPr/>
          <p:nvPr/>
        </p:nvPicPr>
        <p:blipFill>
          <a:blip r:embed="rId2"/>
          <a:stretch/>
        </p:blipFill>
        <p:spPr>
          <a:xfrm>
            <a:off x="0" y="5661000"/>
            <a:ext cx="9954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8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8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8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8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8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8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8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8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9" dur="8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8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8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СЁЛЫЕ ЗАДАЧ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рекен Бок испекл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кусные плюшки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шла смотре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редачу 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видениях. В кухн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летел Карлсон, съе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8 плюшек сам, а 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нёс Малышу. Скольк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люшек недосчитает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рекен Бок, ког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ернётся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7" name="Picture 4" descr="карлсон1"/>
          <p:cNvPicPr/>
          <p:nvPr/>
        </p:nvPicPr>
        <p:blipFill>
          <a:blip r:embed="rId1"/>
          <a:stretch/>
        </p:blipFill>
        <p:spPr>
          <a:xfrm>
            <a:off x="5292720" y="2205000"/>
            <a:ext cx="2735280" cy="295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78" name="Picture 5" descr="слоник"/>
          <p:cNvPicPr/>
          <p:nvPr/>
        </p:nvPicPr>
        <p:blipFill>
          <a:blip r:embed="rId2"/>
          <a:stretch/>
        </p:blipFill>
        <p:spPr>
          <a:xfrm>
            <a:off x="8172360" y="5805360"/>
            <a:ext cx="971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0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8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9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9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9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9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9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9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СЁЛЫЕ ЗАДАЧ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день рождения ослика Винни-Пух реши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арить ему несколько горшочков мёда. Дом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Пуха было 25 горшочков мёда. Мёд из 1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оршочков он тут же съел, а остальные захвати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 собой. По дороге он съел мёд ещё из тре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олько горшочков мёда всё-таки получил 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арок  ослик Иа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Picture 4" descr="Винни1"/>
          <p:cNvPicPr/>
          <p:nvPr/>
        </p:nvPicPr>
        <p:blipFill>
          <a:blip r:embed="rId1"/>
          <a:stretch/>
        </p:blipFill>
        <p:spPr>
          <a:xfrm>
            <a:off x="4140360" y="4365720"/>
            <a:ext cx="3816360" cy="22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82" name="Picture 5" descr="слоник"/>
          <p:cNvPicPr/>
          <p:nvPr/>
        </p:nvPicPr>
        <p:blipFill>
          <a:blip r:embed="rId2"/>
          <a:stretch/>
        </p:blipFill>
        <p:spPr>
          <a:xfrm>
            <a:off x="0" y="5805360"/>
            <a:ext cx="900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9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9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8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6480"/>
                            </p:stCondLst>
                            <p:childTnLst>
                              <p:par>
                                <p:cTn id="9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8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9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8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9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8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есёлые задач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140360" y="1599840"/>
            <a:ext cx="42480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я свой дневник 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войками закопал 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убину 5 м, а Тол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глубину 12 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сколько мет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убже закопал св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невник Толя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5" name="Picture 4" descr="поиск инф"/>
          <p:cNvPicPr/>
          <p:nvPr/>
        </p:nvPicPr>
        <p:blipFill>
          <a:blip r:embed="rId1"/>
          <a:stretch/>
        </p:blipFill>
        <p:spPr>
          <a:xfrm>
            <a:off x="971640" y="1773360"/>
            <a:ext cx="2232000" cy="25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86" name="Picture 5" descr="слоник"/>
          <p:cNvPicPr/>
          <p:nvPr/>
        </p:nvPicPr>
        <p:blipFill>
          <a:blip r:embed="rId2"/>
          <a:stretch/>
        </p:blipFill>
        <p:spPr>
          <a:xfrm>
            <a:off x="8172360" y="5805360"/>
            <a:ext cx="971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0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10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8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10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10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10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8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129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Читайте! И пусть в вашей жизни н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будет ни одного дня, когда бы вы н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прочли ни одной строчки, хоть одно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транички из новой книг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.Г. Паустовски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4" descr="слоник2"/>
          <p:cNvPicPr/>
          <p:nvPr/>
        </p:nvPicPr>
        <p:blipFill>
          <a:blip r:embed="rId1"/>
          <a:stretch/>
        </p:blipFill>
        <p:spPr>
          <a:xfrm>
            <a:off x="8028000" y="5516640"/>
            <a:ext cx="111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1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10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3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10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10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40"/>
                            </p:stCondLst>
                            <p:childTnLst>
                              <p:par>
                                <p:cTn id="10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0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1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2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ши помощники - слов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рвые словари 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ЗБУКОВН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3560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евнейший сохранивший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нашего времени азбуковник 1282 года содержит 174 греческих, древнееврейских и церковно-славянских слова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9" descr="книгидр"/>
          <p:cNvPicPr/>
          <p:nvPr/>
        </p:nvPicPr>
        <p:blipFill>
          <a:blip r:embed="rId1"/>
          <a:stretch/>
        </p:blipFill>
        <p:spPr>
          <a:xfrm>
            <a:off x="971640" y="2133720"/>
            <a:ext cx="295272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0" name="Picture 11" descr="слоник"/>
          <p:cNvPicPr/>
          <p:nvPr/>
        </p:nvPicPr>
        <p:blipFill>
          <a:blip r:embed="rId2"/>
          <a:stretch/>
        </p:blipFill>
        <p:spPr>
          <a:xfrm>
            <a:off x="0" y="5661000"/>
            <a:ext cx="111600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ши помощники - слов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зное время на Руси выходили в свет печатные словар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ни назывались лексикон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амый последн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 них – словар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тра  Алексеев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держал 4 изда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 содержа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0 000 сл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чатные словари –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ЕКСИКОН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6" descr="126с"/>
          <p:cNvPicPr/>
          <p:nvPr/>
        </p:nvPicPr>
        <p:blipFill>
          <a:blip r:embed="rId1"/>
          <a:stretch/>
        </p:blipFill>
        <p:spPr>
          <a:xfrm>
            <a:off x="5076720" y="2349360"/>
            <a:ext cx="302436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5" name="Picture 9" descr="слоник"/>
          <p:cNvPicPr/>
          <p:nvPr/>
        </p:nvPicPr>
        <p:blipFill>
          <a:blip r:embed="rId2"/>
          <a:stretch/>
        </p:blipFill>
        <p:spPr>
          <a:xfrm>
            <a:off x="8101080" y="5661000"/>
            <a:ext cx="1042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ши помощники - слов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адемически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ловар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1783 году была создана Российская Академия нау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явились «Словарь Академии Российской», который содержал более 43 тысяч слов, четырехтомный «Словарь церковно-славянского и русского языка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114 тысяч слов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8" descr="энц7"/>
          <p:cNvPicPr/>
          <p:nvPr/>
        </p:nvPicPr>
        <p:blipFill>
          <a:blip r:embed="rId1"/>
          <a:stretch/>
        </p:blipFill>
        <p:spPr>
          <a:xfrm>
            <a:off x="826920" y="2060640"/>
            <a:ext cx="3240360" cy="266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0" name="Picture 18" descr="слоник"/>
          <p:cNvPicPr/>
          <p:nvPr/>
        </p:nvPicPr>
        <p:blipFill>
          <a:blip r:embed="rId2"/>
          <a:stretch/>
        </p:blipFill>
        <p:spPr>
          <a:xfrm>
            <a:off x="179280" y="5877000"/>
            <a:ext cx="9003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856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ши помощники - слов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1863-1866 годах вышло первое издание «Толкового словаря живого великорусского языка» Владимира Ивановича Даля. Над этим замечательным, уникальным памятником русского языка и русской культуры автор беззаветно трудился около 50 ле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12000" y="2205000"/>
            <a:ext cx="1800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9" descr="слоник"/>
          <p:cNvPicPr/>
          <p:nvPr/>
        </p:nvPicPr>
        <p:blipFill>
          <a:blip r:embed="rId1"/>
          <a:stretch/>
        </p:blipFill>
        <p:spPr>
          <a:xfrm>
            <a:off x="8244000" y="5805360"/>
            <a:ext cx="900000" cy="1052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Даль1"/>
          <p:cNvPicPr/>
          <p:nvPr/>
        </p:nvPicPr>
        <p:blipFill>
          <a:blip r:embed="rId2"/>
          <a:stretch/>
        </p:blipFill>
        <p:spPr>
          <a:xfrm>
            <a:off x="5508720" y="1916280"/>
            <a:ext cx="2351160" cy="28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ши помощники - слов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олковые словари, выпущенные  под редакцией Дмитрия Николаевича Ушакова и Сергея Ивановича Ожегова содержат новые слова, уточняют толкова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ногих сл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.Н. Уша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.И. Ожег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7" descr="Ушаков1"/>
          <p:cNvPicPr/>
          <p:nvPr/>
        </p:nvPicPr>
        <p:blipFill>
          <a:blip r:embed="rId1"/>
          <a:stretch/>
        </p:blipFill>
        <p:spPr>
          <a:xfrm>
            <a:off x="6516720" y="1628640"/>
            <a:ext cx="1584360" cy="151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0" name="Picture 8" descr="Ушаков2"/>
          <p:cNvPicPr/>
          <p:nvPr/>
        </p:nvPicPr>
        <p:blipFill>
          <a:blip r:embed="rId2"/>
          <a:stretch/>
        </p:blipFill>
        <p:spPr>
          <a:xfrm>
            <a:off x="4716360" y="1557360"/>
            <a:ext cx="144000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1" name="Picture 10" descr="Ожегов2"/>
          <p:cNvPicPr/>
          <p:nvPr/>
        </p:nvPicPr>
        <p:blipFill>
          <a:blip r:embed="rId3"/>
          <a:stretch/>
        </p:blipFill>
        <p:spPr>
          <a:xfrm>
            <a:off x="4788000" y="4005360"/>
            <a:ext cx="1439640" cy="129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2" name="Picture 11" descr="Ожегов1"/>
          <p:cNvPicPr/>
          <p:nvPr/>
        </p:nvPicPr>
        <p:blipFill>
          <a:blip r:embed="rId4"/>
          <a:stretch/>
        </p:blipFill>
        <p:spPr>
          <a:xfrm>
            <a:off x="6948360" y="4005360"/>
            <a:ext cx="1295640" cy="143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3" name="Picture 13" descr="слоник"/>
          <p:cNvPicPr/>
          <p:nvPr/>
        </p:nvPicPr>
        <p:blipFill>
          <a:blip r:embed="rId5"/>
          <a:stretch/>
        </p:blipFill>
        <p:spPr>
          <a:xfrm>
            <a:off x="0" y="5734080"/>
            <a:ext cx="9716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ие бывают словари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рфографический словар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ковый словар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оварь иностранных с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разеологический словар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рфоэпический словар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4" descr="слоник"/>
          <p:cNvPicPr/>
          <p:nvPr/>
        </p:nvPicPr>
        <p:blipFill>
          <a:blip r:embed="rId1"/>
          <a:stretch/>
        </p:blipFill>
        <p:spPr>
          <a:xfrm>
            <a:off x="8172360" y="5805360"/>
            <a:ext cx="971640" cy="1052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4с"/>
          <p:cNvPicPr/>
          <p:nvPr/>
        </p:nvPicPr>
        <p:blipFill>
          <a:blip r:embed="rId2"/>
          <a:stretch/>
        </p:blipFill>
        <p:spPr>
          <a:xfrm>
            <a:off x="5292720" y="1628640"/>
            <a:ext cx="1368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8" name="Picture 17" descr="6с"/>
          <p:cNvPicPr/>
          <p:nvPr/>
        </p:nvPicPr>
        <p:blipFill>
          <a:blip r:embed="rId3"/>
          <a:stretch/>
        </p:blipFill>
        <p:spPr>
          <a:xfrm>
            <a:off x="7164360" y="2565360"/>
            <a:ext cx="1368360" cy="187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9" name="Picture 18" descr="7с"/>
          <p:cNvPicPr/>
          <p:nvPr/>
        </p:nvPicPr>
        <p:blipFill>
          <a:blip r:embed="rId4"/>
          <a:stretch/>
        </p:blipFill>
        <p:spPr>
          <a:xfrm>
            <a:off x="5219640" y="3933720"/>
            <a:ext cx="144000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должи пословиц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чи безделью, а учи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рукоделью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 человека кормит, а лень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портит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рой другому яму, сам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в неё попадешь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вда в огне не горит, в воде 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не тонет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ишь кататься, люби и 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саночки возить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6:47:56Z</dcterms:created>
  <dc:creator>ЛЕНА</dc:creator>
  <dc:description/>
  <dc:language>en-US</dc:language>
  <cp:lastModifiedBy>ИРИНА</cp:lastModifiedBy>
  <dcterms:modified xsi:type="dcterms:W3CDTF">2017-09-22T01:32:27Z</dcterms:modified>
  <cp:revision>87</cp:revision>
  <dc:subject/>
  <dc:title> «НАШИ ПОМОЩНИКИ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