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5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3.wmf" ContentType="image/x-wmf"/>
  <Override PartName="/ppt/media/image29.jpeg" ContentType="image/jpe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57D-33F5-4DA5-9A0F-FBB8DAF3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6D10-A9B6-46C4-98C9-68E77AC7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AFF1-A824-420C-AB0B-0E24F13C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65C1-3C7A-4D54-878A-F01DDEA5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964F-02BE-48D6-9A41-4273A439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D4FC-3A70-45C0-89EC-B5F87144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27A4-02DC-41A3-8FDA-BF2C0651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5B06-D639-46CB-8077-01BC653C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13C5-51C9-4F11-8AF0-5835FB31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7F2A-57C9-4F40-865A-166C7DC8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73EC-700A-498A-A837-4C522DB4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C4F9-3FD8-4DFE-852A-A134FA41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E587-1C6B-4BA8-8D07-ED0C3385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99C5-B720-47C9-ACC9-6EAEDEEA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3D92-A12F-4E6C-A235-07FA8FA7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5FA6-E021-4F21-928D-F08CB949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F42B-0339-4DC5-BE2A-4CB35AE3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A6F9-54D5-48F9-851C-C504BA2B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3B7C-974B-4C54-A11F-754DDA78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D499-EBBE-4232-8B65-AE5099C7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7A06-F65C-4BBE-9B54-767FA9B0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1EB1-CF0A-4DE2-BAAB-5FC21DDD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9532-5124-4285-8416-0D577317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DB04-7E06-42DD-B6B9-475011ED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D6B9-5495-423C-861A-FAFBB768D74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CAC5-F8CB-41C2-BC78-3DF2435EBE3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9.jpeg"/><Relationship Id="rId5" Type="http://schemas.openxmlformats.org/officeDocument/2006/relationships/image" Target="../media/image4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9" descr="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«НАШИ ПОМОЩНИКИ»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Verdana"/>
              </a:rPr>
              <a:t>путеводитель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Verdana"/>
              </a:rPr>
              <a:t>по справочной литератур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18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j0300912"/>
          <p:cNvPicPr/>
          <p:nvPr/>
        </p:nvPicPr>
        <p:blipFill>
          <a:blip r:embed="rId3"/>
          <a:stretch/>
        </p:blipFill>
        <p:spPr>
          <a:xfrm>
            <a:off x="8385120" y="6137280"/>
            <a:ext cx="75888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пропущенное слов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о … бои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валится, тот с горы 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… глаза что плошки, а не видят ни крошк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сть … берё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лежачий камень и … не теч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ков бояться – в … не ходи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ШИ ПОМОЩНИКИ - ЭНЦИКЛОПЕДИ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Энциклопедия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– это научно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равочное пособие в форм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оваря по всем или отдельны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раслям знаний, адресованное либ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широким массам, либо специалистам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7" descr="книги2"/>
          <p:cNvPicPr/>
          <p:nvPr/>
        </p:nvPicPr>
        <p:blipFill>
          <a:blip r:embed="rId1"/>
          <a:stretch/>
        </p:blipFill>
        <p:spPr>
          <a:xfrm>
            <a:off x="2843280" y="4365720"/>
            <a:ext cx="3168720" cy="223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3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32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ШИ ПОМОЩНИКИ - ЭНЦИКЛОПЕДИ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ервоначально словом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энциклопедия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усском язык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зывали тольк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французскую «Энциклопедию, и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олковый словарь наук, искусств 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емесел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последствии это слов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тало нарицательным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435640" y="1844640"/>
            <a:ext cx="2736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Picture 9" descr="8с"/>
          <p:cNvPicPr/>
          <p:nvPr/>
        </p:nvPicPr>
        <p:blipFill>
          <a:blip r:embed="rId1"/>
          <a:stretch/>
        </p:blipFill>
        <p:spPr>
          <a:xfrm>
            <a:off x="5292720" y="1844640"/>
            <a:ext cx="316692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1" name="Picture 10" descr="слоник"/>
          <p:cNvPicPr/>
          <p:nvPr/>
        </p:nvPicPr>
        <p:blipFill>
          <a:blip r:embed="rId2"/>
          <a:stretch/>
        </p:blipFill>
        <p:spPr>
          <a:xfrm>
            <a:off x="8172360" y="5805360"/>
            <a:ext cx="9716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4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4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4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520"/>
                            </p:stCondLst>
                            <p:childTnLst>
                              <p:par>
                                <p:cTn id="4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4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6280"/>
                            </p:stCondLst>
                            <p:childTnLst>
                              <p:par>
                                <p:cTn id="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712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6" descr="к1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898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нциклопед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стественные        нау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хнические нау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ладные нау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щественные нау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2286000" y="29718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6" name="Picture 18" descr="слоник"/>
          <p:cNvPicPr/>
          <p:nvPr/>
        </p:nvPicPr>
        <p:blipFill>
          <a:blip r:embed="rId2"/>
          <a:stretch/>
        </p:blipFill>
        <p:spPr>
          <a:xfrm>
            <a:off x="0" y="5805360"/>
            <a:ext cx="971640" cy="10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4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4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ШИ ПОМОЩНИКИ - ЭНЦИКЛОПЕДИ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6920" y="2349360"/>
            <a:ext cx="8636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3280" y="1599840"/>
            <a:ext cx="4043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Энциклопедии бывают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разные. Те из них, что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могут ответить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на любой вопрос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называютс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универсальными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. Они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бывают и для взрослых, и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для детей. Например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это многотомная энциклопеди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«Я познаю мир»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«Всё обо всем», книги серии «Мо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первая энциклопедия»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Picture 6" descr="энц1"/>
          <p:cNvPicPr/>
          <p:nvPr/>
        </p:nvPicPr>
        <p:blipFill>
          <a:blip r:embed="rId1"/>
          <a:stretch/>
        </p:blipFill>
        <p:spPr>
          <a:xfrm>
            <a:off x="2411280" y="2781360"/>
            <a:ext cx="1944720" cy="180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1" name="Picture 7" descr="яс"/>
          <p:cNvPicPr/>
          <p:nvPr/>
        </p:nvPicPr>
        <p:blipFill>
          <a:blip r:embed="rId2"/>
          <a:stretch/>
        </p:blipFill>
        <p:spPr>
          <a:xfrm>
            <a:off x="755640" y="1628640"/>
            <a:ext cx="1368360" cy="18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2" name="Picture 8" descr="слоник"/>
          <p:cNvPicPr/>
          <p:nvPr/>
        </p:nvPicPr>
        <p:blipFill>
          <a:blip r:embed="rId3"/>
          <a:stretch/>
        </p:blipFill>
        <p:spPr>
          <a:xfrm>
            <a:off x="0" y="602136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5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5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5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3160"/>
                            </p:stCondLst>
                            <p:childTnLst>
                              <p:par>
                                <p:cTn id="5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3760"/>
                            </p:stCondLst>
                            <p:childTnLst>
                              <p:par>
                                <p:cTn id="5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5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4960"/>
                            </p:stCondLst>
                            <p:childTnLst>
                              <p:par>
                                <p:cTn id="5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5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6560"/>
                            </p:stCondLst>
                            <p:childTnLst>
                              <p:par>
                                <p:cTn id="5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5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5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9320"/>
                            </p:stCondLst>
                            <p:childTnLst>
                              <p:par>
                                <p:cTn id="5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ШИ ПОМОЩНИКИ - ЭНЦИКЛОПЕДИ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В других энциклопедиях материал собран по какой-то одной отрасли науки или деятельности. Такие энциклопедии называются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отраслевыми.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Например,  издательство «Росмэн» выпустило энциклопедии по темам «Наука», «История», «География»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51640" y="1773000"/>
            <a:ext cx="576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Picture 7" descr="22с"/>
          <p:cNvPicPr/>
          <p:nvPr/>
        </p:nvPicPr>
        <p:blipFill>
          <a:blip r:embed="rId1"/>
          <a:stretch/>
        </p:blipFill>
        <p:spPr>
          <a:xfrm>
            <a:off x="6227640" y="3645000"/>
            <a:ext cx="1368720" cy="180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7" name="Picture 8" descr="12с"/>
          <p:cNvPicPr/>
          <p:nvPr/>
        </p:nvPicPr>
        <p:blipFill>
          <a:blip r:embed="rId2"/>
          <a:stretch/>
        </p:blipFill>
        <p:spPr>
          <a:xfrm>
            <a:off x="7164360" y="1557360"/>
            <a:ext cx="1368360" cy="194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8" name="Picture 9" descr="энц"/>
          <p:cNvPicPr/>
          <p:nvPr/>
        </p:nvPicPr>
        <p:blipFill>
          <a:blip r:embed="rId3"/>
          <a:stretch/>
        </p:blipFill>
        <p:spPr>
          <a:xfrm>
            <a:off x="5076720" y="1557360"/>
            <a:ext cx="1366920" cy="194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9" name="Picture 11" descr="слоник"/>
          <p:cNvPicPr/>
          <p:nvPr/>
        </p:nvPicPr>
        <p:blipFill>
          <a:blip r:embed="rId4"/>
          <a:stretch/>
        </p:blipFill>
        <p:spPr>
          <a:xfrm>
            <a:off x="8388360" y="5877000"/>
            <a:ext cx="7556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5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6059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 устроены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      энциклопедии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последних страницах энциклопед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сположены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лфавитны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и предметный указатели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указател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имён, список терминов или понятий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их помощью гораздо легче и быстре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йти нужную информацию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2" name="Picture 5" descr="поиск инф"/>
          <p:cNvPicPr/>
          <p:nvPr/>
        </p:nvPicPr>
        <p:blipFill>
          <a:blip r:embed="rId1"/>
          <a:stretch/>
        </p:blipFill>
        <p:spPr>
          <a:xfrm>
            <a:off x="7236000" y="260280"/>
            <a:ext cx="1657080" cy="1800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слоник"/>
          <p:cNvPicPr/>
          <p:nvPr/>
        </p:nvPicPr>
        <p:blipFill>
          <a:blip r:embed="rId2"/>
          <a:stretch/>
        </p:blipFill>
        <p:spPr>
          <a:xfrm>
            <a:off x="179280" y="5805360"/>
            <a:ext cx="827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6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6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4920"/>
                            </p:stCondLst>
                            <p:childTnLst>
                              <p:par>
                                <p:cTn id="6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6160"/>
                            </p:stCondLst>
                            <p:childTnLst>
                              <p:par>
                                <p:cTn id="6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8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6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8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работать с энциклопедиями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начала нужно выбра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энциклопедию нужного направления (отрасли). 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Например, вопрос звучит так: «Когда и где жил древний ученый - математик Пифагор?»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ой том энциклопедии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м понадобится? </a:t>
            </a:r>
            <a:r>
              <a:rPr b="1" lang="ru-RU" sz="2800" spc="-1" strike="noStrike">
                <a:solidFill>
                  <a:srgbClr val="ffcc66"/>
                </a:solidFill>
                <a:latin typeface="Verdana"/>
              </a:rPr>
              <a:t>Математик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5" descr="слоник"/>
          <p:cNvPicPr/>
          <p:nvPr/>
        </p:nvPicPr>
        <p:blipFill>
          <a:blip r:embed="rId1"/>
          <a:stretch/>
        </p:blipFill>
        <p:spPr>
          <a:xfrm>
            <a:off x="8207280" y="5877000"/>
            <a:ext cx="9367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0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6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1160"/>
                            </p:stCondLst>
                            <p:childTnLst>
                              <p:par>
                                <p:cTn id="6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960"/>
                            </p:stCondLst>
                            <p:childTnLst>
                              <p:par>
                                <p:cTn id="6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работать с энциклопедией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ьмём энциклопедию п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атематике серии «Аванта+» 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кроем указатель имён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 алфавиту отыщем нужное нам  имя – 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Пифагор.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ядом с именем ученого мы увидим  номера страниц, на которых содержится  более подробная информация о нё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4" descr="слоник"/>
          <p:cNvPicPr/>
          <p:nvPr/>
        </p:nvPicPr>
        <p:blipFill>
          <a:blip r:embed="rId1"/>
          <a:stretch/>
        </p:blipFill>
        <p:spPr>
          <a:xfrm>
            <a:off x="0" y="5877000"/>
            <a:ext cx="9716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0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6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960"/>
                            </p:stCondLst>
                            <p:childTnLst>
                              <p:par>
                                <p:cTn id="6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3880"/>
                            </p:stCondLst>
                            <p:childTnLst>
                              <p:par>
                                <p:cTn id="6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работать с энциклопедией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, например, вопрос поставлен так: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«Что такое многогранник?»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ходим в этой же энциклопедии предметный указатель, а в нём по алфавиту – слово «многогранник». Рядом с этим словом – номер нужной нам страницы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4" descr="слоник"/>
          <p:cNvPicPr/>
          <p:nvPr/>
        </p:nvPicPr>
        <p:blipFill>
          <a:blip r:embed="rId1"/>
          <a:stretch/>
        </p:blipFill>
        <p:spPr>
          <a:xfrm>
            <a:off x="8207280" y="5877000"/>
            <a:ext cx="9367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7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ши помощники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ловар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50688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Verdana"/>
              </a:rPr>
              <a:t>Словарь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нига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торая содержит список сло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определениям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другими объяснениями ил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указаниям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их произношение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переводом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другие языки и т.д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10" descr="книги1"/>
          <p:cNvPicPr/>
          <p:nvPr/>
        </p:nvPicPr>
        <p:blipFill>
          <a:blip r:embed="rId1"/>
          <a:stretch/>
        </p:blipFill>
        <p:spPr>
          <a:xfrm>
            <a:off x="5508720" y="1844640"/>
            <a:ext cx="3240000" cy="295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5" name="Picture 13" descr="слоник"/>
          <p:cNvPicPr/>
          <p:nvPr/>
        </p:nvPicPr>
        <p:blipFill>
          <a:blip r:embed="rId2"/>
          <a:stretch/>
        </p:blipFill>
        <p:spPr>
          <a:xfrm>
            <a:off x="8136000" y="5661000"/>
            <a:ext cx="1008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6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16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64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36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ши помощники - справочник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равочник –  младший брат энциклопедии и словаря. Материал здесь расположен по отдельным темам. Одни справочники подскажут названия рек, морей, городов, другие расскажут о растениях, животных, кораблях или самолетах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Picture 4" descr="слоник"/>
          <p:cNvPicPr/>
          <p:nvPr/>
        </p:nvPicPr>
        <p:blipFill>
          <a:blip r:embed="rId1"/>
          <a:stretch/>
        </p:blipFill>
        <p:spPr>
          <a:xfrm>
            <a:off x="8207280" y="5877000"/>
            <a:ext cx="936720" cy="981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11с"/>
          <p:cNvPicPr/>
          <p:nvPr/>
        </p:nvPicPr>
        <p:blipFill>
          <a:blip r:embed="rId2"/>
          <a:stretch/>
        </p:blipFill>
        <p:spPr>
          <a:xfrm>
            <a:off x="1042920" y="4365720"/>
            <a:ext cx="1263600" cy="172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7" name="Picture 8" descr="спр1"/>
          <p:cNvPicPr/>
          <p:nvPr/>
        </p:nvPicPr>
        <p:blipFill>
          <a:blip r:embed="rId3"/>
          <a:stretch/>
        </p:blipFill>
        <p:spPr>
          <a:xfrm>
            <a:off x="6732720" y="4365720"/>
            <a:ext cx="1224000" cy="158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8" name="Picture 9" descr="справ2"/>
          <p:cNvPicPr/>
          <p:nvPr/>
        </p:nvPicPr>
        <p:blipFill>
          <a:blip r:embed="rId4"/>
          <a:stretch/>
        </p:blipFill>
        <p:spPr>
          <a:xfrm>
            <a:off x="4788000" y="4724280"/>
            <a:ext cx="1152360" cy="158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9" name="Picture 10" descr="справ1"/>
          <p:cNvPicPr/>
          <p:nvPr/>
        </p:nvPicPr>
        <p:blipFill>
          <a:blip r:embed="rId5"/>
          <a:stretch/>
        </p:blipFill>
        <p:spPr>
          <a:xfrm>
            <a:off x="3059280" y="4724280"/>
            <a:ext cx="1225440" cy="165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0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7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лектронные словари и энциклопед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427640" y="1844640"/>
            <a:ext cx="403848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Российский энциклопедический словар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Всемирный биографический энциклопедический словар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Всемирная история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 -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нтернет-издание энциклопедического словар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403280" y="3213000"/>
            <a:ext cx="1090800" cy="1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3" name="Picture 7" descr="слоник"/>
          <p:cNvPicPr/>
          <p:nvPr/>
        </p:nvPicPr>
        <p:blipFill>
          <a:blip r:embed="rId1"/>
          <a:stretch/>
        </p:blipFill>
        <p:spPr>
          <a:xfrm>
            <a:off x="0" y="5877000"/>
            <a:ext cx="900000" cy="981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энц9"/>
          <p:cNvPicPr/>
          <p:nvPr/>
        </p:nvPicPr>
        <p:blipFill>
          <a:blip r:embed="rId2"/>
          <a:stretch/>
        </p:blipFill>
        <p:spPr>
          <a:xfrm>
            <a:off x="250920" y="1844640"/>
            <a:ext cx="230508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55" name="Picture 11" descr="энц5"/>
          <p:cNvPicPr/>
          <p:nvPr/>
        </p:nvPicPr>
        <p:blipFill>
          <a:blip r:embed="rId3"/>
          <a:stretch/>
        </p:blipFill>
        <p:spPr>
          <a:xfrm>
            <a:off x="2411280" y="4005360"/>
            <a:ext cx="1729080" cy="20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0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7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7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8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7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лектронные словари и энциклопед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40435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Энциклопедический словарь Брокгауза и Ефро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Энциклопедия «Мифы народов мира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Энциклопедия «Народы и религии мира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8" name="Picture 8" descr="энц2"/>
          <p:cNvPicPr/>
          <p:nvPr/>
        </p:nvPicPr>
        <p:blipFill>
          <a:blip r:embed="rId1"/>
          <a:stretch/>
        </p:blipFill>
        <p:spPr>
          <a:xfrm>
            <a:off x="7020000" y="3429000"/>
            <a:ext cx="1728720" cy="172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59" name="Picture 10" descr="энц8"/>
          <p:cNvPicPr/>
          <p:nvPr/>
        </p:nvPicPr>
        <p:blipFill>
          <a:blip r:embed="rId2"/>
          <a:stretch/>
        </p:blipFill>
        <p:spPr>
          <a:xfrm rot="21438600">
            <a:off x="5000760" y="1628640"/>
            <a:ext cx="1793880" cy="1871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60" name="Picture 11" descr="слоник"/>
          <p:cNvPicPr/>
          <p:nvPr/>
        </p:nvPicPr>
        <p:blipFill>
          <a:blip r:embed="rId3"/>
          <a:stretch/>
        </p:blipFill>
        <p:spPr>
          <a:xfrm>
            <a:off x="8209080" y="5877000"/>
            <a:ext cx="934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0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7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7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6" dur="8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4120"/>
                            </p:stCondLst>
                            <p:childTnLst>
                              <p:par>
                                <p:cTn id="7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0" dur="8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8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356000" y="1989000"/>
            <a:ext cx="1224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4" descr="5с"/>
          <p:cNvPicPr/>
          <p:nvPr/>
        </p:nvPicPr>
        <p:blipFill>
          <a:blip r:embed="rId1"/>
          <a:stretch/>
        </p:blipFill>
        <p:spPr>
          <a:xfrm>
            <a:off x="395280" y="476280"/>
            <a:ext cx="1944720" cy="194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63" name="Picture 5" descr="127с"/>
          <p:cNvPicPr/>
          <p:nvPr/>
        </p:nvPicPr>
        <p:blipFill>
          <a:blip r:embed="rId2"/>
          <a:stretch/>
        </p:blipFill>
        <p:spPr>
          <a:xfrm>
            <a:off x="684360" y="3068640"/>
            <a:ext cx="1944720" cy="194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64" name="Picture 6" descr="энц11"/>
          <p:cNvPicPr/>
          <p:nvPr/>
        </p:nvPicPr>
        <p:blipFill>
          <a:blip r:embed="rId3"/>
          <a:stretch/>
        </p:blipFill>
        <p:spPr>
          <a:xfrm>
            <a:off x="3708360" y="4653000"/>
            <a:ext cx="2158920" cy="194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65" name="Picture 7" descr="энц7"/>
          <p:cNvPicPr/>
          <p:nvPr/>
        </p:nvPicPr>
        <p:blipFill>
          <a:blip r:embed="rId4"/>
          <a:stretch/>
        </p:blipFill>
        <p:spPr>
          <a:xfrm>
            <a:off x="6948360" y="476280"/>
            <a:ext cx="1873440" cy="179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66" name="Oval 10"/>
          <p:cNvSpPr/>
          <p:nvPr/>
        </p:nvSpPr>
        <p:spPr>
          <a:xfrm>
            <a:off x="3059280" y="1628640"/>
            <a:ext cx="3240000" cy="27082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Oval 11"/>
          <p:cNvSpPr/>
          <p:nvPr/>
        </p:nvSpPr>
        <p:spPr>
          <a:xfrm>
            <a:off x="3924360" y="5373720"/>
            <a:ext cx="230328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спомним всё!</a:t>
            </a:r>
            <a:br>
              <a:rPr sz="40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Блиц - опрос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Picture 14" descr="энц2"/>
          <p:cNvPicPr/>
          <p:nvPr/>
        </p:nvPicPr>
        <p:blipFill>
          <a:blip r:embed="rId6"/>
          <a:stretch/>
        </p:blipFill>
        <p:spPr>
          <a:xfrm>
            <a:off x="6804000" y="3141720"/>
            <a:ext cx="2016000" cy="1871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0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ЕСЁЛЫЕ ЗАДАЧК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03280" y="1600200"/>
            <a:ext cx="37450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ван-царевич и ег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ратья пуска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трелы. Три стрел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пали на купеческ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вор, четыре – 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оярский, а восем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летели 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еизвестн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правлен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колько стре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ыпустили братья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5" descr="иван2"/>
          <p:cNvPicPr/>
          <p:nvPr/>
        </p:nvPicPr>
        <p:blipFill>
          <a:blip r:embed="rId1"/>
          <a:stretch/>
        </p:blipFill>
        <p:spPr>
          <a:xfrm>
            <a:off x="1403280" y="1989000"/>
            <a:ext cx="2165400" cy="2735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74" name="Picture 6" descr="слоник"/>
          <p:cNvPicPr/>
          <p:nvPr/>
        </p:nvPicPr>
        <p:blipFill>
          <a:blip r:embed="rId2"/>
          <a:stretch/>
        </p:blipFill>
        <p:spPr>
          <a:xfrm>
            <a:off x="0" y="5661000"/>
            <a:ext cx="9954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0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4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8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1" dur="8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8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8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6" dur="8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7" dur="8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8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2520"/>
                            </p:stCondLst>
                            <p:childTnLst>
                              <p:par>
                                <p:cTn id="8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8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8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8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3840"/>
                            </p:stCondLst>
                            <p:childTnLst>
                              <p:par>
                                <p:cTn id="8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4" dur="8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8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4520"/>
                            </p:stCondLst>
                            <p:childTnLst>
                              <p:par>
                                <p:cTn id="8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0" dur="8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2" dur="8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8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6" dur="8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8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5360"/>
                            </p:stCondLst>
                            <p:childTnLst>
                              <p:par>
                                <p:cTn id="8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2" dur="8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4" dur="8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8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8" dur="80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9" dur="80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0" dur="80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4" dur="8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5" dur="8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6" dur="8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ЕСЁЛЫЕ ЗАДАЧК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Фрекен Бок испекл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кусные плюшки 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шла смотре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ередачу 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ивидениях. В кухню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летел Карлсон, съе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8 плюшек сам, а 6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тнёс Малышу. Скольк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люшек недосчитаетс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фрекен Бок, когд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ернётся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7" name="Picture 4" descr="карлсон1"/>
          <p:cNvPicPr/>
          <p:nvPr/>
        </p:nvPicPr>
        <p:blipFill>
          <a:blip r:embed="rId1"/>
          <a:stretch/>
        </p:blipFill>
        <p:spPr>
          <a:xfrm>
            <a:off x="5292720" y="2205000"/>
            <a:ext cx="2735280" cy="295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78" name="Picture 5" descr="слоник"/>
          <p:cNvPicPr/>
          <p:nvPr/>
        </p:nvPicPr>
        <p:blipFill>
          <a:blip r:embed="rId2"/>
          <a:stretch/>
        </p:blipFill>
        <p:spPr>
          <a:xfrm>
            <a:off x="8172360" y="5805360"/>
            <a:ext cx="9716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0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3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5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9" dur="8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0" dur="8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1" dur="8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8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6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7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8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8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8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9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7" dur="8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9" dur="8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2840"/>
                            </p:stCondLst>
                            <p:childTnLst>
                              <p:par>
                                <p:cTn id="9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4" dur="8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8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9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4360"/>
                            </p:stCondLst>
                            <p:childTnLst>
                              <p:par>
                                <p:cTn id="9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7" dur="8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4960"/>
                            </p:stCondLst>
                            <p:childTnLst>
                              <p:par>
                                <p:cTn id="9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1" dur="8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2" dur="8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8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5760"/>
                            </p:stCondLst>
                            <p:childTnLst>
                              <p:par>
                                <p:cTn id="9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7" dur="8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9" dur="8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6560"/>
                            </p:stCondLst>
                            <p:childTnLst>
                              <p:par>
                                <p:cTn id="9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3" dur="8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5" dur="8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9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9" dur="8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1" dur="8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ЕСЁЛЫЕ ЗАДАЧК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 день рождения ослика Винни-Пух реши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дарить ему несколько горшочков мёда. Дом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 Пуха было 25 горшочков мёда. Мёд из 1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горшочков он тут же съел, а остальные захвати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 собой. По дороге он съел мёд ещё из тре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колько горшочков мёда всё-таки получил 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дарок  ослик Иа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1" name="Picture 4" descr="Винни1"/>
          <p:cNvPicPr/>
          <p:nvPr/>
        </p:nvPicPr>
        <p:blipFill>
          <a:blip r:embed="rId1"/>
          <a:stretch/>
        </p:blipFill>
        <p:spPr>
          <a:xfrm>
            <a:off x="4140360" y="4365720"/>
            <a:ext cx="3816360" cy="223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82" name="Picture 5" descr="слоник"/>
          <p:cNvPicPr/>
          <p:nvPr/>
        </p:nvPicPr>
        <p:blipFill>
          <a:blip r:embed="rId2"/>
          <a:stretch/>
        </p:blipFill>
        <p:spPr>
          <a:xfrm>
            <a:off x="0" y="5805360"/>
            <a:ext cx="9000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0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8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9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0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5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0" dur="8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1" dur="8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8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3560"/>
                            </p:stCondLst>
                            <p:childTnLst>
                              <p:par>
                                <p:cTn id="9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6" dur="8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8" dur="8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9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2" dur="8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3" dur="8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4" dur="8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6480"/>
                            </p:stCondLst>
                            <p:childTnLst>
                              <p:par>
                                <p:cTn id="9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8" dur="8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9" dur="8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0" dur="8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9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4" dur="8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5" dur="8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6" dur="8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9360"/>
                            </p:stCondLst>
                            <p:childTnLst>
                              <p:par>
                                <p:cTn id="9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0" dur="8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1" dur="8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2" dur="8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есёлые задач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140360" y="1599840"/>
            <a:ext cx="42480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ля свой дневник 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войками закопал 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лубину 5 м, а Тол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глубину 12 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сколько метр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лубже закопал сво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невник Толя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5" name="Picture 4" descr="поиск инф"/>
          <p:cNvPicPr/>
          <p:nvPr/>
        </p:nvPicPr>
        <p:blipFill>
          <a:blip r:embed="rId1"/>
          <a:stretch/>
        </p:blipFill>
        <p:spPr>
          <a:xfrm>
            <a:off x="971640" y="1773360"/>
            <a:ext cx="2232000" cy="259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86" name="Picture 5" descr="слоник"/>
          <p:cNvPicPr/>
          <p:nvPr/>
        </p:nvPicPr>
        <p:blipFill>
          <a:blip r:embed="rId2"/>
          <a:stretch/>
        </p:blipFill>
        <p:spPr>
          <a:xfrm>
            <a:off x="8172360" y="5805360"/>
            <a:ext cx="9716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0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9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0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1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0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5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6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7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10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1" dur="8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2" dur="8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8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7" dur="8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8" dur="8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9" dur="8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10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3" dur="8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4" dur="8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8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0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1" dur="8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3840"/>
                            </p:stCondLst>
                            <p:childTnLst>
                              <p:par>
                                <p:cTn id="10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5" dur="8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6" dur="8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7" dur="8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4560"/>
                            </p:stCondLst>
                            <p:childTnLst>
                              <p:par>
                                <p:cTn id="10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2" dur="8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3" dur="8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 новых встреч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7129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Читайте! И пусть в вашей жизни н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будет ни одного дня, когда бы вы н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прочли ни одной строчки, хоть одно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странички из новой книги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7072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К.Г. Паустовски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4" descr="слоник2"/>
          <p:cNvPicPr/>
          <p:nvPr/>
        </p:nvPicPr>
        <p:blipFill>
          <a:blip r:embed="rId1"/>
          <a:stretch/>
        </p:blipFill>
        <p:spPr>
          <a:xfrm>
            <a:off x="8028000" y="5516640"/>
            <a:ext cx="1116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0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1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0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10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2" dur="8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3" dur="8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4" dur="8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10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8" dur="8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9" dur="8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0" dur="8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4120"/>
                            </p:stCondLst>
                            <p:childTnLst>
                              <p:par>
                                <p:cTn id="10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4" dur="8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5" dur="8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8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5040"/>
                            </p:stCondLst>
                            <p:childTnLst>
                              <p:par>
                                <p:cTn id="10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0" dur="8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1" dur="8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2" dur="8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ши помощники - словар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ервые словари 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ЗБУКОВНИ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356000" y="1599840"/>
            <a:ext cx="4330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ревнейший сохранившийс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 нашего времени азбуковник 1282 года содержит 174 греческих, древнееврейских и церковно-славянских слова.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9" descr="книгидр"/>
          <p:cNvPicPr/>
          <p:nvPr/>
        </p:nvPicPr>
        <p:blipFill>
          <a:blip r:embed="rId1"/>
          <a:stretch/>
        </p:blipFill>
        <p:spPr>
          <a:xfrm>
            <a:off x="971640" y="2133720"/>
            <a:ext cx="2952720" cy="2590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70" name="Picture 11" descr="слоник"/>
          <p:cNvPicPr/>
          <p:nvPr/>
        </p:nvPicPr>
        <p:blipFill>
          <a:blip r:embed="rId2"/>
          <a:stretch/>
        </p:blipFill>
        <p:spPr>
          <a:xfrm>
            <a:off x="0" y="5661000"/>
            <a:ext cx="1116000" cy="11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48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96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ши помощники - словар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азное время на Руси выходили в свет печатные словар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ни назывались лексиконам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амый последни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з них – словар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етра  Алексеева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ыдержал 4 издани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 содержал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0 000 сл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ечатные словари –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ЛЕКСИКОН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6" descr="126с"/>
          <p:cNvPicPr/>
          <p:nvPr/>
        </p:nvPicPr>
        <p:blipFill>
          <a:blip r:embed="rId1"/>
          <a:stretch/>
        </p:blipFill>
        <p:spPr>
          <a:xfrm>
            <a:off x="5076720" y="2349360"/>
            <a:ext cx="3024360" cy="266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75" name="Picture 9" descr="слоник"/>
          <p:cNvPicPr/>
          <p:nvPr/>
        </p:nvPicPr>
        <p:blipFill>
          <a:blip r:embed="rId2"/>
          <a:stretch/>
        </p:blipFill>
        <p:spPr>
          <a:xfrm>
            <a:off x="8101080" y="5661000"/>
            <a:ext cx="1042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56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96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388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92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52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608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672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ши помощники - словар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кадемические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ловар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1783 году была создана Российская Академия наук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явились «Словарь Академии Российской», который содержал более 43 тысяч слов, четырехтомный «Словарь церковно-славянского и русского языка»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(114 тысяч слов)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8" descr="энц7"/>
          <p:cNvPicPr/>
          <p:nvPr/>
        </p:nvPicPr>
        <p:blipFill>
          <a:blip r:embed="rId1"/>
          <a:stretch/>
        </p:blipFill>
        <p:spPr>
          <a:xfrm>
            <a:off x="826920" y="2060640"/>
            <a:ext cx="3240360" cy="2663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80" name="Picture 18" descr="слоник"/>
          <p:cNvPicPr/>
          <p:nvPr/>
        </p:nvPicPr>
        <p:blipFill>
          <a:blip r:embed="rId2"/>
          <a:stretch/>
        </p:blipFill>
        <p:spPr>
          <a:xfrm>
            <a:off x="179280" y="5877000"/>
            <a:ext cx="90036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352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8560"/>
                            </p:stCondLst>
                            <p:childTnLst>
                              <p:par>
                                <p:cTn id="2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ши помощники - словар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1863-1866 годах вышло первое издание «Толкового словаря живого великорусского языка» Владимира Ивановича Даля. Над этим замечательным, уникальным памятником русского языка и русской культуры автор беззаветно трудился около 50 лет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012000" y="2205000"/>
            <a:ext cx="1800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9" descr="слоник"/>
          <p:cNvPicPr/>
          <p:nvPr/>
        </p:nvPicPr>
        <p:blipFill>
          <a:blip r:embed="rId1"/>
          <a:stretch/>
        </p:blipFill>
        <p:spPr>
          <a:xfrm>
            <a:off x="8244000" y="5805360"/>
            <a:ext cx="900000" cy="1052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2" descr="Даль1"/>
          <p:cNvPicPr/>
          <p:nvPr/>
        </p:nvPicPr>
        <p:blipFill>
          <a:blip r:embed="rId2"/>
          <a:stretch/>
        </p:blipFill>
        <p:spPr>
          <a:xfrm>
            <a:off x="5508720" y="1916280"/>
            <a:ext cx="2351160" cy="280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ши помощники - словар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олковые словари, выпущенные  под редакцией Дмитрия Николаевича Ушакова и Сергея Ивановича Ожегова содержат новые слова, уточняют толковани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ногих сл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.Н. Уша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.И. Ожег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7" descr="Ушаков1"/>
          <p:cNvPicPr/>
          <p:nvPr/>
        </p:nvPicPr>
        <p:blipFill>
          <a:blip r:embed="rId1"/>
          <a:stretch/>
        </p:blipFill>
        <p:spPr>
          <a:xfrm>
            <a:off x="6516720" y="1628640"/>
            <a:ext cx="1584360" cy="1513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0" name="Picture 8" descr="Ушаков2"/>
          <p:cNvPicPr/>
          <p:nvPr/>
        </p:nvPicPr>
        <p:blipFill>
          <a:blip r:embed="rId2"/>
          <a:stretch/>
        </p:blipFill>
        <p:spPr>
          <a:xfrm>
            <a:off x="4716360" y="1557360"/>
            <a:ext cx="1440000" cy="18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1" name="Picture 10" descr="Ожегов2"/>
          <p:cNvPicPr/>
          <p:nvPr/>
        </p:nvPicPr>
        <p:blipFill>
          <a:blip r:embed="rId3"/>
          <a:stretch/>
        </p:blipFill>
        <p:spPr>
          <a:xfrm>
            <a:off x="4788000" y="4005360"/>
            <a:ext cx="1439640" cy="129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2" name="Picture 11" descr="Ожегов1"/>
          <p:cNvPicPr/>
          <p:nvPr/>
        </p:nvPicPr>
        <p:blipFill>
          <a:blip r:embed="rId4"/>
          <a:stretch/>
        </p:blipFill>
        <p:spPr>
          <a:xfrm>
            <a:off x="6948360" y="4005360"/>
            <a:ext cx="1295640" cy="143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3" name="Picture 13" descr="слоник"/>
          <p:cNvPicPr/>
          <p:nvPr/>
        </p:nvPicPr>
        <p:blipFill>
          <a:blip r:embed="rId5"/>
          <a:stretch/>
        </p:blipFill>
        <p:spPr>
          <a:xfrm>
            <a:off x="0" y="5734080"/>
            <a:ext cx="9716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672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кие бывают словари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рфографический словар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лковый словар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оварь иностранных сл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Фразеологический словар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рфоэпический словар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14" descr="слоник"/>
          <p:cNvPicPr/>
          <p:nvPr/>
        </p:nvPicPr>
        <p:blipFill>
          <a:blip r:embed="rId1"/>
          <a:stretch/>
        </p:blipFill>
        <p:spPr>
          <a:xfrm>
            <a:off x="8172360" y="5805360"/>
            <a:ext cx="971640" cy="1052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" descr="4с"/>
          <p:cNvPicPr/>
          <p:nvPr/>
        </p:nvPicPr>
        <p:blipFill>
          <a:blip r:embed="rId2"/>
          <a:stretch/>
        </p:blipFill>
        <p:spPr>
          <a:xfrm>
            <a:off x="5292720" y="1628640"/>
            <a:ext cx="1368360" cy="18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8" name="Picture 17" descr="6с"/>
          <p:cNvPicPr/>
          <p:nvPr/>
        </p:nvPicPr>
        <p:blipFill>
          <a:blip r:embed="rId3"/>
          <a:stretch/>
        </p:blipFill>
        <p:spPr>
          <a:xfrm>
            <a:off x="7164360" y="2565360"/>
            <a:ext cx="1368360" cy="187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9" name="Picture 18" descr="7с"/>
          <p:cNvPicPr/>
          <p:nvPr/>
        </p:nvPicPr>
        <p:blipFill>
          <a:blip r:embed="rId4"/>
          <a:stretch/>
        </p:blipFill>
        <p:spPr>
          <a:xfrm>
            <a:off x="5219640" y="3933720"/>
            <a:ext cx="1440000" cy="18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2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2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3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должи пословиц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учи безделью, а учи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рукоделью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 человека кормит, а лень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портит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рой другому яму, сам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в неё попадешь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авда в огне не горит, в воде 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не тонет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ишь кататься, люби и 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саночки возить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6:47:56Z</dcterms:created>
  <dc:creator>ЛЕНА</dc:creator>
  <dc:description/>
  <dc:language>en-US</dc:language>
  <cp:lastModifiedBy>ИРИНА</cp:lastModifiedBy>
  <dcterms:modified xsi:type="dcterms:W3CDTF">2017-09-22T01:32:27Z</dcterms:modified>
  <cp:revision>87</cp:revision>
  <dc:subject/>
  <dc:title> «НАШИ ПОМОЩНИКИ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