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E327-BB4C-45AC-898C-9A9C7C007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4311-9A03-4FCC-B43D-8CD65EEB6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C091-536D-43FE-815A-6219B3548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220A-4185-4B6E-90AA-4037F4237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BCE2F-149E-4AD0-82CE-D05247C5A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A1288-A017-4D28-9FF2-15B477CAA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7FC14-8894-4E32-9295-80430427C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15B12-2EA1-49ED-8EAA-7A370DDB4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54246-232D-41E7-AD41-C2D212777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2D188-A325-4503-B7D5-66DB17477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5BB7E-A256-45E7-A817-258611A4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4F34-3DBC-42FE-885B-7F9C49938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342DC-FFFB-4E2E-9B3E-69CF34F8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F8B87-6A96-451E-821D-7BC8C729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1264E-9343-4ECE-ADC9-F86FB51F5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0C781-5063-4491-9A42-EDC8A9899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8C83E-3FEF-49B9-A547-246675076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5B29-CC78-4E03-B5A8-DA1A34346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3682-0EDD-4FC0-8D6E-F7BA310F1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7009-00AD-4123-84CD-2F9F7C743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3043-F4E7-476A-BAF1-60BF5246D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7A7D-0E57-498B-AACE-84C3857D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5558-0310-412E-AF0B-C2AAADAB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2E65-BF2D-41DD-AE4A-1E9CD14A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D1A5C-557A-4987-B912-9452B2565A2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31DAE-3E42-4E33-AF99-97FCBF30C78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Это – я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4389120" cy="4535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932360" y="1906560"/>
            <a:ext cx="352728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Monotype Corsiva"/>
              </a:rPr>
              <a:t>Я – Луковка Прекрас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Monotype Corsiva"/>
              </a:rPr>
              <a:t>Зовут меня Лукерь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Monotype Corsiva"/>
              </a:rPr>
              <a:t>К тому же витаминна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Monotype Corsiva"/>
              </a:rPr>
              <a:t>Попробуй мои перья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Monotype Corsiva"/>
              </a:rPr>
              <a:t>На вкус, хоть я и горька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Monotype Corsiva"/>
              </a:rPr>
              <a:t>Но всё ж отменно ценная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3672000" cy="3456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788000" y="260280"/>
            <a:ext cx="3941640" cy="3456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68360" y="4282920"/>
            <a:ext cx="84963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Прежде чем меня разделать,           Иль одень очки на нос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Смой с лица всю штукатурку,        Чтоб от слёз он не отсох !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156360" y="476280"/>
            <a:ext cx="2735280" cy="2952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24000" y="476280"/>
            <a:ext cx="2592360" cy="28814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2916360" y="836640"/>
            <a:ext cx="3240000" cy="30970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4932360" y="3573360"/>
            <a:ext cx="4032360" cy="3168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0" y="3429000"/>
            <a:ext cx="3924360" cy="3429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 rot="16931400">
            <a:off x="2244600" y="2536200"/>
            <a:ext cx="1832040" cy="2959200"/>
          </a:xfrm>
          <a:prstGeom prst="flowChartMagneticTap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3500280"/>
            <a:ext cx="251964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Обалденно            вкусно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animClr clrSpc="rgb">
                                      <p:cBhvr>
                                        <p:cTn id="7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set>
                                      <p:cBhvr>
                                        <p:cTn id="77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7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195640" y="1413000"/>
            <a:ext cx="5040360" cy="396072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4643280" y="4292640"/>
            <a:ext cx="4500720" cy="2376360"/>
          </a:xfrm>
          <a:prstGeom prst="irregularSeal1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80000" y="5218200"/>
            <a:ext cx="2952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Приятного аппетита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8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77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770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6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Monotype Corsiva"/>
              </a:rPr>
              <a:t>Я - Доктор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3384360" cy="36003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427640" y="1844640"/>
            <a:ext cx="396072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Monotype Corsiva"/>
              </a:rPr>
              <a:t>Я – лук, я – Чиполли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Monotype Corsiva"/>
              </a:rPr>
              <a:t>Весёлый, озорн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Monotype Corsiva"/>
              </a:rPr>
              <a:t>Простуды и анги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Monotype Corsiva"/>
              </a:rPr>
              <a:t>Не справятся со мной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77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770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77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770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2808360" cy="3527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924360" y="2060640"/>
            <a:ext cx="460836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Я Лук-  Я Чиполлино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Но всё же я умё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Побольше принца глупог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По имени Лимо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77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770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8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0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3357360" cy="43909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371840" y="2122560"/>
            <a:ext cx="387216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Вот лучок зелёный я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Листики ,как перь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Говорю теперь я ва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До скорого свидания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5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6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)"/>
                                      </p:to>
                                    </p:set>
                                    <p:set>
                                      <p:cBhvr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)"/>
                                      </p:to>
                                    </p:set>
                                    <p:set>
                                      <p:cBhvr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3:53:26Z</dcterms:created>
  <dc:creator>user</dc:creator>
  <dc:description/>
  <dc:language>en-US</dc:language>
  <cp:lastModifiedBy>User</cp:lastModifiedBy>
  <dcterms:modified xsi:type="dcterms:W3CDTF">2017-09-24T05:52:02Z</dcterms:modified>
  <cp:revision>6</cp:revision>
  <dc:subject/>
  <dc:title>Слайд 1</dc:title>
</cp:coreProperties>
</file>