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81C-76EA-467A-8153-4BB3E0491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0ECB-C665-47DE-B46B-D14C8B97E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3C7-0348-4738-8A0E-9FF8CF6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ED3-EBF8-4D8D-9C0F-4DC0ED22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1B-6A02-4DA7-8271-690C536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604-6E13-41C5-901B-2BAD1990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F6B-7372-4154-A754-0959547A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043-3140-4386-958A-BB6FC49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63D-B0DF-46B4-82F3-8BD31B7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3AA-E218-40EF-802A-50B757A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D57-9754-4770-974F-65B9FDB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0E9-F94F-4F45-8F85-DD1E98E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6B9-63D2-4610-A5CB-E810327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25C-70AC-4E51-84DC-C94B4D7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D4D-2256-40DF-A172-48C83C277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981000"/>
            <a:ext cx="7417080" cy="46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езентация по теме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Прямоугольный параллелепипед"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2843280" y="1268280"/>
            <a:ext cx="1332000" cy="33861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95280" y="256536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539640" y="4869000"/>
            <a:ext cx="3024360" cy="172872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788000" y="1628640"/>
            <a:ext cx="2232000" cy="115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804000" y="206064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788000" y="3789360"/>
            <a:ext cx="1512720" cy="151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6659640" y="4724280"/>
            <a:ext cx="1942920" cy="1943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-181080" y="260280"/>
            <a:ext cx="442764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ъемные фигур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4716360" y="260280"/>
            <a:ext cx="424656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ские фигу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-181080" y="549360"/>
            <a:ext cx="88329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ямоугольный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раллелепипед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716360" y="4581360"/>
            <a:ext cx="3024360" cy="172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5148360" y="83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6 гра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684360" y="2347920"/>
            <a:ext cx="2592360" cy="3745080"/>
          </a:xfrm>
          <a:prstGeom prst="rect">
            <a:avLst/>
          </a:prstGeom>
          <a:solidFill>
            <a:srgbClr val="009999">
              <a:alpha val="37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684360" y="1700280"/>
            <a:ext cx="3456000" cy="647640"/>
          </a:xfrm>
          <a:prstGeom prst="parallelogram">
            <a:avLst>
              <a:gd name="adj" fmla="val 13340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4140360" y="1700280"/>
            <a:ext cx="0" cy="37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7"/>
          <p:cNvSpPr/>
          <p:nvPr/>
        </p:nvSpPr>
        <p:spPr>
          <a:xfrm flipV="1">
            <a:off x="3276720" y="5445000"/>
            <a:ext cx="863640" cy="648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8"/>
          <p:cNvSpPr/>
          <p:nvPr/>
        </p:nvSpPr>
        <p:spPr>
          <a:xfrm flipV="1">
            <a:off x="684360" y="5445000"/>
            <a:ext cx="863280" cy="64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>
            <a:off x="1547640" y="1700280"/>
            <a:ext cx="0" cy="374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1547640" y="544500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2050560" y="1197000"/>
            <a:ext cx="309564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219640" y="206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2 рё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4"/>
          <p:cNvSpPr/>
          <p:nvPr/>
        </p:nvSpPr>
        <p:spPr>
          <a:xfrm flipH="1">
            <a:off x="4140000" y="234936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 flipH="1">
            <a:off x="3564000" y="2349360"/>
            <a:ext cx="1728720" cy="352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6"/>
          <p:cNvSpPr/>
          <p:nvPr/>
        </p:nvSpPr>
        <p:spPr>
          <a:xfrm flipH="1">
            <a:off x="1618920" y="2421000"/>
            <a:ext cx="3600360" cy="36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5148360" y="3068640"/>
            <a:ext cx="3671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8 вер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(обозначены на рисунке -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1"/>
          <p:cNvSpPr/>
          <p:nvPr/>
        </p:nvSpPr>
        <p:spPr>
          <a:xfrm>
            <a:off x="61128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2"/>
          <p:cNvSpPr/>
          <p:nvPr/>
        </p:nvSpPr>
        <p:spPr>
          <a:xfrm>
            <a:off x="147636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3"/>
          <p:cNvSpPr/>
          <p:nvPr/>
        </p:nvSpPr>
        <p:spPr>
          <a:xfrm>
            <a:off x="406728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4"/>
          <p:cNvSpPr/>
          <p:nvPr/>
        </p:nvSpPr>
        <p:spPr>
          <a:xfrm>
            <a:off x="4067280" y="537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5"/>
          <p:cNvSpPr/>
          <p:nvPr/>
        </p:nvSpPr>
        <p:spPr>
          <a:xfrm>
            <a:off x="611280" y="602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6"/>
          <p:cNvSpPr/>
          <p:nvPr/>
        </p:nvSpPr>
        <p:spPr>
          <a:xfrm>
            <a:off x="1476360" y="537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7"/>
          <p:cNvSpPr/>
          <p:nvPr/>
        </p:nvSpPr>
        <p:spPr>
          <a:xfrm>
            <a:off x="3203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8"/>
          <p:cNvSpPr/>
          <p:nvPr/>
        </p:nvSpPr>
        <p:spPr>
          <a:xfrm>
            <a:off x="3203640" y="602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9"/>
          <p:cNvSpPr/>
          <p:nvPr/>
        </p:nvSpPr>
        <p:spPr>
          <a:xfrm>
            <a:off x="6948360" y="4149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3059280" y="2133720"/>
            <a:ext cx="4105080" cy="4103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611280" y="549360"/>
            <a:ext cx="417492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 Antiqua"/>
              </a:rPr>
              <a:t>КУ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8"/>
          <p:cNvGrpSpPr/>
          <p:nvPr/>
        </p:nvGrpSpPr>
        <p:grpSpPr>
          <a:xfrm>
            <a:off x="1187280" y="620640"/>
            <a:ext cx="2448000" cy="1312920"/>
            <a:chOff x="1187280" y="620640"/>
            <a:chExt cx="2448000" cy="1312920"/>
          </a:xfrm>
        </p:grpSpPr>
        <p:sp>
          <p:nvSpPr>
            <p:cNvPr id="87" name="Rectangle 4"/>
            <p:cNvSpPr/>
            <p:nvPr/>
          </p:nvSpPr>
          <p:spPr>
            <a:xfrm>
              <a:off x="1187280" y="765000"/>
              <a:ext cx="2448000" cy="1008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1908000" y="620640"/>
              <a:ext cx="64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9"/>
          <p:cNvGrpSpPr/>
          <p:nvPr/>
        </p:nvGrpSpPr>
        <p:grpSpPr>
          <a:xfrm>
            <a:off x="4643280" y="260280"/>
            <a:ext cx="1511280" cy="3024360"/>
            <a:chOff x="4643280" y="260280"/>
            <a:chExt cx="1511280" cy="3024360"/>
          </a:xfrm>
        </p:grpSpPr>
        <p:sp>
          <p:nvSpPr>
            <p:cNvPr id="90" name="AutoShape 5"/>
            <p:cNvSpPr/>
            <p:nvPr/>
          </p:nvSpPr>
          <p:spPr>
            <a:xfrm>
              <a:off x="4643280" y="260280"/>
              <a:ext cx="1511280" cy="30243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5076720" y="1341360"/>
              <a:ext cx="64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84720" y="4005360"/>
            <a:ext cx="1942920" cy="2305080"/>
            <a:chOff x="4284720" y="4005360"/>
            <a:chExt cx="1942920" cy="2305080"/>
          </a:xfrm>
        </p:grpSpPr>
        <p:sp>
          <p:nvSpPr>
            <p:cNvPr id="93" name="AutoShape 10"/>
            <p:cNvSpPr/>
            <p:nvPr/>
          </p:nvSpPr>
          <p:spPr>
            <a:xfrm>
              <a:off x="4284720" y="4005360"/>
              <a:ext cx="1942920" cy="230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4932360" y="486900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1"/>
          <p:cNvGrpSpPr/>
          <p:nvPr/>
        </p:nvGrpSpPr>
        <p:grpSpPr>
          <a:xfrm>
            <a:off x="539640" y="3068640"/>
            <a:ext cx="3745080" cy="1457280"/>
            <a:chOff x="539640" y="3068640"/>
            <a:chExt cx="3745080" cy="1457280"/>
          </a:xfrm>
        </p:grpSpPr>
        <p:sp>
          <p:nvSpPr>
            <p:cNvPr id="96" name="AutoShape 7"/>
            <p:cNvSpPr/>
            <p:nvPr/>
          </p:nvSpPr>
          <p:spPr>
            <a:xfrm>
              <a:off x="539640" y="3068640"/>
              <a:ext cx="3745080" cy="1295280"/>
            </a:xfrm>
            <a:prstGeom prst="cube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050920" y="3213000"/>
              <a:ext cx="72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6877080" y="1197000"/>
            <a:ext cx="1871640" cy="2854440"/>
            <a:chOff x="6877080" y="1197000"/>
            <a:chExt cx="1871640" cy="2854440"/>
          </a:xfrm>
        </p:grpSpPr>
        <p:sp>
          <p:nvSpPr>
            <p:cNvPr id="99" name="AutoShape 9"/>
            <p:cNvSpPr/>
            <p:nvPr/>
          </p:nvSpPr>
          <p:spPr>
            <a:xfrm>
              <a:off x="6877080" y="1197000"/>
              <a:ext cx="1871640" cy="2854440"/>
            </a:xfrm>
            <a:prstGeom prst="cube">
              <a:avLst>
                <a:gd name="adj" fmla="val 25000"/>
              </a:avLst>
            </a:prstGeom>
            <a:solidFill>
              <a:srgbClr val="0046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7380360" y="2205000"/>
              <a:ext cx="64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Book Antiqua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6659640" y="4653000"/>
            <a:ext cx="1871640" cy="1655640"/>
            <a:chOff x="6659640" y="4653000"/>
            <a:chExt cx="1871640" cy="1655640"/>
          </a:xfrm>
        </p:grpSpPr>
        <p:sp>
          <p:nvSpPr>
            <p:cNvPr id="102" name="AutoShape 6"/>
            <p:cNvSpPr/>
            <p:nvPr/>
          </p:nvSpPr>
          <p:spPr>
            <a:xfrm>
              <a:off x="6659640" y="4653000"/>
              <a:ext cx="1871640" cy="1655640"/>
            </a:xfrm>
            <a:prstGeom prst="hexagon">
              <a:avLst>
                <a:gd name="adj" fmla="val 28262"/>
                <a:gd name="vf" fmla="val 11547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7308720" y="4797360"/>
              <a:ext cx="71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1908000" y="4869000"/>
            <a:ext cx="1511640" cy="1601640"/>
            <a:chOff x="1908000" y="4869000"/>
            <a:chExt cx="1511640" cy="1601640"/>
          </a:xfrm>
        </p:grpSpPr>
        <p:sp>
          <p:nvSpPr>
            <p:cNvPr id="105" name="AutoShape 8"/>
            <p:cNvSpPr/>
            <p:nvPr/>
          </p:nvSpPr>
          <p:spPr>
            <a:xfrm>
              <a:off x="1908000" y="4869000"/>
              <a:ext cx="1511640" cy="1584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195640" y="5157720"/>
              <a:ext cx="86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5"/>
          <p:cNvSpPr/>
          <p:nvPr/>
        </p:nvSpPr>
        <p:spPr>
          <a:xfrm>
            <a:off x="6084720" y="64911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771640" y="1771560"/>
            <a:ext cx="2592360" cy="3745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771640" y="1123920"/>
            <a:ext cx="3456000" cy="647640"/>
          </a:xfrm>
          <a:prstGeom prst="parallelogram">
            <a:avLst>
              <a:gd name="adj" fmla="val 13340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227640" y="1123920"/>
            <a:ext cx="1800" cy="374508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5364000" y="4868640"/>
            <a:ext cx="863640" cy="64764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2771640" y="4868640"/>
            <a:ext cx="863640" cy="6476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635280" y="1123920"/>
            <a:ext cx="1800" cy="374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3635280" y="4869000"/>
            <a:ext cx="2592360" cy="14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2627280" y="566100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16" name="WordArt 22"/>
          <p:cNvSpPr txBox="1"/>
          <p:nvPr/>
        </p:nvSpPr>
        <p:spPr>
          <a:xfrm rot="5400000">
            <a:off x="5260320" y="2739960"/>
            <a:ext cx="2440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 Antiqua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 Antiqua"/>
              <a:ea typeface="Book Antiqua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2771640" y="5516640"/>
            <a:ext cx="259236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 rot="19055400">
            <a:off x="5506200" y="49262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ш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2771640" y="5589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2:46:16Z</dcterms:created>
  <dc:creator>Я</dc:creator>
  <dc:description/>
  <dc:language>en-US</dc:language>
  <cp:lastModifiedBy>user</cp:lastModifiedBy>
  <dcterms:modified xsi:type="dcterms:W3CDTF">2013-04-15T06:38:36Z</dcterms:modified>
  <cp:revision>19</cp:revision>
  <dc:subject/>
  <dc:title>Слайд 1</dc:title>
</cp:coreProperties>
</file>