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D0E2-BF7F-4D90-935B-356980307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4F1B-8D96-4C32-B917-76D12622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6E8DA-8256-4BB0-B1A6-F6DF1473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113369-B08E-45B3-A848-AE8400F1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7D7599-295B-4BBC-96BD-514DDB6D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E4746-BD59-463E-8B34-9E8B66F5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15350-BDCC-4D16-BDE3-87F0FD28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78026-DCF9-48EF-BBC9-8BA0F947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A4ACB-A840-41F7-9864-DA080F64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A5B4C-6B9D-4EBC-B31F-AAA8598C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F3EA7D-1D8C-4DC0-96DE-B46ED99BF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4CB8-DD21-4BC8-95C0-7B1ED254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B454-45C8-48D7-91FA-5FA5A4725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7C78-D9D5-400F-BD3A-F2070351D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D1BC-6866-4570-9065-94698BD8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2A0D-78EB-44B7-A544-08593119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963B-0D6D-4061-976A-7E4F8FC7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A78B-72EC-46CB-9B9C-24037293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1FC0-EE57-4DE6-B96F-648936F7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3483-1AF4-4B75-88EC-5D2828D1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3091-2577-4811-9EEA-174E2412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4480-6197-4214-A656-16A1D577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B78E-3F8C-4535-BB55-7A4AB832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6BF8-42BA-498D-9479-7C6DD770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E09E-AA6F-40CB-8AB8-F97F97C1E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7EFE-2A9B-4FD0-B3F0-014280D60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2EA96-A489-4FD7-9825-8C63AFD25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AD5B6-E732-4399-9488-FF83CEBE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748C2-1BA4-413A-8A6C-8E83131B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1A93C-0FD7-4CBC-99FB-1F88D094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1ABFE-6A2B-4D61-8805-D4B67FFE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FA7B-E16C-4A1D-B61B-145FCFD9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AF087-9BBF-4A6B-B0C5-66466EE9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C9A9A-DF46-487D-B6DA-1F3FF02B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D2473-2A57-4280-8629-6F4B1A0E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40E0B-09E9-4198-AD13-4B7CC49F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D0A49-C623-40FC-A2D9-AF99ADC4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06EC9-5E9D-4047-9E0C-F22D5575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0D9E0-30DB-4E6F-AB72-657963EB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D15E7-9EDF-4378-965A-18D6AD38D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5ABCF-3981-47FE-A55B-724F2DBF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E19EC-7417-4BD7-B95E-DBCD3024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663D-DFB6-4512-A736-331689E7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9B0F8-6782-4308-9C6F-AD69DE91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8B882-8C32-4E5D-AEC6-4D6F8E04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60A41-E38C-4F0A-9EBA-3EBFE3CD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E47A4-4625-4FC9-9BC4-A07F97E4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2D207-0971-43B2-853B-2E512F85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A8C4E-9AF0-4DD9-90BE-7A7FBE78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72313-5B54-445B-8B30-5139128F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57D59-6D77-4C3C-84E8-021FA82DD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1BEA5-E87D-4810-B3E5-A941F208C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DC55E-2499-4647-A97E-BEA48FF54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2CA1-CE1D-4EE3-B41F-E00FCB16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EDBC9-CDF7-46B0-A43C-3E076007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F0FA9-A017-44DB-B6C4-05B422EC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44EBC-92AE-4F5F-ABE3-D0EAD471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EF828-205B-4DFC-9E94-DCA4E66C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EC2BF-BCD2-4EDB-9B75-480C95C3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4B498-F4D1-4CC0-84C3-BF478B31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9A5DE-3A84-4E8F-984B-4E05E59C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9B41F-D6E8-407E-901C-2E64FC45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A182B-990F-4E6F-950D-F8333ED2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BC4BA-3CD6-4389-9A0B-63837E451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47C0-0B01-4AAD-9608-DABFB063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7C3F4-0C8A-460E-A2DA-B208A17C3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F96FC-D740-43A1-807E-169C19735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0B8A6-B0D6-4AA8-B3A1-AF0B8D2C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A0045-D888-45A1-A9AC-23CA3807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86499-1B8F-4FAA-8DAD-7923316F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37ED7-FBE1-4FCC-A088-925EA424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DBE1D-2F77-4FEB-A673-C2DAA334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49555-1635-4B34-BE68-1F10A3FB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75452-D0F3-44BA-8F69-CA18DF12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807B6-9AEE-41CE-BC97-398F8FA0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8E64-7AD1-421A-9003-D65E0F29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6AA6E-5A50-45BB-A9B4-13FC2C7D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7E988-C794-438E-BE68-90EAB2C7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C9B00-3220-41AA-9826-5E84CCEEE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4442B-200E-4CA6-95B3-870A17A66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8FA63-A2D3-4BF5-9E39-461F56EF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77458-8FE5-416A-BBED-7D37F9D5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02213-E1F9-4377-8790-8C03B821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C0D08-474B-4683-9E2E-4B5AD52F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1127F-8A26-4BEC-B319-06EEFD6F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D1FF9-A109-4FB1-BE5F-A7521449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EB6F-5B34-4A39-8F90-484DA4C9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3A2DA-F859-4D89-A346-98715942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E1DBA-9495-4702-B694-4599F059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9B474-3711-4482-8B41-1449E615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D1B3F-E865-4B27-B4EB-A4159BDC8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C1D6C-9BFA-4BA8-B9C6-827BCA391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0066E-640C-4AB0-B831-E5C83139B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907F8-6150-4ACB-902F-15878EB7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0B203-FC55-4BE4-92B9-46A181E3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D41AB-F70B-46CF-A31E-ADA49425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DAA26-1FA9-4E71-9E14-D227786D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CAF8-261E-4108-8A80-D5526193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5C245-2A4D-4DEB-AA01-FA2C1A4A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94AC7-94E1-4B6A-8516-8E043607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3B71C-7CFB-408D-AFCC-22238DA8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77E7E-EA27-4B4C-AE2B-5FFE5EC1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5A51B-A24E-49B8-8A01-7A0ABC20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4D3FE-BCE3-4B9F-B7ED-5941BE8C7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0C653-859A-4B44-B8F9-C62CE8F53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2D95F-C8E2-45A9-96F0-DFDD11682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404D28-CA7E-4F20-9D38-B1D64846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76C319-E3C3-4596-AB5C-5E2BEA6D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3F80-5977-4102-878E-2BD4F7F6556D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7280"/>
            <a:chOff x="512640" y="5346720"/>
            <a:chExt cx="8637840" cy="1728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0552-C584-469C-949A-6A369507733F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8C12-1525-4829-9A9A-12273CBE3C0E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7640"/>
            <a:chOff x="512640" y="3438360"/>
            <a:chExt cx="8637840" cy="1764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5f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852A-FE5D-4B49-B4DE-F2F4CBF00EC8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9080"/>
            <a:chOff x="512640" y="6016680"/>
            <a:chExt cx="8637840" cy="1908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6EA5-DED9-432F-88B4-957DE5A485EA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AA88-0215-4041-AC43-3D074DA7C669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7640"/>
            <a:chOff x="512640" y="5846760"/>
            <a:chExt cx="8637840" cy="1764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11A2-58F6-4864-A363-F418A7FDD8CE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D60A-DFDC-4399-9BAD-C6AB07FF8B10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855D-CB1E-4CBF-85C5-3C7B674C1BAB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-73080" y="-268200"/>
            <a:ext cx="9064800" cy="2766960"/>
          </a:xfrm>
          <a:prstGeom prst="rect">
            <a:avLst/>
          </a:prstGeom>
          <a:ln w="0">
            <a:noFill/>
          </a:ln>
        </p:spPr>
      </p:pic>
      <p:pic>
        <p:nvPicPr>
          <p:cNvPr id="400" name="Содержимое 3" descr="что мы с родиной зовём.jpg"/>
          <p:cNvPicPr/>
          <p:nvPr/>
        </p:nvPicPr>
        <p:blipFill>
          <a:blip r:embed="rId2"/>
          <a:stretch/>
        </p:blipFill>
        <p:spPr>
          <a:xfrm>
            <a:off x="1071720" y="2000160"/>
            <a:ext cx="66132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Содержимое 3" descr="берёзки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TextBox 4"/>
          <p:cNvSpPr/>
          <p:nvPr/>
        </p:nvSpPr>
        <p:spPr>
          <a:xfrm>
            <a:off x="5215680" y="2143080"/>
            <a:ext cx="379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Что мы Родиной зовё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Край, где мы с тобой растё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И берёзки, вдоль котор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Рядом с мамой мы идё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Рисунок 4" descr="солнце в небе голубом.jpg"/>
          <p:cNvPicPr/>
          <p:nvPr/>
        </p:nvPicPr>
        <p:blipFill>
          <a:blip r:embed="rId1"/>
          <a:stretch/>
        </p:blipFill>
        <p:spPr>
          <a:xfrm>
            <a:off x="4143240" y="0"/>
            <a:ext cx="5000760" cy="4289400"/>
          </a:xfrm>
          <a:prstGeom prst="rect">
            <a:avLst/>
          </a:prstGeom>
          <a:ln w="0">
            <a:noFill/>
          </a:ln>
        </p:spPr>
      </p:pic>
      <p:pic>
        <p:nvPicPr>
          <p:cNvPr id="404" name="Содержимое 3" descr="хлеб за праздничным столом.jpg"/>
          <p:cNvPicPr/>
          <p:nvPr/>
        </p:nvPicPr>
        <p:blipFill>
          <a:blip r:embed="rId2"/>
          <a:stretch/>
        </p:blipFill>
        <p:spPr>
          <a:xfrm>
            <a:off x="4143240" y="3214800"/>
            <a:ext cx="5000760" cy="3643200"/>
          </a:xfrm>
          <a:prstGeom prst="rect">
            <a:avLst/>
          </a:prstGeom>
          <a:ln w="0">
            <a:noFill/>
          </a:ln>
        </p:spPr>
      </p:pic>
      <p:sp>
        <p:nvSpPr>
          <p:cNvPr id="405" name="TextBox 7"/>
          <p:cNvSpPr/>
          <p:nvPr/>
        </p:nvSpPr>
        <p:spPr>
          <a:xfrm>
            <a:off x="-96120" y="1643040"/>
            <a:ext cx="47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Что мы Родиной зовё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Солнце в небе голуб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И душистый, золотис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Хлеб за праздничным сто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Содержимое 6" descr="2что мы с родиной зовём.jpg"/>
          <p:cNvPicPr/>
          <p:nvPr/>
        </p:nvPicPr>
        <p:blipFill>
          <a:blip r:embed="rId1"/>
          <a:stretch/>
        </p:blipFill>
        <p:spPr>
          <a:xfrm>
            <a:off x="0" y="1500120"/>
            <a:ext cx="8294760" cy="535788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7"/>
          <p:cNvSpPr/>
          <p:nvPr/>
        </p:nvSpPr>
        <p:spPr>
          <a:xfrm>
            <a:off x="928800" y="1429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Что мы Родиной зовё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Дом, где мы с тобой живё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И скворцов весенних пес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За распахнутым ок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pic>
        <p:nvPicPr>
          <p:cNvPr id="409" name="Содержимое 3" descr="Москва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pic>
        <p:nvPicPr>
          <p:cNvPr id="411" name="Содержимое 3" descr="пшенична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pic>
        <p:nvPicPr>
          <p:cNvPr id="413" name="Содержимое 9" descr="15405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3T12:13:22Z</dcterms:created>
  <dc:creator>Admin</dc:creator>
  <dc:description/>
  <dc:language>en-US</dc:language>
  <cp:lastModifiedBy>ДНС - Монстр</cp:lastModifiedBy>
  <dcterms:modified xsi:type="dcterms:W3CDTF">2016-11-20T08:07:32Z</dcterms:modified>
  <cp:revision>50</cp:revision>
  <dc:subject/>
  <dc:title>Слайд 1</dc:title>
</cp:coreProperties>
</file>