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9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C3179-3EF7-4714-8F61-34A541E56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984E3-A133-4BE9-B324-1689E64FF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618AB9-AB20-4A37-93DA-E75D4595C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DFC521-293A-4E0D-B09B-0C301858A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F8138A-1010-4BB9-BBAF-29D91F9AC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41F09C-E3E2-4DBC-BD80-DFFE377F3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967D4C-BE50-479A-A65D-740857251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88FB1E-A71B-428D-B163-4F45EC30C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DD2FBA-1361-47DF-8F26-75282A2F8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89BEB4-1ABD-48EB-A1B0-92282364D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73E309-CFE7-4393-8112-BDB376704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A0A12-3418-4708-8D54-C182765BF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9A570-8465-42A4-95E4-50CF07F6C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D9BC8-CB03-4FB0-8EF8-AD5C94175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A5E0C-83EF-4D3D-98F8-DB3287020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8DC83-A09E-4C78-9A7A-6F7E54DD6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6535F-F615-45AC-8848-B0A0DCB9A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228E6-BD3E-46FD-9B02-512483256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16339-6C7F-478F-BC7F-1E5FC211D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09025-9FCF-4F46-A4EB-E58DA33AC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B9A1E-AEDE-4779-A8C0-7655B26FB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92B55-8D92-4E17-A7C4-38E508B8E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B50E0-1169-4190-A659-3A6C58E1C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B26F3-3CE0-4C87-9144-68B2CC472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B5B41-BB8F-40B3-9B0B-B29BFA346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477D0-3D04-4BC3-B23B-4CFD68A71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903109-69A9-4972-96EF-EEBFB7CAD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4A1A95-6BCF-4316-AA75-B4CC0975B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2A1951-10BB-485A-ACD3-92D8FFAE2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959757-A0CE-40D7-9FB1-E96D108C5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F2E839-BB22-46C3-94A8-5112FE71E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0C432-D72F-4273-9DB7-681081F1B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D8BCA0-3646-42D9-A1EF-C09EECEB1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D91F43-D21D-4FC6-8AAE-935C4CA7B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455AF8-B992-47A0-9760-0548505A0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1B567D-78D0-4EF2-80FF-3DF0CE5D5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101C3B-0552-428C-B64A-7CB040C26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C11311-6DD2-4F30-B5CB-A5FBFD76C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95E5F5-D847-4EC1-A20A-F43511F3C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3A9103-6202-417B-9EAA-02426955D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6696D2-CE2E-4BF1-B32A-43332024F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6E2CB8-A9A9-4B50-962C-DCA2E3B04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B6860-36D1-464D-8CD3-1F0161989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C02A16-D058-4B70-9CD3-68B7153AD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70CA19-FE5B-419C-B590-356A10BB3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45FA1D-BF1C-4161-8D86-457BDCDA8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3A2898-765E-4BA1-8CEB-1BCE2CF71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207102-6169-4A82-964F-DEC448C45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939BE3-2487-4425-A1DC-84AB2E767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0AA136-A0BC-4E10-8E39-28452BEE3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013EE4-A73B-424D-9E90-71A57E9ED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014606-41E6-468C-A1C6-87F418016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99D3B3-BAC7-4761-8B13-BA896AECD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EDB05-373A-475A-B32C-DEA5E55B2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F26FAA-36B4-41C9-A7B1-0ADED5472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35D5D9-5AEA-4F81-9038-38CDC1A7C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485E52-A59B-49EF-BC86-1E0047CEA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5FA9C7-91B0-4576-A42B-7DB5966E9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423828-1D89-475A-8CB2-F2F503092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DBF89B-1801-4A7C-B187-544C2BFF3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B79564-3179-4C76-927D-E2A990902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ABB4B0-BC6A-4B30-92BC-BC2F6BC9A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5FC4FA-5114-4C28-ACBA-2A3E3F98C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3FA4FB-AE8F-467A-99B9-B34BCCA08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51B0B-78D2-4CB8-AA85-5EFB62FCF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6E2825-2AD0-4ECC-965E-FB493B347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DFD3B0-8BB4-4D78-840A-6598B29B7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3BECB4-BA4C-4892-A923-2676732DD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CAA804-1B8D-4D46-BDCB-9C50C0DC3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9A4CDE-8348-4DB5-9C26-F4ECF590B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B489A6-C81D-4C15-BDB1-1E764C5BC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DFA9E9-B7F4-4806-9724-59768B22D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0F8F6A-A8AD-420D-AFA1-908A59C1B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CA1A61-6A9C-4C72-B588-C2A044EFD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9AFF65-B2DF-43BD-BEA2-C4B91AA3B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9C9CC-690B-4C84-9A9B-04174F5B8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A33FDA-C8C9-4DD1-9AC3-D664B069D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5DF363-0250-4650-963B-420607610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431B29-EF2C-4EBF-B7B0-268B6F796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A63AC1-35BD-419F-99BB-B4920164E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BC5AD6-4101-42CA-939C-6079707AC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9D0D4B-ABBE-41C3-B00E-82281B49A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ABCCEB-ADB4-4933-B4DF-3AA60CD19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3193EC-B3CF-43F8-8157-01F340C16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F9ED68-3AD5-4789-B988-33E1FA09C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9C000D-D8D1-4A80-B456-91AB94A86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87B30-2D29-434A-B4D1-498FF717B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0F08D2-9DFB-46B2-A277-870C57ADC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8F0CDD-7B8F-4BD1-9461-443283650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DF99DF-72A4-4B59-A879-E7E92B941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258C34-933B-4A05-9851-8B1500478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C3677B-2515-4BB3-B746-69984C39B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AC5A81-BBDD-440B-8754-A17CEF2F5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C2392D-CE9B-4596-B8BE-E1C854E91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DAB46D-EC87-41C4-A0D2-8C5EF196F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B0DB15-CE07-4251-80F8-0000DE1AE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615DCB-3CEE-4657-A335-99B36E6F4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C167C-9831-4646-9457-CBCDBF53E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930C65-D7B6-4B35-9B2E-6B5D89445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DC275D-1AAA-4F9F-A95C-A693825D2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6978DD-5DD8-4850-8547-573062647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5D7AB9-5A52-4B83-A671-59426F7E2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89A1CE-1700-43D3-9F4D-4DC1744C2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89BFCD-5646-488F-A00D-FBA20A1DF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0936BF-2D30-4736-874E-97099C3EE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4922C9-7D40-4A8C-92A0-63214BC89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EEB940-DDD0-49A2-A11F-23081F1CA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308A12-CBB7-45D6-A09F-F8893D34C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da2b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8ea8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530CE-411F-4C40-A690-FBFF11F8AACC}" type="slidenum">
              <a:rPr b="0" lang="ru-RU" sz="1200" spc="-1" strike="noStrike">
                <a:solidFill>
                  <a:srgbClr val="268ea8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12640" y="1054080"/>
            <a:ext cx="8637840" cy="19080"/>
            <a:chOff x="512640" y="1054080"/>
            <a:chExt cx="8637840" cy="1908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7840" cy="1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12640" y="5346720"/>
            <a:ext cx="8637840" cy="17280"/>
            <a:chOff x="512640" y="5346720"/>
            <a:chExt cx="8637840" cy="1728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346720"/>
              <a:ext cx="8637840" cy="1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da2b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8ea8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225BE-1041-40E7-A2FD-DBFE7C66B667}" type="slidenum">
              <a:rPr b="0" lang="ru-RU" sz="1200" spc="-1" strike="noStrike">
                <a:solidFill>
                  <a:srgbClr val="268ea8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12640" y="1054080"/>
            <a:ext cx="8637840" cy="19080"/>
            <a:chOff x="512640" y="1054080"/>
            <a:chExt cx="8637840" cy="1908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7840" cy="1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da2b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8ea8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0291A-B81D-402D-A45E-25A15B66E82E}" type="slidenum">
              <a:rPr b="0" lang="ru-RU" sz="1200" spc="-1" strike="noStrike">
                <a:solidFill>
                  <a:srgbClr val="268ea8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12640" y="3438360"/>
            <a:ext cx="8637840" cy="17640"/>
            <a:chOff x="512640" y="3438360"/>
            <a:chExt cx="8637840" cy="1764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343836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ef5fa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def5fa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ef5fa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def5fa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ef5fa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def5fa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ef5fa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def5fa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da2b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ef5fa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def5fa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ef5fa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def5fa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ef5fa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def5fa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ef5fa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def5fa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8ea8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015FA-B967-4D7B-8D54-230408521B92}" type="slidenum">
              <a:rPr b="0" lang="ru-RU" sz="1200" spc="-1" strike="noStrike">
                <a:solidFill>
                  <a:srgbClr val="268ea8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12640" y="6016680"/>
            <a:ext cx="8637840" cy="19080"/>
            <a:chOff x="512640" y="6016680"/>
            <a:chExt cx="8637840" cy="1908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6016680"/>
              <a:ext cx="8637840" cy="1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da2b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8ea8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9B2B1-7D29-426F-96E9-C9F3FC438CB2}" type="slidenum">
              <a:rPr b="0" lang="ru-RU" sz="1200" spc="-1" strike="noStrike">
                <a:solidFill>
                  <a:srgbClr val="268ea8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da2b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8ea8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4905F-58AA-4BBE-B785-69182D6E780F}" type="slidenum">
              <a:rPr b="0" lang="ru-RU" sz="1200" spc="-1" strike="noStrike">
                <a:solidFill>
                  <a:srgbClr val="268ea8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12640" y="5846760"/>
            <a:ext cx="8637840" cy="17640"/>
            <a:chOff x="512640" y="5846760"/>
            <a:chExt cx="8637840" cy="1764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84676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da2b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8ea8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F00D9-18E0-4E92-9D66-B4CDBFCFD2B9}" type="slidenum">
              <a:rPr b="0" lang="ru-RU" sz="1200" spc="-1" strike="noStrike">
                <a:solidFill>
                  <a:srgbClr val="268ea8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da2b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8ea8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151A1-2201-4C8C-8F4F-2A06ABF79040}" type="slidenum">
              <a:rPr b="0" lang="ru-RU" sz="1200" spc="-1" strike="noStrike">
                <a:solidFill>
                  <a:srgbClr val="268ea8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da2b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8ea8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E805F-C9D0-4503-8FE8-FADFD97EFADE}" type="slidenum">
              <a:rPr b="0" lang="ru-RU" sz="1200" spc="-1" strike="noStrike">
                <a:solidFill>
                  <a:srgbClr val="268ea8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Заголовок 1" descr=""/>
          <p:cNvPicPr/>
          <p:nvPr/>
        </p:nvPicPr>
        <p:blipFill>
          <a:blip r:embed="rId1"/>
          <a:stretch/>
        </p:blipFill>
        <p:spPr>
          <a:xfrm>
            <a:off x="-73080" y="-268200"/>
            <a:ext cx="9064800" cy="2766960"/>
          </a:xfrm>
          <a:prstGeom prst="rect">
            <a:avLst/>
          </a:prstGeom>
          <a:ln w="0">
            <a:noFill/>
          </a:ln>
        </p:spPr>
      </p:pic>
      <p:pic>
        <p:nvPicPr>
          <p:cNvPr id="400" name="Содержимое 3" descr="что мы с родиной зовём.jpg"/>
          <p:cNvPicPr/>
          <p:nvPr/>
        </p:nvPicPr>
        <p:blipFill>
          <a:blip r:embed="rId2"/>
          <a:stretch/>
        </p:blipFill>
        <p:spPr>
          <a:xfrm>
            <a:off x="1071720" y="2000160"/>
            <a:ext cx="66132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Содержимое 3" descr="берёзки.jpg"/>
          <p:cNvPicPr/>
          <p:nvPr/>
        </p:nvPicPr>
        <p:blipFill>
          <a:blip r:embed="rId1"/>
          <a:stretch/>
        </p:blipFill>
        <p:spPr>
          <a:xfrm>
            <a:off x="0" y="0"/>
            <a:ext cx="5143680" cy="6858000"/>
          </a:xfrm>
          <a:prstGeom prst="rect">
            <a:avLst/>
          </a:prstGeom>
          <a:ln w="0">
            <a:noFill/>
          </a:ln>
        </p:spPr>
      </p:pic>
      <p:sp>
        <p:nvSpPr>
          <p:cNvPr id="402" name="TextBox 4"/>
          <p:cNvSpPr/>
          <p:nvPr/>
        </p:nvSpPr>
        <p:spPr>
          <a:xfrm>
            <a:off x="5215680" y="2143080"/>
            <a:ext cx="3797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Franklin Gothic Book"/>
              </a:rPr>
              <a:t>Что мы Родиной зовём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Franklin Gothic Book"/>
              </a:rPr>
              <a:t>Край, где мы с тобой растём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Franklin Gothic Book"/>
              </a:rPr>
              <a:t>И берёзки, вдоль котор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Franklin Gothic Book"/>
              </a:rPr>
              <a:t>Рядом с мамой мы идё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Рисунок 4" descr="солнце в небе голубом.jpg"/>
          <p:cNvPicPr/>
          <p:nvPr/>
        </p:nvPicPr>
        <p:blipFill>
          <a:blip r:embed="rId1"/>
          <a:stretch/>
        </p:blipFill>
        <p:spPr>
          <a:xfrm>
            <a:off x="4143240" y="0"/>
            <a:ext cx="5000760" cy="4289400"/>
          </a:xfrm>
          <a:prstGeom prst="rect">
            <a:avLst/>
          </a:prstGeom>
          <a:ln w="0">
            <a:noFill/>
          </a:ln>
        </p:spPr>
      </p:pic>
      <p:pic>
        <p:nvPicPr>
          <p:cNvPr id="404" name="Содержимое 3" descr="хлеб за праздничным столом.jpg"/>
          <p:cNvPicPr/>
          <p:nvPr/>
        </p:nvPicPr>
        <p:blipFill>
          <a:blip r:embed="rId2"/>
          <a:stretch/>
        </p:blipFill>
        <p:spPr>
          <a:xfrm>
            <a:off x="4143240" y="3214800"/>
            <a:ext cx="5000760" cy="3643200"/>
          </a:xfrm>
          <a:prstGeom prst="rect">
            <a:avLst/>
          </a:prstGeom>
          <a:ln w="0">
            <a:noFill/>
          </a:ln>
        </p:spPr>
      </p:pic>
      <p:sp>
        <p:nvSpPr>
          <p:cNvPr id="405" name="TextBox 7"/>
          <p:cNvSpPr/>
          <p:nvPr/>
        </p:nvSpPr>
        <p:spPr>
          <a:xfrm>
            <a:off x="-96120" y="1643040"/>
            <a:ext cx="4705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ranklin Gothic Book"/>
              </a:rPr>
              <a:t>Что мы Родиной зовём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ranklin Gothic Book"/>
              </a:rPr>
              <a:t>Солнце в небе голуб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ranklin Gothic Book"/>
              </a:rPr>
              <a:t>И душистый, золотист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ranklin Gothic Book"/>
              </a:rPr>
              <a:t>Хлеб за праздничным стол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Содержимое 6" descr="2что мы с родиной зовём.jpg"/>
          <p:cNvPicPr/>
          <p:nvPr/>
        </p:nvPicPr>
        <p:blipFill>
          <a:blip r:embed="rId1"/>
          <a:stretch/>
        </p:blipFill>
        <p:spPr>
          <a:xfrm>
            <a:off x="0" y="1500120"/>
            <a:ext cx="8294760" cy="5357880"/>
          </a:xfrm>
          <a:prstGeom prst="rect">
            <a:avLst/>
          </a:prstGeom>
          <a:ln w="0">
            <a:noFill/>
          </a:ln>
        </p:spPr>
      </p:pic>
      <p:sp>
        <p:nvSpPr>
          <p:cNvPr id="407" name="Прямоугольник 7"/>
          <p:cNvSpPr/>
          <p:nvPr/>
        </p:nvSpPr>
        <p:spPr>
          <a:xfrm>
            <a:off x="928800" y="142920"/>
            <a:ext cx="45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ranklin Gothic Book"/>
              </a:rPr>
              <a:t>Что мы Родиной зовём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ranklin Gothic Book"/>
              </a:rPr>
              <a:t>Дом, где мы с тобой живём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ranklin Gothic Book"/>
              </a:rPr>
              <a:t>И скворцов весенних пес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ranklin Gothic Book"/>
              </a:rPr>
              <a:t>За распахнутым окн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pic>
        <p:nvPicPr>
          <p:cNvPr id="409" name="Содержимое 3" descr="Москва.jpg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pic>
        <p:nvPicPr>
          <p:cNvPr id="411" name="Содержимое 3" descr="пшеничная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pic>
        <p:nvPicPr>
          <p:cNvPr id="413" name="Содержимое 9" descr="154051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9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3T12:13:22Z</dcterms:created>
  <dc:creator>Admin</dc:creator>
  <dc:description/>
  <dc:language>en-US</dc:language>
  <cp:lastModifiedBy>ДНС - Монстр</cp:lastModifiedBy>
  <dcterms:modified xsi:type="dcterms:W3CDTF">2016-11-20T08:07:32Z</dcterms:modified>
  <cp:revision>50</cp:revision>
  <dc:subject/>
  <dc:title>Слайд 1</dc:title>
</cp:coreProperties>
</file>