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5.wmf" ContentType="image/x-wmf"/>
  <Override PartName="/ppt/media/image28.gif" ContentType="image/gif"/>
  <Override PartName="/ppt/media/image24.wmf" ContentType="image/x-wmf"/>
  <Override PartName="/ppt/media/image26.gif" ContentType="image/gif"/>
  <Override PartName="/ppt/media/image20.jpeg" ContentType="image/jpeg"/>
  <Override PartName="/ppt/media/image21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15.png" ContentType="image/png"/>
  <Override PartName="/ppt/media/image22.gif" ContentType="image/gif"/>
  <Override PartName="/ppt/media/image3.jpeg" ContentType="image/jpeg"/>
  <Override PartName="/ppt/media/image2.jpeg" ContentType="image/jpeg"/>
  <Override PartName="/ppt/media/image1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34.gif" ContentType="image/gif"/>
  <Override PartName="/ppt/media/image37.wmf" ContentType="image/x-wmf"/>
  <Override PartName="/ppt/media/image46.jpeg" ContentType="image/jpeg"/>
  <Override PartName="/ppt/media/image39.gif" ContentType="image/gif"/>
  <Override PartName="/ppt/media/image41.jpeg" ContentType="image/jpeg"/>
  <Override PartName="/ppt/media/image45.jpeg" ContentType="image/jpeg"/>
  <Override PartName="/ppt/media/image43.jpeg" ContentType="image/jpeg"/>
  <Override PartName="/ppt/media/image33.gif" ContentType="image/gif"/>
  <Override PartName="/ppt/media/image47.jpeg" ContentType="image/jpeg"/>
  <Override PartName="/ppt/media/image36.wmf" ContentType="image/x-wmf"/>
  <Override PartName="/ppt/media/image44.jpeg" ContentType="image/jpeg"/>
  <Override PartName="/ppt/media/image49.jpeg" ContentType="image/jpeg"/>
  <Override PartName="/ppt/media/image30.gif" ContentType="image/gif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media/image31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11E-EAB6-4C78-890F-C4AEF10B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E72-88A8-4869-BF06-118C6758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8A7-C793-452C-B710-80F81C6A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523-C0F7-45AC-B89B-2FB1BF87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6750-4547-4F5E-B3EF-025A1601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762A-3581-4DBE-AB54-9AD7624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2ECB-F7E9-461C-9B98-0D2C4D87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A579-DDD4-4432-B555-74D674B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CA67-9397-426B-961F-4593A2F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DA4A-04AF-4E1E-8969-140EA83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D5B-C5C6-4370-BFEC-A5EE13D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EA2-D523-4199-A5CD-39C3401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A739-9CB0-4003-B0CD-C2CB268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6E48-3A0B-4D25-8078-C7B861B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7E9D-377D-418F-BF13-D45FC4BC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D42D-CD8F-44F5-ABE3-722FA36D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2DE0-1847-47A8-81DF-F8150CE1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386-5C2D-41B2-A3C2-5AC6EDFA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60E-D8C5-4195-B506-6663A52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964-AE58-43E7-A411-173A5F35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A7E-FABE-43FC-AC81-7C6CBF62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AA4-6E8C-4953-AA9F-1DC8C4FC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417-E1B9-4C7E-8966-048AFFE0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697-6122-4610-A625-EE16FE6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5A4-AD76-436A-834E-B0BD30FE63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13B0-E0C2-41D4-952B-FA181A6916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800"/>
            </a:br>
            <a:br>
              <a:rPr sz="10800"/>
            </a:br>
            <a:r>
              <a:rPr b="0" lang="ru-RU" sz="10800" spc="-1" strike="noStrike" u="sng">
                <a:solidFill>
                  <a:srgbClr val="ff5050"/>
                </a:solidFill>
                <a:uFillTx/>
                <a:latin typeface="Garamond"/>
              </a:rPr>
              <a:t>Сквернословие</a:t>
            </a:r>
            <a:endParaRPr b="1" lang="en-US" sz="10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34286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АК     РАЗРУШИТЕ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ЧЕВОЙ   ФАКТОР    НАШЕЙ    ЖИЗ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3682800" cy="2682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1371600" y="2541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йонная научно-практическая конференция по русскому язык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076360" y="541008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кладчики: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Долматова Виолет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Юрьева Кс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: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Семёнова С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b475"/>
                                      </p:to>
                                    </p:animClr>
                                    <p:set>
                                      <p:cBhvr>
                                        <p:cTn id="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4bf9c84e43d515ef149af86a2c9fa8df1165836487-we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12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Слово – уникальное явление нашей жизни, которое, будучи произнесённым, производит реальное изменение в пространстве и времени.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12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Каждый из вас знает силу слова. Оно может творить, может утешить, вдохновить, исцелить, ранить, разрушить, убить.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12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Именно </a:t>
            </a:r>
            <a:r>
              <a:rPr b="1" lang="ru-RU" sz="5000" spc="-1" strike="noStrike" u="sng">
                <a:solidFill>
                  <a:srgbClr val="ff5050"/>
                </a:solidFill>
                <a:uFillTx/>
                <a:latin typeface="Garamond"/>
              </a:rPr>
              <a:t>слово</a:t>
            </a:r>
            <a:r>
              <a:rPr b="1" lang="ru-RU" sz="5000" spc="-1" strike="noStrike">
                <a:solidFill>
                  <a:srgbClr val="ff5050"/>
                </a:solidFill>
                <a:latin typeface="Garamond"/>
              </a:rPr>
              <a:t> даровано человеку для владения и разумного управления жизнью на земле.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 можно  убить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 можно  спасти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 можно  пол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  собой  повест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м можно предать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  продать, и  купи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лово  можно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 разящий  свинец  перели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na01634_"/>
          <p:cNvPicPr/>
          <p:nvPr/>
        </p:nvPicPr>
        <p:blipFill>
          <a:blip r:embed="rId1"/>
          <a:stretch/>
        </p:blipFill>
        <p:spPr>
          <a:xfrm>
            <a:off x="173160" y="0"/>
            <a:ext cx="3159000" cy="5715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rumb_25233420"/>
          <p:cNvPicPr/>
          <p:nvPr/>
        </p:nvPicPr>
        <p:blipFill>
          <a:blip r:embed="rId2"/>
          <a:stretch/>
        </p:blipFill>
        <p:spPr>
          <a:xfrm>
            <a:off x="1828800" y="304920"/>
            <a:ext cx="15238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 слабости слов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искажение ДАРА слов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отказ в понимании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незаинтересованность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ат – подмена истины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752480" y="4484520"/>
            <a:ext cx="571500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мысл матом не передаёт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ерные слова одни и те же, о чём бы ни шёл разгово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ерные слова обозначают естественные органы и действия, не имеющие сами по себе ничего плохого. Но употребляются они тогда, когда произносящий указывает именно на их постыдное значение без связи с самими органами и действия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ом выражается не смысл, а отношение говорящего к личности или к предмету разговора, причём отнош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гативное, отвергающе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4" descr="J0282737"/>
          <p:cNvPicPr/>
          <p:nvPr/>
        </p:nvPicPr>
        <p:blipFill>
          <a:blip r:embed="rId1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j0304815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Слово  «мат»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имеет  в   своей    основе выражения,  связанные с  проклятием  Божьей Матери   и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собственной   матер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 – язык злых духов, демо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потребление   нецензурных   слов – это  безнравственный   поступок,  гре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ерщи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то   каждый   раз   вызов, брошенный   Бог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вященник-психолог Б.В.Ничипор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Введение в  христианскую  психологию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3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Мат  оскверняет  человека,  убивает его  душу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И  особенно  больно,  когда сквернословие  сопровождает   жизнь ребён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j0344843"/>
          <p:cNvPicPr/>
          <p:nvPr/>
        </p:nvPicPr>
        <p:blipFill>
          <a:blip r:embed="rId1"/>
          <a:stretch/>
        </p:blipFill>
        <p:spPr>
          <a:xfrm>
            <a:off x="6934320" y="228600"/>
            <a:ext cx="1992240" cy="1447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j0232130"/>
          <p:cNvPicPr/>
          <p:nvPr/>
        </p:nvPicPr>
        <p:blipFill>
          <a:blip r:embed="rId2"/>
          <a:stretch/>
        </p:blipFill>
        <p:spPr>
          <a:xfrm>
            <a:off x="533520" y="4876920"/>
            <a:ext cx="1854000" cy="1819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golova"/>
          <p:cNvPicPr/>
          <p:nvPr/>
        </p:nvPicPr>
        <p:blipFill>
          <a:blip r:embed="rId3"/>
          <a:stretch/>
        </p:blipFill>
        <p:spPr>
          <a:xfrm>
            <a:off x="6248520" y="4191120"/>
            <a:ext cx="27050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3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6019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мат опасен для здоровья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способствует снижению интеллекта, провоцирует преступления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создаёт  иллюзию вседозволенности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обворовывает нас духовно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унижает и оскорбляет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калечит людские судьбы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приводит к раннему старению и преждевременной смерти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J0283262"/>
          <p:cNvPicPr/>
          <p:nvPr/>
        </p:nvPicPr>
        <p:blipFill>
          <a:blip r:embed="rId1"/>
          <a:stretch/>
        </p:blipFill>
        <p:spPr>
          <a:xfrm>
            <a:off x="6172200" y="380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J0286666"/>
          <p:cNvPicPr/>
          <p:nvPr/>
        </p:nvPicPr>
        <p:blipFill>
          <a:blip r:embed="rId2"/>
          <a:stretch/>
        </p:blipFill>
        <p:spPr>
          <a:xfrm>
            <a:off x="7050240" y="4724280"/>
            <a:ext cx="209376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286667"/>
          <p:cNvPicPr/>
          <p:nvPr/>
        </p:nvPicPr>
        <p:blipFill>
          <a:blip r:embed="rId3"/>
          <a:stretch/>
        </p:blipFill>
        <p:spPr>
          <a:xfrm>
            <a:off x="5589720" y="2819520"/>
            <a:ext cx="1646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Молекулы ДНК  –  наследственность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Ругается человек матом - хромосомы корёжатся и гнутся, гены меняются местами. ДНК  вырабатывает  противоестественные программы.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Потомству передаётся программа самоликвидации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3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       </a:t>
            </a:r>
            <a:r>
              <a:rPr b="1" lang="ru-RU" sz="3800" spc="-1" strike="noStrike" u="sng">
                <a:solidFill>
                  <a:srgbClr val="ff5050"/>
                </a:solidFill>
                <a:uFillTx/>
                <a:latin typeface="Garamond"/>
              </a:rPr>
              <a:t>Цифры и факты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За последние 20 лет число детей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с отставанием в умственном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и физическим развитии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выросло </a:t>
            </a:r>
            <a:r>
              <a:rPr b="1" lang="ru-RU" sz="3400" spc="-1" strike="noStrike" u="sng">
                <a:solidFill>
                  <a:srgbClr val="ff5050"/>
                </a:solidFill>
                <a:uFillTx/>
                <a:latin typeface="Garamond"/>
              </a:rPr>
              <a:t>в 10 раз.</a:t>
            </a:r>
            <a:r>
              <a:rPr b="1" lang="ru-RU" sz="3400" spc="-1" strike="noStrike">
                <a:solidFill>
                  <a:srgbClr val="ff505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олее 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Garamond"/>
              </a:rPr>
              <a:t>80%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новорожденных   больн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доров  лишь  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Garamond"/>
              </a:rPr>
              <a:t>один  из  десяти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выпускников  школ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86000" cy="207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94h26siwkrl0"/>
          <p:cNvPicPr/>
          <p:nvPr/>
        </p:nvPicPr>
        <p:blipFill>
          <a:blip r:embed="rId2"/>
          <a:stretch/>
        </p:blipFill>
        <p:spPr>
          <a:xfrm>
            <a:off x="6781680" y="2514600"/>
            <a:ext cx="1893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Важна не громкость,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а   СМЫСЛ   слова,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его   СОДЕРЖАНИЕ!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4" descr="j0196536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ДНК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воспринимает человеческую речь!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J0282747"/>
          <p:cNvPicPr/>
          <p:nvPr/>
        </p:nvPicPr>
        <p:blipFill>
          <a:blip r:embed="rId1"/>
          <a:stretch/>
        </p:blipFill>
        <p:spPr>
          <a:xfrm>
            <a:off x="678168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МОЛИТВА    -   ПРОБУЖДАЕТ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ffffff"/>
                </a:solidFill>
                <a:latin typeface="Garamond"/>
              </a:rPr>
              <a:t>ПРОКЛЯТИЕ  -РАЗРУШАЕТ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J0283258"/>
          <p:cNvPicPr/>
          <p:nvPr/>
        </p:nvPicPr>
        <p:blipFill>
          <a:blip r:embed="rId1"/>
          <a:stretch/>
        </p:blipFill>
        <p:spPr>
          <a:xfrm>
            <a:off x="228600" y="228600"/>
            <a:ext cx="127332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J0282749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001_smallм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5050"/>
                </a:solidFill>
                <a:latin typeface="Garamond"/>
              </a:rPr>
              <a:t>Сквернословие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-   приобретённое заболевание,   вирус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5050"/>
                </a:solidFill>
                <a:latin typeface="Garamond"/>
              </a:rPr>
              <a:t>Нецензурная    брань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    заразна!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Garamond"/>
              </a:rPr>
              <a:t>Это настоящая инфекция: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зрушает физическое тело, 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ижает интелле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иводит к неуравновешен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грессив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есть претензии к окружающему мир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моциональная туп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м теряет  способность руководить чувствами и действи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еградация ли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457200"/>
          <a:ext cx="9144000" cy="2666880"/>
        </p:xfrm>
        <a:graphic>
          <a:graphicData uri="http://schemas.openxmlformats.org/drawingml/2006/table">
            <a:tbl>
              <a:tblPr/>
              <a:tblGrid>
                <a:gridCol w="4826160"/>
                <a:gridCol w="4317840"/>
              </a:tblGrid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т неприятен  всем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вернословие вызывает отторжение, боль, оскорбление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оброе слово всем приятно услышать и произнест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19"/>
          <p:cNvSpPr/>
          <p:nvPr/>
        </p:nvSpPr>
        <p:spPr>
          <a:xfrm>
            <a:off x="304920" y="3048120"/>
            <a:ext cx="88390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Почему?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Доброе  слово  естественно,   как   сама   жизнь,     как   улыбка,  как  любовь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Мат,  как  инородное тело в организме, вызывает неприятные ощущения,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как болезнетворные  бактерии,  как  заноз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23" descr="j0196542"/>
          <p:cNvPicPr/>
          <p:nvPr/>
        </p:nvPicPr>
        <p:blipFill>
          <a:blip r:embed="rId1"/>
          <a:stretch/>
        </p:blipFill>
        <p:spPr>
          <a:xfrm>
            <a:off x="3200400" y="1447920"/>
            <a:ext cx="135108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j0195412"/>
          <p:cNvPicPr/>
          <p:nvPr/>
        </p:nvPicPr>
        <p:blipFill>
          <a:blip r:embed="rId2"/>
          <a:stretch/>
        </p:blipFill>
        <p:spPr>
          <a:xfrm>
            <a:off x="7086600" y="1219320"/>
            <a:ext cx="17413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j0339844"/>
          <p:cNvPicPr/>
          <p:nvPr/>
        </p:nvPicPr>
        <p:blipFill>
          <a:blip r:embed="rId3"/>
          <a:stretch/>
        </p:blipFill>
        <p:spPr>
          <a:xfrm>
            <a:off x="7924680" y="573084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j0336703"/>
          <p:cNvPicPr/>
          <p:nvPr/>
        </p:nvPicPr>
        <p:blipFill>
          <a:blip r:embed="rId4"/>
          <a:stretch/>
        </p:blipFill>
        <p:spPr>
          <a:xfrm>
            <a:off x="5105520" y="4191120"/>
            <a:ext cx="15238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3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Мат -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сихический уда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сил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скорбл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щёчи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7242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b9efee"/>
                </a:solidFill>
                <a:latin typeface="Garamond"/>
              </a:rPr>
              <a:t>ДУХОВНОСТЬ</a:t>
            </a:r>
            <a:endParaRPr b="1" lang="en-US" sz="5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ЮБОВ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БР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УТК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ЗАИМОПОНИМ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РАС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Н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ВЕТСТВ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286680" y="1219320"/>
            <a:ext cx="2857320" cy="3066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200560" y="3581280"/>
            <a:ext cx="394344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7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7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7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7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7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СОСТОЯНИЕ   ЗДОРОВЬ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РОВЕНЬ МЕДИЦИНЫ – 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СЛЕДСТВЕННОСТЬ -  2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КРУЖАЮЩАЯ СРЕДА  -2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ОБРАЗ ЖИЗНИ – 50%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x_b7ea7a05"/>
          <p:cNvPicPr/>
          <p:nvPr/>
        </p:nvPicPr>
        <p:blipFill>
          <a:blip r:embed="rId1"/>
          <a:stretch/>
        </p:blipFill>
        <p:spPr>
          <a:xfrm>
            <a:off x="1600200" y="4191120"/>
            <a:ext cx="6172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Цифры и факты: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5050"/>
                </a:solidFill>
                <a:uFillTx/>
                <a:latin typeface="Garamond"/>
              </a:rPr>
              <a:t>Увеличилось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количество девушек, имеющих хронические заболев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Это будущие матери, носители генофонда наци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722600" y="0"/>
            <a:ext cx="555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raip__440_1_"/>
          <p:cNvPicPr/>
          <p:nvPr/>
        </p:nvPicPr>
        <p:blipFill>
          <a:blip r:embed="rId1"/>
          <a:stretch/>
        </p:blipFill>
        <p:spPr>
          <a:xfrm>
            <a:off x="838080" y="0"/>
            <a:ext cx="5372280" cy="6638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108240" y="0"/>
            <a:ext cx="603576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trumb_17235355"/>
          <p:cNvPicPr/>
          <p:nvPr/>
        </p:nvPicPr>
        <p:blipFill>
          <a:blip r:embed="rId3"/>
          <a:stretch/>
        </p:blipFill>
        <p:spPr>
          <a:xfrm>
            <a:off x="304920" y="914400"/>
            <a:ext cx="4190760" cy="4648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4"/>
          <a:stretch/>
        </p:blipFill>
        <p:spPr>
          <a:xfrm>
            <a:off x="3581280" y="1523880"/>
            <a:ext cx="5562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2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0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Цифры и факты: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 продолжительности жизни Росс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 </a:t>
            </a:r>
            <a:r>
              <a:rPr b="1" lang="ru-RU" sz="4800" spc="-1" strike="noStrike" u="sng">
                <a:solidFill>
                  <a:srgbClr val="ff5050"/>
                </a:solidFill>
                <a:uFillTx/>
                <a:latin typeface="Garamond"/>
              </a:rPr>
              <a:t>133</a:t>
            </a:r>
            <a:r>
              <a:rPr b="1" lang="ru-RU" sz="4800" spc="-1" strike="noStrike">
                <a:solidFill>
                  <a:srgbClr val="ff5050"/>
                </a:solidFill>
                <a:latin typeface="Garamond"/>
              </a:rPr>
              <a:t>  </a:t>
            </a:r>
            <a:r>
              <a:rPr b="1" lang="ru-RU" sz="4800" spc="-1" strike="noStrike" u="sng">
                <a:solidFill>
                  <a:srgbClr val="ff5050"/>
                </a:solidFill>
                <a:uFillTx/>
                <a:latin typeface="Garamond"/>
              </a:rPr>
              <a:t>месте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среди мужчин 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 </a:t>
            </a:r>
            <a:r>
              <a:rPr b="1" lang="ru-RU" sz="5400" spc="-1" strike="noStrike" u="sng">
                <a:solidFill>
                  <a:srgbClr val="ff5050"/>
                </a:solidFill>
                <a:uFillTx/>
                <a:latin typeface="Garamond"/>
              </a:rPr>
              <a:t>100 месте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реди женщин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5050"/>
                </a:solidFill>
                <a:latin typeface="Garamond"/>
              </a:rPr>
              <a:t>54%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молодёжи, родившейся в 90-ые годы, не были способны окончить среднюю школ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315200" y="259092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RAP "/>
          <p:cNvPicPr/>
          <p:nvPr/>
        </p:nvPicPr>
        <p:blipFill>
          <a:blip r:embed="rId1"/>
          <a:stretch/>
        </p:blipFill>
        <p:spPr>
          <a:xfrm>
            <a:off x="228600" y="28195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xbox1280x1024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3"/>
          <a:stretch/>
        </p:blipFill>
        <p:spPr>
          <a:xfrm>
            <a:off x="2813040" y="457200"/>
            <a:ext cx="4440240" cy="492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warcra3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s4"/>
          <p:cNvPicPr/>
          <p:nvPr/>
        </p:nvPicPr>
        <p:blipFill>
          <a:blip r:embed="rId2"/>
          <a:stretch/>
        </p:blipFill>
        <p:spPr>
          <a:xfrm>
            <a:off x="609480" y="609480"/>
            <a:ext cx="3581640" cy="327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67"/>
          <p:cNvPicPr/>
          <p:nvPr/>
        </p:nvPicPr>
        <p:blipFill>
          <a:blip r:embed="rId3"/>
          <a:stretch/>
        </p:blipFill>
        <p:spPr>
          <a:xfrm>
            <a:off x="2819520" y="5029200"/>
            <a:ext cx="1554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efee"/>
                </a:solidFill>
                <a:uFillTx/>
                <a:latin typeface="Garamond"/>
              </a:rPr>
              <a:t>Исторические корни мат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Исконно русские корн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2882160"/>
            <a:ext cx="1421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древней Руси мат - заклинание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формула против нечистой сил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Матерная  брань - общение с нечист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силой, настрой на их волну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призыв их в свою жизн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isbuhka"/>
          <p:cNvPicPr/>
          <p:nvPr/>
        </p:nvPicPr>
        <p:blipFill>
          <a:blip r:embed="rId1"/>
          <a:stretch/>
        </p:blipFill>
        <p:spPr>
          <a:xfrm>
            <a:off x="6353280" y="457200"/>
            <a:ext cx="2523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Бранить детей нельзя матом :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они будут мучимы бесами.</a:t>
            </a: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Материться в доме нельзя: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бесы будут жить в этом жилище.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Garamond"/>
              </a:rPr>
              <a:t>Нельзя было ругаться в лесу: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леший может обидеться, на берегу реки или озера – оскорбится водяной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4" descr="isbuhka"/>
          <p:cNvPicPr/>
          <p:nvPr/>
        </p:nvPicPr>
        <p:blipFill>
          <a:blip r:embed="rId1"/>
          <a:stretch/>
        </p:blipFill>
        <p:spPr>
          <a:xfrm>
            <a:off x="6789600" y="228600"/>
            <a:ext cx="2163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AG00036_"/>
          <p:cNvPicPr/>
          <p:nvPr/>
        </p:nvPicPr>
        <p:blipFill>
          <a:blip r:embed="rId1"/>
          <a:stretch/>
        </p:blipFill>
        <p:spPr>
          <a:xfrm>
            <a:off x="7389720" y="304920"/>
            <a:ext cx="1554120" cy="1676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b9efee"/>
                </a:solidFill>
                <a:uFillTx/>
                <a:latin typeface="Garamond"/>
              </a:rPr>
              <a:t>«Поле брани»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де человеку можно было выругаться, выплеснуть из себя всю злость или раздражен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ставалось одно место – поле. Так появилось  выражение «поле брани» -   это поле матерной руга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horserider1"/>
          <p:cNvPicPr/>
          <p:nvPr/>
        </p:nvPicPr>
        <p:blipFill>
          <a:blip r:embed="rId2"/>
          <a:stretch/>
        </p:blipFill>
        <p:spPr>
          <a:xfrm>
            <a:off x="1981080" y="5638680"/>
            <a:ext cx="1524240" cy="104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horserider1"/>
          <p:cNvPicPr/>
          <p:nvPr/>
        </p:nvPicPr>
        <p:blipFill>
          <a:blip r:embed="rId3"/>
          <a:stretch/>
        </p:blipFill>
        <p:spPr>
          <a:xfrm>
            <a:off x="3657600" y="457200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orserider1"/>
          <p:cNvPicPr/>
          <p:nvPr/>
        </p:nvPicPr>
        <p:blipFill>
          <a:blip r:embed="rId4"/>
          <a:stretch/>
        </p:blipFill>
        <p:spPr>
          <a:xfrm>
            <a:off x="5334120" y="5638680"/>
            <a:ext cx="1523880" cy="1047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orserider1"/>
          <p:cNvPicPr/>
          <p:nvPr/>
        </p:nvPicPr>
        <p:blipFill>
          <a:blip r:embed="rId5"/>
          <a:stretch/>
        </p:blipFill>
        <p:spPr>
          <a:xfrm>
            <a:off x="533520" y="457200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orserider1"/>
          <p:cNvPicPr/>
          <p:nvPr/>
        </p:nvPicPr>
        <p:blipFill>
          <a:blip r:embed="rId6"/>
          <a:stretch/>
        </p:blipFill>
        <p:spPr>
          <a:xfrm>
            <a:off x="7010280" y="4572000"/>
            <a:ext cx="1524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онидович</dc:creator>
  <dc:description/>
  <dc:language>en-US</dc:language>
  <cp:lastModifiedBy>Леонидович</cp:lastModifiedBy>
  <dcterms:modified xsi:type="dcterms:W3CDTF">2017-05-12T04:41:2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