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5.wmf" ContentType="image/x-wmf"/>
  <Override PartName="/ppt/media/image28.gif" ContentType="image/gif"/>
  <Override PartName="/ppt/media/image24.wmf" ContentType="image/x-wmf"/>
  <Override PartName="/ppt/media/image26.gif" ContentType="image/gif"/>
  <Override PartName="/ppt/media/image20.jpeg" ContentType="image/jpeg"/>
  <Override PartName="/ppt/media/image21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7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15.png" ContentType="image/png"/>
  <Override PartName="/ppt/media/image22.gif" ContentType="image/gif"/>
  <Override PartName="/ppt/media/image3.jpeg" ContentType="image/jpeg"/>
  <Override PartName="/ppt/media/image2.jpeg" ContentType="image/jpeg"/>
  <Override PartName="/ppt/media/image18.wmf" ContentType="image/x-wmf"/>
  <Override PartName="/ppt/media/image35.jpeg" ContentType="image/jpeg"/>
  <Override PartName="/ppt/media/image8.jpeg" ContentType="image/jpeg"/>
  <Override PartName="/ppt/media/image10.jpeg" ContentType="image/jpeg"/>
  <Override PartName="/ppt/media/image34.gif" ContentType="image/gif"/>
  <Override PartName="/ppt/media/image37.wmf" ContentType="image/x-wmf"/>
  <Override PartName="/ppt/media/image46.jpeg" ContentType="image/jpeg"/>
  <Override PartName="/ppt/media/image39.gif" ContentType="image/gif"/>
  <Override PartName="/ppt/media/image41.jpeg" ContentType="image/jpeg"/>
  <Override PartName="/ppt/media/image45.jpeg" ContentType="image/jpeg"/>
  <Override PartName="/ppt/media/image43.jpeg" ContentType="image/jpeg"/>
  <Override PartName="/ppt/media/image33.gif" ContentType="image/gif"/>
  <Override PartName="/ppt/media/image47.jpeg" ContentType="image/jpeg"/>
  <Override PartName="/ppt/media/image36.wmf" ContentType="image/x-wmf"/>
  <Override PartName="/ppt/media/image44.jpeg" ContentType="image/jpeg"/>
  <Override PartName="/ppt/media/image49.jpeg" ContentType="image/jpeg"/>
  <Override PartName="/ppt/media/image30.gif" ContentType="image/gif"/>
  <Override PartName="/ppt/media/image1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40.jpeg" ContentType="image/jpeg"/>
  <Override PartName="/ppt/media/image13.jpeg" ContentType="image/jpeg"/>
  <Override PartName="/ppt/media/image31.wmf" ContentType="image/x-wmf"/>
  <Override PartName="/ppt/media/image7.jpeg" ContentType="image/jpeg"/>
  <Override PartName="/ppt/media/image4.jpeg" ContentType="image/jpeg"/>
  <Override PartName="/ppt/media/image38.wmf" ContentType="image/x-wmf"/>
  <Override PartName="/ppt/media/image6.jpeg" ContentType="image/jpeg"/>
  <Override PartName="/ppt/media/image27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710-9FE7-46FB-A168-2F0ECAEC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C00-2122-482C-BC78-96492DD9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D4C-D0F7-4177-A587-992813F3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959-BA81-437E-9FEB-A292C9ED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09D5-A299-4878-87D0-D7FE5856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211A-6DB2-47E6-A123-736088B6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5AE6-6F5A-479C-BE44-39E274B8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A271-DC49-4E1C-B8C6-31109545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2BF4-48B2-47D2-88C2-6AF6EFF5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A459-47D2-442A-83EC-410D2BCD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863B-8812-49A1-BCF2-8C9B078F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118-DC1B-4A13-A8CD-C06F4E29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D9D9-EABD-47FB-87D0-55607B5D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A3A0-2E2B-4A3D-BB9C-39FF1699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25D4-4A41-41D1-B643-617A6209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5EAD-10EB-4DB2-A39D-A779D0C6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BDC8-CFD8-45C2-BD1B-C9B8FDB1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F78-B565-4BE3-871B-C962F2E4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05D-AB30-420D-9D44-70080509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93A-5680-48F3-AFE0-A5833143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07C-6CE5-496D-A1C9-C6DFDD0D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970-BE91-4BC2-B45E-54AFB4B9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EDF-6838-428B-AEEB-4010AB57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216-FF16-4E2A-9261-9F750B38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36C1-844C-4093-871F-B28B7CE3C4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9E81-8C98-4A57-AA13-DDB5B8079A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800"/>
            </a:br>
            <a:br>
              <a:rPr sz="10800"/>
            </a:br>
            <a:r>
              <a:rPr b="0" lang="ru-RU" sz="10800" spc="-1" strike="noStrike" u="sng">
                <a:solidFill>
                  <a:srgbClr val="ff5050"/>
                </a:solidFill>
                <a:uFillTx/>
                <a:latin typeface="Garamond"/>
              </a:rPr>
              <a:t>Сквернословие</a:t>
            </a:r>
            <a:endParaRPr b="1" lang="en-US" sz="10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560" y="342864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АК     РАЗРУШИТЕ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ЕЧЕВОЙ   ФАКТОР    НАШЕЙ    ЖИЗ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2590920" y="685800"/>
            <a:ext cx="3682800" cy="2682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1371600" y="2541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йонная научно-практическая конференция по русскому язык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076360" y="5410080"/>
            <a:ext cx="43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окладчики: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Долматова Виолет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Юрьева Кс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уководитель: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 Семёнова С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2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4bf9c84e43d515ef149af86a2c9fa8df1165836487-web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12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5050"/>
                </a:solidFill>
                <a:latin typeface="Garamond"/>
              </a:rPr>
              <a:t>Слово – уникальное явление нашей жизни, которое, будучи произнесённым, производит реальное изменение в пространстве и времени. 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marL="216000" indent="-216000">
              <a:spcBef>
                <a:spcPts val="12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5050"/>
                </a:solidFill>
                <a:latin typeface="Garamond"/>
              </a:rPr>
              <a:t>Каждый из вас знает силу слова. Оно может творить, может утешить, вдохновить, исцелить, ранить, разрушить, убить. 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marL="216000" indent="-216000">
              <a:spcBef>
                <a:spcPts val="12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5050"/>
                </a:solidFill>
                <a:latin typeface="Garamond"/>
              </a:rPr>
              <a:t>Именно </a:t>
            </a:r>
            <a:r>
              <a:rPr b="1" lang="ru-RU" sz="5000" spc="-1" strike="noStrike" u="sng">
                <a:solidFill>
                  <a:srgbClr val="ff5050"/>
                </a:solidFill>
                <a:uFillTx/>
                <a:latin typeface="Garamond"/>
              </a:rPr>
              <a:t>слово</a:t>
            </a:r>
            <a:r>
              <a:rPr b="1" lang="ru-RU" sz="5000" spc="-1" strike="noStrike">
                <a:solidFill>
                  <a:srgbClr val="ff5050"/>
                </a:solidFill>
                <a:latin typeface="Garamond"/>
              </a:rPr>
              <a:t> даровано человеку для владения и разумного управления жизнью на земле.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5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5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ловом  можно  убить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ловом  можно  спасти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ловом  можно  полк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За  собой  повест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ловом можно предать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И  продать, и  купить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лово  можно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  разящий  свинец  перелить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na01634_"/>
          <p:cNvPicPr/>
          <p:nvPr/>
        </p:nvPicPr>
        <p:blipFill>
          <a:blip r:embed="rId1"/>
          <a:stretch/>
        </p:blipFill>
        <p:spPr>
          <a:xfrm>
            <a:off x="173160" y="0"/>
            <a:ext cx="3159000" cy="5715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trumb_25233420"/>
          <p:cNvPicPr/>
          <p:nvPr/>
        </p:nvPicPr>
        <p:blipFill>
          <a:blip r:embed="rId2"/>
          <a:stretch/>
        </p:blipFill>
        <p:spPr>
          <a:xfrm>
            <a:off x="1828800" y="304920"/>
            <a:ext cx="152388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 слабости слов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Мат – искажение ДАРА слова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Мат – отказ в понимании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Мат – незаинтересованность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Мат – подмена истины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752480" y="4484520"/>
            <a:ext cx="571500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мысл матом не передаётс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атерные слова одни и те же, о чём бы ни шёл разговор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атерные слова обозначают естественные органы и действия, не имеющие сами по себе ничего плохого. Но употребляются они тогда, когда произносящий указывает именно на их постыдное значение без связи с самими органами и действия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атом выражается не смысл, а отношение говорящего к личности или к предмету разговора, причём отнош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егативное, отвергающе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4" descr="J0282737"/>
          <p:cNvPicPr/>
          <p:nvPr/>
        </p:nvPicPr>
        <p:blipFill>
          <a:blip r:embed="rId1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3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3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3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j0304815"/>
          <p:cNvPicPr/>
          <p:nvPr/>
        </p:nvPicPr>
        <p:blipFill>
          <a:blip r:embed="rId1"/>
          <a:stretch/>
        </p:blipFill>
        <p:spPr>
          <a:xfrm>
            <a:off x="7086600" y="3200400"/>
            <a:ext cx="2057400" cy="1981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Слово  «мат»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имеет  в   своей    основе выражения,  связанные с  проклятием  Божьей Матери   и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собственной   матер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ат – язык злых духов, демон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потребление   нецензурных   слов – это  безнравственный   поступок,  гре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атерщин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это   каждый   раз   вызов, брошенный   Бог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Священник-психолог Б.В.Ничипор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Введение в  христианскую  психологию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3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3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3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Мат  оскверняет  человека,  убивает его  душу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Garamond"/>
              </a:rPr>
              <a:t>И  особенно  больно,  когда сквернословие  сопровождает   жизнь ребён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5" descr="j0344843"/>
          <p:cNvPicPr/>
          <p:nvPr/>
        </p:nvPicPr>
        <p:blipFill>
          <a:blip r:embed="rId1"/>
          <a:stretch/>
        </p:blipFill>
        <p:spPr>
          <a:xfrm>
            <a:off x="6934320" y="228600"/>
            <a:ext cx="1992240" cy="1447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j0232130"/>
          <p:cNvPicPr/>
          <p:nvPr/>
        </p:nvPicPr>
        <p:blipFill>
          <a:blip r:embed="rId2"/>
          <a:stretch/>
        </p:blipFill>
        <p:spPr>
          <a:xfrm>
            <a:off x="533520" y="4876920"/>
            <a:ext cx="1854000" cy="1819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golova"/>
          <p:cNvPicPr/>
          <p:nvPr/>
        </p:nvPicPr>
        <p:blipFill>
          <a:blip r:embed="rId3"/>
          <a:stretch/>
        </p:blipFill>
        <p:spPr>
          <a:xfrm>
            <a:off x="6248520" y="4191120"/>
            <a:ext cx="27050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3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9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6019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мат опасен для здоровья,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способствует снижению интеллекта, провоцирует преступления,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создаёт  иллюзию вседозволенности,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обворовывает нас духовно,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унижает и оскорбляет,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калечит людские судьбы,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приводит к раннему старению и преждевременной смерти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4" descr="J0283262"/>
          <p:cNvPicPr/>
          <p:nvPr/>
        </p:nvPicPr>
        <p:blipFill>
          <a:blip r:embed="rId1"/>
          <a:stretch/>
        </p:blipFill>
        <p:spPr>
          <a:xfrm>
            <a:off x="6172200" y="380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J0286666"/>
          <p:cNvPicPr/>
          <p:nvPr/>
        </p:nvPicPr>
        <p:blipFill>
          <a:blip r:embed="rId2"/>
          <a:stretch/>
        </p:blipFill>
        <p:spPr>
          <a:xfrm>
            <a:off x="7050240" y="4724280"/>
            <a:ext cx="2093760" cy="2133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J0286667"/>
          <p:cNvPicPr/>
          <p:nvPr/>
        </p:nvPicPr>
        <p:blipFill>
          <a:blip r:embed="rId3"/>
          <a:stretch/>
        </p:blipFill>
        <p:spPr>
          <a:xfrm>
            <a:off x="5589720" y="2819520"/>
            <a:ext cx="16462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6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4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8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2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0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Молекулы ДНК  –  наследственность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Ругается человек матом - хромосомы корёжатся и гнутся, гены меняются местами. ДНК  вырабатывает  противоестественные программы.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Потомству передаётся программа самоликвидации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81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3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3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3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3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       </a:t>
            </a:r>
            <a:r>
              <a:rPr b="1" lang="ru-RU" sz="3800" spc="-1" strike="noStrike" u="sng">
                <a:solidFill>
                  <a:srgbClr val="ff5050"/>
                </a:solidFill>
                <a:uFillTx/>
                <a:latin typeface="Garamond"/>
              </a:rPr>
              <a:t>Цифры и факты: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За последние 20 лет число детей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с отставанием в умственном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и физическим развитии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выросло </a:t>
            </a:r>
            <a:r>
              <a:rPr b="1" lang="ru-RU" sz="3400" spc="-1" strike="noStrike" u="sng">
                <a:solidFill>
                  <a:srgbClr val="ff5050"/>
                </a:solidFill>
                <a:uFillTx/>
                <a:latin typeface="Garamond"/>
              </a:rPr>
              <a:t>в 10 раз.</a:t>
            </a:r>
            <a:r>
              <a:rPr b="1" lang="ru-RU" sz="3400" spc="-1" strike="noStrike">
                <a:solidFill>
                  <a:srgbClr val="ff5050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Более </a:t>
            </a:r>
            <a:r>
              <a:rPr b="1" lang="ru-RU" sz="3600" spc="-1" strike="noStrike" u="sng">
                <a:solidFill>
                  <a:srgbClr val="ff5050"/>
                </a:solidFill>
                <a:uFillTx/>
                <a:latin typeface="Garamond"/>
              </a:rPr>
              <a:t>80%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новорожденных   больн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Здоров  лишь  </a:t>
            </a:r>
            <a:r>
              <a:rPr b="1" lang="ru-RU" sz="3600" spc="-1" strike="noStrike" u="sng">
                <a:solidFill>
                  <a:srgbClr val="ff5050"/>
                </a:solidFill>
                <a:uFillTx/>
                <a:latin typeface="Garamond"/>
              </a:rPr>
              <a:t>один  из  десяти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выпускников  школ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286000" cy="207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94h26siwkrl0"/>
          <p:cNvPicPr/>
          <p:nvPr/>
        </p:nvPicPr>
        <p:blipFill>
          <a:blip r:embed="rId2"/>
          <a:stretch/>
        </p:blipFill>
        <p:spPr>
          <a:xfrm>
            <a:off x="6781680" y="2514600"/>
            <a:ext cx="1893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5000" spc="-1" strike="noStrike">
                <a:solidFill>
                  <a:srgbClr val="ffffff"/>
                </a:solidFill>
                <a:latin typeface="Garamond"/>
              </a:rPr>
              <a:t>Важна не громкость, 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5000" spc="-1" strike="noStrike">
                <a:solidFill>
                  <a:srgbClr val="ffffff"/>
                </a:solidFill>
                <a:latin typeface="Garamond"/>
              </a:rPr>
              <a:t>а   СМЫСЛ   слова, 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u-RU" sz="5000" spc="-1" strike="noStrike">
                <a:solidFill>
                  <a:srgbClr val="ffffff"/>
                </a:solidFill>
                <a:latin typeface="Garamond"/>
              </a:rPr>
              <a:t>его   СОДЕРЖАНИЕ!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4" descr="j0196536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ffffff"/>
                </a:solidFill>
                <a:latin typeface="Garamond"/>
              </a:rPr>
              <a:t>ДНК</a:t>
            </a:r>
            <a:endParaRPr b="0" lang="en-US" sz="7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7500" spc="-1" strike="noStrike">
                <a:solidFill>
                  <a:srgbClr val="ffffff"/>
                </a:solidFill>
                <a:latin typeface="Garamond"/>
              </a:rPr>
              <a:t>воспринимает человеческую речь!</a:t>
            </a:r>
            <a:endParaRPr b="0" lang="en-US" sz="7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4" descr="J0282747"/>
          <p:cNvPicPr/>
          <p:nvPr/>
        </p:nvPicPr>
        <p:blipFill>
          <a:blip r:embed="rId1"/>
          <a:stretch/>
        </p:blipFill>
        <p:spPr>
          <a:xfrm>
            <a:off x="6781680" y="228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ffffff"/>
                </a:solidFill>
                <a:latin typeface="Garamond"/>
              </a:rPr>
              <a:t>МОЛИТВА    -   ПРОБУЖДАЕТ</a:t>
            </a:r>
            <a:endParaRPr b="0" lang="en-US" sz="75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ffffff"/>
                </a:solidFill>
                <a:latin typeface="Garamond"/>
              </a:rPr>
              <a:t>ПРОКЛЯТИЕ  -РАЗРУШАЕТ</a:t>
            </a:r>
            <a:endParaRPr b="0" lang="en-US" sz="7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4" descr="J0283258"/>
          <p:cNvPicPr/>
          <p:nvPr/>
        </p:nvPicPr>
        <p:blipFill>
          <a:blip r:embed="rId1"/>
          <a:stretch/>
        </p:blipFill>
        <p:spPr>
          <a:xfrm>
            <a:off x="228600" y="228600"/>
            <a:ext cx="1273320" cy="1752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J0282749"/>
          <p:cNvPicPr/>
          <p:nvPr/>
        </p:nvPicPr>
        <p:blipFill>
          <a:blip r:embed="rId2"/>
          <a:stretch/>
        </p:blipFill>
        <p:spPr>
          <a:xfrm>
            <a:off x="73152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001_smallм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5050"/>
                </a:solidFill>
                <a:latin typeface="Garamond"/>
              </a:rPr>
              <a:t>Сквернословие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 -   приобретённое заболевание,   вирус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5050"/>
                </a:solidFill>
                <a:latin typeface="Garamond"/>
              </a:rPr>
              <a:t>Нецензурная    брань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     заразна!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Garamond"/>
              </a:rPr>
              <a:t>Это настоящая инфекция:</a:t>
            </a: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азрушает физическое тело, у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ижает интеллек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иводит к неуравновешен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грессив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есть претензии к окружающему мир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эмоциональная туп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м теряет  способность руководить чувствами и действия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еградация ли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3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457200"/>
          <a:ext cx="9144000" cy="2666880"/>
        </p:xfrm>
        <a:graphic>
          <a:graphicData uri="http://schemas.openxmlformats.org/drawingml/2006/table">
            <a:tbl>
              <a:tblPr/>
              <a:tblGrid>
                <a:gridCol w="4826160"/>
                <a:gridCol w="4317840"/>
              </a:tblGrid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т неприятен  всем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вернословие вызывает отторжение, боль, оскорбление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оброе слово всем приятно услышать и произнест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19"/>
          <p:cNvSpPr/>
          <p:nvPr/>
        </p:nvSpPr>
        <p:spPr>
          <a:xfrm>
            <a:off x="304920" y="3048120"/>
            <a:ext cx="883908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Почему?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Доброе  слово  естественно,   как   сама   жизнь,     как   улыбка,  как  любовь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Мат,  как  инородное тело в организме, вызывает неприятные ощущения,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как болезнетворные  бактерии,  как  заноз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23" descr="j0196542"/>
          <p:cNvPicPr/>
          <p:nvPr/>
        </p:nvPicPr>
        <p:blipFill>
          <a:blip r:embed="rId1"/>
          <a:stretch/>
        </p:blipFill>
        <p:spPr>
          <a:xfrm>
            <a:off x="3200400" y="1447920"/>
            <a:ext cx="1351080" cy="1523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4" descr="j0195412"/>
          <p:cNvPicPr/>
          <p:nvPr/>
        </p:nvPicPr>
        <p:blipFill>
          <a:blip r:embed="rId2"/>
          <a:stretch/>
        </p:blipFill>
        <p:spPr>
          <a:xfrm>
            <a:off x="7086600" y="1219320"/>
            <a:ext cx="1741320" cy="190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5" descr="j0339844"/>
          <p:cNvPicPr/>
          <p:nvPr/>
        </p:nvPicPr>
        <p:blipFill>
          <a:blip r:embed="rId3"/>
          <a:stretch/>
        </p:blipFill>
        <p:spPr>
          <a:xfrm>
            <a:off x="7924680" y="5730840"/>
            <a:ext cx="1219320" cy="976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j0336703"/>
          <p:cNvPicPr/>
          <p:nvPr/>
        </p:nvPicPr>
        <p:blipFill>
          <a:blip r:embed="rId4"/>
          <a:stretch/>
        </p:blipFill>
        <p:spPr>
          <a:xfrm>
            <a:off x="5105520" y="4191120"/>
            <a:ext cx="15238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3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3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3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3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Мат -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сихический уда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асил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скорбл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ощёчи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419720" y="990720"/>
            <a:ext cx="47242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b9efee"/>
                </a:solidFill>
                <a:latin typeface="Garamond"/>
              </a:rPr>
              <a:t>ДУХОВНОСТЬ</a:t>
            </a:r>
            <a:endParaRPr b="1" lang="en-US" sz="5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ЮБОВ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ОБРО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ЧУТК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ЗАИМОПОНИМ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РАСО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ЗН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ТВЕТСТВ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286680" y="1219320"/>
            <a:ext cx="2857320" cy="3066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5200560" y="3581280"/>
            <a:ext cx="394344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3505320" y="0"/>
            <a:ext cx="56386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7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7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7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7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7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7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Garamond"/>
              </a:rPr>
              <a:t>СОСТОЯНИЕ   ЗДОРОВЬ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РОВЕНЬ МЕДИЦИНЫ – 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СЛЕДСТВЕННОСТЬ -  2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КРУЖАЮЩАЯ СРЕДА  -2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ОБРАЗ ЖИЗНИ – 50%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x_b7ea7a05"/>
          <p:cNvPicPr/>
          <p:nvPr/>
        </p:nvPicPr>
        <p:blipFill>
          <a:blip r:embed="rId1"/>
          <a:stretch/>
        </p:blipFill>
        <p:spPr>
          <a:xfrm>
            <a:off x="1600200" y="4191120"/>
            <a:ext cx="6172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0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6858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Garamond"/>
              </a:rPr>
              <a:t>Цифры и факты: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5050"/>
                </a:solidFill>
                <a:uFillTx/>
                <a:latin typeface="Garamond"/>
              </a:rPr>
              <a:t>Увеличилось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количество девушек, имеющих хронические заболевания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Это будущие матери, носители генофонда наци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722600" y="0"/>
            <a:ext cx="555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raip__440_1_"/>
          <p:cNvPicPr/>
          <p:nvPr/>
        </p:nvPicPr>
        <p:blipFill>
          <a:blip r:embed="rId1"/>
          <a:stretch/>
        </p:blipFill>
        <p:spPr>
          <a:xfrm>
            <a:off x="838080" y="0"/>
            <a:ext cx="5372280" cy="6638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3108240" y="0"/>
            <a:ext cx="603576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trumb_17235355"/>
          <p:cNvPicPr/>
          <p:nvPr/>
        </p:nvPicPr>
        <p:blipFill>
          <a:blip r:embed="rId3"/>
          <a:stretch/>
        </p:blipFill>
        <p:spPr>
          <a:xfrm>
            <a:off x="304920" y="914400"/>
            <a:ext cx="4190760" cy="4648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4"/>
          <a:stretch/>
        </p:blipFill>
        <p:spPr>
          <a:xfrm>
            <a:off x="3581280" y="1523880"/>
            <a:ext cx="5562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0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2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46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0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Garamond"/>
              </a:rPr>
              <a:t>СПАСИБО ЗА ВНИМАНИЕ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Garamond"/>
              </a:rPr>
              <a:t>Цифры и факты: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о продолжительности жизни Россия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а </a:t>
            </a:r>
            <a:r>
              <a:rPr b="1" lang="ru-RU" sz="4800" spc="-1" strike="noStrike" u="sng">
                <a:solidFill>
                  <a:srgbClr val="ff5050"/>
                </a:solidFill>
                <a:uFillTx/>
                <a:latin typeface="Garamond"/>
              </a:rPr>
              <a:t>133</a:t>
            </a:r>
            <a:r>
              <a:rPr b="1" lang="ru-RU" sz="4800" spc="-1" strike="noStrike">
                <a:solidFill>
                  <a:srgbClr val="ff5050"/>
                </a:solidFill>
                <a:latin typeface="Garamond"/>
              </a:rPr>
              <a:t>  </a:t>
            </a:r>
            <a:r>
              <a:rPr b="1" lang="ru-RU" sz="4800" spc="-1" strike="noStrike" u="sng">
                <a:solidFill>
                  <a:srgbClr val="ff5050"/>
                </a:solidFill>
                <a:uFillTx/>
                <a:latin typeface="Garamond"/>
              </a:rPr>
              <a:t>месте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среди мужчин 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а </a:t>
            </a:r>
            <a:r>
              <a:rPr b="1" lang="ru-RU" sz="5400" spc="-1" strike="noStrike" u="sng">
                <a:solidFill>
                  <a:srgbClr val="ff5050"/>
                </a:solidFill>
                <a:uFillTx/>
                <a:latin typeface="Garamond"/>
              </a:rPr>
              <a:t>100 месте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реди женщин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5050"/>
                </a:solidFill>
                <a:latin typeface="Garamond"/>
              </a:rPr>
              <a:t>54%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молодёжи, родившейся в 90-ые годы, не были способны окончить среднюю школ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315200" y="2590920"/>
            <a:ext cx="1676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RAP "/>
          <p:cNvPicPr/>
          <p:nvPr/>
        </p:nvPicPr>
        <p:blipFill>
          <a:blip r:embed="rId1"/>
          <a:stretch/>
        </p:blipFill>
        <p:spPr>
          <a:xfrm>
            <a:off x="228600" y="28195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xbox1280x1024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457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3"/>
          <a:stretch/>
        </p:blipFill>
        <p:spPr>
          <a:xfrm>
            <a:off x="2813040" y="457200"/>
            <a:ext cx="4440240" cy="4921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4"/>
          <a:stretch/>
        </p:blipFill>
        <p:spPr>
          <a:xfrm>
            <a:off x="0" y="457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warcra3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is4"/>
          <p:cNvPicPr/>
          <p:nvPr/>
        </p:nvPicPr>
        <p:blipFill>
          <a:blip r:embed="rId2"/>
          <a:stretch/>
        </p:blipFill>
        <p:spPr>
          <a:xfrm>
            <a:off x="609480" y="609480"/>
            <a:ext cx="3581640" cy="327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667"/>
          <p:cNvPicPr/>
          <p:nvPr/>
        </p:nvPicPr>
        <p:blipFill>
          <a:blip r:embed="rId3"/>
          <a:stretch/>
        </p:blipFill>
        <p:spPr>
          <a:xfrm>
            <a:off x="2819520" y="5029200"/>
            <a:ext cx="1554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9efee"/>
                </a:solidFill>
                <a:uFillTx/>
                <a:latin typeface="Garamond"/>
              </a:rPr>
              <a:t>Исторические корни мата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Исконно русские корн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2882160"/>
            <a:ext cx="1421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древней Руси мат - заклинание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формула против нечистой сил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Матерная  брань - общение с нечист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силой, настрой на их волну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призыв их в свою жизнь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isbuhka"/>
          <p:cNvPicPr/>
          <p:nvPr/>
        </p:nvPicPr>
        <p:blipFill>
          <a:blip r:embed="rId1"/>
          <a:stretch/>
        </p:blipFill>
        <p:spPr>
          <a:xfrm>
            <a:off x="6353280" y="457200"/>
            <a:ext cx="2523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ffff"/>
                </a:solidFill>
                <a:uFillTx/>
                <a:latin typeface="Garamond"/>
              </a:rPr>
              <a:t>Бранить детей нельзя матом :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они будут мучимы бесами.</a:t>
            </a:r>
            <a:r>
              <a:rPr b="1" lang="ru-RU" sz="3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ffff"/>
                </a:solidFill>
                <a:uFillTx/>
                <a:latin typeface="Garamond"/>
              </a:rPr>
              <a:t>Материться в доме нельзя: </a:t>
            </a: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бесы будут жить в этом жилище.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ffff"/>
                </a:solidFill>
                <a:uFillTx/>
                <a:latin typeface="Garamond"/>
              </a:rPr>
              <a:t>Нельзя было ругаться в лесу: </a:t>
            </a: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леший может обидеться, на берегу реки или озера – оскорбится водяной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4" descr="isbuhka"/>
          <p:cNvPicPr/>
          <p:nvPr/>
        </p:nvPicPr>
        <p:blipFill>
          <a:blip r:embed="rId1"/>
          <a:stretch/>
        </p:blipFill>
        <p:spPr>
          <a:xfrm>
            <a:off x="6789600" y="228600"/>
            <a:ext cx="2163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" descr="AG00036_"/>
          <p:cNvPicPr/>
          <p:nvPr/>
        </p:nvPicPr>
        <p:blipFill>
          <a:blip r:embed="rId1"/>
          <a:stretch/>
        </p:blipFill>
        <p:spPr>
          <a:xfrm>
            <a:off x="7389720" y="304920"/>
            <a:ext cx="1554120" cy="1676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b9efee"/>
                </a:solidFill>
                <a:uFillTx/>
                <a:latin typeface="Garamond"/>
              </a:rPr>
              <a:t>«Поле брани»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Где человеку можно было выругаться, выплеснуть из себя всю злость или раздражени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ставалось одно место – поле. Так появилось  выражение «поле брани» -   это поле матерной руга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horserider1"/>
          <p:cNvPicPr/>
          <p:nvPr/>
        </p:nvPicPr>
        <p:blipFill>
          <a:blip r:embed="rId2"/>
          <a:stretch/>
        </p:blipFill>
        <p:spPr>
          <a:xfrm>
            <a:off x="1981080" y="5638680"/>
            <a:ext cx="1524240" cy="1047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horserider1"/>
          <p:cNvPicPr/>
          <p:nvPr/>
        </p:nvPicPr>
        <p:blipFill>
          <a:blip r:embed="rId3"/>
          <a:stretch/>
        </p:blipFill>
        <p:spPr>
          <a:xfrm>
            <a:off x="3657600" y="457200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orserider1"/>
          <p:cNvPicPr/>
          <p:nvPr/>
        </p:nvPicPr>
        <p:blipFill>
          <a:blip r:embed="rId4"/>
          <a:stretch/>
        </p:blipFill>
        <p:spPr>
          <a:xfrm>
            <a:off x="5334120" y="5638680"/>
            <a:ext cx="1523880" cy="1047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orserider1"/>
          <p:cNvPicPr/>
          <p:nvPr/>
        </p:nvPicPr>
        <p:blipFill>
          <a:blip r:embed="rId5"/>
          <a:stretch/>
        </p:blipFill>
        <p:spPr>
          <a:xfrm>
            <a:off x="533520" y="457200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orserider1"/>
          <p:cNvPicPr/>
          <p:nvPr/>
        </p:nvPicPr>
        <p:blipFill>
          <a:blip r:embed="rId6"/>
          <a:stretch/>
        </p:blipFill>
        <p:spPr>
          <a:xfrm>
            <a:off x="7010280" y="4572000"/>
            <a:ext cx="15242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онидович</dc:creator>
  <dc:description/>
  <dc:language>en-US</dc:language>
  <cp:lastModifiedBy>Леонидович</cp:lastModifiedBy>
  <dcterms:modified xsi:type="dcterms:W3CDTF">2017-05-12T04:41:2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