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8.png" ContentType="image/png"/>
  <Override PartName="/ppt/media/image7.jpeg" ContentType="image/jpeg"/>
  <Override PartName="/ppt/media/image15.jpeg" ContentType="image/jpeg"/>
  <Override PartName="/ppt/media/image3.wmf" ContentType="image/x-wmf"/>
  <Override PartName="/ppt/media/image52.jpeg" ContentType="image/jpeg"/>
  <Override PartName="/ppt/media/image8.jpeg" ContentType="image/jpeg"/>
  <Override PartName="/ppt/media/image38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9.gif" ContentType="image/gif"/>
  <Override PartName="/ppt/media/image16.jpeg" ContentType="image/jpeg"/>
  <Override PartName="/ppt/media/image6.png" ContentType="image/png"/>
  <Override PartName="/ppt/media/image36.png" ContentType="image/png"/>
  <Override PartName="/ppt/media/image42.png" ContentType="image/png"/>
  <Override PartName="/ppt/media/image46.png" ContentType="image/png"/>
  <Override PartName="/ppt/media/image48.png" ContentType="image/png"/>
  <Override PartName="/ppt/media/image50.jpeg" ContentType="image/jpeg"/>
  <Override PartName="/ppt/media/image45.png" ContentType="image/png"/>
  <Override PartName="/ppt/media/image51.jpeg" ContentType="image/jpeg"/>
  <Override PartName="/ppt/media/image53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13.gif" ContentType="image/gif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7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12.wmf" ContentType="image/x-wmf"/>
  <Override PartName="/ppt/media/image27.png" ContentType="image/png"/>
  <Override PartName="/ppt/media/image11.wmf" ContentType="image/x-wmf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1AE7-C02B-4570-8156-1124177BC1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442-62B8-4EC9-BEF3-66B5879EF500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D41C-5702-4A48-BC03-D10C77081751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5A0-6C2D-473F-9EE3-D1C1EB28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CAF-D69B-4B62-A1C7-6EBAF6C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B6-E922-4353-8F38-C15005B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856-F616-4575-AB87-43E45992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8AD-C27D-40F6-8F0B-243DE369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617F-36BA-4276-9F21-6B61FA07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9D0B-F4D1-4E4C-8C83-F2B34E2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5768-457A-4850-AEE4-AF4C0EF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F12B-A795-45B5-BE78-A4087D67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0DD7-D905-41B6-BAE4-1345194E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838-81F1-44E5-9A79-6B8ADE2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759-1714-4EB9-BC8B-99ABD5C7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BDD-8DF3-423D-8784-79B30EE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979-D347-4F6D-BDD3-1B5D5DF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996B-01E0-483C-AA2F-3A19A12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804E-AB24-4C7F-8831-96CADA7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6A83-10DE-4D74-9339-9A04F5AF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44B-5892-428C-B42E-C55EA51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747-5396-43CF-B670-DB0627F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93B-F0A2-487D-BCE5-4F55D3B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DDD-1926-48D2-B835-933C8CA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80E-583B-45A8-A1DB-9B983D8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469-00D8-4D19-B949-C605DFD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29F-1C49-40CE-80FF-5B7FFA22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7DD9-2B1E-4D1E-9652-5ADFAC06A6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DD1-11C9-4F10-ACBA-D193BF1E5E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slide11.xm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image" Target="../media/image44.png"/><Relationship Id="rId25" Type="http://schemas.openxmlformats.org/officeDocument/2006/relationships/image" Target="../media/image45.png"/><Relationship Id="rId26" Type="http://schemas.openxmlformats.org/officeDocument/2006/relationships/image" Target="../media/image46.png"/><Relationship Id="rId27" Type="http://schemas.openxmlformats.org/officeDocument/2006/relationships/image" Target="../media/image47.png"/><Relationship Id="rId28" Type="http://schemas.openxmlformats.org/officeDocument/2006/relationships/image" Target="../media/image48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549360"/>
            <a:ext cx="755964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Смотр зна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6666"/>
                </a:solidFill>
                <a:latin typeface="Times New Roman"/>
              </a:rPr>
              <a:t>Проверим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Задание 2.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Составь транскрипцию</a:t>
            </a:r>
            <a:br>
              <a:rPr sz="3200"/>
            </a:b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данного предлож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Я знаю всё о фонети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Мы все умеем считать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Я люблю кататься с горк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9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16360" cy="340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03280" y="981000"/>
            <a:ext cx="626580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Times New Roman"/>
              </a:rPr>
              <a:t>Повторим лексику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11280" y="62064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зови одним слов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220500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ветло- фиолетовый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11640" y="587700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Животный мир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03280" y="3068640"/>
            <a:ext cx="46450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змоторный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летательный аппара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35280" y="4005360"/>
            <a:ext cx="52578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стройство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 раскрывающимся в воздух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онтообразным куполо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43280" y="522936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стительный ми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285560" cy="180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38920" y="2563920"/>
            <a:ext cx="138420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большая книж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фессиональный наезд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чень мелкий дожд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пас слов и выражений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мятный подар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ивотный ми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11280" y="62064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2349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Лиловый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321300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анер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0" y="3213000"/>
            <a:ext cx="33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Парашют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835280" y="465300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лор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501336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Фауна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65760" y="2058840"/>
            <a:ext cx="12747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605304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Times New Roman"/>
              </a:rPr>
              <a:t>Назови цвет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564280"/>
                <a:gridCol w="2564280"/>
                <a:gridCol w="256464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2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9a5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e0c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925040" cy="1000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Times New Roman"/>
              </a:rPr>
              <a:t>Устами младенц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0483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Овал 1"/>
          <p:cNvSpPr/>
          <p:nvPr/>
        </p:nvSpPr>
        <p:spPr>
          <a:xfrm>
            <a:off x="2627280" y="0"/>
            <a:ext cx="3384720" cy="1484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 смысловых отношений между слов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2" name="Прямая со стрелкой 3"/>
          <p:cNvCxnSpPr>
            <a:stCxn id="171" idx="3"/>
          </p:cNvCxnSpPr>
          <p:nvPr/>
        </p:nvCxnSpPr>
        <p:spPr>
          <a:xfrm flipH="1" flipV="1">
            <a:off x="1618920" y="691920"/>
            <a:ext cx="1504080" cy="5752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3" name="Прямая со стрелкой 5"/>
          <p:cNvCxnSpPr>
            <a:stCxn id="171" idx="3"/>
          </p:cNvCxnSpPr>
          <p:nvPr/>
        </p:nvCxnSpPr>
        <p:spPr>
          <a:xfrm flipH="1">
            <a:off x="2339640" y="1266480"/>
            <a:ext cx="783360" cy="3596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4" name="Прямая со стрелкой 7"/>
          <p:cNvCxnSpPr>
            <a:stCxn id="171" idx="5"/>
          </p:cNvCxnSpPr>
          <p:nvPr/>
        </p:nvCxnSpPr>
        <p:spPr>
          <a:xfrm>
            <a:off x="5516280" y="1266480"/>
            <a:ext cx="278280" cy="4309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5" name="Прямая со стрелкой 10"/>
          <p:cNvCxnSpPr>
            <a:stCxn id="171" idx="6"/>
          </p:cNvCxnSpPr>
          <p:nvPr/>
        </p:nvCxnSpPr>
        <p:spPr>
          <a:xfrm>
            <a:off x="6012000" y="743040"/>
            <a:ext cx="1008720" cy="3103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176" name="Прямоугольник 11"/>
          <p:cNvSpPr/>
          <p:nvPr/>
        </p:nvSpPr>
        <p:spPr>
          <a:xfrm>
            <a:off x="0" y="500040"/>
            <a:ext cx="2124000" cy="76824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синон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1785960" y="1714680"/>
            <a:ext cx="2065320" cy="56196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антон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Прямоугольник 14"/>
          <p:cNvSpPr/>
          <p:nvPr/>
        </p:nvSpPr>
        <p:spPr>
          <a:xfrm>
            <a:off x="4356000" y="1643040"/>
            <a:ext cx="2160720" cy="63360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омон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7093080" y="928800"/>
            <a:ext cx="2050920" cy="628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парон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2" descr="C:\Documents and Settings\All Users\Документы\Мои рисунки\радость.jpg"/>
          <p:cNvPicPr/>
          <p:nvPr/>
        </p:nvPicPr>
        <p:blipFill>
          <a:blip r:embed="rId1"/>
          <a:stretch/>
        </p:blipFill>
        <p:spPr>
          <a:xfrm>
            <a:off x="0" y="1357200"/>
            <a:ext cx="1428840" cy="15717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9"/>
          <p:cNvSpPr/>
          <p:nvPr/>
        </p:nvSpPr>
        <p:spPr>
          <a:xfrm>
            <a:off x="220680" y="3214800"/>
            <a:ext cx="105408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дос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сель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3" descr="C:\Documents and Settings\All Users\Документы\Мои рисунки\высокий.jpg"/>
          <p:cNvPicPr/>
          <p:nvPr/>
        </p:nvPicPr>
        <p:blipFill>
          <a:blip r:embed="rId2"/>
          <a:stretch/>
        </p:blipFill>
        <p:spPr>
          <a:xfrm>
            <a:off x="1643040" y="2286000"/>
            <a:ext cx="1000080" cy="19288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1"/>
          <p:cNvSpPr/>
          <p:nvPr/>
        </p:nvSpPr>
        <p:spPr>
          <a:xfrm>
            <a:off x="1650600" y="4429080"/>
            <a:ext cx="10645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з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4" descr="C:\Documents and Settings\All Users\Документы\Мои рисунки\замок из песка.jpg"/>
          <p:cNvPicPr/>
          <p:nvPr/>
        </p:nvPicPr>
        <p:blipFill>
          <a:blip r:embed="rId3"/>
          <a:stretch/>
        </p:blipFill>
        <p:spPr>
          <a:xfrm>
            <a:off x="6929280" y="1571760"/>
            <a:ext cx="2214720" cy="15714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3"/>
          <p:cNvSpPr/>
          <p:nvPr/>
        </p:nvSpPr>
        <p:spPr>
          <a:xfrm>
            <a:off x="7084080" y="3143160"/>
            <a:ext cx="1773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сочный зам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Documents and Settings\All Users\Документы\Мои рисунки\почва.jpg"/>
          <p:cNvPicPr/>
          <p:nvPr/>
        </p:nvPicPr>
        <p:blipFill>
          <a:blip r:embed="rId4"/>
          <a:stretch/>
        </p:blipFill>
        <p:spPr>
          <a:xfrm>
            <a:off x="7000920" y="3714840"/>
            <a:ext cx="2143080" cy="20239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5"/>
          <p:cNvSpPr/>
          <p:nvPr/>
        </p:nvSpPr>
        <p:spPr>
          <a:xfrm>
            <a:off x="7155360" y="6000840"/>
            <a:ext cx="1683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счаная поч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Picture 6" descr="C:\Documents and Settings\All Users\Документы\Мои рисунки\коса.jpg"/>
          <p:cNvPicPr/>
          <p:nvPr/>
        </p:nvPicPr>
        <p:blipFill>
          <a:blip r:embed="rId5"/>
          <a:stretch/>
        </p:blipFill>
        <p:spPr>
          <a:xfrm>
            <a:off x="3857760" y="2357280"/>
            <a:ext cx="1357200" cy="271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Documents and Settings\All Users\Документы\Мои рисунки\коса для травы.jpg"/>
          <p:cNvPicPr/>
          <p:nvPr/>
        </p:nvPicPr>
        <p:blipFill>
          <a:blip r:embed="rId6"/>
          <a:stretch/>
        </p:blipFill>
        <p:spPr>
          <a:xfrm>
            <a:off x="5500800" y="2357280"/>
            <a:ext cx="1285920" cy="27385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8"/>
          <p:cNvSpPr/>
          <p:nvPr/>
        </p:nvSpPr>
        <p:spPr>
          <a:xfrm>
            <a:off x="3786120" y="5357880"/>
            <a:ext cx="2571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са у девоч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са- орудие тру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Игра «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азови слово</a:t>
            </a: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(Какое единое слово можно употребить для выделенных слов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а) Вспыльчивый человек, страстное желание, напряженный день (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).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в)Железная воля, незыблемое решение, крутой характер (             ).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г) Прочный стол, насыщенный раствор, глубокий сон, здоровый организм, верная дружба (            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Игра «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азови слово</a:t>
            </a: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Какое единое слово можно употребить для выделенных слов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а) Вспыльчивый человек, страстное желание, напряженный день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горячий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).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в)Железная воля, незыблемое решение, крутой характер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вердый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).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г) Прочный стол, насыщенный раствор, глубокий сон, здоровый организм, верная дружба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крепкий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Цел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бобщение и систематизация знаний по фонетике и лексикологии как разделах науки о языке,  совершенствование умений работать с толковым словарем, развитие творческого мышления, памяти, речи; воспитание чувства ответственности, сотрудничества, общительности, коммуникативно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Боровиковский_ Портрет Екатерины Николаевны Арсеньевой.jpg"/>
          <p:cNvPicPr/>
          <p:nvPr/>
        </p:nvPicPr>
        <p:blipFill>
          <a:blip r:embed="rId1"/>
          <a:stretch/>
        </p:blipFill>
        <p:spPr>
          <a:xfrm>
            <a:off x="2071800" y="1571760"/>
            <a:ext cx="4786200" cy="51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Елена Николаевна Арсенье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Задание: Подобрать синоним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На нас смотрит симпатичное ,… лицо девушки. Её лукавая,…улыбка, смеющиеся, …глаза заставляют и нас улыбнуться и порадоваться ее счастью. Жизнерадостное , …настроение передается нам, и, наверное, поэтому так приятно,…смотреть на эту девушку, любоваться ее одеждой.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   Платье девушки из прозрачного , …материала. Оно подчеркивает нежность и молодость Арсеньевой, ее изысканный,…вкус. Ощущение радости,… остается от этой картины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Задание: Подобрать синоним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На нас смотрит симпатичное 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илое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лицо девушки. Её лукавая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окетливая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улыбка, смеющиеся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адорные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глаза заставляют и нас улыбнуться и порадоваться ее счастью. Жизнерадостное 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есёлое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настроение передается нам, и, наверное, поэтому так приятно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озерцать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и смотреть на эту девушку, любоваться ее одеждой.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   Платье девушки из прозрачного ,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тонкого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материала. Оно подчеркивает нежность и молодость Арсеньевой, ее изысканный и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тончённый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кус. Ощущение радости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раздника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остается от этой картины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8"/>
          <p:cNvGrpSpPr/>
          <p:nvPr/>
        </p:nvGrpSpPr>
        <p:grpSpPr>
          <a:xfrm>
            <a:off x="785880" y="-428760"/>
            <a:ext cx="7142760" cy="6785640"/>
            <a:chOff x="785880" y="-428760"/>
            <a:chExt cx="7142760" cy="6785640"/>
          </a:xfrm>
        </p:grpSpPr>
        <p:grpSp>
          <p:nvGrpSpPr>
            <p:cNvPr id="200" name="Группа 1"/>
            <p:cNvGrpSpPr/>
            <p:nvPr/>
          </p:nvGrpSpPr>
          <p:grpSpPr>
            <a:xfrm>
              <a:off x="785880" y="-428760"/>
              <a:ext cx="7142760" cy="6785640"/>
              <a:chOff x="785880" y="-428760"/>
              <a:chExt cx="7142760" cy="6785640"/>
            </a:xfrm>
          </p:grpSpPr>
          <p:grpSp>
            <p:nvGrpSpPr>
              <p:cNvPr id="201" name="Group 5"/>
              <p:cNvGrpSpPr/>
              <p:nvPr/>
            </p:nvGrpSpPr>
            <p:grpSpPr>
              <a:xfrm>
                <a:off x="785880" y="-428760"/>
                <a:ext cx="7142760" cy="6785640"/>
                <a:chOff x="785880" y="-428760"/>
                <a:chExt cx="7142760" cy="6785640"/>
              </a:xfrm>
            </p:grpSpPr>
            <p:sp>
              <p:nvSpPr>
                <p:cNvPr id="202" name="Freeform 6"/>
                <p:cNvSpPr/>
                <p:nvPr/>
              </p:nvSpPr>
              <p:spPr>
                <a:xfrm>
                  <a:off x="804960" y="585360"/>
                  <a:ext cx="7068240" cy="5604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7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4"/>
                <p:cNvSpPr/>
                <p:nvPr/>
              </p:nvSpPr>
              <p:spPr>
                <a:xfrm>
                  <a:off x="785880" y="-428760"/>
                  <a:ext cx="7142760" cy="67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Диагональная полоса 3"/>
              <p:cNvGrpSpPr/>
              <p:nvPr/>
            </p:nvGrpSpPr>
            <p:grpSpPr>
              <a:xfrm>
                <a:off x="3785760" y="524160"/>
                <a:ext cx="877680" cy="1664280"/>
                <a:chOff x="3785760" y="524160"/>
                <a:chExt cx="877680" cy="1664280"/>
              </a:xfrm>
            </p:grpSpPr>
            <p:pic>
              <p:nvPicPr>
                <p:cNvPr id="205" name="Диагональная полоса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85760" y="524160"/>
                  <a:ext cx="877680" cy="166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>
                  <a:off x="3812400" y="549000"/>
                  <a:ext cx="616680" cy="12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761560" y="1188720"/>
              <a:ext cx="5059800" cy="40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Управляющая кнопка: возврат 7">
            <a:hlinkClick r:id="rId3" action="ppaction://hlinksldjump"/>
          </p:cNvPr>
          <p:cNvSpPr/>
          <p:nvPr/>
        </p:nvSpPr>
        <p:spPr>
          <a:xfrm>
            <a:off x="8358120" y="59292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ff00"/>
          </a:solidFill>
          <a:ln w="42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28800" y="2428920"/>
          <a:ext cx="7572240" cy="328608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6d6bd"/>
                    </a:solidFill>
                  </a:tcPr>
                </a:tc>
              </a:tr>
            </a:tbl>
          </a:graphicData>
        </a:graphic>
      </p:graphicFrame>
      <p:pic>
        <p:nvPicPr>
          <p:cNvPr id="210" name="Прямоугольник 10" descr=""/>
          <p:cNvPicPr/>
          <p:nvPr/>
        </p:nvPicPr>
        <p:blipFill>
          <a:blip r:embed="rId4"/>
          <a:stretch/>
        </p:blipFill>
        <p:spPr>
          <a:xfrm>
            <a:off x="1474920" y="304920"/>
            <a:ext cx="6810120" cy="20048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11" descr=""/>
          <p:cNvPicPr/>
          <p:nvPr/>
        </p:nvPicPr>
        <p:blipFill>
          <a:blip r:embed="rId5"/>
          <a:stretch/>
        </p:blipFill>
        <p:spPr>
          <a:xfrm>
            <a:off x="900000" y="2276640"/>
            <a:ext cx="2006640" cy="7729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12" descr=""/>
          <p:cNvPicPr/>
          <p:nvPr/>
        </p:nvPicPr>
        <p:blipFill>
          <a:blip r:embed="rId6"/>
          <a:stretch/>
        </p:blipFill>
        <p:spPr>
          <a:xfrm>
            <a:off x="6510240" y="4449600"/>
            <a:ext cx="2163960" cy="77472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13" descr=""/>
          <p:cNvPicPr/>
          <p:nvPr/>
        </p:nvPicPr>
        <p:blipFill>
          <a:blip r:embed="rId7"/>
          <a:stretch/>
        </p:blipFill>
        <p:spPr>
          <a:xfrm>
            <a:off x="938160" y="3376440"/>
            <a:ext cx="1798560" cy="7747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4" descr=""/>
          <p:cNvPicPr/>
          <p:nvPr/>
        </p:nvPicPr>
        <p:blipFill>
          <a:blip r:embed="rId8"/>
          <a:stretch/>
        </p:blipFill>
        <p:spPr>
          <a:xfrm>
            <a:off x="938160" y="4516560"/>
            <a:ext cx="1901880" cy="78084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5" descr=""/>
          <p:cNvPicPr/>
          <p:nvPr/>
        </p:nvPicPr>
        <p:blipFill>
          <a:blip r:embed="rId9"/>
          <a:stretch/>
        </p:blipFill>
        <p:spPr>
          <a:xfrm>
            <a:off x="2657520" y="337644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6" descr=""/>
          <p:cNvPicPr/>
          <p:nvPr/>
        </p:nvPicPr>
        <p:blipFill>
          <a:blip r:embed="rId10"/>
          <a:stretch/>
        </p:blipFill>
        <p:spPr>
          <a:xfrm>
            <a:off x="2859120" y="4516560"/>
            <a:ext cx="1566720" cy="7808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7" descr=""/>
          <p:cNvPicPr/>
          <p:nvPr/>
        </p:nvPicPr>
        <p:blipFill>
          <a:blip r:embed="rId11"/>
          <a:stretch/>
        </p:blipFill>
        <p:spPr>
          <a:xfrm>
            <a:off x="4651200" y="3376440"/>
            <a:ext cx="2017800" cy="77472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8" descr=""/>
          <p:cNvPicPr/>
          <p:nvPr/>
        </p:nvPicPr>
        <p:blipFill>
          <a:blip r:embed="rId12"/>
          <a:stretch/>
        </p:blipFill>
        <p:spPr>
          <a:xfrm>
            <a:off x="2792520" y="2305080"/>
            <a:ext cx="2108160" cy="77292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9" descr=""/>
          <p:cNvPicPr/>
          <p:nvPr/>
        </p:nvPicPr>
        <p:blipFill>
          <a:blip r:embed="rId13"/>
          <a:stretch/>
        </p:blipFill>
        <p:spPr>
          <a:xfrm>
            <a:off x="4724280" y="2305080"/>
            <a:ext cx="1884600" cy="7729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0" descr=""/>
          <p:cNvPicPr/>
          <p:nvPr/>
        </p:nvPicPr>
        <p:blipFill>
          <a:blip r:embed="rId14"/>
          <a:stretch/>
        </p:blipFill>
        <p:spPr>
          <a:xfrm>
            <a:off x="6443640" y="2305080"/>
            <a:ext cx="2193840" cy="77292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1" descr=""/>
          <p:cNvPicPr/>
          <p:nvPr/>
        </p:nvPicPr>
        <p:blipFill>
          <a:blip r:embed="rId15"/>
          <a:stretch/>
        </p:blipFill>
        <p:spPr>
          <a:xfrm>
            <a:off x="6364440" y="3376440"/>
            <a:ext cx="2382840" cy="77472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22" descr=""/>
          <p:cNvPicPr/>
          <p:nvPr/>
        </p:nvPicPr>
        <p:blipFill>
          <a:blip r:embed="rId16"/>
          <a:stretch/>
        </p:blipFill>
        <p:spPr>
          <a:xfrm>
            <a:off x="900000" y="2852640"/>
            <a:ext cx="1987560" cy="6764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3" descr=""/>
          <p:cNvPicPr/>
          <p:nvPr/>
        </p:nvPicPr>
        <p:blipFill>
          <a:blip r:embed="rId17"/>
          <a:stretch/>
        </p:blipFill>
        <p:spPr>
          <a:xfrm>
            <a:off x="4791240" y="4449600"/>
            <a:ext cx="1798560" cy="77472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4" descr=""/>
          <p:cNvPicPr/>
          <p:nvPr/>
        </p:nvPicPr>
        <p:blipFill>
          <a:blip r:embed="rId18"/>
          <a:stretch/>
        </p:blipFill>
        <p:spPr>
          <a:xfrm>
            <a:off x="6797520" y="2828880"/>
            <a:ext cx="1389240" cy="7002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5" descr=""/>
          <p:cNvPicPr/>
          <p:nvPr/>
        </p:nvPicPr>
        <p:blipFill>
          <a:blip r:embed="rId19"/>
          <a:stretch/>
        </p:blipFill>
        <p:spPr>
          <a:xfrm>
            <a:off x="4664160" y="2828880"/>
            <a:ext cx="2004840" cy="7002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6" descr=""/>
          <p:cNvPicPr/>
          <p:nvPr/>
        </p:nvPicPr>
        <p:blipFill>
          <a:blip r:embed="rId20"/>
          <a:stretch/>
        </p:blipFill>
        <p:spPr>
          <a:xfrm>
            <a:off x="2730600" y="2828880"/>
            <a:ext cx="2206440" cy="7002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7" descr=""/>
          <p:cNvPicPr/>
          <p:nvPr/>
        </p:nvPicPr>
        <p:blipFill>
          <a:blip r:embed="rId21"/>
          <a:stretch/>
        </p:blipFill>
        <p:spPr>
          <a:xfrm>
            <a:off x="658800" y="3902040"/>
            <a:ext cx="2432160" cy="7002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8" descr=""/>
          <p:cNvPicPr/>
          <p:nvPr/>
        </p:nvPicPr>
        <p:blipFill>
          <a:blip r:embed="rId22"/>
          <a:stretch/>
        </p:blipFill>
        <p:spPr>
          <a:xfrm>
            <a:off x="6443640" y="5041800"/>
            <a:ext cx="2224080" cy="7002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9" descr=""/>
          <p:cNvPicPr/>
          <p:nvPr/>
        </p:nvPicPr>
        <p:blipFill>
          <a:blip r:embed="rId23"/>
          <a:stretch/>
        </p:blipFill>
        <p:spPr>
          <a:xfrm>
            <a:off x="6370560" y="3902040"/>
            <a:ext cx="2328840" cy="70020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30" descr=""/>
          <p:cNvPicPr/>
          <p:nvPr/>
        </p:nvPicPr>
        <p:blipFill>
          <a:blip r:embed="rId24"/>
          <a:stretch/>
        </p:blipFill>
        <p:spPr>
          <a:xfrm>
            <a:off x="4657680" y="3902040"/>
            <a:ext cx="2077920" cy="7002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31" descr=""/>
          <p:cNvPicPr/>
          <p:nvPr/>
        </p:nvPicPr>
        <p:blipFill>
          <a:blip r:embed="rId25"/>
          <a:stretch/>
        </p:blipFill>
        <p:spPr>
          <a:xfrm>
            <a:off x="2871720" y="3968640"/>
            <a:ext cx="1766880" cy="700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32" descr=""/>
          <p:cNvPicPr/>
          <p:nvPr/>
        </p:nvPicPr>
        <p:blipFill>
          <a:blip r:embed="rId26"/>
          <a:stretch/>
        </p:blipFill>
        <p:spPr>
          <a:xfrm>
            <a:off x="2724120" y="5041800"/>
            <a:ext cx="2060640" cy="7002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3" descr=""/>
          <p:cNvPicPr/>
          <p:nvPr/>
        </p:nvPicPr>
        <p:blipFill>
          <a:blip r:embed="rId27"/>
          <a:stretch/>
        </p:blipFill>
        <p:spPr>
          <a:xfrm>
            <a:off x="4870440" y="5041800"/>
            <a:ext cx="1701720" cy="70020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4" descr=""/>
          <p:cNvPicPr/>
          <p:nvPr/>
        </p:nvPicPr>
        <p:blipFill>
          <a:blip r:embed="rId28"/>
          <a:stretch/>
        </p:blipFill>
        <p:spPr>
          <a:xfrm>
            <a:off x="1042920" y="5013360"/>
            <a:ext cx="16398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6000" y="2249640"/>
            <a:ext cx="7416720" cy="35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</a:rPr>
              <a:t>Проверим нашу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Пословицы: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Корень учения горек, а плод его сладок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Ласточка день начинает, а соловей заканчивает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Ученье – свет, а неученье - тьма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Мягко стелет, да жестко спать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Не бойся врага умного, а бойся друга глупого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Знай больше, говори меньше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Лучшая вещь новая, лучший друг - старый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Легко сказать, да трудно доказать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Правой рукой строит, а левой разрушает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2786040" y="214200"/>
            <a:ext cx="2571840" cy="8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мон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9" name="Прямая со стрелкой 3"/>
          <p:cNvCxnSpPr/>
          <p:nvPr/>
        </p:nvCxnSpPr>
        <p:spPr>
          <a:xfrm flipH="1">
            <a:off x="1356480" y="498960"/>
            <a:ext cx="1429560" cy="1072440"/>
          </a:xfrm>
          <a:prstGeom prst="straightConnector1">
            <a:avLst/>
          </a:prstGeom>
          <a:ln w="38160">
            <a:solidFill>
              <a:srgbClr val="99cc99"/>
            </a:solidFill>
            <a:miter/>
            <a:tailEnd len="med" type="arrow" w="med"/>
          </a:ln>
        </p:spPr>
      </p:cxnSp>
      <p:cxnSp>
        <p:nvCxnSpPr>
          <p:cNvPr id="240" name="Прямая со стрелкой 5"/>
          <p:cNvCxnSpPr>
            <a:stCxn id="238" idx="2"/>
          </p:cNvCxnSpPr>
          <p:nvPr/>
        </p:nvCxnSpPr>
        <p:spPr>
          <a:xfrm flipH="1">
            <a:off x="4070160" y="1071360"/>
            <a:ext cx="2160" cy="572040"/>
          </a:xfrm>
          <a:prstGeom prst="straightConnector1">
            <a:avLst/>
          </a:prstGeom>
          <a:ln w="38160">
            <a:solidFill>
              <a:srgbClr val="99cc99"/>
            </a:solidFill>
            <a:miter/>
            <a:tailEnd len="med" type="arrow" w="med"/>
          </a:ln>
        </p:spPr>
      </p:cxnSp>
      <p:cxnSp>
        <p:nvCxnSpPr>
          <p:cNvPr id="241" name="Прямая со стрелкой 7"/>
          <p:cNvCxnSpPr/>
          <p:nvPr/>
        </p:nvCxnSpPr>
        <p:spPr>
          <a:xfrm>
            <a:off x="5292720" y="981000"/>
            <a:ext cx="1440360" cy="432720"/>
          </a:xfrm>
          <a:prstGeom prst="straightConnector1">
            <a:avLst/>
          </a:prstGeom>
          <a:ln w="38160">
            <a:solidFill>
              <a:srgbClr val="99cc99"/>
            </a:solidFill>
            <a:miter/>
            <a:tailEnd len="med" type="arrow" w="med"/>
          </a:ln>
        </p:spPr>
      </p:cxnSp>
      <p:sp>
        <p:nvSpPr>
          <p:cNvPr id="242" name="Прямоугольник 9"/>
          <p:cNvSpPr/>
          <p:nvPr/>
        </p:nvSpPr>
        <p:spPr>
          <a:xfrm>
            <a:off x="324000" y="1628640"/>
            <a:ext cx="2124000" cy="57168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омограф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Прямоугольник 11"/>
          <p:cNvSpPr/>
          <p:nvPr/>
        </p:nvSpPr>
        <p:spPr>
          <a:xfrm>
            <a:off x="6732720" y="1413000"/>
            <a:ext cx="2232000" cy="64764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омофор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2987640" y="1628640"/>
            <a:ext cx="2305080" cy="586080"/>
          </a:xfrm>
          <a:prstGeom prst="rect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омофо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Picture 2" descr="C:\Documents and Settings\All Users\Документы\Мои рисунки\дракула.jpg"/>
          <p:cNvPicPr/>
          <p:nvPr/>
        </p:nvPicPr>
        <p:blipFill>
          <a:blip r:embed="rId1"/>
          <a:stretch/>
        </p:blipFill>
        <p:spPr>
          <a:xfrm>
            <a:off x="468360" y="256536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All Users\Документы\Мои рисунки\замок.jpg"/>
          <p:cNvPicPr/>
          <p:nvPr/>
        </p:nvPicPr>
        <p:blipFill>
          <a:blip r:embed="rId2"/>
          <a:stretch/>
        </p:blipFill>
        <p:spPr>
          <a:xfrm>
            <a:off x="611280" y="4292640"/>
            <a:ext cx="1571400" cy="16430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7"/>
          <p:cNvSpPr/>
          <p:nvPr/>
        </p:nvSpPr>
        <p:spPr>
          <a:xfrm>
            <a:off x="755640" y="393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замок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Прямая соединительная линия 19"/>
          <p:cNvSpPr/>
          <p:nvPr/>
        </p:nvSpPr>
        <p:spPr>
          <a:xfrm flipH="1">
            <a:off x="714240" y="4143240"/>
            <a:ext cx="59040" cy="1429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>
            <a:off x="1332000" y="609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зам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Прямая соединительная линия 26"/>
          <p:cNvSpPr/>
          <p:nvPr/>
        </p:nvSpPr>
        <p:spPr>
          <a:xfrm flipH="1">
            <a:off x="1143000" y="6286680"/>
            <a:ext cx="71280" cy="1425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Picture 4" descr="C:\Documents and Settings\All Users\Документы\Мои рисунки\плот.jpg"/>
          <p:cNvPicPr/>
          <p:nvPr/>
        </p:nvPicPr>
        <p:blipFill>
          <a:blip r:embed="rId3"/>
          <a:stretch/>
        </p:blipFill>
        <p:spPr>
          <a:xfrm>
            <a:off x="3357720" y="2428920"/>
            <a:ext cx="1928520" cy="15717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8"/>
          <p:cNvSpPr/>
          <p:nvPr/>
        </p:nvSpPr>
        <p:spPr>
          <a:xfrm>
            <a:off x="4003560" y="4071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пло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Picture 5" descr="C:\Documents and Settings\All Users\Документы\Мои рисунки\плод.jpg"/>
          <p:cNvPicPr/>
          <p:nvPr/>
        </p:nvPicPr>
        <p:blipFill>
          <a:blip r:embed="rId4"/>
          <a:stretch/>
        </p:blipFill>
        <p:spPr>
          <a:xfrm>
            <a:off x="3286080" y="4500720"/>
            <a:ext cx="2000160" cy="13572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30"/>
          <p:cNvSpPr/>
          <p:nvPr/>
        </p:nvSpPr>
        <p:spPr>
          <a:xfrm>
            <a:off x="3857760" y="614376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пл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Прямая соединительная линия 34"/>
          <p:cNvSpPr/>
          <p:nvPr/>
        </p:nvSpPr>
        <p:spPr>
          <a:xfrm>
            <a:off x="4429080" y="4357800"/>
            <a:ext cx="14292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Прямая соединительная линия 36"/>
          <p:cNvSpPr/>
          <p:nvPr/>
        </p:nvSpPr>
        <p:spPr>
          <a:xfrm>
            <a:off x="4286160" y="6429240"/>
            <a:ext cx="214560" cy="1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7" name="Picture 10" descr="C:\Documents and Settings\All Users\Документы\Мои рисунки\русская.jpg"/>
          <p:cNvPicPr/>
          <p:nvPr/>
        </p:nvPicPr>
        <p:blipFill>
          <a:blip r:embed="rId5"/>
          <a:stretch/>
        </p:blipFill>
        <p:spPr>
          <a:xfrm>
            <a:off x="6877080" y="2205000"/>
            <a:ext cx="192888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C:\Documents and Settings\All Users\Документы\Мои рисунки\пирог.jpg"/>
          <p:cNvPicPr/>
          <p:nvPr/>
        </p:nvPicPr>
        <p:blipFill>
          <a:blip r:embed="rId6"/>
          <a:stretch/>
        </p:blipFill>
        <p:spPr>
          <a:xfrm>
            <a:off x="6948360" y="4437000"/>
            <a:ext cx="1857600" cy="17146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44"/>
          <p:cNvSpPr/>
          <p:nvPr/>
        </p:nvSpPr>
        <p:spPr>
          <a:xfrm>
            <a:off x="7020000" y="37148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русская печ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Прямоугольник 45"/>
          <p:cNvSpPr/>
          <p:nvPr/>
        </p:nvSpPr>
        <p:spPr>
          <a:xfrm>
            <a:off x="7236000" y="607212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печь пиро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Прямая соединительная линия 49"/>
          <p:cNvSpPr/>
          <p:nvPr/>
        </p:nvSpPr>
        <p:spPr>
          <a:xfrm>
            <a:off x="8286840" y="4071960"/>
            <a:ext cx="42840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Прямая соединительная линия 51"/>
          <p:cNvSpPr/>
          <p:nvPr/>
        </p:nvSpPr>
        <p:spPr>
          <a:xfrm>
            <a:off x="7572240" y="6429240"/>
            <a:ext cx="428760" cy="1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Прямоугольник 55"/>
          <p:cNvSpPr/>
          <p:nvPr/>
        </p:nvSpPr>
        <p:spPr>
          <a:xfrm>
            <a:off x="6948360" y="407664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существитель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Прямоугольник 56"/>
          <p:cNvSpPr/>
          <p:nvPr/>
        </p:nvSpPr>
        <p:spPr>
          <a:xfrm>
            <a:off x="7380360" y="63086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глаго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45440" cy="136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Задание: </a:t>
            </a: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      Составить    словосочет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5800" y="2421000"/>
          <a:ext cx="7696080" cy="37447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ограф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офон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оформ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лопок- хлопо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д-ро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и- тр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ука- му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уд- пру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ч- плач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мок- замо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уг- лу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ов- кров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Рисунок3"/>
          <p:cNvPicPr/>
          <p:nvPr/>
        </p:nvPicPr>
        <p:blipFill>
          <a:blip r:embed="rId2"/>
          <a:stretch/>
        </p:blipFill>
        <p:spPr>
          <a:xfrm>
            <a:off x="-76320" y="981000"/>
            <a:ext cx="9220320" cy="5877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мы сегодня повторил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2050920" y="1197000"/>
            <a:ext cx="499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Чтобы знания были впрок,</a:t>
            </a:r>
            <a:br>
              <a:rPr sz="2400"/>
            </a:b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Давайте кратко повторим урок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Раздел языка, изучающий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Раздел языка, изучающий…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Синонимы- это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тонимы- это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монимы- это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Выводы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Изучая лексику, мы расширяем словарный состав языка, мы обогащаем наш язык, делаем его ярче, выразитель - нее, разнообразнее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Изучая фонетику, мы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2"/>
          <p:cNvSpPr/>
          <p:nvPr/>
        </p:nvSpPr>
        <p:spPr>
          <a:xfrm>
            <a:off x="1828800" y="1676520"/>
            <a:ext cx="5407200" cy="29764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908000" y="237960"/>
            <a:ext cx="1054440" cy="1868760"/>
          </a:xfrm>
          <a:prstGeom prst="pie">
            <a:avLst/>
          </a:pr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6380280" y="237960"/>
            <a:ext cx="755640" cy="2108520"/>
          </a:xfrm>
          <a:prstGeom prst="pie">
            <a:avLst/>
          </a:pr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4175280" y="5605560"/>
            <a:ext cx="396720" cy="1093680"/>
          </a:xfrm>
          <a:prstGeom prst="pie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505320" y="2819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Фонети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352680" y="380880"/>
            <a:ext cx="37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Лексиколог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620120" y="304920"/>
            <a:ext cx="533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Орфограф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066680" y="1058760"/>
            <a:ext cx="609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Орфоэп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38480" y="1447920"/>
            <a:ext cx="304920" cy="152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1066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Алфави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12" descr="C:\WINDOWS\Application Data\Microsoft\Media Catalog\клип0073.WMF"/>
          <p:cNvPicPr/>
          <p:nvPr/>
        </p:nvPicPr>
        <p:blipFill>
          <a:blip r:embed="rId1"/>
          <a:stretch/>
        </p:blipFill>
        <p:spPr>
          <a:xfrm>
            <a:off x="1547640" y="189000"/>
            <a:ext cx="1389240" cy="1309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3640" y="53737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Морфеми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 свидания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800360" cy="3816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8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42920" y="549360"/>
            <a:ext cx="734544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пасибо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62120" y="3049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Задание 1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. Ответь на вопросы и выполни задания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219320" y="1752480"/>
            <a:ext cx="73152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Расставь ударения в словах: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алфавит, сантиметр, портфель, документ, досуг, километр, красивее, предмет, звонишь, квартал, начался,свекл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C:\WINDOWS\Application Data\Microsoft\Media Catalog\клип0072.WMF"/>
          <p:cNvPicPr/>
          <p:nvPr/>
        </p:nvPicPr>
        <p:blipFill>
          <a:blip r:embed="rId1"/>
          <a:stretch/>
        </p:blipFill>
        <p:spPr>
          <a:xfrm>
            <a:off x="7391520" y="1085760"/>
            <a:ext cx="14475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71fc9"/>
                </a:solidFill>
                <a:latin typeface="Arial"/>
              </a:rPr>
              <a:t>	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76520" y="907560"/>
            <a:ext cx="6400800" cy="2521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Повторим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             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фонетику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4" descr="C:\WINDOWS\Application Data\Microsoft\Media Catalog\клип0053.WMF"/>
          <p:cNvPicPr/>
          <p:nvPr/>
        </p:nvPicPr>
        <p:blipFill>
          <a:blip r:embed="rId1"/>
          <a:stretch/>
        </p:blipFill>
        <p:spPr>
          <a:xfrm>
            <a:off x="1116000" y="3860640"/>
            <a:ext cx="2951280" cy="2552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:\WINDOWS\Application Data\Microsoft\Media Catalog\клип0079.WMF"/>
          <p:cNvPicPr/>
          <p:nvPr/>
        </p:nvPicPr>
        <p:blipFill>
          <a:blip r:embed="rId2"/>
          <a:stretch/>
        </p:blipFill>
        <p:spPr>
          <a:xfrm>
            <a:off x="5076720" y="378936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90720" y="457200"/>
            <a:ext cx="7696080" cy="1434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Задание 1.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9900"/>
                </a:solidFill>
                <a:latin typeface="Times New Roman"/>
              </a:rPr>
              <a:t>Назовите звуки и буквы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43000" y="242100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71fc9"/>
                </a:solidFill>
                <a:latin typeface="Times New Roman"/>
              </a:rPr>
              <a:t>В </a:t>
            </a:r>
            <a:r>
              <a:rPr b="1" lang="en-US" sz="7200" spc="-1" strike="noStrike">
                <a:solidFill>
                  <a:srgbClr val="371fc9"/>
                </a:solidFill>
                <a:latin typeface="Times New Roman"/>
              </a:rPr>
              <a:t>[В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90920" y="234936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Times New Roman"/>
              </a:rPr>
              <a:t>Л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[Л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995640" y="220500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9900"/>
                </a:solidFill>
                <a:latin typeface="Times New Roman"/>
              </a:rPr>
              <a:t>Ш </a:t>
            </a:r>
            <a:r>
              <a:rPr b="0" lang="en-US" sz="7200" spc="-1" strike="noStrike">
                <a:solidFill>
                  <a:srgbClr val="009900"/>
                </a:solidFill>
                <a:latin typeface="Times New Roman"/>
              </a:rPr>
              <a:t>[Ш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715000" y="227664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cc99"/>
                </a:solidFill>
                <a:latin typeface="Times New Roman"/>
              </a:rPr>
              <a:t>К </a:t>
            </a:r>
            <a:r>
              <a:rPr b="0" lang="en-US" sz="7200" spc="-1" strike="noStrike">
                <a:solidFill>
                  <a:srgbClr val="99cc99"/>
                </a:solidFill>
                <a:latin typeface="Times New Roman"/>
              </a:rPr>
              <a:t>[К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086600" y="227664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cc"/>
                </a:solidFill>
                <a:latin typeface="Times New Roman"/>
              </a:rPr>
              <a:t>Т </a:t>
            </a:r>
            <a:r>
              <a:rPr b="0" lang="en-US" sz="7200" spc="-1" strike="noStrike">
                <a:solidFill>
                  <a:srgbClr val="ff33cc"/>
                </a:solidFill>
                <a:latin typeface="Times New Roman"/>
              </a:rPr>
              <a:t>[Т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419640" y="4653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6600"/>
                </a:solidFill>
                <a:latin typeface="Times New Roman"/>
              </a:rPr>
              <a:t>Р </a:t>
            </a:r>
            <a:r>
              <a:rPr b="0" lang="en-US" sz="7200" spc="-1" strike="noStrike">
                <a:solidFill>
                  <a:srgbClr val="006600"/>
                </a:solidFill>
                <a:latin typeface="Times New Roman"/>
              </a:rPr>
              <a:t>[Р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651640" y="4365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Й </a:t>
            </a:r>
            <a:r>
              <a:rPr b="0" lang="en-US" sz="7200" spc="-1" strike="noStrike">
                <a:solidFill>
                  <a:srgbClr val="cc0000"/>
                </a:solidFill>
                <a:latin typeface="Times New Roman"/>
              </a:rPr>
              <a:t>[Й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11" descr="C:\WINDOWS\Application Data\Microsoft\Media Catalog\клип0071.WMF"/>
          <p:cNvPicPr/>
          <p:nvPr/>
        </p:nvPicPr>
        <p:blipFill>
          <a:blip r:embed="rId1"/>
          <a:stretch/>
        </p:blipFill>
        <p:spPr>
          <a:xfrm>
            <a:off x="7380360" y="5516640"/>
            <a:ext cx="158580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508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99ff"/>
                </a:solidFill>
                <a:latin typeface="Times New Roman"/>
              </a:rPr>
              <a:t>Ф</a:t>
            </a:r>
            <a:r>
              <a:rPr b="0" lang="en-US" sz="7200" spc="-1" strike="noStrike">
                <a:solidFill>
                  <a:srgbClr val="cc99ff"/>
                </a:solidFill>
                <a:latin typeface="Times New Roman"/>
                <a:ea typeface="Arial"/>
              </a:rPr>
              <a:t>[</a:t>
            </a:r>
            <a:r>
              <a:rPr b="0" lang="ru-RU" sz="7200" spc="-1" strike="noStrike">
                <a:solidFill>
                  <a:srgbClr val="cc99ff"/>
                </a:solidFill>
                <a:latin typeface="Times New Roman"/>
                <a:ea typeface="Arial"/>
              </a:rPr>
              <a:t>Ф</a:t>
            </a:r>
            <a:r>
              <a:rPr b="0" lang="en-US" sz="7200" spc="-1" strike="noStrike">
                <a:solidFill>
                  <a:srgbClr val="cc99ff"/>
                </a:solidFill>
                <a:latin typeface="Arial"/>
                <a:ea typeface="Arial"/>
              </a:rPr>
              <a:t>]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7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175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Times New Roman"/>
              </a:rPr>
              <a:t>Фонетический разбор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ком.                     2 ком.                   3 к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ёжик                      поезд                    платье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15" descr="C:\Documents and Settings\Кирилл\Рабочий стол\Рабочий стол\МАМА\анимация\8888888.gif"/>
          <p:cNvPicPr/>
          <p:nvPr/>
        </p:nvPicPr>
        <p:blipFill>
          <a:blip r:embed="rId1"/>
          <a:stretch/>
        </p:blipFill>
        <p:spPr>
          <a:xfrm>
            <a:off x="900000" y="371628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136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Теме «Фонетика» в КИМах посвящено задание А1. За него вы можете получить 1 балл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Примеры задани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А1. В каком слове количество букв и звуков совпадае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Приют  2) съесть  3) смеются  4) груст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А1. В каком слове звуков больше, чем бук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Мясо  2) ярлык  3) коляска  4) сказ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А1. В каком слове букв больше, чем звуко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) Гений  2) влиять  3) кольцо  4) наря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006666"/>
                </a:solidFill>
                <a:latin typeface="Times New Roman"/>
              </a:rPr>
              <a:t>Расшифров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Задание 2. </a:t>
            </a:r>
            <a:r>
              <a:rPr b="0" i="1" lang="ru-RU" sz="4000" spc="-1" strike="noStrike">
                <a:solidFill>
                  <a:srgbClr val="003366"/>
                </a:solidFill>
                <a:latin typeface="Times New Roman"/>
              </a:rPr>
              <a:t>Составь транскрип- цию данного предложения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imes New Roman"/>
              </a:rPr>
              <a:t>1-ая ком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imes New Roman"/>
              </a:rPr>
              <a:t>2-ая ком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imes New Roman"/>
              </a:rPr>
              <a:t>3-ья ком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07:41Z</dcterms:created>
  <dc:creator>1</dc:creator>
  <dc:description/>
  <dc:language>en-US</dc:language>
  <cp:lastModifiedBy>User</cp:lastModifiedBy>
  <dcterms:modified xsi:type="dcterms:W3CDTF">2017-09-24T05:09:42Z</dcterms:modified>
  <cp:revision>6</cp:revision>
  <dc:subject/>
  <dc:title>Слайд 1</dc:title>
</cp:coreProperties>
</file>