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BAA-2AC7-494E-BAFB-D64D7BC3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8EB4-E488-4108-9C53-11F60430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2A54-A9CF-44D3-824A-66879DC0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37C-990A-4297-A3F4-64B5AC5A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2555-971F-416A-94F1-4724585C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DD6D-0FEF-46D6-AAA3-1AA1689F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82D7-6756-4069-AF42-62B32897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9B08-F4EC-4414-BE29-5ABA7D57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BA6-E779-40D6-B8B4-DF53363C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31B-F13A-42DF-A497-41FCB630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F166-F7F5-4A8A-A674-83CEC719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076-7FA1-4800-B533-72EFFA39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CB40-17E0-41FE-89F4-18B025FB5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1887_&#1075;&#1086;&#1076;" TargetMode="External"/><Relationship Id="rId3" Type="http://schemas.openxmlformats.org/officeDocument/2006/relationships/hyperlink" Target="https://ru.wikipedia.org/wiki/1900_&#1075;&#1086;&#1076;" TargetMode="External"/><Relationship Id="rId4" Type="http://schemas.openxmlformats.org/officeDocument/2006/relationships/hyperlink" Target="https://ru.wikipedia.org/wiki/&#1057;&#1080;&#1073;&#1080;&#1088;&#1100;" TargetMode="External"/><Relationship Id="rId5" Type="http://schemas.openxmlformats.org/officeDocument/2006/relationships/hyperlink" Target="https://ru.wikipedia.org/wiki/&#1044;&#1086;&#1085;_(&#1088;&#1077;&#1082;&#1072;)" TargetMode="External"/><Relationship Id="rId6" Type="http://schemas.openxmlformats.org/officeDocument/2006/relationships/hyperlink" Target="https://ru.wikipedia.org/wiki/1907_&#1075;&#1086;&#1076;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1909_&#1075;&#1086;&#1076;" TargetMode="External"/><Relationship Id="rId3" Type="http://schemas.openxmlformats.org/officeDocument/2006/relationships/hyperlink" Target="https://ru.wikipedia.org/wiki/&#1064;&#1080;&#1088;&#1072;_(&#1086;&#1079;&#1077;&#1088;&#1086;)" TargetMode="External"/><Relationship Id="rId4" Type="http://schemas.openxmlformats.org/officeDocument/2006/relationships/hyperlink" Target="https://ru.wikipedia.org/wiki/&#1064;&#1080;&#1088;&#1072;_(&#1086;&#1079;&#1077;&#1088;&#1086;)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47;&#1072;&#1073;&#1077;&#1083;&#1080;&#1085;,_&#1048;&#1074;&#1072;&#1085;_&#1045;&#1075;&#1086;&#1088;&#1086;&#1074;&#1080;&#1095;" TargetMode="External"/><Relationship Id="rId3" Type="http://schemas.openxmlformats.org/officeDocument/2006/relationships/hyperlink" Target="https://ru.wikipedia.org/wiki/1908_&#1075;&#1086;&#1076;" TargetMode="External"/><Relationship Id="rId4" Type="http://schemas.openxmlformats.org/officeDocument/2006/relationships/hyperlink" Target="https://ru.wikipedia.org/wiki/1912_&#1075;&#1086;&#1076;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2;&#1086;&#1089;&#1082;&#1086;&#1074;&#1089;&#1082;&#1080;&#1081;_&#1075;&#1086;&#1089;&#1091;&#1076;&#1072;&#1088;&#1089;&#1090;&#1074;&#1077;&#1085;&#1085;&#1099;&#1081;_&#1072;&#1082;&#1072;&#1076;&#1077;&#1084;&#1080;&#1095;&#1077;&#1089;&#1082;&#1080;&#1081;_&#1093;&#1091;&#1076;&#1086;&#1078;&#1077;&#1089;&#1090;&#1074;&#1077;&#1085;&#1085;&#1099;&#1081;_&#1080;&#1085;&#1089;&#1090;&#1080;&#1090;&#1091;&#1090;_&#1080;&#1084;&#1077;&#1085;&#1080;_&#1042;._&#1048;._&#1057;&#1091;&#1088;&#1080;&#1082;&#1086;&#1074;&#1072;" TargetMode="External"/><Relationship Id="rId3" Type="http://schemas.openxmlformats.org/officeDocument/2006/relationships/hyperlink" Target="https://ru.wikipedia.org/wiki/&#1050;&#1088;&#1072;&#1089;&#1085;&#1086;&#1103;&#1088;&#1089;&#1082;" TargetMode="External"/><Relationship Id="rId4" Type="http://schemas.openxmlformats.org/officeDocument/2006/relationships/hyperlink" Target="https://ru.wikipedia.org/wiki/1954_&#1075;&#1086;&#1076;" TargetMode="External"/><Relationship Id="rId5" Type="http://schemas.openxmlformats.org/officeDocument/2006/relationships/hyperlink" Target="https://ru.wikipedia.org/wiki/&#1050;&#1080;&#1088;&#1093;&#1086;&#1075;&#1083;&#1072;&#1085;&#1080;,_&#1042;&#1072;&#1083;&#1077;&#1088;&#1080;&#1072;&#1085;_&#1044;&#1084;&#1080;&#1090;&#1088;&#1080;&#1077;&#1074;&#1080;&#1095;" TargetMode="External"/><Relationship Id="rId6" Type="http://schemas.openxmlformats.org/officeDocument/2006/relationships/hyperlink" Target="https://ru.wikipedia.org/wiki/&#1050;&#1080;&#1088;&#1093;&#1086;&#1075;&#1083;&#1072;&#1085;&#1080;,_&#1042;&#1072;&#1083;&#1077;&#1088;&#1080;&#1072;&#1085;_&#1044;&#1084;&#1080;&#1090;&#1088;&#1080;&#1077;&#1074;&#1080;&#1095;" TargetMode="External"/><Relationship Id="rId7" Type="http://schemas.openxmlformats.org/officeDocument/2006/relationships/hyperlink" Target="https://ru.wikipedia.org/wiki/1948_&#1075;&#1086;&#1076;" TargetMode="External"/><Relationship Id="rId8" Type="http://schemas.openxmlformats.org/officeDocument/2006/relationships/hyperlink" Target="https://ru.wikipedia.org/wiki/&#1052;&#1091;&#1079;&#1077;&#1081;-&#1091;&#1089;&#1072;&#1076;&#1100;&#1073;&#1072;_&#1042;._&#1048;._&#1057;&#1091;&#1088;&#1080;&#1082;&#1086;&#1074;&#1072;" TargetMode="External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s://ru.wikipedia.org/wiki/24_&#1103;&#1085;&#1074;&#1072;&#1088;&#1103;" TargetMode="External"/><Relationship Id="rId4" Type="http://schemas.openxmlformats.org/officeDocument/2006/relationships/hyperlink" Target="https://ru.wikipedia.org/wiki/1848_&#1075;&#1086;&#1076;" TargetMode="External"/><Relationship Id="rId5" Type="http://schemas.openxmlformats.org/officeDocument/2006/relationships/hyperlink" Target="https://ru.wikipedia.org/wiki/&#1050;&#1088;&#1072;&#1089;&#1085;&#1086;&#1103;&#1088;&#1089;&#1082;" TargetMode="External"/><Relationship Id="rId6" Type="http://schemas.openxmlformats.org/officeDocument/2006/relationships/hyperlink" Target="https://ru.wikipedia.org/wiki/19_&#1084;&#1072;&#1088;&#1090;&#1072;" TargetMode="External"/><Relationship Id="rId7" Type="http://schemas.openxmlformats.org/officeDocument/2006/relationships/hyperlink" Target="https://ru.wikipedia.org/wiki/1916_&#1075;&#1086;&#1076;" TargetMode="External"/><Relationship Id="rId8" Type="http://schemas.openxmlformats.org/officeDocument/2006/relationships/hyperlink" Target="https://ru.wikipedia.org/wiki/&#1057;&#1080;&#1073;&#1080;&#1088;&#1100;" TargetMode="External"/><Relationship Id="rId9" Type="http://schemas.openxmlformats.org/officeDocument/2006/relationships/hyperlink" Target="https://ru.wikipedia.org/wiki/&#1044;&#1086;&#1085;" TargetMode="External"/><Relationship Id="rId10" Type="http://schemas.openxmlformats.org/officeDocument/2006/relationships/hyperlink" Target="https://ru.wikipedia.org/wiki/&#1045;&#1088;&#1084;&#1072;&#1082;" TargetMode="External"/><Relationship Id="rId11" Type="http://schemas.openxmlformats.org/officeDocument/2006/relationships/hyperlink" Target="https://ru.wikipedia.org/w/index.php?title=&#1043;&#1088;&#1077;&#1073;&#1085;&#1105;&#1074;,_&#1053;&#1080;&#1082;&#1086;&#1083;&#1072;&#1081;_&#1042;&#1072;&#1089;&#1080;&#1083;&#1100;&#1077;&#1074;&#1080;&#1095;&amp;action=edit&amp;redlink=1" TargetMode="External"/><Relationship Id="rId12" Type="http://schemas.openxmlformats.org/officeDocument/2006/relationships/hyperlink" Target="https://ru.wikipedia.org/wiki/1862_&#1075;&#1086;&#1076;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1875_&#1075;&#1086;&#1076;" TargetMode="External"/><Relationship Id="rId3" Type="http://schemas.openxmlformats.org/officeDocument/2006/relationships/hyperlink" Target="https://ru.wikipedia.org/wiki/&#1048;&#1084;&#1087;&#1077;&#1088;&#1072;&#1090;&#1086;&#1088;&#1089;&#1082;&#1072;&#1103;_&#1040;&#1082;&#1072;&#1076;&#1077;&#1084;&#1080;&#1103;_&#1093;&#1091;&#1076;&#1086;&#1078;&#1077;&#1089;&#1090;&#1074;" TargetMode="External"/><Relationship Id="rId4" Type="http://schemas.openxmlformats.org/officeDocument/2006/relationships/hyperlink" Target="https://ru.wikipedia.org/wiki/&#1063;&#1080;&#1089;&#1090;&#1103;&#1082;&#1086;&#1074;,_&#1055;&#1072;&#1074;&#1077;&#1083;_&#1055;&#1077;&#1090;&#1088;&#1086;&#1074;&#1080;&#1095;" TargetMode="External"/><Relationship Id="rId5" Type="http://schemas.openxmlformats.org/officeDocument/2006/relationships/hyperlink" Target="https://ru.wikipedia.org/wiki/1870_&#1075;&#1086;&#1076;" TargetMode="External"/><Relationship Id="rId6" Type="http://schemas.openxmlformats.org/officeDocument/2006/relationships/hyperlink" Target="https://ru.wikipedia.org/wiki/&#1050;&#1088;&#1072;&#1089;&#1085;&#1086;&#1103;&#1088;&#1089;&#1082;&#1080;&#1081;_&#1075;&#1086;&#1089;&#1091;&#1076;&#1072;&#1088;&#1089;&#1090;&#1074;&#1077;&#1085;&#1085;&#1099;&#1081;_&#1093;&#1091;&#1076;&#1086;&#1078;&#1077;&#1089;&#1090;&#1074;&#1077;&#1085;&#1085;&#1099;&#1081;_&#1084;&#1091;&#1079;&#1077;&#1081;_&#1080;&#1084;._&#1042;._&#1048;._&#1057;&#1091;&#1088;&#1080;&#1082;&#1086;&#1074;&#1072;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1878_&#1075;&#1086;&#1076;" TargetMode="External"/><Relationship Id="rId3" Type="http://schemas.openxmlformats.org/officeDocument/2006/relationships/hyperlink" Target="https://ru.wikipedia.org/wiki/1881_&#1075;&#1086;&#1076;" TargetMode="External"/><Relationship Id="rId4" Type="http://schemas.openxmlformats.org/officeDocument/2006/relationships/hyperlink" Target="https://ru.wikipedia.org/wiki/&#1058;&#1086;&#1074;&#1072;&#1088;&#1080;&#1097;&#1077;&#1089;&#1090;&#1074;&#1086;_&#1087;&#1077;&#1088;&#1077;&#1076;&#1074;&#1080;&#1078;&#1085;&#1099;&#1093;_&#1093;&#1091;&#1076;&#1086;&#1078;&#1077;&#1089;&#1090;&#1074;&#1077;&#1085;&#1085;&#1099;&#1093;_&#1074;&#1099;&#1089;&#1090;&#1072;&#1074;&#1086;&#1082;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2;&#1077;&#1085;&#1096;&#1080;&#1082;&#1086;&#1074;_&#1074;_&#1041;&#1077;&#1088;&#1105;&#1079;&#1086;&#1074;&#1077;" TargetMode="External"/><Relationship Id="rId3" Type="http://schemas.openxmlformats.org/officeDocument/2006/relationships/hyperlink" Target="https://ru.wikipedia.org/wiki/&#1058;&#1088;&#1077;&#1090;&#1100;&#1103;&#1082;&#1086;&#1074;,_&#1055;&#1072;&#1074;&#1077;&#1083;_&#1052;&#1080;&#1093;&#1072;&#1081;&#1083;&#1086;&#1074;&#1080;&#1095;" TargetMode="External"/><Relationship Id="rId4" Type="http://schemas.openxmlformats.org/officeDocument/2006/relationships/hyperlink" Target="https://ru.wikipedia.org/wiki/1883_&#1075;&#1086;&#1076;" TargetMode="External"/><Relationship Id="rId5" Type="http://schemas.openxmlformats.org/officeDocument/2006/relationships/hyperlink" Target="https://ru.wikipedia.org/wiki/&#1043;&#1072;&#1083;&#1077;&#1088;&#1077;&#1103;_&#1089;&#1090;&#1072;&#1088;&#1099;&#1093;_&#1084;&#1072;&#1089;&#1090;&#1077;&#1088;&#1086;&#1074;" TargetMode="External"/><Relationship Id="rId6" Type="http://schemas.openxmlformats.org/officeDocument/2006/relationships/hyperlink" Target="https://ru.wikipedia.org/wiki/&#1051;&#1091;&#1074;&#1088;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41;&#1086;&#1103;&#1088;&#1099;&#1085;&#1103;_&#1052;&#1086;&#1088;&#1086;&#1079;&#1086;&#1074;&#1072;" TargetMode="External"/><Relationship Id="rId3" Type="http://schemas.openxmlformats.org/officeDocument/2006/relationships/hyperlink" Target="https://ru.wikipedia.org/wiki/1881_&#1075;&#1086;&#1076;" TargetMode="External"/><Relationship Id="rId4" Type="http://schemas.openxmlformats.org/officeDocument/2006/relationships/hyperlink" Target="https://ru.wikipedia.org/wiki/1884_&#1075;&#1086;&#1076;" TargetMode="External"/><Relationship Id="rId5" Type="http://schemas.openxmlformats.org/officeDocument/2006/relationships/hyperlink" Target="https://ru.wikipedia.org/wiki/1887_&#1075;&#1086;&#1076;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8_&#1072;&#1087;&#1088;&#1077;&#1083;&#1103;" TargetMode="External"/><Relationship Id="rId3" Type="http://schemas.openxmlformats.org/officeDocument/2006/relationships/hyperlink" Target="https://ru.wikipedia.org/wiki/1888_&#1075;&#1086;&#1076;" TargetMode="External"/><Relationship Id="rId4" Type="http://schemas.openxmlformats.org/officeDocument/2006/relationships/hyperlink" Target="https://ru.wikipedia.org/wiki/1889_&#1075;&#1086;&#1076;" TargetMode="External"/><Relationship Id="rId5" Type="http://schemas.openxmlformats.org/officeDocument/2006/relationships/hyperlink" Target="https://ru.wikipedia.org/wiki/1890_&#1075;&#1086;&#1076;" TargetMode="External"/><Relationship Id="rId6" Type="http://schemas.openxmlformats.org/officeDocument/2006/relationships/hyperlink" Target="https://ru.wikipedia.org/wiki/1891_&#1075;&#1086;&#1076;" TargetMode="External"/><Relationship Id="rId7" Type="http://schemas.openxmlformats.org/officeDocument/2006/relationships/hyperlink" Target="https://ru.wikipedia.org/wiki/&#1042;&#1079;&#1103;&#1090;&#1080;&#1077;_&#1089;&#1085;&#1077;&#1078;&#1085;&#1086;&#1075;&#1086;_&#1075;&#1086;&#1088;&#1086;&#1076;&#1082;&#1072;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1891_&#1075;&#1086;&#1076;" TargetMode="External"/><Relationship Id="rId3" Type="http://schemas.openxmlformats.org/officeDocument/2006/relationships/hyperlink" Target="https://ru.wikipedia.org/wiki/&#1054;&#1073;&#1100;_(&#1088;&#1077;&#1082;&#1072;)" TargetMode="External"/><Relationship Id="rId4" Type="http://schemas.openxmlformats.org/officeDocument/2006/relationships/hyperlink" Target="https://ru.wikipedia.org/wiki/1893_&#1075;&#1086;&#1076;" TargetMode="External"/><Relationship Id="rId5" Type="http://schemas.openxmlformats.org/officeDocument/2006/relationships/hyperlink" Target="https://ru.wikipedia.org/wiki/1895_&#1075;&#1086;&#1076;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1897_&#1075;&#1086;&#1076;" TargetMode="External"/><Relationship Id="rId3" Type="http://schemas.openxmlformats.org/officeDocument/2006/relationships/hyperlink" Target="https://ru.wikipedia.org/wiki/&#1064;&#1074;&#1077;&#1081;&#1094;&#1072;&#1088;&#1080;&#1103;" TargetMode="External"/><Relationship Id="rId4" Type="http://schemas.openxmlformats.org/officeDocument/2006/relationships/hyperlink" Target="https://ru.wikipedia.org/wiki/1899_&#1075;&#1086;&#1076;" TargetMode="External"/><Relationship Id="rId5" Type="http://schemas.openxmlformats.org/officeDocument/2006/relationships/hyperlink" Target="https://ru.wikipedia.org/wiki/&#1057;&#1091;&#1074;&#1086;&#1088;&#1086;&#1074;,_&#1040;&#1083;&#1077;&#1082;&#1089;&#1072;&#1085;&#1076;&#1088;_&#1042;&#1072;&#1089;&#1080;&#1083;&#1100;&#1077;&#1074;&#1080;&#1095;" TargetMode="External"/><Relationship Id="rId6" Type="http://schemas.openxmlformats.org/officeDocument/2006/relationships/hyperlink" Target="https://ru.wikipedia.org/wiki/&#1053;&#1080;&#1082;&#1086;&#1083;&#1072;&#1081;_II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549360"/>
            <a:ext cx="691344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Суриков, Василий Иванови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724280"/>
            <a:ext cx="662472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я по ИЗО и МХК.  Автор: учитель Фомченко Е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404640"/>
            <a:ext cx="8424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Степан Раз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я картины «Степан Разин» появилась у Сурикова ещё 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887 год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но работа над картиной началась 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900 год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Этюды для картины Суриков писал 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Сибир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и на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Дон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1907 год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Суриков стал членом Союза русских художников, покинув ряды Товарищества передвиж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826920" y="2276640"/>
            <a:ext cx="749016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26920" y="620640"/>
            <a:ext cx="7345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лся неосуществлённым замысел картины «Княгиня Ольга встречает тело князя Игоря, убитого древлянами». Картина была задумана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909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во время поездки на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зеро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Ши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755640" y="1844640"/>
            <a:ext cx="748980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4360" y="620640"/>
            <a:ext cx="7920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осещение царевной женского монастыря»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прочтения книги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И. Е. Забелин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«Домашний быт русских цариц в XVI—XVII веках», Суриков с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908 год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пишет картину «Посещение царевной женского монастыря»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912 год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Посещение царевной женского монастыря Суриков"/>
          <p:cNvPicPr/>
          <p:nvPr/>
        </p:nvPicPr>
        <p:blipFill>
          <a:blip r:embed="rId5"/>
          <a:stretch/>
        </p:blipFill>
        <p:spPr>
          <a:xfrm>
            <a:off x="1476360" y="1916280"/>
            <a:ext cx="626436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3870360" cy="5040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917960" y="549360"/>
            <a:ext cx="3834000" cy="4967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5734080"/>
            <a:ext cx="367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бирская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5805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рик огоро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11280" y="549360"/>
            <a:ext cx="3816360" cy="51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я Василия Сурикова присвоено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осковскому художественному институт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одине художника,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Красноярс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954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поставлен памятник (скульптор Л. Ю. Эйдлин, архитектор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В. Д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Кирхогла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там же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1948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открыт дом-музей Сурикова, ныне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Музей-усадьб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в 2002 году был открыт новый памятник (скульптор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Юрий Злот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Собрание живописи и различных предметов краеведческого музея составило основу коллекции при открытии дома-муз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5076720" y="549360"/>
            <a:ext cx="3408480" cy="4546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43280" y="5300640"/>
            <a:ext cx="403236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Бюст русского живописца Василия Ивановича Сурикова в Румянцевском саду в Санкт-Петербург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Автопортрет"/>
          <p:cNvPicPr/>
          <p:nvPr/>
        </p:nvPicPr>
        <p:blipFill>
          <a:blip r:embed="rId2"/>
          <a:stretch/>
        </p:blipFill>
        <p:spPr>
          <a:xfrm>
            <a:off x="4643280" y="404640"/>
            <a:ext cx="4052880" cy="5526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43280" y="59500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втопортрет. Третьяковская галере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76280"/>
            <a:ext cx="3959280" cy="544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си́лий Ива́нович  Сур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одился 12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(24) январ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84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ода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Красноярс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умер 6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(19) мар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1916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в Москве. Он принадлежал к роду казаков, которые пришли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Сибир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с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До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с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Ерма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ещё в 16 век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ий Иванович начал рисовать в раннем детстве. Первым учителем рисования для Сурикова стал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Николай Васильевич Гребнё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учитель рисования Красноярского уездного училища. Наиболее ранним датированным произведением Сурикова считается акварель «Плоты на Енисее»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1862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хранится в музее-усадьбе В. И. Сурикова в Красноярск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404640"/>
            <a:ext cx="8353440" cy="17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1869 по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875 го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Суриков учился в петербургской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кадемии художеств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у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. П. Чистякова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 Во время учёбы Суриков за свои работы получил четыре серебряных медали и несколько денежных премий. Первую самостоятельную работу Сурикова «Вид памятника Петру I на Сенатской площади в Санкт-Петербурге» (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870 го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) приобрёл П. И. Кузнецов красноярский золотопромышленник(первый вариант картины хранится в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Красноярском государственном художественном музее им. В. И. Сурикова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1835280" y="2349360"/>
            <a:ext cx="5616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404640"/>
            <a:ext cx="835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ажнейшие карт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878 год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Василий Иванович начал работать над картиной «Утро стрелецкой казни». Картина была завершена 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881 год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В 1881 году Суриков становится членом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Товарищества передвижных художественных выставок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84360" y="1844640"/>
            <a:ext cx="77040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404640"/>
            <a:ext cx="828036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еншиков в Берёзов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»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. М. Третьяков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в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883 году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приобрёл картину Сурикова «Меншиков в Берёзове». У художника появились деньги для зарубежной поездки. Он побывал в Германии, Италии, Франции, Австрии, ознакомился с коллекцией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Дрезденской галереи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, собранием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Лувра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1692360" y="1628640"/>
            <a:ext cx="5976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476280"/>
            <a:ext cx="770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оярыня Морозов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881 год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Суриков сделал первый эскиз «Боярыни Морозовой», 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884 год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начал работать над картиной «Боярыня Морозова». Картина экспонировалась на XV Передвижной выставке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887 год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68360" y="2205000"/>
            <a:ext cx="820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333360"/>
            <a:ext cx="813600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зятие снежного городка» </a:t>
            </a:r>
            <a:r>
              <a:rPr b="1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8 апрел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888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скончалась жена Сурикова. В начале лета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889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Суриков вместе с дочерьми уехал в Красноярск, где прожил до осени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890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Красноярске художник создаёт полотно «Взятие снежного городка» (завершено в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1891 год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хранится в Русском музе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у «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Взятие снежного город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 Суриков впервые увидел в раннем детстве по дороге в родное село матери Торгоши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395280" y="1989000"/>
            <a:ext cx="828036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5280" y="333360"/>
            <a:ext cx="835344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окорение Сибири Ермаком Тимофеевичем»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 время посещения Сибири Суриков изучал жизнь и быт местных народов: вогулов, остяков, хакасов и др. 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891 год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началась работа над картиной «Покорение Сибири Ермаком Тимофеевичем». Этюды для картины Суриков писал на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еке Об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 Работа над картиной «Покорение Сибири Ермаком Тимофеевичем» продолжилась на Дону 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893 год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а закончилась 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895 год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539640" y="2492280"/>
            <a:ext cx="813600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549360"/>
            <a:ext cx="3529080" cy="49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ереход Суворова через Альп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ктябре 1895 года, будучи в Красноярске, Суриков задумал картину «Переход Суворова через Альпы». Летом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897 г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Суриков посещает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Швейцарию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где пишет этюды. Работа над картиной «Переход Суворова через Альпы» завершилась в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899 год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— в 100-летие итальянского похода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Суворов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Картина выставлялась в Санкт-Петербурге, Москве, и была приобретена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императором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4284720" y="476280"/>
            <a:ext cx="43005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15:36:21Z</dcterms:created>
  <dc:creator>Елена</dc:creator>
  <dc:description/>
  <dc:language>en-US</dc:language>
  <cp:lastModifiedBy>Елена</cp:lastModifiedBy>
  <dcterms:modified xsi:type="dcterms:W3CDTF">2017-01-05T16:39:26Z</dcterms:modified>
  <cp:revision>2</cp:revision>
  <dc:subject/>
  <dc:title>Слайд 1</dc:title>
</cp:coreProperties>
</file>