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F6D-CFA0-45AF-959A-1C26CAF5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7C8-6CAB-494C-B031-93EA100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11D-B100-4FF7-8940-1BEFECC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AC8-56F7-4FFC-BD42-5E780829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C3-3006-45F9-8CC8-137F4F7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E25-E37B-4B1D-82C2-81004C57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CC-FBFC-4F7A-960D-87436578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9F1-2B38-4285-AAEB-5F5C48E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351-C7CA-4BF6-A79E-F4B871A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992-F89E-4419-A10E-2C2B86B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0B6-2CD0-4698-B6BE-BE7057F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E6A-250C-4468-917F-B917F15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B4F-5722-4EA8-9D5C-A1193C41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87_&#1075;&#1086;&#1076;" TargetMode="External"/><Relationship Id="rId3" Type="http://schemas.openxmlformats.org/officeDocument/2006/relationships/hyperlink" Target="https://ru.wikipedia.org/wiki/1900_&#1075;&#1086;&#1076;" TargetMode="External"/><Relationship Id="rId4" Type="http://schemas.openxmlformats.org/officeDocument/2006/relationships/hyperlink" Target="https://ru.wikipedia.org/wiki/&#1057;&#1080;&#1073;&#1080;&#1088;&#1100;" TargetMode="External"/><Relationship Id="rId5" Type="http://schemas.openxmlformats.org/officeDocument/2006/relationships/hyperlink" Target="https://ru.wikipedia.org/wiki/&#1044;&#1086;&#1085;_(&#1088;&#1077;&#1082;&#1072;)" TargetMode="External"/><Relationship Id="rId6" Type="http://schemas.openxmlformats.org/officeDocument/2006/relationships/hyperlink" Target="https://ru.wikipedia.org/wiki/1907_&#1075;&#1086;&#1076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909_&#1075;&#1086;&#1076;" TargetMode="External"/><Relationship Id="rId3" Type="http://schemas.openxmlformats.org/officeDocument/2006/relationships/hyperlink" Target="https://ru.wikipedia.org/wiki/&#1064;&#1080;&#1088;&#1072;_(&#1086;&#1079;&#1077;&#1088;&#1086;)" TargetMode="External"/><Relationship Id="rId4" Type="http://schemas.openxmlformats.org/officeDocument/2006/relationships/hyperlink" Target="https://ru.wikipedia.org/wiki/&#1064;&#1080;&#1088;&#1072;_(&#1086;&#1079;&#1077;&#1088;&#1086;)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7;&#1072;&#1073;&#1077;&#1083;&#1080;&#1085;,_&#1048;&#1074;&#1072;&#1085;_&#1045;&#1075;&#1086;&#1088;&#1086;&#1074;&#1080;&#1095;" TargetMode="External"/><Relationship Id="rId3" Type="http://schemas.openxmlformats.org/officeDocument/2006/relationships/hyperlink" Target="https://ru.wikipedia.org/wiki/1908_&#1075;&#1086;&#1076;" TargetMode="External"/><Relationship Id="rId4" Type="http://schemas.openxmlformats.org/officeDocument/2006/relationships/hyperlink" Target="https://ru.wikipedia.org/wiki/1912_&#1075;&#1086;&#1076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2;&#1086;&#1089;&#1082;&#1086;&#1074;&#1089;&#1082;&#1080;&#1081;_&#1075;&#1086;&#1089;&#1091;&#1076;&#1072;&#1088;&#1089;&#1090;&#1074;&#1077;&#1085;&#1085;&#1099;&#1081;_&#1072;&#1082;&#1072;&#1076;&#1077;&#1084;&#1080;&#1095;&#1077;&#1089;&#1082;&#1080;&#1081;_&#1093;&#1091;&#1076;&#1086;&#1078;&#1077;&#1089;&#1090;&#1074;&#1077;&#1085;&#1085;&#1099;&#1081;_&#1080;&#1085;&#1089;&#1090;&#1080;&#1090;&#1091;&#1090;_&#1080;&#1084;&#1077;&#1085;&#1080;_&#1042;._&#1048;._&#1057;&#1091;&#1088;&#1080;&#1082;&#1086;&#1074;&#1072;" TargetMode="External"/><Relationship Id="rId3" Type="http://schemas.openxmlformats.org/officeDocument/2006/relationships/hyperlink" Target="https://ru.wikipedia.org/wiki/&#1050;&#1088;&#1072;&#1089;&#1085;&#1086;&#1103;&#1088;&#1089;&#1082;" TargetMode="External"/><Relationship Id="rId4" Type="http://schemas.openxmlformats.org/officeDocument/2006/relationships/hyperlink" Target="https://ru.wikipedia.org/wiki/1954_&#1075;&#1086;&#1076;" TargetMode="External"/><Relationship Id="rId5" Type="http://schemas.openxmlformats.org/officeDocument/2006/relationships/hyperlink" Target="https://ru.wikipedia.org/wiki/&#1050;&#1080;&#1088;&#1093;&#1086;&#1075;&#1083;&#1072;&#1085;&#1080;,_&#1042;&#1072;&#1083;&#1077;&#1088;&#1080;&#1072;&#1085;_&#1044;&#1084;&#1080;&#1090;&#1088;&#1080;&#1077;&#1074;&#1080;&#1095;" TargetMode="External"/><Relationship Id="rId6" Type="http://schemas.openxmlformats.org/officeDocument/2006/relationships/hyperlink" Target="https://ru.wikipedia.org/wiki/&#1050;&#1080;&#1088;&#1093;&#1086;&#1075;&#1083;&#1072;&#1085;&#1080;,_&#1042;&#1072;&#1083;&#1077;&#1088;&#1080;&#1072;&#1085;_&#1044;&#1084;&#1080;&#1090;&#1088;&#1080;&#1077;&#1074;&#1080;&#1095;" TargetMode="External"/><Relationship Id="rId7" Type="http://schemas.openxmlformats.org/officeDocument/2006/relationships/hyperlink" Target="https://ru.wikipedia.org/wiki/1948_&#1075;&#1086;&#1076;" TargetMode="External"/><Relationship Id="rId8" Type="http://schemas.openxmlformats.org/officeDocument/2006/relationships/hyperlink" Target="https://ru.wikipedia.org/wiki/&#1052;&#1091;&#1079;&#1077;&#1081;-&#1091;&#1089;&#1072;&#1076;&#1100;&#1073;&#1072;_&#1042;._&#1048;._&#1057;&#1091;&#1088;&#1080;&#1082;&#1086;&#1074;&#1072;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u.wikipedia.org/wiki/24_&#1103;&#1085;&#1074;&#1072;&#1088;&#1103;" TargetMode="External"/><Relationship Id="rId4" Type="http://schemas.openxmlformats.org/officeDocument/2006/relationships/hyperlink" Target="https://ru.wikipedia.org/wiki/1848_&#1075;&#1086;&#1076;" TargetMode="External"/><Relationship Id="rId5" Type="http://schemas.openxmlformats.org/officeDocument/2006/relationships/hyperlink" Target="https://ru.wikipedia.org/wiki/&#1050;&#1088;&#1072;&#1089;&#1085;&#1086;&#1103;&#1088;&#1089;&#1082;" TargetMode="External"/><Relationship Id="rId6" Type="http://schemas.openxmlformats.org/officeDocument/2006/relationships/hyperlink" Target="https://ru.wikipedia.org/wiki/19_&#1084;&#1072;&#1088;&#1090;&#1072;" TargetMode="External"/><Relationship Id="rId7" Type="http://schemas.openxmlformats.org/officeDocument/2006/relationships/hyperlink" Target="https://ru.wikipedia.org/wiki/1916_&#1075;&#1086;&#1076;" TargetMode="External"/><Relationship Id="rId8" Type="http://schemas.openxmlformats.org/officeDocument/2006/relationships/hyperlink" Target="https://ru.wikipedia.org/wiki/&#1057;&#1080;&#1073;&#1080;&#1088;&#1100;" TargetMode="External"/><Relationship Id="rId9" Type="http://schemas.openxmlformats.org/officeDocument/2006/relationships/hyperlink" Target="https://ru.wikipedia.org/wiki/&#1044;&#1086;&#1085;" TargetMode="External"/><Relationship Id="rId10" Type="http://schemas.openxmlformats.org/officeDocument/2006/relationships/hyperlink" Target="https://ru.wikipedia.org/wiki/&#1045;&#1088;&#1084;&#1072;&#1082;" TargetMode="External"/><Relationship Id="rId11" Type="http://schemas.openxmlformats.org/officeDocument/2006/relationships/hyperlink" Target="https://ru.wikipedia.org/w/index.php?title=&#1043;&#1088;&#1077;&#1073;&#1085;&#1105;&#1074;,_&#1053;&#1080;&#1082;&#1086;&#1083;&#1072;&#1081;_&#1042;&#1072;&#1089;&#1080;&#1083;&#1100;&#1077;&#1074;&#1080;&#1095;&amp;action=edit&amp;redlink=1" TargetMode="External"/><Relationship Id="rId12" Type="http://schemas.openxmlformats.org/officeDocument/2006/relationships/hyperlink" Target="https://ru.wikipedia.org/wiki/1862_&#1075;&#1086;&#1076;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75_&#1075;&#1086;&#1076;" TargetMode="External"/><Relationship Id="rId3" Type="http://schemas.openxmlformats.org/officeDocument/2006/relationships/hyperlink" Target="https://ru.wikipedia.org/wiki/&#1048;&#1084;&#1087;&#1077;&#1088;&#1072;&#1090;&#1086;&#1088;&#1089;&#1082;&#1072;&#1103;_&#1040;&#1082;&#1072;&#1076;&#1077;&#1084;&#1080;&#1103;_&#1093;&#1091;&#1076;&#1086;&#1078;&#1077;&#1089;&#1090;&#1074;" TargetMode="External"/><Relationship Id="rId4" Type="http://schemas.openxmlformats.org/officeDocument/2006/relationships/hyperlink" Target="https://ru.wikipedia.org/wiki/&#1063;&#1080;&#1089;&#1090;&#1103;&#1082;&#1086;&#1074;,_&#1055;&#1072;&#1074;&#1077;&#1083;_&#1055;&#1077;&#1090;&#1088;&#1086;&#1074;&#1080;&#1095;" TargetMode="External"/><Relationship Id="rId5" Type="http://schemas.openxmlformats.org/officeDocument/2006/relationships/hyperlink" Target="https://ru.wikipedia.org/wiki/1870_&#1075;&#1086;&#1076;" TargetMode="External"/><Relationship Id="rId6" Type="http://schemas.openxmlformats.org/officeDocument/2006/relationships/hyperlink" Target="https://ru.wikipedia.org/wiki/&#1050;&#1088;&#1072;&#1089;&#1085;&#1086;&#1103;&#1088;&#1089;&#1082;&#1080;&#1081;_&#1075;&#1086;&#1089;&#1091;&#1076;&#1072;&#1088;&#1089;&#1090;&#1074;&#1077;&#1085;&#1085;&#1099;&#1081;_&#1093;&#1091;&#1076;&#1086;&#1078;&#1077;&#1089;&#1090;&#1074;&#1077;&#1085;&#1085;&#1099;&#1081;_&#1084;&#1091;&#1079;&#1077;&#1081;_&#1080;&#1084;._&#1042;._&#1048;._&#1057;&#1091;&#1088;&#1080;&#1082;&#1086;&#1074;&#1072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78_&#1075;&#1086;&#1076;" TargetMode="External"/><Relationship Id="rId3" Type="http://schemas.openxmlformats.org/officeDocument/2006/relationships/hyperlink" Target="https://ru.wikipedia.org/wiki/1881_&#1075;&#1086;&#1076;" TargetMode="External"/><Relationship Id="rId4" Type="http://schemas.openxmlformats.org/officeDocument/2006/relationships/hyperlink" Target="https://ru.wikipedia.org/wiki/&#1058;&#1086;&#1074;&#1072;&#1088;&#1080;&#1097;&#1077;&#1089;&#1090;&#1074;&#1086;_&#1087;&#1077;&#1088;&#1077;&#1076;&#1074;&#1080;&#1078;&#1085;&#1099;&#1093;_&#1093;&#1091;&#1076;&#1086;&#1078;&#1077;&#1089;&#1090;&#1074;&#1077;&#1085;&#1085;&#1099;&#1093;_&#1074;&#1099;&#1089;&#1090;&#1072;&#1074;&#1086;&#1082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2;&#1077;&#1085;&#1096;&#1080;&#1082;&#1086;&#1074;_&#1074;_&#1041;&#1077;&#1088;&#1105;&#1079;&#1086;&#1074;&#1077;" TargetMode="External"/><Relationship Id="rId3" Type="http://schemas.openxmlformats.org/officeDocument/2006/relationships/hyperlink" Target="https://ru.wikipedia.org/wiki/&#1058;&#1088;&#1077;&#1090;&#1100;&#1103;&#1082;&#1086;&#1074;,_&#1055;&#1072;&#1074;&#1077;&#1083;_&#1052;&#1080;&#1093;&#1072;&#1081;&#1083;&#1086;&#1074;&#1080;&#1095;" TargetMode="External"/><Relationship Id="rId4" Type="http://schemas.openxmlformats.org/officeDocument/2006/relationships/hyperlink" Target="https://ru.wikipedia.org/wiki/1883_&#1075;&#1086;&#1076;" TargetMode="External"/><Relationship Id="rId5" Type="http://schemas.openxmlformats.org/officeDocument/2006/relationships/hyperlink" Target="https://ru.wikipedia.org/wiki/&#1043;&#1072;&#1083;&#1077;&#1088;&#1077;&#1103;_&#1089;&#1090;&#1072;&#1088;&#1099;&#1093;_&#1084;&#1072;&#1089;&#1090;&#1077;&#1088;&#1086;&#1074;" TargetMode="External"/><Relationship Id="rId6" Type="http://schemas.openxmlformats.org/officeDocument/2006/relationships/hyperlink" Target="https://ru.wikipedia.org/wiki/&#1051;&#1091;&#1074;&#1088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1;&#1086;&#1103;&#1088;&#1099;&#1085;&#1103;_&#1052;&#1086;&#1088;&#1086;&#1079;&#1086;&#1074;&#1072;" TargetMode="External"/><Relationship Id="rId3" Type="http://schemas.openxmlformats.org/officeDocument/2006/relationships/hyperlink" Target="https://ru.wikipedia.org/wiki/1881_&#1075;&#1086;&#1076;" TargetMode="External"/><Relationship Id="rId4" Type="http://schemas.openxmlformats.org/officeDocument/2006/relationships/hyperlink" Target="https://ru.wikipedia.org/wiki/1884_&#1075;&#1086;&#1076;" TargetMode="External"/><Relationship Id="rId5" Type="http://schemas.openxmlformats.org/officeDocument/2006/relationships/hyperlink" Target="https://ru.wikipedia.org/wiki/1887_&#1075;&#1086;&#1076;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8_&#1072;&#1087;&#1088;&#1077;&#1083;&#1103;" TargetMode="External"/><Relationship Id="rId3" Type="http://schemas.openxmlformats.org/officeDocument/2006/relationships/hyperlink" Target="https://ru.wikipedia.org/wiki/1888_&#1075;&#1086;&#1076;" TargetMode="External"/><Relationship Id="rId4" Type="http://schemas.openxmlformats.org/officeDocument/2006/relationships/hyperlink" Target="https://ru.wikipedia.org/wiki/1889_&#1075;&#1086;&#1076;" TargetMode="External"/><Relationship Id="rId5" Type="http://schemas.openxmlformats.org/officeDocument/2006/relationships/hyperlink" Target="https://ru.wikipedia.org/wiki/1890_&#1075;&#1086;&#1076;" TargetMode="External"/><Relationship Id="rId6" Type="http://schemas.openxmlformats.org/officeDocument/2006/relationships/hyperlink" Target="https://ru.wikipedia.org/wiki/1891_&#1075;&#1086;&#1076;" TargetMode="External"/><Relationship Id="rId7" Type="http://schemas.openxmlformats.org/officeDocument/2006/relationships/hyperlink" Target="https://ru.wikipedia.org/wiki/&#1042;&#1079;&#1103;&#1090;&#1080;&#1077;_&#1089;&#1085;&#1077;&#1078;&#1085;&#1086;&#1075;&#1086;_&#1075;&#1086;&#1088;&#1086;&#1076;&#1082;&#1072;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91_&#1075;&#1086;&#1076;" TargetMode="External"/><Relationship Id="rId3" Type="http://schemas.openxmlformats.org/officeDocument/2006/relationships/hyperlink" Target="https://ru.wikipedia.org/wiki/&#1054;&#1073;&#1100;_(&#1088;&#1077;&#1082;&#1072;)" TargetMode="External"/><Relationship Id="rId4" Type="http://schemas.openxmlformats.org/officeDocument/2006/relationships/hyperlink" Target="https://ru.wikipedia.org/wiki/1893_&#1075;&#1086;&#1076;" TargetMode="External"/><Relationship Id="rId5" Type="http://schemas.openxmlformats.org/officeDocument/2006/relationships/hyperlink" Target="https://ru.wikipedia.org/wiki/1895_&#1075;&#1086;&#1076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97_&#1075;&#1086;&#1076;" TargetMode="External"/><Relationship Id="rId3" Type="http://schemas.openxmlformats.org/officeDocument/2006/relationships/hyperlink" Target="https://ru.wikipedia.org/wiki/&#1064;&#1074;&#1077;&#1081;&#1094;&#1072;&#1088;&#1080;&#1103;" TargetMode="External"/><Relationship Id="rId4" Type="http://schemas.openxmlformats.org/officeDocument/2006/relationships/hyperlink" Target="https://ru.wikipedia.org/wiki/1899_&#1075;&#1086;&#1076;" TargetMode="External"/><Relationship Id="rId5" Type="http://schemas.openxmlformats.org/officeDocument/2006/relationships/hyperlink" Target="https://ru.wikipedia.org/wiki/&#1057;&#1091;&#1074;&#1086;&#1088;&#1086;&#1074;,_&#1040;&#1083;&#1077;&#1082;&#1089;&#1072;&#1085;&#1076;&#1088;_&#1042;&#1072;&#1089;&#1080;&#1083;&#1100;&#1077;&#1074;&#1080;&#1095;" TargetMode="External"/><Relationship Id="rId6" Type="http://schemas.openxmlformats.org/officeDocument/2006/relationships/hyperlink" Target="https://ru.wikipedia.org/wiki/&#1053;&#1080;&#1082;&#1086;&#1083;&#1072;&#1081;_II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549360"/>
            <a:ext cx="6913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уриков, Василий Иванови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6624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по ИЗО и МХК.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404640"/>
            <a:ext cx="8424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тепан Р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картины «Степан Разин» появилась у Сурикова ещё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87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но работа над картиной нача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0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Этюды для картины Суриков писал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ибир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и 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Дон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07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Суриков стал членом Союза русских художников, покинув ряды Товарищества передви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826920" y="2276640"/>
            <a:ext cx="74901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620640"/>
            <a:ext cx="7345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ся неосуществлённым замысел картины «Княгиня Ольга встречает тело князя Игоря, убитого древлянами». Картина была задуман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09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о время поездки на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зер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Ши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4898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620640"/>
            <a:ext cx="792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сещение царевной женского монастыря»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прочтения книги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. Е. Забели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«Домашний быт русских цариц в XVI—XVII веках», Суриков с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8 г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пишет картину «Посещение царевной женского монастыря»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12 го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Посещение царевной женского монастыря Суриков"/>
          <p:cNvPicPr/>
          <p:nvPr/>
        </p:nvPicPr>
        <p:blipFill>
          <a:blip r:embed="rId5"/>
          <a:stretch/>
        </p:blipFill>
        <p:spPr>
          <a:xfrm>
            <a:off x="1476360" y="1916280"/>
            <a:ext cx="6264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387036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917960" y="549360"/>
            <a:ext cx="3834000" cy="49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734080"/>
            <a:ext cx="36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бирская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5805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ик огоро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1280" y="549360"/>
            <a:ext cx="38163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Василия Сурикова присвоено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сковскому художественному институ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одине художника,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асноя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54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ставлен памятник (скульптор Л. Ю. Эйдлин, архитектор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. Д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ирхогла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ам же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48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ткрыт дом-музей Сурикова, нын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узей-усадь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в 2002 году был открыт новый памятник (скульптор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Юрий Злот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Собрание живописи и различных предметов краеведческого музея составило основу коллекции при открытии дома-муз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076720" y="549360"/>
            <a:ext cx="3408480" cy="454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3280" y="5300640"/>
            <a:ext cx="4032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юст русского живописца Василия Ивановича Сурикова в Румянцевском саду в Санкт-Петербург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Автопортрет"/>
          <p:cNvPicPr/>
          <p:nvPr/>
        </p:nvPicPr>
        <p:blipFill>
          <a:blip r:embed="rId2"/>
          <a:stretch/>
        </p:blipFill>
        <p:spPr>
          <a:xfrm>
            <a:off x="4643280" y="404640"/>
            <a:ext cx="4052880" cy="552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328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портрет. Третьяковская галере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3959280" cy="54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́лий Ива́нович  Сур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дился 12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24) ян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расноя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мер 6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19) м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16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Москве. Он принадлежал к роду казаков, которые пришли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иби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Ерм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ещё в 16 ве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Иванович начал рисовать в раннем детстве. Первым учителем рисования для Сурикова стал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Николай Васильевич Гребн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учитель рисования Красноярского уездного училища. Наиболее ранним датированным произведением Сурикова считается акварель «Плоты на Енисее»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86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хранится в музее-усадьбе В. И. Сурикова в Красноярск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404640"/>
            <a:ext cx="835344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1869 по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75 го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Суриков учился в петербургско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адемии художеств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у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. П. Чистяков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 Во время учёбы Суриков за свои работы получил четыре серебряных медали и несколько денежных премий. Первую самостоятельную работу Сурикова «Вид памятника Петру I на Сенатской площади в Санкт-Петербурге»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70 го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приобрёл П. И. Кузнецов красноярский золотопромышленник(первый вариант картины хранится в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расноярском государственном художественном музее им. В. И. Суриков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835280" y="2349360"/>
            <a:ext cx="561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04640"/>
            <a:ext cx="835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ейшие карт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78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Василий Иванович начал работать над картиной «Утро стрелецкой казни». Картина была завершена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1 г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 1881 году Суриков становится членом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оварищества передвижных художественных выставо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77040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404640"/>
            <a:ext cx="828036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ншиков в Берёзов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. М. Третьяков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в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3 году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приобрёл картину Сурикова «Меншиков в Берёзове». У художника появились деньги для зарубежной поездки. Он побывал в Германии, Италии, Франции, Австрии, ознакомился с коллекцие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Дрезденской галере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собранием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увр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692360" y="1628640"/>
            <a:ext cx="59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476280"/>
            <a:ext cx="770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оярыня Морозо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1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Суриков сделал первый эскиз «Боярыни Морозовой»,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4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начал работать над картиной «Боярыня Морозова». Картина экспонировалась на XV Передвижной выставке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7 г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68360" y="2205000"/>
            <a:ext cx="820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333360"/>
            <a:ext cx="81360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зятие снежного городка» </a:t>
            </a:r>
            <a:r>
              <a:rPr b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8 апре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8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кончалась жена Сурикова. В начале лета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9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уриков вместе с дочерьми уехал в Красноярск, где прожил до осени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90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Красноярске художник создаёт полотно «Взятие снежного городка» (завершено в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891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ранится в Русском музе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у «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зятие снежного горо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уриков впервые увидел в раннем детстве по дороге в родное село матери Торгоши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95280" y="1989000"/>
            <a:ext cx="8280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3534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корение Сибири Ермаком Тимофеевичем»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посещения Сибири Суриков изучал жизнь и быт местных народов: вогулов, остяков, хакасов и др.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91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началась работа над картиной «Покорение Сибири Ермаком Тимофеевичем». Этюды для картины Суриков писал 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еке Об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 Работа над картиной «Покорение Сибири Ермаком Тимофеевичем» продолжилась на Дону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93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а закончи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95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39640" y="2492280"/>
            <a:ext cx="8136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49360"/>
            <a:ext cx="3529080" cy="49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ереход Суворова через Аль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ктябре 1895 года, будучи в Красноярске, Суриков задумал картину «Переход Суворова через Альпы». Летом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97 г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Суриков посещает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Швейцарию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где пишет этюды. Работа над картиной «Переход Суворова через Альпы» заверши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99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— в 100-летие итальянского поход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уворо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Картина выставлялась в Санкт-Петербурге, Москве, и была приобрете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император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284720" y="476280"/>
            <a:ext cx="4300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5:36:21Z</dcterms:created>
  <dc:creator>Елена</dc:creator>
  <dc:description/>
  <dc:language>en-US</dc:language>
  <cp:lastModifiedBy>Елена</cp:lastModifiedBy>
  <dcterms:modified xsi:type="dcterms:W3CDTF">2017-01-05T16:39:26Z</dcterms:modified>
  <cp:revision>2</cp:revision>
  <dc:subject/>
  <dc:title>Слайд 1</dc:title>
</cp:coreProperties>
</file>