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453-0AD0-47CD-876A-91D3133E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B1B-14CF-4AC2-A4FF-8618A199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A02-A6DC-486D-97B6-A267D620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7DF-E1AE-4FE2-B75C-55566AB5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776-FBAC-4880-93B0-B6019FE1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148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172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148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172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E46-BCD0-4F4B-A2EC-656B0D23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148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6172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148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6172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7E5-12D7-4C8A-9B9F-22C1697B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C15-AFDD-4479-83EE-1B16DF75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A33-ECFE-411C-A730-969430E0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324-8DA7-417B-A81B-FA112C10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717-471B-45C7-9E3A-A674CCCC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438-3A9A-428B-BF86-6044DF6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6CC5-6469-449D-954C-62460EA207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25400" y="7077240"/>
            <a:ext cx="9355320" cy="968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1987560" y="7289640"/>
            <a:ext cx="8093160" cy="968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404640" y="1893960"/>
            <a:ext cx="9676080" cy="5665680"/>
          </a:xfrm>
          <a:prstGeom prst="rect">
            <a:avLst/>
          </a:prstGeom>
          <a:solidFill>
            <a:srgbClr val="dddddd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0" y="0"/>
            <a:ext cx="182520" cy="919080"/>
          </a:xfrm>
          <a:prstGeom prst="rect">
            <a:avLst/>
          </a:prstGeom>
          <a:solidFill>
            <a:srgbClr val="125c8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0" y="2381400"/>
            <a:ext cx="182520" cy="919080"/>
          </a:xfrm>
          <a:prstGeom prst="rect">
            <a:avLst/>
          </a:prstGeom>
          <a:solidFill>
            <a:srgbClr val="125c8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0" y="1168560"/>
            <a:ext cx="182520" cy="919080"/>
          </a:xfrm>
          <a:prstGeom prst="rect">
            <a:avLst/>
          </a:prstGeom>
          <a:solidFill>
            <a:srgbClr val="125c8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6360" y="2700360"/>
            <a:ext cx="8607240" cy="15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Проект «УЖ»</a:t>
            </a:r>
            <a:br>
              <a:rPr sz="88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полнил ученик 2 класса Г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майлов Владимир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 Black"/>
              </a:rPr>
              <a:t>УЖ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 проекта:Узнать,правда ли ужи-самые безобидные зм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найти информацию об отличии ужа от другой зме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знать,где обитает уж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знать,чем питаетс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ж-самая безобидная змея. Трудно представить,сколько ужей было убито по ошибке. Эту  змею часто путают с гадюкой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" name="Рисунок 2" descr=""/>
          <p:cNvPicPr/>
          <p:nvPr/>
        </p:nvPicPr>
        <p:blipFill>
          <a:blip r:embed="rId1"/>
          <a:stretch/>
        </p:blipFill>
        <p:spPr>
          <a:xfrm>
            <a:off x="863640" y="2508120"/>
            <a:ext cx="8485200" cy="4116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2000" y="547560"/>
            <a:ext cx="8607600" cy="14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краска ужей разнообразна:от тёмно-коричневого до чёрного цвета. На голове видны два жёлто-оранжевых пятна. Уж с гадюкой очень похожи. На картинке слева-уж,справа-гадюка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"/>
          <p:cNvPicPr/>
          <p:nvPr/>
        </p:nvPicPr>
        <p:blipFill>
          <a:blip r:embed="rId1"/>
          <a:stretch/>
        </p:blipFill>
        <p:spPr>
          <a:xfrm>
            <a:off x="353880" y="2087640"/>
            <a:ext cx="4470480" cy="45370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2"/>
          <a:stretch/>
        </p:blipFill>
        <p:spPr>
          <a:xfrm>
            <a:off x="4967280" y="2044800"/>
            <a:ext cx="4897440" cy="4506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8920" y="179280"/>
            <a:ext cx="860724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Глаза у ужа круглые,а у гадюки в форме палочек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4968720" y="539640"/>
            <a:ext cx="4673880" cy="51832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"/>
          <p:cNvPicPr/>
          <p:nvPr/>
        </p:nvPicPr>
        <p:blipFill>
          <a:blip r:embed="rId2"/>
          <a:stretch/>
        </p:blipFill>
        <p:spPr>
          <a:xfrm>
            <a:off x="216000" y="539640"/>
            <a:ext cx="4654440" cy="5213520"/>
          </a:xfrm>
          <a:prstGeom prst="rect">
            <a:avLst/>
          </a:prstGeom>
          <a:ln w="0">
            <a:noFill/>
          </a:ln>
        </p:spPr>
      </p:pic>
      <p:sp>
        <p:nvSpPr>
          <p:cNvPr id="138" name="Заголовок 1"/>
          <p:cNvSpPr/>
          <p:nvPr/>
        </p:nvSpPr>
        <p:spPr>
          <a:xfrm>
            <a:off x="576360" y="5958720"/>
            <a:ext cx="86072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ногда они забираются на спины водоплавающих птиц и оттуда высматривают рыб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Любимая пища ужа: лягушки, головастики, рыба, мыши, тритоны, слизни и другие насеко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633240"/>
            <a:ext cx="860760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ж часто встречается в густых кустах по берегам водоемов. Ужи отлично плавают и могут долго лежать на дне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3" descr=""/>
          <p:cNvPicPr/>
          <p:nvPr/>
        </p:nvPicPr>
        <p:blipFill>
          <a:blip r:embed="rId1"/>
          <a:stretch/>
        </p:blipFill>
        <p:spPr>
          <a:xfrm>
            <a:off x="936720" y="2101680"/>
            <a:ext cx="8412120" cy="466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263160"/>
            <a:ext cx="8607600" cy="18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ри встрече с врагом(ежи,птицы,человек) чаще всего спасается бегством. Пойманный уж сначала шипит. Если это не помогло,то выделяет вонючую жидкость,которая отбивает аппетит у хищников. Но чаще всего притворяется мёртвым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1"/>
          <a:stretch/>
        </p:blipFill>
        <p:spPr>
          <a:xfrm>
            <a:off x="741240" y="2101680"/>
            <a:ext cx="8607600" cy="469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1258920"/>
            <a:ext cx="860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558ed5"/>
                </a:solidFill>
                <a:latin typeface="Comic Sans MS"/>
              </a:rPr>
              <a:t>Спасибо за внимание.</a:t>
            </a:r>
            <a:br>
              <a:rPr sz="9600"/>
            </a:br>
            <a:r>
              <a:rPr b="1" i="1" lang="ru-RU" sz="9600" spc="-1" strike="noStrike">
                <a:solidFill>
                  <a:srgbClr val="558ed5"/>
                </a:solidFill>
                <a:latin typeface="Comic Sans MS"/>
              </a:rPr>
              <a:t>КОНЕЦ.</a:t>
            </a:r>
            <a:endParaRPr b="1" lang="en-US" sz="9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17:45:47Z</dcterms:created>
  <dc:creator>Светлана Измайлова</dc:creator>
  <dc:description/>
  <dc:language>en-US</dc:language>
  <cp:lastModifiedBy>ДНС - Монстр</cp:lastModifiedBy>
  <dcterms:modified xsi:type="dcterms:W3CDTF">2017-09-24T12:08:28Z</dcterms:modified>
  <cp:revision>9</cp:revision>
  <dc:subject/>
  <dc:title>Проект «УЖ» ученика 2 класса «Г» Измайлова Владимира.</dc:title>
</cp:coreProperties>
</file>