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A25-1BF3-42F8-9462-D058E4FC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CC8-3205-4A1D-B4C7-8204C599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42D-B0D0-4CF7-A4CF-5631AC02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0C9-32FF-4C9B-931A-6A514AF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BB0-A1D1-4097-8988-A28B25EE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E9E-4408-4D3D-AB2D-6D75417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231-8E05-4C52-9553-E6C805A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1F3-215B-4D75-AE3B-D26801E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D30-9277-41E5-ACB1-05A4AF0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281-8BC1-4F99-9A0B-3C8E8F44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3E0-0010-4714-BB78-A104652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10A-4189-49F0-B6E6-1BCF85B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62D1-85F1-43E3-AE55-98F461E44E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25400" y="7077240"/>
            <a:ext cx="935532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987560" y="7289640"/>
            <a:ext cx="809316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04640" y="1893960"/>
            <a:ext cx="9676080" cy="5665680"/>
          </a:xfrm>
          <a:prstGeom prst="rect">
            <a:avLst/>
          </a:prstGeom>
          <a:solidFill>
            <a:srgbClr val="dddddd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0" y="238140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0" y="1168560"/>
            <a:ext cx="182520" cy="919080"/>
          </a:xfrm>
          <a:prstGeom prst="rect">
            <a:avLst/>
          </a:prstGeom>
          <a:solidFill>
            <a:srgbClr val="125c8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360" y="2700360"/>
            <a:ext cx="860724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Проект «УЖ»</a:t>
            </a:r>
            <a:br>
              <a:rPr sz="88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л ученик 2 класса Г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айлов Владимир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 Black"/>
              </a:rPr>
              <a:t>УЖ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проекта:Узнать,правда ли ужи-самые безобидные зм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найти информацию об отличии ужа от другой зм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знать,где обитает у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знать,чем питаетс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ж-самая безобидная змея. Трудно представить,сколько ужей было убито по ошибке. Эту  змею часто путают с гадюкой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Рисунок 2" descr=""/>
          <p:cNvPicPr/>
          <p:nvPr/>
        </p:nvPicPr>
        <p:blipFill>
          <a:blip r:embed="rId1"/>
          <a:stretch/>
        </p:blipFill>
        <p:spPr>
          <a:xfrm>
            <a:off x="863640" y="2508120"/>
            <a:ext cx="8485200" cy="411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2000" y="547560"/>
            <a:ext cx="860760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краска ужей разнообразна:от тёмно-коричневого до чёрного цвета. На голове видны два жёлто-оранжевых пятна. Уж с гадюкой очень похожи. На картинке слева-уж,справа-гадюка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353880" y="2087640"/>
            <a:ext cx="4470480" cy="4537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2"/>
          <a:stretch/>
        </p:blipFill>
        <p:spPr>
          <a:xfrm>
            <a:off x="4967280" y="2044800"/>
            <a:ext cx="4897440" cy="45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8920" y="179280"/>
            <a:ext cx="860724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аза у ужа круглые,а у гадюки в форме палочек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4968720" y="539640"/>
            <a:ext cx="4673880" cy="5183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2"/>
          <a:stretch/>
        </p:blipFill>
        <p:spPr>
          <a:xfrm>
            <a:off x="216000" y="539640"/>
            <a:ext cx="4654440" cy="5213520"/>
          </a:xfrm>
          <a:prstGeom prst="rect">
            <a:avLst/>
          </a:prstGeom>
          <a:ln w="0">
            <a:noFill/>
          </a:ln>
        </p:spPr>
      </p:pic>
      <p:sp>
        <p:nvSpPr>
          <p:cNvPr id="138" name="Заголовок 1"/>
          <p:cNvSpPr/>
          <p:nvPr/>
        </p:nvSpPr>
        <p:spPr>
          <a:xfrm>
            <a:off x="576360" y="5958720"/>
            <a:ext cx="8607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огда они забираются на спины водоплавающих птиц и оттуда высматривают рыб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Любимая пища ужа: лягушки, головастики, рыба, мыши, тритоны, слизни и другие насеко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33240"/>
            <a:ext cx="860760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ж часто встречается в густых кустах по берегам водоемов. Ужи отлично плавают и могут долго лежать на дне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936720" y="2101680"/>
            <a:ext cx="8412120" cy="466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263160"/>
            <a:ext cx="86076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и встрече с врагом(ежи,птицы,человек) чаще всего спасается бегством. Пойманный уж сначала шипит. Если это не помогло,то выделяет вонючую жидкость,которая отбивает аппетит у хищников. Но чаще всего притворяется мёртвым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860760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258920"/>
            <a:ext cx="860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558ed5"/>
                </a:solidFill>
                <a:latin typeface="Comic Sans MS"/>
              </a:rPr>
              <a:t>Спасибо за внимание.</a:t>
            </a:r>
            <a:br>
              <a:rPr sz="9600"/>
            </a:br>
            <a:r>
              <a:rPr b="1" i="1" lang="ru-RU" sz="9600" spc="-1" strike="noStrike">
                <a:solidFill>
                  <a:srgbClr val="558ed5"/>
                </a:solidFill>
                <a:latin typeface="Comic Sans MS"/>
              </a:rPr>
              <a:t>КОНЕЦ.</a:t>
            </a:r>
            <a:endParaRPr b="1" lang="en-US" sz="9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17:45:47Z</dcterms:created>
  <dc:creator>Светлана Измайлова</dc:creator>
  <dc:description/>
  <dc:language>en-US</dc:language>
  <cp:lastModifiedBy>ДНС - Монстр</cp:lastModifiedBy>
  <dcterms:modified xsi:type="dcterms:W3CDTF">2017-09-24T12:08:28Z</dcterms:modified>
  <cp:revision>9</cp:revision>
  <dc:subject/>
  <dc:title>Проект «УЖ» ученика 2 класса «Г» Измайлова Владимира.</dc:title>
</cp:coreProperties>
</file>