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9C89-F1E3-4FAE-945F-D6417FFD6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518-DB10-4764-8F25-5F1DB370D7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ED63-39EB-440D-B291-E77785339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FA2A-E200-42FC-9D4C-2903F6DAA2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55C2-637C-41CA-B14F-625B1C614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D200-752A-43B1-9E25-0541639B33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DD4-8CAE-4DB7-BEAF-C405969A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DAB-6D00-43C8-AD01-DBD568EA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14A-3FD4-4A8C-A494-66A3C801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696-CC71-4BA8-B525-7B822C35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9F9-4C2A-4DEC-AEF1-80D7F66A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8F82-6337-4622-9892-57C44A4C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64BB-09D3-4ABB-A75F-881A873E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0AF2-5051-499D-83BD-910D5F4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0D2-128A-4F45-9CB9-1151B09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FE7-7D96-4E80-B62F-205CD979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032-C979-4765-AC1C-5FC2657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BBF-7BEE-44A1-AE7F-0DA64EEA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7C20-BD71-4BD9-B774-3C22E065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AB28-3863-4642-A76F-3950DA6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8C8-331B-4A99-A787-30AF4E24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D905-41B8-4BFE-B551-DF76A7A5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DFCD-D59D-4B14-80C2-2BBB0B60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FCC-E85E-4CFF-A0DD-2C895004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DDF-6FFC-42C8-865B-CF8CE26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551-FD6C-4498-AFD2-9227DDE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613-D783-40E9-BE99-738B76C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CAC-6CE6-4004-996F-4A869EC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F7B-40E1-448D-B20E-FC4979E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372-DCB2-4C26-8354-BBC6443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B2F-D93F-4442-B089-9069024FC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A1F-A93A-4AEA-BA02-4863EA702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ranamam.ru/post/6895117/" TargetMode="External"/><Relationship Id="rId2" Type="http://schemas.openxmlformats.org/officeDocument/2006/relationships/hyperlink" Target="http://www.u-mama.ru/read/obaby/text/child-poems/1915.html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30440" y="1017720"/>
            <a:ext cx="57819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326280" y="3571560"/>
            <a:ext cx="55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«Зимняя красавица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аршей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 : Бариева Л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7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37000" y="365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ающий этап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37000" y="1825200"/>
            <a:ext cx="7300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годний  утренник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дравствуй, здравствуй Новый год!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 выставки детских работ, выставки художественной литературы по теме, украшение групповой комнаты и прием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отчёт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Ёлочка - красавица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37000" y="364680"/>
            <a:ext cx="7300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65600" y="712440"/>
            <a:ext cx="73008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анович З.Е. Времена года/ З.Е. Агранович. - СПб., ДЕТСТВО-ПРЕСС, 2005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вченко И.В.   Прогулки в детском саду/ И.В Кравченко, Т.Л Долгова.  ТЦ Сфера, 2008г. – 208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щева Н.В. Играйка-собирайка/ Н.В. Нищева. -  СПб., ДЕТСТВО-ПРЕСС, 200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икова И.В. Аппликация и конструирование из природных материалов в детском саду/ Ярославль; Академия развития; Владимир ВКТ, 2010г – 192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0 загадок. Пособие для педагогов и родителей./Составители Н.В. Елкина,  Т.И. Тарабарина. – Ярославль: «Академия развития», 2005г.-224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http://www.stranamam.ru/post/6895117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http://www.u-mama.ru/read/obaby/text/child-poems/1915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kid.ru/rebenok/index9.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483080" y="1994040"/>
            <a:ext cx="730080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73480" y="-230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 педагогического  проек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37000" y="1825200"/>
            <a:ext cx="7300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19680" y="763560"/>
          <a:ext cx="8008920" cy="5716440"/>
        </p:xfrm>
        <a:graphic>
          <a:graphicData uri="http://schemas.openxmlformats.org/drawingml/2006/table">
            <a:tbl>
              <a:tblPr/>
              <a:tblGrid>
                <a:gridCol w="2933640"/>
                <a:gridCol w="5075280"/>
              </a:tblGrid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 «Зимняя красавиц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ресация 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ект предназначен для совместной  деятельности педагогов с детьми старшего дошкольного возраста и их родител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75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и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старшей группы, воспитатели, родители, музыкальный руководитель, инструктор по физической культур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экологической культур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и реал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рочный с 15.12.2017г. по  30.12.2017г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6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характеру создаваемого продукта: информационно-творческ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личеству участников: группово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филю знаний: монопроект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характеру координации: открыты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ровню контактов: на уровне образовательного учрежд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0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и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овогодний  утренник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равствуй, здравствуй Новый год!»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формление  выставки детских рабо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Фотоотчёт  “Ёлочка - красавица”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37000" y="324000"/>
            <a:ext cx="733896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проекта, обоснование выбора темы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9000" y="1136160"/>
            <a:ext cx="704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разработан в силу особой актуальности проблемы экологиче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о воспитания подрастающего поколения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Так же актуальна и проблема взаимодействия педагогов ДОУ и родителей воспитанников, вовлечение их в жизнь детского сада и группы в частности. Только объединив усилия, мы обеспечим прекрасные условия для воспитания экологической культуры, разумное и рациональное использование природных ресурсов страны, сохранение прир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возданном виде.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15920" y="1049040"/>
            <a:ext cx="7301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: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е экологической культу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37000" y="365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29240" y="892080"/>
            <a:ext cx="729936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лечь внимание детей и родителей к рациональному использованию природных ресурсов (зелёных насаждений – ёлок) при праздновании Нового год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уждать использовать для украшения помещений искусственные ёлки и другие дизайнерские решени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гащать  и систематизировать   представления детей о новогоднем празднике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все компоненты устной речи детей в различных формах и видах детской деятель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ие  способ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 тонкую  моторик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уждать   воспитанников к совместной деятель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ствовать созданию положительного эмоционального настроя на праздни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ять  кругозор  родителей о традициях   празднования Нового год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45080" y="185400"/>
            <a:ext cx="7299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результаты по проекту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5040" y="974520"/>
            <a:ext cx="689760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детей: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ированы элементарные понятия экологической 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ют искусственные ёлки в новогодние праздн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тизированы представления о новогоднем праздни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яют творчество, воображение, фантаз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яют способность к моделированию и конструирован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педагог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яют высокий  уровень компетентности по использованию современных педагогических технологий в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ны к реализации творческого потенц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родителе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ны рационально использовать природные ресурсы (зелёные насаждения – ёлки) при праздновании Нового го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 взаимодействуют с детьми и сотрудниками  Д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37000" y="365040"/>
            <a:ext cx="7300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437000" y="1825200"/>
            <a:ext cx="7300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и изучение  методической литературы  по теме проекта, постановка цели и задач,  группировка материала и составление пл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иллюстративного материала по теме, настольно-печатных  и  дидактических иг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художественной литературы для чтения, загадок, аудиозаписей, видеоматериалов и материалов для   творческ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учивание стихотворений и песен к новому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ение за елью на прогул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67160" y="0"/>
            <a:ext cx="7300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95960" y="609480"/>
            <a:ext cx="7796160" cy="68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ая гимнастика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лочка», «На ёлке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культминутки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лка», «Новый год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ижные игры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, два, три – к ёлочке беги»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,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ва Мороза» 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седы на темы: «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уда к нам ёлка пришла?», «Ёлочка красавица - береги ее», «Из чего можно сделать ёлку?», «Вторая жизнь ёлочки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: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имняя красавица», «Новогодний праздник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ние иллюстраций, просмотр мультфильм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ОД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аппликация «Зимний лес» , пластиллинография  «Разноцветная ёлка», конструирование «Ёлочка»(конусная), рисование «Как весело было на празднике ёлки!»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художественной литературы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. Чуковский «Ёлка»,С.Маршак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сня о ёлке»,С. Михалков «Говорят: под Новый год», Е.Михайлова «Что такое Новый год?» 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ения: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ак узнать ель?», «Чем прекрасна ель?», 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ение живой и искусственной ели»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410000" y="231480"/>
            <a:ext cx="7299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курсия в торговый центр «Новоборовецкий» в отдел по продаже искусственных ёлок и ёлочных укра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курс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ёлочный база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шение ели на территории Д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дактические игры ,</a:t>
            </a:r>
            <a:r>
              <a:rPr b="1" lang="tt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К</a:t>
            </a:r>
            <a:r>
              <a:rPr b="1" lang="tt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Дидактик уен: </a:t>
            </a:r>
            <a:r>
              <a:rPr b="0" lang="tt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Кыш бабай бүләкләре” “Чыршыны бизә”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r>
              <a:rPr b="0" lang="tt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Нинди шар юк?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4.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ивное соревнование: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имушка – забавушка!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ер-класс для родителей и дет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«Как сделать ёлку своими руками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стенд для родителей 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появления Новогодней ёлки»,«Традиция - Новогодняя ёл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кум для родителей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сть ёлка новогодняя нам радость принесёт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09:15:44Z</dcterms:created>
  <dc:creator>Инна</dc:creator>
  <dc:description/>
  <dc:language>en-US</dc:language>
  <cp:lastModifiedBy>ляйсан бариева</cp:lastModifiedBy>
  <dcterms:modified xsi:type="dcterms:W3CDTF">2017-09-24T12:13:39Z</dcterms:modified>
  <cp:revision>43</cp:revision>
  <dc:subject/>
  <dc:title>Название презентации</dc:title>
</cp:coreProperties>
</file>