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A4DA-9415-4499-B25C-218729B3E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FD9-D899-46DE-9F97-4957D1FBE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5C5C-483B-4077-86D7-95B7D4A56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5C6-96E9-4B34-8662-04C54B5EF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9CD7-4B08-44AC-8DDD-9EAA7D7E3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4E7-0C6B-4DC1-B0E5-5384847BE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5A4-809C-4140-BA47-7129062D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1A0-EB2F-43E7-BB69-5355E381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85C-897E-46C6-8666-C128A282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0E5-9BE2-43B3-A56C-825B5A75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243C-D577-4CA0-8AFA-9995F316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93F9-8949-49D0-AFD4-5C03815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4B79-5D00-4553-AF1B-563A18F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647A-1D90-439D-B5F9-7585B42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9105-DE8E-42D7-A0D2-5D31202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182-70A2-4B73-B4C9-2E3477E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4770-1921-43FA-A938-D7E052C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FC9-4141-49DB-8CA4-566BF71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CB2-C8B1-4164-ACB6-6FCF6195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FAA-ED9D-424D-BA2D-7A009E3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18C-E8C2-4902-9A78-B83E0C1D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8DD-C819-4414-847E-11ECCEB7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E392-FD20-4EFF-8F52-04E9DC37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CBE-3F6E-4FC0-9854-8F7B6B2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DC4-D141-4908-8B76-C02F430A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0F2-7B1E-4147-A5B4-503323B9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2E-CF57-4F72-B062-8A054968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011-1A59-409A-AA0B-763617A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1AD-D510-43B7-8958-2D05697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C67-1D01-4645-8A48-9311236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186-36AD-4251-B3E2-CFB28BB69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316F-E9A5-491B-9495-0995862EC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ranamam.ru/post/6895117/" TargetMode="External"/><Relationship Id="rId2" Type="http://schemas.openxmlformats.org/officeDocument/2006/relationships/hyperlink" Target="http://www.u-mama.ru/read/obaby/text/child-poems/1915.html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30440" y="1017720"/>
            <a:ext cx="5781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26280" y="3571560"/>
            <a:ext cx="55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Зимняя красавица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аршей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: Бариева Л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7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ающи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дний  утренник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равствуй, здравствуй Новый год!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 выставки детских работ, выставки художественной литературы по теме, украшение групповой комнаты и прием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отчёт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Ёлочка - красавица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37000" y="364680"/>
            <a:ext cx="7300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65600" y="712440"/>
            <a:ext cx="73008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анович З.Е. Времена года/ З.Е. Агранович. - СПб., ДЕТСТВО-ПРЕСС, 2005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вченко И.В.   Прогулки в детском саду/ И.В Кравченко, Т.Л Долгова.  ТЦ Сфера, 2008г. – 208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щева Н.В. Играйка-собирайка/ Н.В. Нищева. -  СПб., ДЕТСТВО-ПРЕСС, 200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икова И.В. Аппликация и конструирование из природных материалов в детском саду/ Ярославль; Академия развития; Владимир ВКТ, 2010г – 192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0 загадок. Пособие для педагогов и родителей./Составители Н.В. Елкина,  Т.И. Тарабарина. – Ярославль: «Академия развития», 2005г.-224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http://www.stranamam.ru/post/6895117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http://www.u-mama.ru/read/obaby/text/child-poems/1915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kid.ru/rebenok/index9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483080" y="1994040"/>
            <a:ext cx="730080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73480" y="-230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 педагогического  прое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19680" y="763560"/>
          <a:ext cx="8008920" cy="5716440"/>
        </p:xfrm>
        <a:graphic>
          <a:graphicData uri="http://schemas.openxmlformats.org/drawingml/2006/table">
            <a:tbl>
              <a:tblPr/>
              <a:tblGrid>
                <a:gridCol w="2933640"/>
                <a:gridCol w="5075280"/>
              </a:tblGrid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 «Зимняя красавиц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ресация 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ект предназначен для совместной  деятельности педагогов с детьми старшего дошкольного возраста и их родител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75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и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старшей группы, воспитатели, родители, музыкальный руководитель, инструктор по физической культур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экологической культур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и ре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рочный с 15.12.2017г. по  30.12.2017г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6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характеру создаваемого продукта: информационно-творческ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личеству участников: группово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филю знаний: монопроект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характеру координации: открыты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ровню контактов: на уровне образовательного учрежд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0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и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овогодний  утренник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равствуй, здравствуй Новый год!»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формление  выставки детских рабо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отоотчёт  “Ёлочка - красавица”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37000" y="324000"/>
            <a:ext cx="733896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проекта, обоснование выбора темы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9000" y="1136160"/>
            <a:ext cx="704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разработан в силу особой актуальности проблемы экологиче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о воспитания подрастающего поколения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Так же актуальна и проблема взаимодействия педагогов ДОУ и родителей воспитанников, вовлечение их в жизнь детского сада и группы в частности. Только объединив усилия, мы обеспечим прекрасные условия для воспитания экологической культуры, разумное и рациональное использование природных ресурсов страны, сохранение прир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возданном виде.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15920" y="1049040"/>
            <a:ext cx="7301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экологической культу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29240" y="892080"/>
            <a:ext cx="729936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чь внимание детей и родителей к рациональному использованию природных ресурсов (зелёных насаждений – ёлок) при праздновании Нового год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уждать использовать для украшения помещений искусственные ёлки и другие дизайнерские реше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гащать  и систематизировать   представления детей о новогоднем праздник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се компоненты устной речи детей в различных формах и видах детской деятель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 способ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тонкую  моторик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уждать   воспитанников к совместной деятель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ствовать созданию положительного эмоционального настроя на праздни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ять  кругозор  родителей о традициях   празднования Нового год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5080" y="185400"/>
            <a:ext cx="7299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 по проекту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5040" y="974520"/>
            <a:ext cx="689760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детей: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ированы элементарные понятия экологической 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 искусственные ёлки в новогодние праздн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зированы представления о новогоднем праздни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творчество, воображение, фантаз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способность к моделированию и конструирован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высокий  уровень компетентности по использованию современных педагогических технологий в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ы к реализации творческого потенц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ы рационально использовать природные ресурсы (зелёные насаждения – ёлки) при праздновании Нового г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 взаимодействуют с детьми и сотрудниками  Д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и изучение  методической литературы  по теме проекта, постановка цели и задач,  группировка материала и составление пл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иллюстративного материала по теме, настольно-печатных  и  дидактических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художественной литературы для чтения, загадок, аудиозаписей, видеоматериалов и материалов для   твор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учивание стихотворений и песен к новому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е за елью на прог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67160" y="0"/>
            <a:ext cx="7300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95960" y="609480"/>
            <a:ext cx="7796160" cy="68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ая гимнастика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очка», «На ёлке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культминутки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ка», «Новый год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ижные игры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, два, три – к ёлочке беги»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,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а Мороза» 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седы на темы: 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уда к нам ёлка пришла?», «Ёлочка красавица - береги ее», «Из чего можно сделать ёлку?», «Вторая жизнь ёлочки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: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имняя красавица», «Новогодний праздник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иллюстраций, просмотр мультфильм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ОД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аппликация «Зимний лес» , пластиллинография  «Разноцветная ёлка», конструирование «Ёлочка»(конусная), рисование «Как весело было на празднике ёлки!»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 Чуковский «Ёлка»,С.Маршак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ня о ёлке»,С. Михалков «Говорят: под Новый год», Е.Михайлова «Что такое Новый год?» 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я: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к узнать ель?», «Чем прекрасна ель?», 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ение живой и искусственной ели»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410000" y="231480"/>
            <a:ext cx="7299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курсия в торговый центр «Новоборовецкий» в отдел по продаже искусственных ёлок и ёлочных укра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курс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ёлочный база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шение ели на территории Д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дактические игры ,</a:t>
            </a:r>
            <a:r>
              <a:rPr b="1" lang="tt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К</a:t>
            </a:r>
            <a:r>
              <a:rPr b="1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Дидактик уен: </a:t>
            </a:r>
            <a:r>
              <a:rPr b="0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Кыш бабай бүләкләре” “Чыршыны бизә”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r>
              <a:rPr b="0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Нинди шар юк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4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ивное соревнование: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имушка – забавушка!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-класс для родителей и дет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«Как сделать ёлку своими руками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стенд для родителей 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появления Новогодней ёлки»,«Традиция - Новогодняя ёл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кум для родителей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ёлка новогодняя нам радость принесёт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09:15:44Z</dcterms:created>
  <dc:creator>Инна</dc:creator>
  <dc:description/>
  <dc:language>en-US</dc:language>
  <cp:lastModifiedBy>ляйсан бариева</cp:lastModifiedBy>
  <dcterms:modified xsi:type="dcterms:W3CDTF">2017-09-24T12:13:39Z</dcterms:modified>
  <cp:revision>43</cp:revision>
  <dc:subject/>
  <dc:title>Название презентации</dc:title>
</cp:coreProperties>
</file>