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EE-6BC9-4185-AD99-2343B3B8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87B-8901-4F81-A0F2-13C68F3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B0B-2FCF-42B3-9475-ABCC7A64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478-E88C-4763-8D1A-87AD6A3F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02A-073B-44EF-BD83-5F93166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8DB-C556-487A-A86D-75D23058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8E5-3C51-42A7-93AE-B40EDF7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AC7-A5DF-4318-8A1F-24805EC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607-4DF5-4709-A921-A146C07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68F-91A8-4AE1-8A27-3FCD3CBB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A01-2458-40CB-AAB1-502232F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945-F7AE-44AE-9A04-3B29A93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A7B-1342-4B97-8D5F-184E11035A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116000" y="404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«Детский сад комбинированного вида «Солнышко п. Чамз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71640" y="1773360"/>
            <a:ext cx="77040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ТНЕЙ ОЗДОРОВИ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ЕТО КРАСНОЕ ПРИШЛ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859280" y="4149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первой квалификационной категории  Афонькина Валент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idea.moi-portal.ru/wp-content/uploads/2017/05/devochka-na-velosipede.png"/>
          <p:cNvPicPr/>
          <p:nvPr/>
        </p:nvPicPr>
        <p:blipFill>
          <a:blip r:embed="rId2"/>
          <a:stretch/>
        </p:blipFill>
        <p:spPr>
          <a:xfrm>
            <a:off x="108000" y="3373560"/>
            <a:ext cx="35845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5979960" y="404640"/>
            <a:ext cx="303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тоишь, машина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-би-би-и-и! Спустилась ш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ляю, выруч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рее накач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5848200" cy="3517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"/>
          <p:cNvPicPr/>
          <p:nvPr/>
        </p:nvPicPr>
        <p:blipFill>
          <a:blip r:embed="rId3"/>
          <a:stretch/>
        </p:blipFill>
        <p:spPr>
          <a:xfrm>
            <a:off x="3598920" y="3517920"/>
            <a:ext cx="5545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3276720" y="4797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ет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ик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да скок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ет мячик за порог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ет десять раз подря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адошки и наза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-17640" y="-9360"/>
            <a:ext cx="916164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2268360" y="4437000"/>
            <a:ext cx="468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 клумб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их воро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любует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дой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-6480" y="4680"/>
            <a:ext cx="91504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33480"/>
            <a:ext cx="2801880" cy="49798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6012000" y="1197000"/>
            <a:ext cx="30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готов помочь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 Вам пришла бе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скорей, прият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жу тебе - спасател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, взрослые и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жаре как о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ирают «01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2863800" y="1413000"/>
            <a:ext cx="30034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5148360" y="1052640"/>
            <a:ext cx="38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  пускаю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ы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  так  много,  посмотр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  мной  лет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  в  них  сия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етелись  пузы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  в  ладошки  не  бер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  пытайся  их  пойм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  так  просто  напугать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ть  дотронешься  ру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!  ... И пусто  над  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63360"/>
            <a:ext cx="7740720" cy="4656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796000" y="4724280"/>
            <a:ext cx="344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кружилась 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русел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мелькали сосны, ель.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кружилось всё вокруг,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вёзды в небе встали в круг.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русель кружит сильней,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кружусь я вместе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5118120" cy="3079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-28440" y="3762360"/>
            <a:ext cx="5146560" cy="30956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5292720" y="2492280"/>
            <a:ext cx="399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спортивный гор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ет в свои пра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улыбки добр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ет его детвора! 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5619600" cy="3381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tretch/>
        </p:blipFill>
        <p:spPr>
          <a:xfrm>
            <a:off x="3324240" y="3357720"/>
            <a:ext cx="5819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187280" y="1557360"/>
            <a:ext cx="6624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xn----8sbek5bkllj4h.xn--p1ai/files/raduga.png"/>
          <p:cNvPicPr/>
          <p:nvPr/>
        </p:nvPicPr>
        <p:blipFill>
          <a:blip r:embed="rId2"/>
          <a:stretch/>
        </p:blipFill>
        <p:spPr>
          <a:xfrm>
            <a:off x="971640" y="150840"/>
            <a:ext cx="77407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468360" y="260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— удивительное время года, когда дети могут вдоволь гулять, бегать и прыгать. Именно в этот период много времени дети проводят на свежем воздухе. Поэтому очень важно организовать жизнь дошкольников в детском саду так, чтобы каждый день приносил им что-то такое удивительное, был наполнен интересным познавательным содержанием, эмоционально насыщенным, чтобы воспоминания о летнем времени в детском саду, еще долго вызывали у детей положи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ttp://amurskdetsad52.ucoz.ru/leto2017/sadoforml.png"/>
          <p:cNvPicPr/>
          <p:nvPr/>
        </p:nvPicPr>
        <p:blipFill>
          <a:blip r:embed="rId2"/>
          <a:stretch/>
        </p:blipFill>
        <p:spPr>
          <a:xfrm>
            <a:off x="-93600" y="3936960"/>
            <a:ext cx="925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11280" y="404640"/>
            <a:ext cx="69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000760" y="478620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s://arhivurokov.ru/kopilka/uploads/user_file_5738325e6e7b9/proviediem-lieto-s-pol-zoi_4.png"/>
          <p:cNvPicPr/>
          <p:nvPr/>
        </p:nvPicPr>
        <p:blipFill>
          <a:blip r:embed="rId2"/>
          <a:stretch/>
        </p:blipFill>
        <p:spPr>
          <a:xfrm>
            <a:off x="5562720" y="1122480"/>
            <a:ext cx="3620880" cy="2606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-39600" y="836640"/>
            <a:ext cx="552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условием правильной организации оздоровительно- воспитательной работы в детском саду является оздоровительный реж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й режим – это регулярно повторяющаяся деятельность, но не инертная, монотонная, а динамическая, изменяющаяся в зависимости от воздействия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компонентов рационально построенного режима дня являются прогулки на открытом воздух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743120" y="63972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2444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ее эффективный вид отдыха, восстанавливающий в процессе деятельности функциональное состояние организма и работоспособность. Пребывание на воздухе способствует повышению сопротивляемости организма детей и закаляет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324000" y="1657440"/>
            <a:ext cx="82753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-33480" y="-44280"/>
            <a:ext cx="9177480" cy="6902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583240" y="1125360"/>
            <a:ext cx="35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расти и закаля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 дням, а по ноча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выкли занима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ой по утр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-30240" y="0"/>
            <a:ext cx="5462640" cy="3284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3"/>
          <a:stretch/>
        </p:blipFill>
        <p:spPr>
          <a:xfrm>
            <a:off x="3262320" y="3328920"/>
            <a:ext cx="586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79280" y="620640"/>
            <a:ext cx="49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на положительном эмоциональном фоне значительно увеличиваются функциональные резервные возможности организма. Частая смена видов двигательной деятельности с разной физической нагрузкой сосредотачивает внимание детей, дисциплинирует и снимает 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http://img0.liveinternet.ru/images/attach/c/6/89/593/89593508__Summer__76_.png"/>
          <p:cNvPicPr/>
          <p:nvPr/>
        </p:nvPicPr>
        <p:blipFill>
          <a:blip r:embed="rId2"/>
          <a:stretch/>
        </p:blipFill>
        <p:spPr>
          <a:xfrm>
            <a:off x="4716360" y="476280"/>
            <a:ext cx="4345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5403960" y="2832120"/>
            <a:ext cx="314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661000" y="133200"/>
            <a:ext cx="349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ступень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– ступень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– ушиблена колен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верт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упеньк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таю на четверен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ступеньки высо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ленках синя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я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лестнице поднял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ое – пустя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357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3635280" y="3549600"/>
            <a:ext cx="5508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playcast.ru/uploads/2014/04/09/81607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987640" y="5045040"/>
            <a:ext cx="348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чница, песочн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ске вся де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что-то хоч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ая иг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Афонькина В. Н.</dc:creator>
  <dc:description/>
  <dc:language>en-US</dc:language>
  <cp:lastModifiedBy>admin</cp:lastModifiedBy>
  <dcterms:modified xsi:type="dcterms:W3CDTF">2017-09-25T12:50:55Z</dcterms:modified>
  <cp:revision>17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3004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