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BEB7-1ACC-4015-AF54-224A9B8A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7B6B-B6B8-458C-ACE0-65A580AA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B906-F58E-463C-89AF-30756556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80E2-C6FA-4CD4-90FB-1B0A31F4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C0B-9369-4A04-A7C2-18D42B88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2808-54D5-4FED-9A26-2D071403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FD51-5D5C-4D28-BE97-83B01E6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81DF-4FBC-46A6-B579-7A25124A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AEA-034C-414A-B5FD-977E8B8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674E-A32F-46D8-82CA-37201826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A34-0839-442C-BBCF-2C35E83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BE0A-6AB4-4695-B5A0-65500DA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53DA-2306-4863-BFB9-BB9DB674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E71-88A7-4068-BBFD-5788F30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BB67-ACB6-4DAA-91CC-11A28FB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DF79-6EAE-49A0-BF57-3C5164EE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64D-F5C1-40A8-8D36-548CDF80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C860-AD81-4474-9FD4-62CF43B9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B933-39DC-4FD2-8F93-51104E7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2253-F5A0-4727-BE4F-4225B3E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C432-B2B0-47E4-9910-7DD90DB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188C-98A8-4265-8333-1710267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B994-EBD4-4382-A288-91826D2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BCA5-811D-4D6B-B26E-AB92262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3340-7061-43D3-98D7-C0F90A369A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C44A-7783-49BC-B196-8D9DAEB826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Монгуш Алдынай,</a:t>
            </a: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Ак-Довурактын 4 дугаар школазынын 2 «а» клазынын </a:t>
            </a:r>
            <a:r>
              <a:rPr b="1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өө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реникч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жылдын удуртукчузу: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Ооржак Чечек Дыыкы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09480" y="457200"/>
            <a:ext cx="7925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И-МЕНДИНЕРНИ АЙТЫРДЫМ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мдык өглерге ээрен азы өгнүң камгалалын азып каан турар. Чижээ, уруглары аарыычал өглер ойнаар-кыс хевирлиг ээрен кылдырып аар, ол уругларының камгалалы болур. Ында ойнаар-кыс чеже-даа чараш болза, аңаа дээп болб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Изображение 017"/>
          <p:cNvPicPr/>
          <p:nvPr/>
        </p:nvPicPr>
        <p:blipFill>
          <a:blip r:embed="rId1"/>
          <a:stretch/>
        </p:blipFill>
        <p:spPr>
          <a:xfrm>
            <a:off x="4572000" y="762120"/>
            <a:ext cx="4267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үңне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занак- тыва уругларның ынак оюну. Оол-даа, кыс-даа уруглар сайзанактап ойнаар. Ол ойнап тура, кылып болбас чүүлдер азы табулар хө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 даш- биле ойнавас, авазынын эмии ыжа бээ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ш- биле кажыктавас, мал- маганы төнүп ка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Өске улус сайзанаан үреп болбас, а оон кандыг-бир чүве  алыры шуут хоруглу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ге чыткан чинчи –чирбеш ап болбас,  чамдык улус аңаа аарыын чыпшыр тарбыдап ка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Өгге ойнап тургаш, ээренге, сыртыкка дегб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 шыйып, аңаа холунуң изин арттырып болб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ш-өөрүп одап –сөглеп болб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йнаараан хирлендирип, черге каап, үрегдеп болб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юнга чардыккаш, малын уттуп черле болбас. Эдертип чораан дуңмаларын черге кагбас. Чанарда, одаар кылдыр ыяжын, кургаг хараганны чыып, чүктеп аарын уттуп болб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занактап ойнаан соонда уруглар холун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зин балааш, сайзанаан аластап каа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ас- алас, ала-сааскан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за-четкер ойнавазын.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ум изин арттырбас мен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уг аза мени албазын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онда уруглар тарап чаныпт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занак деп оюнда хоруглуг 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ерни сагыыры  уругларны топтуг, ээлдек болурунга өөред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609480" y="609480"/>
            <a:ext cx="7772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жылывыстын темаз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457200" y="1905120"/>
            <a:ext cx="84582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йзанак деп оюнда табул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9" descr="Изображение 014"/>
          <p:cNvPicPr/>
          <p:nvPr/>
        </p:nvPicPr>
        <p:blipFill>
          <a:blip r:embed="rId1"/>
          <a:stretch/>
        </p:blipFill>
        <p:spPr>
          <a:xfrm>
            <a:off x="4876920" y="40384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PIC_0508"/>
          <p:cNvPicPr/>
          <p:nvPr/>
        </p:nvPicPr>
        <p:blipFill>
          <a:blip r:embed="rId2"/>
          <a:stretch/>
        </p:blipFill>
        <p:spPr>
          <a:xfrm>
            <a:off x="380880" y="411480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юн -  кандыг-даа кижиниң чаш үези- биле холбашкан чүүл, ооң чарылбас кезээ. Оюннар янзы- бүрү болур: шимченгир оюннар, угаан оюннары, өг иштинге ойнаар оюннар, даштыгаа ойнаар оюннар дээш оон-даа өске.  Тыва улустуң оюннарынга: хүреш, аът чарыжы, ча адары, шыдыраа, чинчи чажыржыры, кажык, даалы, аскак- кадай хамааржы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юн бүрүзү дүрүмнүг, чурумнуг. Кыс уругларның эң-не ынак оюну- сайзанак. Ойнап тура, кылып болур, кылып болбас чүүлдер хөй, черле  кандыг-даа чонда табулар, азы хоруглуг чүүлдер турар. Сайзанак деп оюн үезинде хоруглуг чүүлдерни шинчилээр дээш бо ажылды бижип эгелээн би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380880" y="304920"/>
            <a:ext cx="8610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 теманы чуге шилип алган бис?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улгавыс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йзанак деп оюнда хоруглуг чүүлдерни тодарады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6854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улганы чедип алыр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айзанак деп оюн дугайында номча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л оюн дугайында улустан айтырг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ыып алган материалдарывысты аайлап, сөзүглелди тургус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PIC_0508"/>
          <p:cNvPicPr/>
          <p:nvPr/>
        </p:nvPicPr>
        <p:blipFill>
          <a:blip r:embed="rId1"/>
          <a:stretch/>
        </p:blipFill>
        <p:spPr>
          <a:xfrm>
            <a:off x="228600" y="251460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йзанак дугайы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занак деп оюн дугайында чогаалчы Степан Сарыг-оолдуң «Аңгыр-оолдуң тоожузу» деп чогаалында тодаргай бижип каан: «Сайзанактаар. Кожа- кожа өглерни тип, ооң иштинде бүгү-ле эт-эдилелин: аптаралары, барбалары, оруну, сыртыы, ширтектери дээш, ожук- пажындан эгелээш, тааржыр даштарлыг болур. Ону: даштарны даштар-биле чуруп, сиилбип каастаар. Ол өглерниң эр, херээжен уругларын кылыр тааржыр даштарны тывар, оларны каастаар. Ооң соонда ол сайзанак ээлериниң харылзаазын чорудар: аалдажыр, садыглажыр, кел дижип чалажыр, шайлажы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ва кижиниң ажыл- агыйы мал- маган- биле холбашкан болгаш, уруглары бичиизинден-не малга ынак, беш харлыындан-на ону  кадарып-карактап эгелээр. Уруг үш харлыг турда-ла,  чажын хылбыктап тургаш, аңаа ада-иези, төрелдери мал-маганны айтып бээр. Сайзанактап ойнаарда безин мал кадарып чорааш, малы доктаап оъттай бээрге, ойна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PIC_0492"/>
          <p:cNvPicPr/>
          <p:nvPr/>
        </p:nvPicPr>
        <p:blipFill>
          <a:blip r:embed="rId1"/>
          <a:stretch/>
        </p:blipFill>
        <p:spPr>
          <a:xfrm>
            <a:off x="228600" y="24382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28600" y="685800"/>
            <a:ext cx="87631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угларның сайзанаа даг эдээнге, азы сайлыг хем чоогунга тур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айзанакты кылыр дивес, а тигер дээр»-деп кырган-авам чугаал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үге дээрге сайзанак база бичии аал, өглер-дир, ынчангаш тигер дээ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280" y="2286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занактап ойнаан уруглар аразынга кандыг-даа аажы-чаңныг кижи турар. Ынчалза-даа чеже-даа пөрүк уруглар чоорту частып, чугаакыр апаар. Чүге дээрге сайзанак ээлери болур даштар орнунга уруглар боттары чугаалаар, боттары оларны шимчед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алдын» мал-маганы кылдыр бода малдар орнунга улуг даштарны, шээр мал орнунга хой- өшкүнүң «ында догдур, мында догдурун» чыып аар. А аъттар кылдыр хаак кезип аар, оларны мунгаш,чарыштыр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нчангаш сайзанакка тыва малчын аалдын амыдыралы, ажыл- агыйы дириг чүве дег көстүп кээ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IC_0519"/>
          <p:cNvPicPr/>
          <p:nvPr/>
        </p:nvPicPr>
        <p:blipFill>
          <a:blip r:embed="rId1"/>
          <a:stretch/>
        </p:blipFill>
        <p:spPr>
          <a:xfrm>
            <a:off x="1828800" y="1522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юннар дурум, чурумнуг болурундан аңгыда, оларга кылып болбас чүүлдер база турар. Кылыры хоруглуг чүүлдерни, дорт адап болбас сөстер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ээ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ээрге полинезий сөс, очулдурарга, «ээлдек чугаалап тур мен» дээн. Чижээ, тыва дылда чылан, бөрү, адыг дээн чижектиг коргунчуг араатаннарның адын дорт адап болбас. Чыланны- узун-курт, соястаар, бөрүнү кокай, коккаарак, оран ыды, а адыгны – мажаалай, хайыракан, даг- иргек дээр. База  улуг улустуң адын дорт адаары хоруг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33520" y="609480"/>
            <a:ext cx="8229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йзанакта хоруглуг чуулд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7960" y="533160"/>
            <a:ext cx="43434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йзанакты өгге база ойнаар. Өгге ойнап тура, кайы-хамаан чок чүвелерге дээп болбас. Чижээ, сыртык арнынга дээп болбас, ооң иштинде чүүлдерге дегбес. Чүге дээрге тыва улустуң сыырты амгы сыртык дег эвес турган, ооң арнын чинчилер- биле каастап каар, иштинге ине- чүскүк дээш херек чүвелерни суп ка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191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7-09-25T15:19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