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B75-5E36-4F26-B4B7-301E15AB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1D0-22D5-4DE5-B91B-8AB8DF0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866-2A74-469D-BA49-C6A09095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269-0617-4713-A843-A17C6F73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1E34-5C25-46A2-8324-32210330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1E41-FDB9-4B27-A7F3-0EBDAE6B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5B3C-0267-43BD-83EA-6D0DF581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9E49-E7B0-475D-9A7E-90923A68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6D2-8A9A-47E4-8989-C752F4D7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695A-B1C6-4E5E-A6F7-73DDA2EA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D143-9043-486A-886B-E2F00789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591-E468-4376-9C61-16769FF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A041-2AE6-4A98-B24A-DAB55E0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A979-3AB4-488F-9BCC-EF88E01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D84-2770-4504-9D39-438881DD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D93-D287-4005-9F77-6AF60AC5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8BCA-A5C9-42BC-937B-77164391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2C6FE-E7B9-4774-B86C-1BBF5B2E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0E15A-A864-4D29-A0E6-6499C360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2B3D8-D004-4EAE-AA38-333F2D4B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7A1A3-EF0D-4791-9973-D476E9E5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2AC55-A43E-42B2-8715-DF1D758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C13-510B-40E8-91FD-6D38550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1AA6E-9268-4C03-9F96-4310EC17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55571-D2E0-4A7F-8315-C4E6843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57B51-B682-46D7-A9E1-AB1047F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36BB1-042C-4D24-8BD3-97F78903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D0FB4-2E6F-400B-BE03-70C4320C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090A2-C2E7-4390-AFF6-7F78F971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FF416-FDF4-43F4-81ED-983A3DA1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E4B8-C5AA-41DB-B310-FA4233AF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FC1E-8562-4ECF-8036-643665C5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4538-2BF2-4C98-B980-555F4C74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7BC-F15F-4896-92DF-0E43E8FE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601D-BF28-4B73-9F17-6E3F9421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1EAF-BD23-4A54-839B-FFA2703A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1A39-8298-412B-BCF7-FBDC0359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3E3E-5C41-49F6-96A3-0C174C26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DF35-F96A-422C-B92F-5C6BE01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A3EF-301A-4176-B6B5-0F535B0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0605-01C9-409E-8CDB-10DD12F4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A2EF-F467-4C1D-80C2-A72E332F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0D57-0138-4D80-AD10-DBAD5715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AFCE7-9E74-4229-A67A-3BEF1A6F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F20-FC0F-4FB7-B297-67FAC078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CFE4F-104F-4C91-A563-4C9EDBEE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94352-A75D-4290-8E14-63716357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15A1F-BA86-4624-851E-487A05E5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DA47B-EC68-44CA-99F5-D5B3F4DD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4FBC7-A040-47A6-BD41-E61DD1A1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084C7-4D71-43B2-A5E6-10B875D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5EE47-9A83-4885-8DEB-95BC0EF6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3DF76-D76C-4CD0-A63F-BE2F90E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C14B8-8E41-4D3E-9160-9FE80844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F91CD-BF7A-4701-92D5-20879AA8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9E7-17F4-41AF-88D6-110385AA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080BE-0A5D-49C7-934E-B8324227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90119-8020-4F16-90AE-6017E64B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CB648-F4FE-4764-BF15-CD38A227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A2C4F-84C8-46AA-A865-6C1E4AC4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6D739-5FBD-43EB-AD83-28089D3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7C8D1-362B-430F-9150-A8CD278C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0E29C-091F-4BEA-80E5-B2D8558F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13831-868E-41A6-9B94-410DF1CD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A4C22-F57B-48B4-B578-3DE8EEEC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DDDA8-CA4F-4E1A-9C25-B215FB41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CC6-935B-49B9-BE82-91C33D7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E4463-D061-4D2B-87AC-F7B6F5E9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CF5F55-9AE2-4104-B1C5-A1C8BB7B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FE470-7A32-4E4D-A0A4-9FF0B990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33427-DF3B-451D-A804-AD0DD182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9EE3F-2D6E-4E34-9C68-B0EE4A7E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B72E8-4475-495B-B9D6-DAD74849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2B549-1F95-441B-8421-F38AC28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ABD14-BD03-4FA2-B85C-50D46E96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679BB-9310-466D-9931-AEBDF3D9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1B9E1-7084-44F0-A88F-56B9C2A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25C-862F-4E3C-AB0D-0C1706C6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7BE36-B48E-4129-AB80-271124C4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A4D0B-A9DE-4F41-8A8A-8A9CCAA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D4B0E-4F26-486A-8DC8-1A20AFBA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7C6AF-9BCD-403E-92D3-72A0DF6F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41198-04B8-42F3-959D-6E757B54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506-1B14-4E2B-AB23-6A7109C4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F1C-B9BF-47F3-9DF7-75D7BFAA40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BEF4-2BC0-4AB4-84B1-12B9CDC8A6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3504-AB18-4A62-931B-3F176BBF5D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57C0-21C7-424F-949A-D83B180FA1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A1C4-DCE4-452B-9A11-2147D3AD37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253C-972A-4BD9-AAD2-3D5E5DB683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301-52DA-437D-8A78-EE74158423B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timer-odessa.net/uploads/2011/01/articlepic759.jpg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6438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0" y="404640"/>
            <a:ext cx="4500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Ис</a:t>
            </a:r>
            <a:r>
              <a:rPr b="1" i="1" lang="tt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ә</a:t>
            </a:r>
            <a:r>
              <a:rPr b="1" i="1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месез, мин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әни дусла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Хуш килдегез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рәхим итеге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Кулга тоты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белем ачкычлары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</a:t>
            </a: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Я, әйдәгез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түрдән үтеге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http://int10.edu.yar.ru/images/1824390_635048020327398750_w652_h489.jpg"/>
          <p:cNvPicPr/>
          <p:nvPr/>
        </p:nvPicPr>
        <p:blipFill>
          <a:blip r:embed="rId1"/>
          <a:stretch/>
        </p:blipFill>
        <p:spPr>
          <a:xfrm>
            <a:off x="1763640" y="907920"/>
            <a:ext cx="4896000" cy="448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1547640" y="1916280"/>
            <a:ext cx="64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Абдулла Алиш – күренекле балалар язуч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Ул синең кебек малайлар һәм кызлар өчен берсеннә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берсе кызыклы ,мавыктыргыч һәм гыйбрәтле әкиятләр язган.Ул да Җәлил кебек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ашистлар әсирлегендә Һәлак б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://podelise.ru/tw_files/24687/d-24686335/7z-docs/1_html_212dfe8b.jpg"/>
          <p:cNvPicPr/>
          <p:nvPr/>
        </p:nvPicPr>
        <p:blipFill>
          <a:blip r:embed="rId2"/>
          <a:stretch/>
        </p:blipFill>
        <p:spPr>
          <a:xfrm>
            <a:off x="3059280" y="3429000"/>
            <a:ext cx="2898720" cy="284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7"/>
          <p:cNvSpPr/>
          <p:nvPr/>
        </p:nvSpPr>
        <p:spPr>
          <a:xfrm>
            <a:off x="1692360" y="213372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Роберт Миңнуллин – балаларның яраткан шагый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Ул язган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 кызык та, шаян да, күңелле дә.Аның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енә бик күп җырлар языл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http://oondho.com/images/55a5d621d5a28.jpg"/>
          <p:cNvPicPr/>
          <p:nvPr/>
        </p:nvPicPr>
        <p:blipFill>
          <a:blip r:embed="rId2"/>
          <a:stretch/>
        </p:blipFill>
        <p:spPr>
          <a:xfrm>
            <a:off x="2987640" y="3860640"/>
            <a:ext cx="2548080" cy="249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7280" y="2204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ff0000"/>
                </a:solidFill>
                <a:latin typeface="Century Schoolbook"/>
              </a:rPr>
              <a:t>“</a:t>
            </a:r>
            <a:r>
              <a:rPr b="1" i="1" lang="tt-RU" sz="3000" spc="-1" strike="noStrike">
                <a:solidFill>
                  <a:srgbClr val="ff0000"/>
                </a:solidFill>
                <a:latin typeface="Century Schoolbook"/>
              </a:rPr>
              <a:t>УЙЛАП КАРА” ТУКТАЛЫШ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http://crosti.ru/patterns/00/05/8e/0048ba1d1a/img364032-2.jpg"/>
          <p:cNvPicPr/>
          <p:nvPr/>
        </p:nvPicPr>
        <p:blipFill>
          <a:blip r:embed="rId1"/>
          <a:stretch/>
        </p:blipFill>
        <p:spPr>
          <a:xfrm>
            <a:off x="826920" y="189000"/>
            <a:ext cx="766944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http://rustoria.ru/images/content/g960x504/da/da087d7287e5ae74f80d871f43d183c8.jpg"/>
          <p:cNvPicPr/>
          <p:nvPr/>
        </p:nvPicPr>
        <p:blipFill>
          <a:blip r:embed="rId1"/>
          <a:stretch/>
        </p:blipFill>
        <p:spPr>
          <a:xfrm>
            <a:off x="971640" y="549360"/>
            <a:ext cx="7416720" cy="539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http://zavtra.ru/media/articles/covers/%D1%88%D1%83%D1%80.jpg"/>
          <p:cNvPicPr/>
          <p:nvPr/>
        </p:nvPicPr>
        <p:blipFill>
          <a:blip r:embed="rId1"/>
          <a:stretch/>
        </p:blipFill>
        <p:spPr>
          <a:xfrm>
            <a:off x="395280" y="549360"/>
            <a:ext cx="8237520" cy="511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7"/>
          <p:cNvSpPr/>
          <p:nvPr/>
        </p:nvSpPr>
        <p:spPr>
          <a:xfrm>
            <a:off x="684360" y="836640"/>
            <a:ext cx="650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Фәнис Яруллин – күпләргә үрнәк булырдай язуч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Ул яш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 чагында турниктан егылып төшә һәм йөри алмас б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Шундый авырлыкларга да карамастан ,ул иҗатын дәвам ит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Фәнис Яруллинның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е дуслык кадере , туган җирне ярату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http://belem.ru/files/resources/fanis_yarullin.jpg"/>
          <p:cNvPicPr/>
          <p:nvPr/>
        </p:nvPicPr>
        <p:blipFill>
          <a:blip r:embed="rId1"/>
          <a:stretch/>
        </p:blipFill>
        <p:spPr>
          <a:xfrm>
            <a:off x="2556000" y="306864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http://www.nk-online.ru/wp-content/uploads/2014/05/%D0%BC%D0%B5%D1%82%D1%88%D0%B8%D0%BD3-450x300.jpg"/>
          <p:cNvPicPr/>
          <p:nvPr/>
        </p:nvPicPr>
        <p:blipFill>
          <a:blip r:embed="rId1"/>
          <a:stretch/>
        </p:blipFill>
        <p:spPr>
          <a:xfrm>
            <a:off x="1979640" y="476280"/>
            <a:ext cx="4286160" cy="2928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8"/>
          <p:cNvSpPr/>
          <p:nvPr/>
        </p:nvSpPr>
        <p:spPr>
          <a:xfrm>
            <a:off x="900000" y="37162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Язучыларның әсәрләрен укып ,син үзең дә сүзнең матурлыгы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соклана белү сәләтен ачарсың, әйләнә – тирә дөн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яның гүзәлле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күрергә  өйрәнерсең. Сиңа укуыңда уңышлар телим! Тугры дусларың изге күңелле укытучыларың һәм сине яратучы әти-әниең һәрвакыт янәшәңдә булсын , ә мәктәп якты киләчәгеңә юл салсы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Түбән Кама муни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ипаль районы башлыг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.Р.Метшин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6" descr="iгш.jpg"/>
          <p:cNvPicPr/>
          <p:nvPr/>
        </p:nvPicPr>
        <p:blipFill>
          <a:blip r:embed="rId1"/>
          <a:stretch/>
        </p:blipFill>
        <p:spPr>
          <a:xfrm>
            <a:off x="6012000" y="333360"/>
            <a:ext cx="2222280" cy="1521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ТФЕЛЕҢНЕ ДӨРЕС ҖЫ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Рисунок 3" descr="09b6babf.jpg"/>
          <p:cNvPicPr/>
          <p:nvPr/>
        </p:nvPicPr>
        <p:blipFill>
          <a:blip r:embed="rId2"/>
          <a:stretch/>
        </p:blipFill>
        <p:spPr>
          <a:xfrm>
            <a:off x="214200" y="1143000"/>
            <a:ext cx="3040200" cy="39164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4" descr="5149509_w900h900.jpg"/>
          <p:cNvPicPr/>
          <p:nvPr/>
        </p:nvPicPr>
        <p:blipFill>
          <a:blip r:embed="rId3"/>
          <a:stretch/>
        </p:blipFill>
        <p:spPr>
          <a:xfrm>
            <a:off x="3132000" y="1125360"/>
            <a:ext cx="2711520" cy="27115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5" descr="i.jpg"/>
          <p:cNvPicPr/>
          <p:nvPr/>
        </p:nvPicPr>
        <p:blipFill>
          <a:blip r:embed="rId4"/>
          <a:stretch/>
        </p:blipFill>
        <p:spPr>
          <a:xfrm>
            <a:off x="6084720" y="2060640"/>
            <a:ext cx="2428920" cy="16430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7" descr="iлд.jpg"/>
          <p:cNvPicPr/>
          <p:nvPr/>
        </p:nvPicPr>
        <p:blipFill>
          <a:blip r:embed="rId5"/>
          <a:stretch/>
        </p:blipFill>
        <p:spPr>
          <a:xfrm>
            <a:off x="0" y="5214960"/>
            <a:ext cx="1736640" cy="1093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8" descr="plastilin-10.jpg"/>
          <p:cNvPicPr/>
          <p:nvPr/>
        </p:nvPicPr>
        <p:blipFill>
          <a:blip r:embed="rId6"/>
          <a:stretch/>
        </p:blipFill>
        <p:spPr>
          <a:xfrm>
            <a:off x="1643040" y="4572000"/>
            <a:ext cx="3643200" cy="206388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9" descr="information_items_2948.jpg"/>
          <p:cNvPicPr/>
          <p:nvPr/>
        </p:nvPicPr>
        <p:blipFill>
          <a:blip r:embed="rId7"/>
          <a:stretch/>
        </p:blipFill>
        <p:spPr>
          <a:xfrm>
            <a:off x="5186520" y="3714840"/>
            <a:ext cx="3957480" cy="28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tt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ЫП БЕЛ” ТУКТАЛЫШ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Рисунок 22" descr="g.jpg"/>
          <p:cNvPicPr/>
          <p:nvPr/>
        </p:nvPicPr>
        <p:blipFill>
          <a:blip r:embed="rId2"/>
          <a:srcRect l="28463" t="2525" r="27666" b="0"/>
          <a:stretch/>
        </p:blipFill>
        <p:spPr>
          <a:xfrm>
            <a:off x="3851280" y="3357720"/>
            <a:ext cx="2389320" cy="2496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25"/>
          <p:cNvSpPr/>
          <p:nvPr/>
        </p:nvSpPr>
        <p:spPr>
          <a:xfrm>
            <a:off x="1547640" y="1700280"/>
            <a:ext cx="65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entury Schoolbook"/>
              </a:rPr>
              <a:t>Габдулла Тукай – татар халкының сөекле шагыйре.Тукайның әкиятләрен ,мәсәлләрен балалар яратып укый. Тукай шигыр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ьләре сине эшчән , тырыш , акыллы , гадел , ярдәмчел , куркусыз булырга өйрәтә,туган телне яратырга өнди. </a:t>
            </a:r>
            <a:r>
              <a:rPr b="0" lang="tt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поэт_Муса_Джалиль_Евпатория-1.jpg"/>
          <p:cNvPicPr/>
          <p:nvPr/>
        </p:nvPicPr>
        <p:blipFill>
          <a:blip r:embed="rId2"/>
          <a:stretch/>
        </p:blipFill>
        <p:spPr>
          <a:xfrm>
            <a:off x="2916360" y="3500280"/>
            <a:ext cx="3517920" cy="26625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7"/>
          <p:cNvSpPr/>
          <p:nvPr/>
        </p:nvSpPr>
        <p:spPr>
          <a:xfrm>
            <a:off x="1692360" y="162864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Муса Җәлил  - татар халкының бөек улы , каһарман шагый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л  Бөек  Ватан сугышында катнашып , фашистлар әсирлегендә Һәлак була.Немец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 тоткынлыгында язган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ен  “ Моабит дәфтәрләре “ дип йөртәләр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7"/>
          <p:cNvSpPr/>
          <p:nvPr/>
        </p:nvSpPr>
        <p:spPr>
          <a:xfrm>
            <a:off x="1547640" y="19890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Шәүкәт Галиев – балар өчен бик күп шаян шигы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ләр иҗат иткән шагый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ь. Ул уйлап чыгарган Шәвәли исемле  </a:t>
            </a:r>
            <a:r>
              <a:rPr b="0" lang="tt-RU" sz="1800" spc="-1" strike="noStrike">
                <a:solidFill>
                  <a:srgbClr val="000000"/>
                </a:solidFill>
                <a:latin typeface="Century Schoolbook"/>
              </a:rPr>
              <a:t>малай – синең тиңдәшең. Ул шаярырга, уйнарга,   тәмле ашарга я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pomninas.ru/images/news/articles/thmb_358/1322631209805298%28nn_21_11_2008_3_1.jpg%29.jpg"/>
          <p:cNvPicPr/>
          <p:nvPr/>
        </p:nvPicPr>
        <p:blipFill>
          <a:blip r:embed="rId2"/>
          <a:stretch/>
        </p:blipFill>
        <p:spPr>
          <a:xfrm>
            <a:off x="2987640" y="3500280"/>
            <a:ext cx="264312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3" descr="E:\Sch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entury Schoolbook"/>
              </a:rPr>
              <a:t>ШАЯН ШӘВӘЛИ ТУКТАЛЫШ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2303280" cy="345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sotis.at.ua/INFO/BCC11C27.jpeg"/>
          <p:cNvPicPr/>
          <p:nvPr/>
        </p:nvPicPr>
        <p:blipFill>
          <a:blip r:embed="rId1"/>
          <a:srcRect l="2480" t="3631" r="2200" b="0"/>
          <a:stretch/>
        </p:blipFill>
        <p:spPr>
          <a:xfrm>
            <a:off x="1979640" y="2133720"/>
            <a:ext cx="4464000" cy="307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http://www.rozumniki.ua/gallery/prod/22/22_1_3.adds.jpg"/>
          <p:cNvPicPr/>
          <p:nvPr/>
        </p:nvPicPr>
        <p:blipFill>
          <a:blip r:embed="rId1"/>
          <a:stretch/>
        </p:blipFill>
        <p:spPr>
          <a:xfrm>
            <a:off x="1908000" y="1052640"/>
            <a:ext cx="512316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http://fs.nashaucheba.ru/tw_files2/urls_3/1311/d-1310093/img24.jpg"/>
          <p:cNvPicPr/>
          <p:nvPr/>
        </p:nvPicPr>
        <p:blipFill>
          <a:blip r:embed="rId1"/>
          <a:stretch/>
        </p:blipFill>
        <p:spPr>
          <a:xfrm>
            <a:off x="1692360" y="1268280"/>
            <a:ext cx="5661000" cy="410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16:52:54Z</dcterms:created>
  <dc:creator>Musa</dc:creator>
  <dc:description/>
  <dc:language>en-US</dc:language>
  <cp:lastModifiedBy>галина</cp:lastModifiedBy>
  <dcterms:modified xsi:type="dcterms:W3CDTF">2015-09-09T07:29:14Z</dcterms:modified>
  <cp:revision>27</cp:revision>
  <dc:subject/>
  <dc:title>Слайд 1</dc:title>
</cp:coreProperties>
</file>