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AFD-64B0-4D96-8BF9-C22DC0C5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56B-DD88-4EDC-B9C9-6486B5D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AB7-D178-4973-92F3-F9CB8339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936-FD03-4CD5-BB15-1DD0EDE6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7CE-4D23-435A-8438-6B322D9D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5113-0661-45ED-9E04-734618E7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9C35-83F4-4675-8A09-D29595A0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E13A-832C-4E19-AB86-DD4F5CF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9D7E-8CFA-41C4-8284-26446F1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E06-B80C-4F95-A7CE-14BA6CE8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D678-5AD2-44DC-8414-1D5E245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229-91ED-4C3B-A401-BD341CBB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B18-55B0-4521-866E-16D65F0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BA3-836A-45A5-93A9-53B5590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2712-EDB7-403B-8933-0BAE04C6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12BD-6835-4884-8054-5CBA6DEF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70F-C7B1-40C3-A95D-40FE3E46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D8CCA-02E5-47DE-BAE8-52909B2F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47964-FC70-4EE1-BEB3-21621C9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8FC09-2BA1-4CAB-BD8A-5FDDA17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6424D-7D79-4AA1-8637-58F5584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69865-F89A-48E6-9ECB-0A50173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05D-03B9-4124-A85F-9ED8A842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C5447-998A-4080-9B73-E9733843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0801F-8945-4055-A05C-37DDC05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19D02-5907-44C1-A937-F39725D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9DA59-0D8D-48F7-A502-DE7A170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AD40F-0AB9-466E-9796-EAA980D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867D8-EE6B-4F5A-845A-2D3C68F1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CBE91-8D1B-4E4D-8FA7-B1CC7158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984C-8FE4-4583-AF63-86CE9FFB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3F37-B4BE-465D-8F74-B6DBB49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4ED2-0C3E-456F-911E-C9B17AF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00C-4279-495E-A217-8D7CDF9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FB98-1B2E-47FB-9F3E-5367F1B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45C3-FBCF-4EDA-A345-6FF2B41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FBAD-B922-4E70-9C6D-9D0C7810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2207-ABF8-4B4F-9692-7AE7718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C296-E97E-4C7F-8EA3-03A4ADED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0BF4-2EDA-45D7-AD36-69D92CF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790C-BC1D-4C35-8A44-99661AC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2030-2535-4D3A-8D4B-AE3D19CB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4484-750F-4401-9367-621015A4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5B74B-E8FD-4344-9049-1FB50A00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9D2-E160-4B9B-85BC-A3B51618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DC7D9-7705-4664-92AF-3E573BE9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1F438-C220-4633-AADA-C203ED1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3283F-5417-43FF-80B9-F437057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AE8B8-D983-4587-872D-9CD1082C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2D196-B8D9-4D16-8827-8698467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A84C8-01BE-4E86-AAAD-1577215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FC5F4-E692-4C30-8FC1-C0D116D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98F7A-E7BE-4AB9-84E6-4F4778A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C1D37-6121-4CB5-9573-2780BFD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326BE-7A22-4660-8EE4-23D258D3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8EC-97C0-4952-9017-7DF8FE67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AD80D-764F-4502-A640-967D013A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5E209-9248-4614-9F36-9023E5CE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BFF44-86AE-4781-8E69-CFE6202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BDFD3-37A5-490B-AB9E-39A0DFF9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043F8-8A2B-4CBA-9F2A-EBB9BCF9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289DB-357F-4A2D-B88A-AAFA2E99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CE315-6CE6-4607-AC7F-5A82DD2E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3BB0F-3B38-40C6-8E76-90D0325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93A38-E9D5-49BB-937A-61B7B5B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A72AD-9321-436F-A084-6C3FA2A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DDE-AD3C-4483-9DBB-E4793FD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2088F-D2AF-4DA2-965C-FAC216D8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9AFD1-6CCB-417B-87AE-A87723A3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3D4B6-AEFB-4515-95E1-EB7532DB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9BE89-6758-4D3B-BBF5-9EA0B4C2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979BA-7917-4BBC-8FB7-EE0E58C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965E6-562F-46B9-A91C-89F80823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4015B-8787-465E-AF96-1CE33E07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3C629-C636-400C-867E-C63CA4E9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03B06-4D45-4535-908E-62BEF1A9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036E6-30FC-425D-856B-43E334B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731-9D67-4898-A4CE-C77B504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0C1D9-78C5-4048-8D84-52BDB8E4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67DAF-B3A4-4768-8911-5DD929F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27F41-5D31-4161-A54F-422ED5C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7AE07-5D10-49FF-AA52-A6DF7F67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97827-F40E-4F6A-B47A-9BE72CA0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1A7-B685-4BC0-BB72-E7F5988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EF45-0987-4676-BC3B-82EF7474F1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819-4CC4-490F-A02D-687C322A2D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095E-659D-4437-9AE4-6EBDEA0DAD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C209-0EED-42EB-8A5B-52C5392D6B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513-5373-4934-93F7-99D099682D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BAC8-87D5-43CF-9007-A50F222469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AE5-3239-4486-884F-5525A27A63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timer-odessa.net/uploads/2011/01/articlepic759.jpg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6438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0" y="404640"/>
            <a:ext cx="4500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с</a:t>
            </a:r>
            <a:r>
              <a:rPr b="1" i="1" lang="tt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ә</a:t>
            </a:r>
            <a:r>
              <a:rPr b="1" i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месез, мин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әни дусла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Хуш килдеге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рәхим итеге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Кулга тоты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белем ачкычлары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</a:t>
            </a: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Я, әйдәгез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түрдән үтеге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http://int10.edu.yar.ru/images/1824390_635048020327398750_w652_h489.jpg"/>
          <p:cNvPicPr/>
          <p:nvPr/>
        </p:nvPicPr>
        <p:blipFill>
          <a:blip r:embed="rId1"/>
          <a:stretch/>
        </p:blipFill>
        <p:spPr>
          <a:xfrm>
            <a:off x="1763640" y="907920"/>
            <a:ext cx="4896000" cy="448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1547640" y="1916280"/>
            <a:ext cx="64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Абдулла Алиш – күренекле балалар язуч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Ул синең кебек малайлар һәм кызлар өчен берсеннә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берсе кызыклы ,мавыктыргыч һәм гыйбрәтле әкиятләр язган.Ул да Җәлил кебек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ашистлар әсирлегендә Һәлак б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podelise.ru/tw_files/24687/d-24686335/7z-docs/1_html_212dfe8b.jpg"/>
          <p:cNvPicPr/>
          <p:nvPr/>
        </p:nvPicPr>
        <p:blipFill>
          <a:blip r:embed="rId2"/>
          <a:stretch/>
        </p:blipFill>
        <p:spPr>
          <a:xfrm>
            <a:off x="3059280" y="3429000"/>
            <a:ext cx="2898720" cy="284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7"/>
          <p:cNvSpPr/>
          <p:nvPr/>
        </p:nvSpPr>
        <p:spPr>
          <a:xfrm>
            <a:off x="1692360" y="213372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Роберт Миңнуллин – балаларның яраткан шагый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Ул язган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 кызык та, шаян да, күңелле дә.Аның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енә бик күп җырлар языл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oondho.com/images/55a5d621d5a28.jpg"/>
          <p:cNvPicPr/>
          <p:nvPr/>
        </p:nvPicPr>
        <p:blipFill>
          <a:blip r:embed="rId2"/>
          <a:stretch/>
        </p:blipFill>
        <p:spPr>
          <a:xfrm>
            <a:off x="2987640" y="3860640"/>
            <a:ext cx="2548080" cy="24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7280" y="220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ff0000"/>
                </a:solidFill>
                <a:latin typeface="Century Schoolbook"/>
              </a:rPr>
              <a:t>“</a:t>
            </a:r>
            <a:r>
              <a:rPr b="1" i="1" lang="tt-RU" sz="3000" spc="-1" strike="noStrike">
                <a:solidFill>
                  <a:srgbClr val="ff0000"/>
                </a:solidFill>
                <a:latin typeface="Century Schoolbook"/>
              </a:rPr>
              <a:t>УЙЛАП КАРА” ТУКТАЛЫШ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http://crosti.ru/patterns/00/05/8e/0048ba1d1a/img364032-2.jpg"/>
          <p:cNvPicPr/>
          <p:nvPr/>
        </p:nvPicPr>
        <p:blipFill>
          <a:blip r:embed="rId1"/>
          <a:stretch/>
        </p:blipFill>
        <p:spPr>
          <a:xfrm>
            <a:off x="826920" y="189000"/>
            <a:ext cx="766944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://rustoria.ru/images/content/g960x504/da/da087d7287e5ae74f80d871f43d183c8.jpg"/>
          <p:cNvPicPr/>
          <p:nvPr/>
        </p:nvPicPr>
        <p:blipFill>
          <a:blip r:embed="rId1"/>
          <a:stretch/>
        </p:blipFill>
        <p:spPr>
          <a:xfrm>
            <a:off x="971640" y="549360"/>
            <a:ext cx="7416720" cy="539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http://zavtra.ru/media/articles/covers/%D1%88%D1%83%D1%80.jpg"/>
          <p:cNvPicPr/>
          <p:nvPr/>
        </p:nvPicPr>
        <p:blipFill>
          <a:blip r:embed="rId1"/>
          <a:stretch/>
        </p:blipFill>
        <p:spPr>
          <a:xfrm>
            <a:off x="395280" y="549360"/>
            <a:ext cx="8237520" cy="51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7"/>
          <p:cNvSpPr/>
          <p:nvPr/>
        </p:nvSpPr>
        <p:spPr>
          <a:xfrm>
            <a:off x="684360" y="836640"/>
            <a:ext cx="650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Фәнис Яруллин – күпләргә үрнәк булырдай язуч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Ул яш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чагында турниктан егылып төшә һәм йөри алмас б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Шундый авырлыкларга да карамастан ,ул иҗатын дәвам ит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Фәнис Яруллинның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е дуслык кадере , туган җирне ярату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http://belem.ru/files/resources/fanis_yarullin.jpg"/>
          <p:cNvPicPr/>
          <p:nvPr/>
        </p:nvPicPr>
        <p:blipFill>
          <a:blip r:embed="rId1"/>
          <a:stretch/>
        </p:blipFill>
        <p:spPr>
          <a:xfrm>
            <a:off x="2556000" y="306864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ttp://www.nk-online.ru/wp-content/uploads/2014/05/%D0%BC%D0%B5%D1%82%D1%88%D0%B8%D0%BD3-450x300.jpg"/>
          <p:cNvPicPr/>
          <p:nvPr/>
        </p:nvPicPr>
        <p:blipFill>
          <a:blip r:embed="rId1"/>
          <a:stretch/>
        </p:blipFill>
        <p:spPr>
          <a:xfrm>
            <a:off x="1979640" y="476280"/>
            <a:ext cx="4286160" cy="2928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8"/>
          <p:cNvSpPr/>
          <p:nvPr/>
        </p:nvSpPr>
        <p:spPr>
          <a:xfrm>
            <a:off x="900000" y="37162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Язучыларның әсәрләрен укып ,син үзең дә сүзнең матурлыгы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соклана белү сәләтен ачарсың, әйләнә – тирә дөн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яның гүзәлле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күрергә  өйрәнерсең. Сиңа укуыңда уңышлар телим! Тугры дусларың изге күңелле укытучыларың һәм сине яратучы әти-әниең һәрвакыт янәшәңдә булсын , ә мәктәп якты киләчәгеңә юл салсы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Түбән Кама мун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ипаль районы башлыг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.Р.Метшин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6" descr="iгш.jpg"/>
          <p:cNvPicPr/>
          <p:nvPr/>
        </p:nvPicPr>
        <p:blipFill>
          <a:blip r:embed="rId1"/>
          <a:stretch/>
        </p:blipFill>
        <p:spPr>
          <a:xfrm>
            <a:off x="6012000" y="333360"/>
            <a:ext cx="2222280" cy="152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ФЕЛЕҢНЕ ДӨРЕС ҖЫ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Рисунок 3" descr="09b6babf.jpg"/>
          <p:cNvPicPr/>
          <p:nvPr/>
        </p:nvPicPr>
        <p:blipFill>
          <a:blip r:embed="rId2"/>
          <a:stretch/>
        </p:blipFill>
        <p:spPr>
          <a:xfrm>
            <a:off x="214200" y="1143000"/>
            <a:ext cx="3040200" cy="3916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4" descr="5149509_w900h900.jpg"/>
          <p:cNvPicPr/>
          <p:nvPr/>
        </p:nvPicPr>
        <p:blipFill>
          <a:blip r:embed="rId3"/>
          <a:stretch/>
        </p:blipFill>
        <p:spPr>
          <a:xfrm>
            <a:off x="3132000" y="1125360"/>
            <a:ext cx="2711520" cy="27115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5" descr="i.jpg"/>
          <p:cNvPicPr/>
          <p:nvPr/>
        </p:nvPicPr>
        <p:blipFill>
          <a:blip r:embed="rId4"/>
          <a:stretch/>
        </p:blipFill>
        <p:spPr>
          <a:xfrm>
            <a:off x="6084720" y="206064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iлд.jpg"/>
          <p:cNvPicPr/>
          <p:nvPr/>
        </p:nvPicPr>
        <p:blipFill>
          <a:blip r:embed="rId5"/>
          <a:stretch/>
        </p:blipFill>
        <p:spPr>
          <a:xfrm>
            <a:off x="0" y="5214960"/>
            <a:ext cx="1736640" cy="1093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8" descr="plastilin-10.jpg"/>
          <p:cNvPicPr/>
          <p:nvPr/>
        </p:nvPicPr>
        <p:blipFill>
          <a:blip r:embed="rId6"/>
          <a:stretch/>
        </p:blipFill>
        <p:spPr>
          <a:xfrm>
            <a:off x="1643040" y="4572000"/>
            <a:ext cx="3643200" cy="206388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9" descr="information_items_2948.jpg"/>
          <p:cNvPicPr/>
          <p:nvPr/>
        </p:nvPicPr>
        <p:blipFill>
          <a:blip r:embed="rId7"/>
          <a:stretch/>
        </p:blipFill>
        <p:spPr>
          <a:xfrm>
            <a:off x="5186520" y="3714840"/>
            <a:ext cx="3957480" cy="28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tt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ЫП БЕЛ” ТУКТАЛЫШ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Рисунок 22" descr="g.jpg"/>
          <p:cNvPicPr/>
          <p:nvPr/>
        </p:nvPicPr>
        <p:blipFill>
          <a:blip r:embed="rId2"/>
          <a:srcRect l="28463" t="2525" r="27666" b="0"/>
          <a:stretch/>
        </p:blipFill>
        <p:spPr>
          <a:xfrm>
            <a:off x="3851280" y="3357720"/>
            <a:ext cx="2389320" cy="2496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5"/>
          <p:cNvSpPr/>
          <p:nvPr/>
        </p:nvSpPr>
        <p:spPr>
          <a:xfrm>
            <a:off x="1547640" y="170028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entury Schoolbook"/>
              </a:rPr>
              <a:t>Габдулла Тукай – татар халкының сөекле шагыйре.Тукайның әкиятләрен ,мәсәлләрен балалар яратып укый. Тукай шигыр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ьләре сине эшчән , тырыш , акыллы , гадел , ярдәмчел , куркусыз булырга өйрәтә,туган телне яратырга өнди. </a:t>
            </a:r>
            <a:r>
              <a:rPr b="0" lang="tt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поэт_Муса_Джалиль_Евпатория-1.jpg"/>
          <p:cNvPicPr/>
          <p:nvPr/>
        </p:nvPicPr>
        <p:blipFill>
          <a:blip r:embed="rId2"/>
          <a:stretch/>
        </p:blipFill>
        <p:spPr>
          <a:xfrm>
            <a:off x="2916360" y="3500280"/>
            <a:ext cx="3517920" cy="2662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7"/>
          <p:cNvSpPr/>
          <p:nvPr/>
        </p:nvSpPr>
        <p:spPr>
          <a:xfrm>
            <a:off x="1692360" y="162864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Муса Җәлил  - татар халкының бөек улы , каһарман шагый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л  Бөек  Ватан сугышында катнашып , фашистлар әсирлегендә Һәлак була.Немец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тоткынлыгында язган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ен  “ Моабит дәфтәрләре “ дип йөртәләр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/>
          <p:cNvSpPr/>
          <p:nvPr/>
        </p:nvSpPr>
        <p:spPr>
          <a:xfrm>
            <a:off x="1547640" y="19890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Шәүкәт Галиев – балар өчен бик күп шаян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 иҗат иткән шагый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. Ул уйлап чыгарган Шәвәли исемле  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малай – синең тиңдәшең. Ул шаярырга, уйнарга,   тәмле ашарга я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pomninas.ru/images/news/articles/thmb_358/1322631209805298%28nn_21_11_2008_3_1.jpg%29.jpg"/>
          <p:cNvPicPr/>
          <p:nvPr/>
        </p:nvPicPr>
        <p:blipFill>
          <a:blip r:embed="rId2"/>
          <a:stretch/>
        </p:blipFill>
        <p:spPr>
          <a:xfrm>
            <a:off x="2987640" y="3500280"/>
            <a:ext cx="264312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entury Schoolbook"/>
              </a:rPr>
              <a:t>ШАЯН ШӘВӘЛИ ТУКТАЛЫШ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2303280" cy="345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sotis.at.ua/INFO/BCC11C27.jpeg"/>
          <p:cNvPicPr/>
          <p:nvPr/>
        </p:nvPicPr>
        <p:blipFill>
          <a:blip r:embed="rId1"/>
          <a:srcRect l="2480" t="3631" r="2200" b="0"/>
          <a:stretch/>
        </p:blipFill>
        <p:spPr>
          <a:xfrm>
            <a:off x="1979640" y="2133720"/>
            <a:ext cx="446400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http://www.rozumniki.ua/gallery/prod/22/22_1_3.adds.jpg"/>
          <p:cNvPicPr/>
          <p:nvPr/>
        </p:nvPicPr>
        <p:blipFill>
          <a:blip r:embed="rId1"/>
          <a:stretch/>
        </p:blipFill>
        <p:spPr>
          <a:xfrm>
            <a:off x="1908000" y="1052640"/>
            <a:ext cx="51231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http://fs.nashaucheba.ru/tw_files2/urls_3/1311/d-1310093/img24.jpg"/>
          <p:cNvPicPr/>
          <p:nvPr/>
        </p:nvPicPr>
        <p:blipFill>
          <a:blip r:embed="rId1"/>
          <a:stretch/>
        </p:blipFill>
        <p:spPr>
          <a:xfrm>
            <a:off x="1692360" y="1268280"/>
            <a:ext cx="5661000" cy="410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6:52:54Z</dcterms:created>
  <dc:creator>Musa</dc:creator>
  <dc:description/>
  <dc:language>en-US</dc:language>
  <cp:lastModifiedBy>галина</cp:lastModifiedBy>
  <dcterms:modified xsi:type="dcterms:W3CDTF">2015-09-09T07:29:14Z</dcterms:modified>
  <cp:revision>27</cp:revision>
  <dc:subject/>
  <dc:title>Слайд 1</dc:title>
</cp:coreProperties>
</file>