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F066-583D-4872-98FC-1E9562EA9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B11D-61B3-4FC5-BEA8-6E5550E6B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D0AA-FD36-4871-AE50-8680E318E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762B-A332-4981-A523-D21BA6D91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17FB3-509F-4913-9009-6FF01CDE9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6AE84-70D2-4C6E-8F15-7F1A3CFB2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584DC-66BD-409F-8A0E-A7236CAF0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8560C-0A1B-46C3-97CB-5C87531BA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820F2-7680-4073-B86F-EE7E6530F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A64D7-479F-4CE5-9644-269660BA8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68E53-ACA7-4845-8C91-1C355F23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E0B8-D23D-44D9-9D81-32FE2D28B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6087E-66D8-4E62-86E5-76446860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A1BB0-7166-4F92-B6D9-7A478CCB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C9C92-209D-4393-A0D9-AE2D9FE7E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5F28C-A466-4951-9D52-86FDC2826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61D8A-6CF6-4CC3-86CE-4CAE55158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0175-8D71-4DF9-957C-06CFD7E5E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609B-1F60-4F5B-8A20-E969E2AA4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1CA7-613F-4A87-AFD8-AE911BDF7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696F-BB97-48CB-9AA1-40B95F435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6E0A-62B6-405F-B0DA-86EB5C3A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7E97-1BA0-4AD9-AC4B-08417C93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4D3F-A633-4A9C-B781-7A8DE16C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A543D-241A-4E62-B4F5-186FC028AB5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AC420-A980-4BCB-B68B-5F5EA129F57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675640" y="-6375240"/>
            <a:ext cx="69840" cy="132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8c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68360" y="3429000"/>
            <a:ext cx="6400800" cy="113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10181"/>
                </a:solidFill>
                <a:latin typeface="Calibri"/>
              </a:rPr>
              <a:t>Иконопис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WordArt 5"/>
          <p:cNvSpPr txBox="1"/>
          <p:nvPr/>
        </p:nvSpPr>
        <p:spPr>
          <a:xfrm>
            <a:off x="179280" y="1125360"/>
            <a:ext cx="8964720" cy="179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зобразительное искусство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ревней Рус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2" name="Picture 6" descr="60178420_Sschmch"/>
          <p:cNvPicPr/>
          <p:nvPr/>
        </p:nvPicPr>
        <p:blipFill>
          <a:blip r:embed="rId2"/>
          <a:stretch/>
        </p:blipFill>
        <p:spPr>
          <a:xfrm>
            <a:off x="5580000" y="3141720"/>
            <a:ext cx="26082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5"/>
          <p:cNvSpPr/>
          <p:nvPr/>
        </p:nvSpPr>
        <p:spPr>
          <a:xfrm>
            <a:off x="539640" y="1700280"/>
            <a:ext cx="7920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1018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0181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10181"/>
                </a:solidFill>
                <a:latin typeface="Calibri"/>
              </a:rPr>
              <a:t>В творениях Рублева царят тишина, очарованность жизнью, отзывчивость душ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1018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0181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10181"/>
                </a:solidFill>
                <a:latin typeface="Calibri"/>
              </a:rPr>
              <a:t>Преобладают нежные и легкие краски, придающие евангельским сценам исключительное очаров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1018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0181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10181"/>
                </a:solidFill>
                <a:latin typeface="Calibri"/>
              </a:rPr>
              <a:t>Главное внимание Рублев сосредоточил на человечности переживаний, внутренней гармонии, душевном благородстве и сердечной доброт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468360" y="549360"/>
            <a:ext cx="7704000" cy="1079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обенности техники Андрей Рублев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1341360"/>
            <a:ext cx="586728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Дионисий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-32400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10181"/>
                </a:solidFill>
                <a:latin typeface="Calibri"/>
              </a:rPr>
              <a:t>Сведения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10181"/>
                </a:solidFill>
                <a:latin typeface="Calibri"/>
              </a:rPr>
              <a:t>о жизн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10181"/>
                </a:solidFill>
                <a:latin typeface="Calibri"/>
              </a:rPr>
              <a:t>(ок. 1440 – 1503 гг.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6" descr="14665945_9395pi3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5076720" y="333360"/>
            <a:ext cx="370548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biser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2987640" y="0"/>
            <a:ext cx="3286080" cy="4381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fresk_33-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0" y="3716280"/>
            <a:ext cx="4464000" cy="26780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i800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5997600" y="2708280"/>
            <a:ext cx="3146400" cy="39337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0" y="6210360"/>
            <a:ext cx="4537080" cy="647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Ферапонтово. За покоем ТВЕРДЫН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чало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XVI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960212"/>
          <p:cNvPicPr/>
          <p:nvPr/>
        </p:nvPicPr>
        <p:blipFill>
          <a:blip r:embed="rId2"/>
          <a:stretch/>
        </p:blipFill>
        <p:spPr>
          <a:xfrm>
            <a:off x="395280" y="189000"/>
            <a:ext cx="4556160" cy="648000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5"/>
          <p:cNvSpPr/>
          <p:nvPr/>
        </p:nvSpPr>
        <p:spPr>
          <a:xfrm>
            <a:off x="3708360" y="4941720"/>
            <a:ext cx="5256360" cy="158436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Богоматерь с младенцем Христом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Фрагмент фрески «О Тебе радуется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а северной стене собор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ождества Богородиц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Ферапонтова монастыря. 150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иоанн предтеча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468360" y="404640"/>
            <a:ext cx="8207280" cy="55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755640" y="1916280"/>
            <a:ext cx="7416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10181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0181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10181"/>
                </a:solidFill>
                <a:latin typeface="Calibri"/>
              </a:rPr>
              <a:t>Московская школа живопис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10181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10181"/>
                </a:solidFill>
                <a:latin typeface="Calibri"/>
              </a:rPr>
              <a:t>  </a:t>
            </a:r>
            <a:r>
              <a:rPr b="0" lang="ru-RU" sz="3600" spc="-1" strike="noStrike">
                <a:solidFill>
                  <a:srgbClr val="010181"/>
                </a:solidFill>
                <a:latin typeface="Calibri"/>
              </a:rPr>
              <a:t>Произведения отличаются утонченным пропорциями удлиненных фигур, стремление к грандиозности и изяществу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10181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10181"/>
                </a:solidFill>
                <a:latin typeface="Calibri"/>
              </a:rPr>
              <a:t>  </a:t>
            </a:r>
            <a:r>
              <a:rPr b="0" lang="ru-RU" sz="3600" spc="-1" strike="noStrike">
                <a:solidFill>
                  <a:srgbClr val="010181"/>
                </a:solidFill>
                <a:latin typeface="Calibri"/>
              </a:rPr>
              <a:t>нежные, светлые оттенки (ок. 40 оттенков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971640" y="765000"/>
            <a:ext cx="6624720" cy="935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Особенности техники Дионисия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WordArt 5"/>
          <p:cNvSpPr txBox="1"/>
          <p:nvPr/>
        </p:nvSpPr>
        <p:spPr>
          <a:xfrm>
            <a:off x="324000" y="2133720"/>
            <a:ext cx="842472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за работу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Феофан Грек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0" y="2924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10181"/>
                </a:solidFill>
                <a:latin typeface="Calibri"/>
              </a:rPr>
              <a:t>Сведения о жизн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10181"/>
                </a:solidFill>
                <a:latin typeface="Calibri"/>
              </a:rPr>
              <a:t>(ок. 1340 – 1410 гг.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8" descr="220px-Preobrazhenie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5689440" y="2276640"/>
            <a:ext cx="302904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0283114105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3995640" y="333360"/>
            <a:ext cx="4699080" cy="6264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Culture_img%5C14-195-1m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250920" y="620640"/>
            <a:ext cx="3468600" cy="4248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f06-09-2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2987640" y="3524400"/>
            <a:ext cx="2638440" cy="33336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9"/>
          <p:cNvSpPr/>
          <p:nvPr/>
        </p:nvSpPr>
        <p:spPr>
          <a:xfrm>
            <a:off x="5472000" y="5445000"/>
            <a:ext cx="3672000" cy="119700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роица Ветхозаветная. 1378 г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фреска в северо-западной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гловой камере на хора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Feofan_Grek-Stolpnik_Alipy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68360" y="260280"/>
            <a:ext cx="4224240" cy="6337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220px-Theofanus_uspenie"/>
          <p:cNvPicPr/>
          <p:nvPr/>
        </p:nvPicPr>
        <p:blipFill>
          <a:blip r:embed="rId3"/>
          <a:stretch/>
        </p:blipFill>
        <p:spPr>
          <a:xfrm>
            <a:off x="5003640" y="549360"/>
            <a:ext cx="3861000" cy="48258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7"/>
          <p:cNvSpPr/>
          <p:nvPr/>
        </p:nvSpPr>
        <p:spPr>
          <a:xfrm>
            <a:off x="4427640" y="5300640"/>
            <a:ext cx="4716360" cy="136836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спени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орот иконы "Богоматерь Донская"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90-е годы XIV века. Москв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осударственная Третьяковская Галере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0" y="5202360"/>
            <a:ext cx="3887640" cy="1655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378 г. Столпник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оспись Троицкого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дела в церкв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паса Преображени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 Ильине улице в Новгород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000059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395280" y="190440"/>
            <a:ext cx="3362400" cy="666756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5"/>
          <p:cNvSpPr/>
          <p:nvPr/>
        </p:nvSpPr>
        <p:spPr>
          <a:xfrm>
            <a:off x="3924360" y="692280"/>
            <a:ext cx="5219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иль Феофана Грека поражае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разительностью и экспресси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ля его фресковых росписе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арактерна «скоропись»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почти монохромной живопис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непроработанности мелки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еталей изображения оказываю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громное воздействи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 чувства зрител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3924360" y="4365720"/>
            <a:ext cx="4562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ahoma"/>
              </a:rPr>
              <a:t>В честь Феофана Грека назван кратер на Меркур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ahoma"/>
              </a:rPr>
              <a:t>В честь Феофана Грека выпущена памятная монета Банка Росс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0"/>
          <p:cNvSpPr/>
          <p:nvPr/>
        </p:nvSpPr>
        <p:spPr>
          <a:xfrm>
            <a:off x="684360" y="2276640"/>
            <a:ext cx="7775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1018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10181"/>
                </a:solidFill>
                <a:latin typeface="Calibri"/>
              </a:rPr>
              <a:t>Энергичная, стремительная манера письм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1018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10181"/>
                </a:solidFill>
                <a:latin typeface="Calibri"/>
              </a:rPr>
              <a:t>Суровый, грозный аскетиз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1018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10181"/>
                </a:solidFill>
                <a:latin typeface="Calibri"/>
              </a:rPr>
              <a:t>Колорит красно-желто-коричневы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1018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10181"/>
                </a:solidFill>
                <a:latin typeface="Calibri"/>
              </a:rPr>
              <a:t>Резкие пробелы, «перистые» лини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1018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10181"/>
                </a:solidFill>
                <a:latin typeface="Calibri"/>
              </a:rPr>
              <a:t>Техника светотени (для эффекта объемности изображения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539640" y="476280"/>
            <a:ext cx="7848720" cy="1512720"/>
          </a:xfrm>
          <a:prstGeom prst="rect">
            <a:avLst/>
          </a:prstGeom>
          <a:solidFill>
            <a:srgbClr val="00008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Особенности техники Феофана Грека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68040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Андрей Рублёв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-181080" y="2997000"/>
            <a:ext cx="64008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10181"/>
                </a:solidFill>
                <a:latin typeface="Calibri"/>
              </a:rPr>
              <a:t>Сведения о жизн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0181"/>
                </a:solidFill>
                <a:latin typeface="Tahoma"/>
              </a:rPr>
              <a:t>(около 1340/1350 — 17 октября 1428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0181"/>
                </a:solidFill>
                <a:latin typeface="Tahoma"/>
              </a:rPr>
              <a:t>Москва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0181"/>
                </a:solidFill>
                <a:latin typeface="Tahoma"/>
              </a:rPr>
              <a:t>погребён в Спасо</a:t>
            </a:r>
            <a:r>
              <a:rPr b="0" lang="en-US" sz="2000" spc="-1" strike="noStrike">
                <a:solidFill>
                  <a:srgbClr val="010181"/>
                </a:solidFill>
                <a:latin typeface="Tahoma"/>
              </a:rPr>
              <a:t>-</a:t>
            </a:r>
            <a:r>
              <a:rPr b="0" lang="ru-RU" sz="2000" spc="-1" strike="noStrike">
                <a:solidFill>
                  <a:srgbClr val="010181"/>
                </a:solidFill>
                <a:latin typeface="Tahoma"/>
              </a:rPr>
              <a:t>Андрониковом монастыре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6" descr="ib331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5651640" y="2205000"/>
            <a:ext cx="31716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000026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1692360" y="0"/>
            <a:ext cx="555156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1"/>
          <p:cNvSpPr/>
          <p:nvPr/>
        </p:nvSpPr>
        <p:spPr>
          <a:xfrm>
            <a:off x="6084720" y="6165720"/>
            <a:ext cx="2664000" cy="69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роица. 1425-1427 гг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rumaj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2987640" y="0"/>
            <a:ext cx="50292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5"/>
          <p:cNvSpPr/>
          <p:nvPr/>
        </p:nvSpPr>
        <p:spPr>
          <a:xfrm>
            <a:off x="179280" y="5734080"/>
            <a:ext cx="3313080" cy="90792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пас в силах. 1408 г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ос. Третьяковская галере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скв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2T18:47:10Z</dcterms:created>
  <dc:creator>Николай</dc:creator>
  <dc:description/>
  <dc:language>en-US</dc:language>
  <cp:lastModifiedBy>Галина Ожерельева</cp:lastModifiedBy>
  <dcterms:modified xsi:type="dcterms:W3CDTF">2017-09-25T05:09:44Z</dcterms:modified>
  <cp:revision>8</cp:revision>
  <dc:subject/>
  <dc:title>Слайд 1</dc:title>
</cp:coreProperties>
</file>