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5A8-461D-4803-AA9C-24F5D2DA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713-7AA5-499D-B36C-19CD8DB0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08E-A192-4D99-B3CC-C1C5BE66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3E2-970D-40F9-A3BF-1454CED8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42EF-766D-4BE0-B333-CE760C81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524-C1C8-44D3-82E1-DE466CF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472-FB39-46D6-B2A8-68A3888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9CB0-95A4-4C39-BA0A-2BC7F70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521-12FF-48F5-A14C-DB39351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D29-0C2F-4133-8054-86D70E6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FBF-18CE-4441-80F5-16A2CBD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A16-B3D9-4146-9E2C-456A46E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AAD3-6BA1-4D4F-A282-59E607B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55CA-446C-4074-BBC5-4344BA1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9A1C-2ADE-4CB9-8531-EAAD018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3055-FA34-4635-A5F3-FF8E9364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999B-F371-4A8F-92BC-857EC5A9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1D9-FBBD-4993-B66D-307268A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49E-765F-4ACD-A9DA-86A8B87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AB4-FACE-4667-85EE-31617202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B0E-F8E0-4388-84F6-FADFC85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91D-BB03-482E-9BA7-58C4E56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A00-9571-44E6-9F2E-62F9B6F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323-8803-4741-9344-36461A2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213-F34F-4BCA-B769-E6C40B185C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5F1-0B89-4011-8B00-F444C1693D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75640" y="-6375240"/>
            <a:ext cx="6984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8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342900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81"/>
                </a:solidFill>
                <a:latin typeface="Calibri"/>
              </a:rPr>
              <a:t>Иконопи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79280" y="1125360"/>
            <a:ext cx="89647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е искусств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Рус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60178420_Sschmch"/>
          <p:cNvPicPr/>
          <p:nvPr/>
        </p:nvPicPr>
        <p:blipFill>
          <a:blip r:embed="rId2"/>
          <a:stretch/>
        </p:blipFill>
        <p:spPr>
          <a:xfrm>
            <a:off x="5580000" y="3141720"/>
            <a:ext cx="2608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39640" y="170028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В творениях Рублева царят тишина, очарованность жизнью, отзывчивость ду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Преобладают нежные и легкие краски, придающие евангельским сценам исключительное оча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Главное внимание Рублев сосредоточил на человечности переживаний, внутренней гармонии, душевном благородстве и сердечной добро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68360" y="549360"/>
            <a:ext cx="7704000" cy="1079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енности техники Андрей Рубле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58672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ионис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24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Свед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о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(ок. 1440 – 150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14665945_9395pi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76720" y="333360"/>
            <a:ext cx="3705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bise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987640" y="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resk_33-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3716280"/>
            <a:ext cx="4464000" cy="267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800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97600" y="2708280"/>
            <a:ext cx="3146400" cy="39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0" y="6210360"/>
            <a:ext cx="453708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рапонтово. За покоем ТВЕРДЫ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о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960212"/>
          <p:cNvPicPr/>
          <p:nvPr/>
        </p:nvPicPr>
        <p:blipFill>
          <a:blip r:embed="rId2"/>
          <a:stretch/>
        </p:blipFill>
        <p:spPr>
          <a:xfrm>
            <a:off x="395280" y="189000"/>
            <a:ext cx="4556160" cy="6480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708360" y="4941720"/>
            <a:ext cx="525636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гоматерь с младенцем Христ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рагмент фрески «О Тебе радуетс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северной стене со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ждества Богород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ерапонтова монастыря. 15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иоанн предтеча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68360" y="404640"/>
            <a:ext cx="82072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755640" y="191628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8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Московская школа живопис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Произведения отличаются утонченным пропорциями удлиненных фигур, стремление к грандиозности и изяществ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нежные, светлые оттенки (ок. 40 оттенков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971640" y="765000"/>
            <a:ext cx="6624720" cy="935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обенности техники Дионис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5"/>
          <p:cNvSpPr txBox="1"/>
          <p:nvPr/>
        </p:nvSpPr>
        <p:spPr>
          <a:xfrm>
            <a:off x="324000" y="2133720"/>
            <a:ext cx="84247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Феофан Грек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81"/>
                </a:solidFill>
                <a:latin typeface="Calibri"/>
              </a:rPr>
              <a:t>Сведения о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81"/>
                </a:solidFill>
                <a:latin typeface="Calibri"/>
              </a:rPr>
              <a:t>(ок. 1340 – 1410 гг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8" descr="220px-Preobrazhenie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689440" y="2276640"/>
            <a:ext cx="3029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283114105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95640" y="333360"/>
            <a:ext cx="4699080" cy="62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ulture_img%5C14-195-1m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50920" y="620640"/>
            <a:ext cx="3468600" cy="424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f06-09-2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987640" y="3524400"/>
            <a:ext cx="263844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5472000" y="5445000"/>
            <a:ext cx="36720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а Ветхозаветная. 137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еска в северо-запад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овой камере на хор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Feofan_Grek-Stolpnik_Alipy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60280"/>
            <a:ext cx="4224240" cy="633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20px-Theofanus_uspenie"/>
          <p:cNvPicPr/>
          <p:nvPr/>
        </p:nvPicPr>
        <p:blipFill>
          <a:blip r:embed="rId3"/>
          <a:stretch/>
        </p:blipFill>
        <p:spPr>
          <a:xfrm>
            <a:off x="5003640" y="549360"/>
            <a:ext cx="3861000" cy="4825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4427640" y="5300640"/>
            <a:ext cx="471636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п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т иконы "Богоматерь Донская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0-е годы XIV века. Моск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5202360"/>
            <a:ext cx="3887640" cy="1655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78 г. Столпн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пись Троицк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ела в церкв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а Преображ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Ильине улице в Новгоро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0005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5280" y="190440"/>
            <a:ext cx="3362400" cy="6667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924360" y="692280"/>
            <a:ext cx="52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ль Феофана Грека пораж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азительностью и экспресс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его фресковых роспис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а «скоропись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чти монохромной живопис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проработанности мел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алей изображения ок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омное воздейств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чувства зрит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24360" y="4365720"/>
            <a:ext cx="456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В честь Феофана Грека назван кратер на Мерку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В честь Феофана Грека выпущена памятная монета Банка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684360" y="227664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Энергичная, стремительная манера пись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Суровый, грозный аскет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Колорит красно-желто-коричнев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Резкие пробелы, «перистые» ли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8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81"/>
                </a:solidFill>
                <a:latin typeface="Calibri"/>
              </a:rPr>
              <a:t>Техника светотени (для эффекта объемности изображения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39640" y="476280"/>
            <a:ext cx="7848720" cy="1512720"/>
          </a:xfrm>
          <a:prstGeom prst="rect">
            <a:avLst/>
          </a:prstGeom>
          <a:solidFill>
            <a:srgbClr val="000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обенности техники Феофана Грек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804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Андрей Рублё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181080" y="299700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81"/>
                </a:solidFill>
                <a:latin typeface="Calibri"/>
              </a:rPr>
              <a:t>Сведения о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(около 1340/1350 — 17 октября 1428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Моск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погребён в Спасо</a:t>
            </a:r>
            <a:r>
              <a:rPr b="0" lang="en-US" sz="2000" spc="-1" strike="noStrike">
                <a:solidFill>
                  <a:srgbClr val="010181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10181"/>
                </a:solidFill>
                <a:latin typeface="Tahoma"/>
              </a:rPr>
              <a:t>Андрониковом монастыр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ib33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651640" y="2205000"/>
            <a:ext cx="3171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000026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692360" y="0"/>
            <a:ext cx="55515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6084720" y="6165720"/>
            <a:ext cx="2664000" cy="69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а. 1425-1427 г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umaj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98764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79280" y="5734080"/>
            <a:ext cx="3313080" cy="9079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 в силах. 140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. Третьяковская галере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8:47:10Z</dcterms:created>
  <dc:creator>Николай</dc:creator>
  <dc:description/>
  <dc:language>en-US</dc:language>
  <cp:lastModifiedBy>Галина Ожерельева</cp:lastModifiedBy>
  <dcterms:modified xsi:type="dcterms:W3CDTF">2017-09-25T05:09:44Z</dcterms:modified>
  <cp:revision>8</cp:revision>
  <dc:subject/>
  <dc:title>Слайд 1</dc:title>
</cp:coreProperties>
</file>