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gif" ContentType="image/gif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3AF6-635D-4032-A9A2-08BD549765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A008-6011-42CD-9284-45D3409BF2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5264-0582-4005-9306-718D3E03E7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B6D-4843-40D9-9FD5-B85F6686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F854-B092-4C54-BB5A-2020E00B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8A47-D689-4CD5-8713-509B3FDE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8C6-D44B-4077-91E2-EBF924F6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E698-2C85-4652-8F40-C4D8BF34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68D1-4AB0-4E09-89AE-806B218E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899C-7FD8-452A-A933-2AAACD20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4E85-C9CD-418E-B8BB-8385CF2D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BE2C-FF39-46AF-96E6-F0C31D82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1BC1-60C9-4E7C-B00E-6BF74A65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AA70-8BA6-48D0-A1AB-64B2D28E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961E-8CB7-462E-BFF2-21A8EAB6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8B28-144B-4A4E-8D63-BA48F380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D96F-1C4D-46CA-B4A4-E9C50064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28DD-C5D7-4233-8722-E4BEF522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755F-8E83-434E-9474-93C7114E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4272-18C1-4D76-9854-A5D975C0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386E-8FB5-42E5-BA1F-70EC4C5E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0B1-6B3B-4AE2-83D1-F1001462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FA7-DE3B-4410-9FA5-D0D9C20A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7DA-E0F2-4F62-8848-B3ACA1AC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AE4-9C9D-4624-8ACB-2B7BDC34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A108-1D5A-4EDB-B22D-9924BD54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7C73-AEA6-4661-B3F2-6F4FAA3B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CE4C-7AA4-44AE-A89D-9036F8030DE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4D14-D7CF-4886-AAE4-1C03C11CFD5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5.gif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:\Users\Учитель\Desktop\Рисунок2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940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920" y="1612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стер – класс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истемно - деятельностный подход в обучении математике»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8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2039760" cy="1739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00200" y="3455640"/>
            <a:ext cx="7315200" cy="27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Учителю необходимо постоянно учиться,                учиться друг у друга.                                                                            И лучшим побудителем для этого                                          должен стать взаимообмен                                                  профессиональным опытом». </a:t>
            </a:r>
            <a:br>
              <a:rPr sz="2800"/>
            </a:br>
            <a:r>
              <a:rPr b="0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.И. Боров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7" descr="C:\Users\Учитель\Desktop\Рисунок2.jpg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88720" y="533520"/>
            <a:ext cx="606420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ем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усские счёты»</a:t>
            </a: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800600" y="2406600"/>
            <a:ext cx="40384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Рисунок 8" descr=""/>
          <p:cNvPicPr/>
          <p:nvPr/>
        </p:nvPicPr>
        <p:blipFill>
          <a:blip r:embed="rId2"/>
          <a:stretch/>
        </p:blipFill>
        <p:spPr>
          <a:xfrm>
            <a:off x="49320" y="228600"/>
            <a:ext cx="2039760" cy="1739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Users\Учитель\Desktop\i.jpg"/>
          <p:cNvPicPr/>
          <p:nvPr/>
        </p:nvPicPr>
        <p:blipFill>
          <a:blip r:embed="rId3"/>
          <a:stretch/>
        </p:blipFill>
        <p:spPr>
          <a:xfrm>
            <a:off x="260280" y="2819520"/>
            <a:ext cx="3187800" cy="3101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Users\Учитель\Desktop\img5.jpg"/>
          <p:cNvPicPr/>
          <p:nvPr/>
        </p:nvPicPr>
        <p:blipFill>
          <a:blip r:embed="rId4"/>
          <a:stretch/>
        </p:blipFill>
        <p:spPr>
          <a:xfrm>
            <a:off x="3657600" y="1974960"/>
            <a:ext cx="5105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7" descr="C:\Users\Учитель\Desktop\Рисунок2.jpg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3520" y="1447920"/>
            <a:ext cx="72392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дание 5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йте мини - проект </a:t>
            </a:r>
            <a:br>
              <a:rPr sz="40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 Как я могу использовать представленные приемы и методы системно – деятельностного подхода на своих уроках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ДМЕТ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нения, предложения, сов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Рисунок 8" descr=""/>
          <p:cNvPicPr/>
          <p:nvPr/>
        </p:nvPicPr>
        <p:blipFill>
          <a:blip r:embed="rId2"/>
          <a:stretch/>
        </p:blipFill>
        <p:spPr>
          <a:xfrm>
            <a:off x="49320" y="228600"/>
            <a:ext cx="2039760" cy="1739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Users\Учитель\Desktop\572572594.gif"/>
          <p:cNvPicPr/>
          <p:nvPr/>
        </p:nvPicPr>
        <p:blipFill>
          <a:blip r:embed="rId3"/>
          <a:stretch/>
        </p:blipFill>
        <p:spPr>
          <a:xfrm>
            <a:off x="7532640" y="635040"/>
            <a:ext cx="15908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7" descr="C:\Users\Учитель\Desktop\Рисунок2.jpg"/>
          <p:cNvPicPr/>
          <p:nvPr/>
        </p:nvPicPr>
        <p:blipFill>
          <a:blip r:embed="rId1"/>
          <a:stretch/>
        </p:blipFill>
        <p:spPr>
          <a:xfrm>
            <a:off x="6480" y="-39600"/>
            <a:ext cx="9144000" cy="68720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ом построен!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62160" y="1599840"/>
            <a:ext cx="4724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 каждого есть свой дом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Рисунок 8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2039760" cy="1739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Users\Учитель\Desktop\i.jpg"/>
          <p:cNvPicPr/>
          <p:nvPr/>
        </p:nvPicPr>
        <p:blipFill>
          <a:blip r:embed="rId3"/>
          <a:stretch/>
        </p:blipFill>
        <p:spPr>
          <a:xfrm>
            <a:off x="380880" y="2562120"/>
            <a:ext cx="3419640" cy="263052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4"/>
          <p:cNvSpPr/>
          <p:nvPr/>
        </p:nvSpPr>
        <p:spPr>
          <a:xfrm>
            <a:off x="4098960" y="2082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7" descr="C:\Users\Учитель\Desktop\Рисунок2.jpg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38280" y="837720"/>
            <a:ext cx="63532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32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Желаю счастья              в Ваш дом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Рисунок 8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2039760" cy="1739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Архив новостей МБДОУ &quot;Детский сад 14&quot; г. Чебоксары / Портал образования ЧР"/>
          <p:cNvPicPr/>
          <p:nvPr/>
        </p:nvPicPr>
        <p:blipFill>
          <a:blip r:embed="rId3"/>
          <a:stretch/>
        </p:blipFill>
        <p:spPr>
          <a:xfrm>
            <a:off x="2978280" y="3276720"/>
            <a:ext cx="382896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:\Users\Учитель\Desktop\Рисунок2.jpg"/>
          <p:cNvPicPr/>
          <p:nvPr/>
        </p:nvPicPr>
        <p:blipFill>
          <a:blip r:embed="rId1"/>
          <a:stretch/>
        </p:blipFill>
        <p:spPr>
          <a:xfrm>
            <a:off x="3492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7400" y="38088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Цель: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редставление опыта работы по применению методов                             системно - деятельностного подхода во внеурочной деятельности по  математи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68440" y="2590560"/>
            <a:ext cx="80769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дачи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1. Показать способы применения методов деятельностного подхода на импровизированном занят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2. Создать условия для профессионального общения и стимулирования роста творческого потенциала педагог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3. Отследить эффективность мастер – класса через рефлексию участ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Рисунок 8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20397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C:\Users\Учитель\Desktop\Рисунок2.jpg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68000" y="533520"/>
            <a:ext cx="6404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дание 1</a:t>
            </a:r>
            <a:r>
              <a:rPr b="0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троим дом!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8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2039760" cy="1739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C:\Users\Учитель\Desktop\i.jpg"/>
          <p:cNvPicPr/>
          <p:nvPr/>
        </p:nvPicPr>
        <p:blipFill>
          <a:blip r:embed="rId3"/>
          <a:stretch/>
        </p:blipFill>
        <p:spPr>
          <a:xfrm>
            <a:off x="380880" y="2562120"/>
            <a:ext cx="3419640" cy="263052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4"/>
          <p:cNvSpPr/>
          <p:nvPr/>
        </p:nvSpPr>
        <p:spPr>
          <a:xfrm>
            <a:off x="4098960" y="208296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дание 1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Общими усилиями построить д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ждый участник команды должен  выбрать, кем он будет в этом до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ыбор за Вами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Учитель\Desktop\572572594.gif"/>
          <p:cNvPicPr/>
          <p:nvPr/>
        </p:nvPicPr>
        <p:blipFill>
          <a:blip r:embed="rId4"/>
          <a:stretch/>
        </p:blipFill>
        <p:spPr>
          <a:xfrm>
            <a:off x="7532640" y="635040"/>
            <a:ext cx="1590840" cy="1438200"/>
          </a:xfrm>
          <a:prstGeom prst="rect">
            <a:avLst/>
          </a:prstGeom>
          <a:ln w="0">
            <a:noFill/>
          </a:ln>
        </p:spPr>
      </p:pic>
      <p:pic>
        <p:nvPicPr>
          <p:cNvPr id="183" name="домик окнами в сад.mp3" descr=""/>
          <p:cNvPicPr/>
          <p:nvPr/>
        </p:nvPicPr>
        <p:blipFill>
          <a:blip r:embed="rId5"/>
          <a:stretch/>
        </p:blipFill>
        <p:spPr>
          <a:xfrm>
            <a:off x="7434360" y="5943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907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7" descr="C:\Users\Учитель\Desktop\Рисунок2.jpg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00200" y="52668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дание 2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бдумай и разбей!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0520" y="1962000"/>
            <a:ext cx="422604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Задача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Вы вошли в старинный терем, высота которого равна трем косым саженям. Какова его высота в сантиметрах и метрах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Задача 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На одной машине 3,4 т груза, а на другой на 0,85 т больше. Сколько тонн груза на двух машинах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Задача 3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Длина прямоугольника 7,7 м, а ширина в 4 раза меньше. Найдите периметр прямоугольни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Задача 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Барину необходимо сшить наряд из  отрезка полотна длиной равной  9 аршинам. Сколько метров ткани потребуется, чтобы сшить этот наряд? 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800600" y="18284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Задача 5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В двух пакетах 4,8 кг крупы. В одном из них крупы на 0,6 кг больше, чем в другом. Сколько кг крупы в каждом пакете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Задача 6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В первый день туристы прошли на 3,78 км больше, чем во второй день. Сколько км туристы прошли за два дня, если в первый день прошли в 4 раза больше, чем во второй день?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Задача 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В бочонке 10 фунтов огурцов. Продаю огурцы по 4 гривенника с двумя грошами за фунт. За сколько рублей будет продан бочонок огурцов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Задача 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Месячный рацион поросенка: содержит 10 пудов картофеля. Сколько кг картофеля нужно закупить на три дня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Рисунок 8" descr=""/>
          <p:cNvPicPr/>
          <p:nvPr/>
        </p:nvPicPr>
        <p:blipFill>
          <a:blip r:embed="rId2"/>
          <a:stretch/>
        </p:blipFill>
        <p:spPr>
          <a:xfrm>
            <a:off x="49320" y="228600"/>
            <a:ext cx="2039760" cy="173988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4"/>
          <p:cNvSpPr/>
          <p:nvPr/>
        </p:nvSpPr>
        <p:spPr>
          <a:xfrm>
            <a:off x="4098960" y="2082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2" descr="C:\Users\Учитель\Desktop\572572594.gif"/>
          <p:cNvPicPr/>
          <p:nvPr/>
        </p:nvPicPr>
        <p:blipFill>
          <a:blip r:embed="rId3"/>
          <a:stretch/>
        </p:blipFill>
        <p:spPr>
          <a:xfrm>
            <a:off x="7532640" y="635040"/>
            <a:ext cx="15908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7" descr="C:\Users\Учитель\Desktop\Рисунок2.jpg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28800" y="8107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дание 3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ыбери и реши!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520" y="2371320"/>
            <a:ext cx="42260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Задача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Вы вошли в старинный терем, высота которого равна трем косым саженям. Какова его высота в сантиметрах и метрах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Задача 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Барину необходимо сшить наряд из  отрезка полотна длиной равной 9 аршинам. Сколько метров ткани потребуется, чтобы сшить этот наряд? 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800600" y="2514600"/>
            <a:ext cx="40384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Задача 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В бочонке 10 фунтов огурцов. Продаю огурцы по 4 гривенника с двумя грошами за фунт. За сколько рублей будет продан бочонок огурцов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Задача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Месячный рацион поросенка: содержит 10 пудов картофеля. Сколько кг картофеля нужно закупить на три дня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Рисунок 8" descr=""/>
          <p:cNvPicPr/>
          <p:nvPr/>
        </p:nvPicPr>
        <p:blipFill>
          <a:blip r:embed="rId2"/>
          <a:stretch/>
        </p:blipFill>
        <p:spPr>
          <a:xfrm>
            <a:off x="49320" y="228600"/>
            <a:ext cx="2039760" cy="173988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4"/>
          <p:cNvSpPr/>
          <p:nvPr/>
        </p:nvSpPr>
        <p:spPr>
          <a:xfrm>
            <a:off x="4098960" y="2082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2" descr="C:\Users\Учитель\Desktop\572572594.gif"/>
          <p:cNvPicPr/>
          <p:nvPr/>
        </p:nvPicPr>
        <p:blipFill>
          <a:blip r:embed="rId3"/>
          <a:stretch/>
        </p:blipFill>
        <p:spPr>
          <a:xfrm>
            <a:off x="7532640" y="635040"/>
            <a:ext cx="15908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8" descr="C:\Users\Учитель\Desktop\Рисунок2.jpg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аблица ме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361960" y="837720"/>
            <a:ext cx="66294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дь = 14 пудам = 230 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ершок = 4,5 с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уд = 40 фунтам = 16 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Фунт = 454 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Золотник = 4,3 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ерста = 500 саженям = 1,07 к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ажень = 3 аршинам = 2,13 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ршин = 16 вершкам = 71,12 с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убль = 2 полтин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лтина = 50 копейк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ятиалтынный = 15 копейк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лтын = 3 копейк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Гривенник = 10 копейк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Грош = 0.5 копей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лушка = 0.25 копей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Рисунок 8" descr=""/>
          <p:cNvPicPr/>
          <p:nvPr/>
        </p:nvPicPr>
        <p:blipFill>
          <a:blip r:embed="rId17"/>
          <a:stretch/>
        </p:blipFill>
        <p:spPr>
          <a:xfrm>
            <a:off x="533520" y="457200"/>
            <a:ext cx="2039760" cy="1739880"/>
          </a:xfrm>
          <a:prstGeom prst="rect">
            <a:avLst/>
          </a:prstGeom>
          <a:ln w="0">
            <a:noFill/>
          </a:ln>
        </p:spPr>
      </p:pic>
      <p:pic>
        <p:nvPicPr>
          <p:cNvPr id="202" name="1e9b37fcdff4d4.mp3" descr=""/>
          <p:cNvPicPr/>
          <p:nvPr/>
        </p:nvPicPr>
        <p:blipFill>
          <a:blip r:embed="rId18"/>
          <a:stretch/>
        </p:blipFill>
        <p:spPr>
          <a:xfrm>
            <a:off x="8001000" y="56386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4049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C:\Users\Учитель\Desktop\Рисунок2.jpg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28800" y="8107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дание 3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оверь себя!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0520" y="2371320"/>
            <a:ext cx="42260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Задача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Вы вошли в старинный терем, высота которого равна трем косым саженям. Какова его высота в сантиметрах и метрах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Ответ: 6 м 39 с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Задача 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Барину необходимо сшить наряд из  отрезка полотна длиной равной 9 аршинам. Сколько метров ткани потребуется, чтобы сшить этот наряд? 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Ответ: 6,4 м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800600" y="2514600"/>
            <a:ext cx="40384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Задача 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В бочонке 10 фунтов огурцов. Продаю огурцы по 4 гривенника с двумя грошами за фунт. За сколько рублей будет продан бочонок огурцов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Ответ: 4 рубля 10 коп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Задача 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Месячный рацион поросенка: содержит 10 пудов картофеля. Сколько кг картофеля нужно закупить на три дня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Ответ: 480 к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Рисунок 8" descr=""/>
          <p:cNvPicPr/>
          <p:nvPr/>
        </p:nvPicPr>
        <p:blipFill>
          <a:blip r:embed="rId2"/>
          <a:stretch/>
        </p:blipFill>
        <p:spPr>
          <a:xfrm>
            <a:off x="49320" y="228600"/>
            <a:ext cx="2039760" cy="17398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4"/>
          <p:cNvSpPr/>
          <p:nvPr/>
        </p:nvSpPr>
        <p:spPr>
          <a:xfrm>
            <a:off x="4098960" y="2082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2" descr="C:\Users\Учитель\Desktop\572572594.gif"/>
          <p:cNvPicPr/>
          <p:nvPr/>
        </p:nvPicPr>
        <p:blipFill>
          <a:blip r:embed="rId3"/>
          <a:stretch/>
        </p:blipFill>
        <p:spPr>
          <a:xfrm>
            <a:off x="7532640" y="635040"/>
            <a:ext cx="15908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C:\Users\Учитель\Desktop\Рисунок2.jpg"/>
          <p:cNvPicPr/>
          <p:nvPr/>
        </p:nvPicPr>
        <p:blipFill>
          <a:blip r:embed="rId1"/>
          <a:stretch/>
        </p:blipFill>
        <p:spPr>
          <a:xfrm>
            <a:off x="6048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88720" y="533520"/>
            <a:ext cx="667404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дание 4.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кругли дробь»</a:t>
            </a: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520" y="2371320"/>
            <a:ext cx="42260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круглите дробь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Calibri"/>
              </a:rPr>
              <a:t>4836,275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800600" y="2406600"/>
            <a:ext cx="40384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 До десят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До десятк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 До сот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4. До сотен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Рисунок 8" descr=""/>
          <p:cNvPicPr/>
          <p:nvPr/>
        </p:nvPicPr>
        <p:blipFill>
          <a:blip r:embed="rId2"/>
          <a:stretch/>
        </p:blipFill>
        <p:spPr>
          <a:xfrm>
            <a:off x="49320" y="228600"/>
            <a:ext cx="2039760" cy="1739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C:\Users\Учитель\Desktop\572572594.gif"/>
          <p:cNvPicPr/>
          <p:nvPr/>
        </p:nvPicPr>
        <p:blipFill>
          <a:blip r:embed="rId3"/>
          <a:stretch/>
        </p:blipFill>
        <p:spPr>
          <a:xfrm>
            <a:off x="7391520" y="838080"/>
            <a:ext cx="159048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7" descr="C:\Users\Учитель\Desktop\Рисунок2.jpg"/>
          <p:cNvPicPr/>
          <p:nvPr/>
        </p:nvPicPr>
        <p:blipFill>
          <a:blip r:embed="rId1"/>
          <a:stretch/>
        </p:blipFill>
        <p:spPr>
          <a:xfrm>
            <a:off x="6048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88720" y="533520"/>
            <a:ext cx="667404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дание 4.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оверь себя!»</a:t>
            </a: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520" y="2371320"/>
            <a:ext cx="42260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круглите дробь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Calibri"/>
              </a:rPr>
              <a:t>4836,275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800600" y="2406600"/>
            <a:ext cx="40384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 До десятых: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836,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До десятков: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8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 До сотых: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836,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4. До сотен: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8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Рисунок 8" descr=""/>
          <p:cNvPicPr/>
          <p:nvPr/>
        </p:nvPicPr>
        <p:blipFill>
          <a:blip r:embed="rId2"/>
          <a:stretch/>
        </p:blipFill>
        <p:spPr>
          <a:xfrm>
            <a:off x="49320" y="228600"/>
            <a:ext cx="2039760" cy="1739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C:\Users\Учитель\Desktop\572572594.gif"/>
          <p:cNvPicPr/>
          <p:nvPr/>
        </p:nvPicPr>
        <p:blipFill>
          <a:blip r:embed="rId3"/>
          <a:stretch/>
        </p:blipFill>
        <p:spPr>
          <a:xfrm>
            <a:off x="7391520" y="838080"/>
            <a:ext cx="159048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cp:lastPrinted>2016-02-02T11:17:47Z</cp:lastPrinted>
  <dcterms:modified xsi:type="dcterms:W3CDTF">2016-04-25T17:43:36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