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7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ED5-44A9-438B-8822-D76478FAB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3AA-F4FC-42B4-978E-89C93E688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2DA-7210-4E09-9BC5-C9C67AE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050-9F13-4143-AF48-02609AE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1FA-DF64-4A4F-9EB5-98E38C7E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C70-95A7-4F8B-9EC7-D0FBD9AF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2D3-FE51-4EF7-B5EF-6C99CE6C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4B9-6E37-40B2-B7AD-FEE9CB98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5F2-444C-47E3-9FF7-5FF5A68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EF9-AF77-4C8E-B829-4427102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850-D977-40E2-8FD7-A87EC4A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315-A1B0-4FB7-A257-B11631B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C43-E7FA-4E84-818E-BBFD5D4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371-C95B-4A1F-B99F-E6A08E5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15B3-A52E-449E-9209-C26994B6E2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bletennis.hobby.ru/rules/index.shtml" TargetMode="External"/><Relationship Id="rId2" Type="http://schemas.openxmlformats.org/officeDocument/2006/relationships/hyperlink" Target="http://images.yandex.ru/yandsearch?source=wiz&amp;fp=0&amp;text=&#1085;&#1072;&#1089;&#1090;&#1086;&#1083;&#1100;&#1085;&#1099;&#1081;%20&#1090;&#1077;&#1085;&#1085;&#1080;&#1089;&amp;noreask=1&amp;pos=6&amp;lr=67&amp;rpt=simage&amp;uinfo=ww-1263-wh-682-fw-1021-fh-476-pd-1&amp;img_url=http%3A%2F%2Fcs405928.vk.me%2Fg42369493%2Fd_8bbed04f.jpg" TargetMode="External"/><Relationship Id="rId3" Type="http://schemas.openxmlformats.org/officeDocument/2006/relationships/hyperlink" Target="http://images.yandex.ru/yandsearch?text=&#1085;&#1072;&#1089;&#1090;&#1086;&#1083;&#1100;&#1085;&#1099;&#1081;%20&#1090;&#1077;&#1085;&#1085;&#1080;&#1089;%20&#1088;&#1072;&#1079;&#1084;&#1077;&#1088;%20&#1089;&#1090;&#1086;&#1083;&#1072;&amp;fp=0&amp;pos=6&amp;uinfo=ww-1263-wh-682-fw-1038-fh-476-pd1&amp;rpt=simage&amp;img_url=http%3A%2F%2Fnews.bbcimg.co.uk%2Fmedia%2Fimages%2F41395000%2Fgif%2F_41395290_table_tennis2_416.gif" TargetMode="External"/><Relationship Id="rId4" Type="http://schemas.openxmlformats.org/officeDocument/2006/relationships/hyperlink" Target="http://images.yandex.ru/yandsearch?text=&#1085;&#1072;&#1089;&#1090;&#1086;&#1083;&#1100;&#1085;&#1099;&#1081;%20&#1090;&#1077;&#1085;&#1085;&#1080;&#1089;%20&#1050;&#1086;&#1084;&#1087;&#1083;&#1077;&#1082;&#1090;%20&#1089;&#1077;&#1090;&#1082;&#1080;&amp;fp=0&amp;pos=16&amp;uinfo=ww-1263-wh-682-fw-1038-fh-476-pd-1&amp;rpt=simage&amp;img_url=http%3A%2F%2Fimage.vcene.ua%2Fdata%2Fproducts%2F640946%2Fi-yashima-competition.jpg" TargetMode="External"/><Relationship Id="rId5" Type="http://schemas.openxmlformats.org/officeDocument/2006/relationships/hyperlink" Target="http://images.yandex.ru/yandsearch?text=&#1085;&#1072;&#1089;&#1090;&#1086;&#1083;&#1100;&#1085;&#1099;&#1081;%20&#1090;&#1077;&#1085;&#1085;&#1080;&#1089;%20&#1084;&#1103;&#1095;&amp;fp=0&amp;pos=1&amp;uinfo=ww-1263-wh-682-fw-1038-fh-476-pd-1&amp;rpt=simage&amp;img_url=http%3A%2F%2Fd.wikimart.ru%2Fce%2F9d%2Fb2aa32e9-4c0e-43da-9b47-8fce9d5aaddd.jpeg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5;&#1072;&#1089;&#1090;&#1086;&#1083;&#1100;&#1085;&#1099;&#1081;%20&#1090;&#1077;&#1085;&#1085;&#1080;&#1089;%20&#1088;&#1072;&#1082;&#1077;&#1090;&#1082;&#1072;&amp;fp=0&amp;pos=3&amp;uinfo=ww-1263-wh-682-fw-1038-fh-476-pd-1&amp;rpt=simage&amp;img_url=http%3A%2F%2Fpics.mobilluck.com.ua%2Fphoto%2Ftennis_rackets%2Fgiantdragon%2FGiant_Dragon_Diamond_ND692_111642_175214.jpg" TargetMode="External"/><Relationship Id="rId2" Type="http://schemas.openxmlformats.org/officeDocument/2006/relationships/hyperlink" Target="http://images.yandex.ru/yandsearch?p=1&amp;text=&#1085;&#1072;&#1089;&#1090;&#1086;&#1083;&#1100;&#1085;&#1099;&#1081;%20&#1090;&#1077;&#1085;&#1085;&#1080;&#1089;%20&#1088;&#1072;&#1082;&#1077;&#1090;&#1082;&#1072;&amp;fp=1&amp;pos=58&amp;uinfo=ww-1263-wh-682-fw-1038-fh-476-pd-1&amp;rpt=simage&amp;img_url=http%3A%2F%2Fsuperprices.ru%2Fpublished%2Fpublicdata%2FSUPERDVDPRICES%2Fattachments%2FSC%2Fproducts_pictures%2FHLA88R-1_thm.JPG" TargetMode="External"/><Relationship Id="rId3" Type="http://schemas.openxmlformats.org/officeDocument/2006/relationships/hyperlink" Target="http://images.yandex.ru/yandsearch?text=&#1085;&#1072;&#1089;&#1090;&#1086;&#1083;&#1100;&#1085;&#1099;&#1081;%20&#1090;&#1077;&#1085;&#1085;&#1080;&#1089;%20&#1087;&#1086;&#1076;&#1072;&#1095;&#1072;&amp;fp=0&amp;pos=19&amp;uinfo=ww-1263-wh-682-fw-1038-fh-476-pd-1&amp;rpt=simage&amp;img_url=http%3A%2F%2Fbookz.ru%2Fauthors%2Fgalina-bar4ukova%2Fu4is_-ig_728%2Fany2fbimgloader15.png" TargetMode="External"/><Relationship Id="rId4" Type="http://schemas.openxmlformats.org/officeDocument/2006/relationships/hyperlink" Target="http://images.yandex.ru/yandsearch?text=&#1085;&#1072;&#1089;&#1090;&#1086;&#1083;&#1100;&#1085;&#1099;&#1081;%20&#1090;&#1077;&#1085;&#1085;&#1080;&#1089;&amp;fp=0&amp;pos=28&amp;uinfo=ww-1263-wh-682-fw-1038-fh-476-pd-1&amp;rpt=simage&amp;img_url=http%3A%2F%2Fcs4228.vk.me%2Fg34088264%2Fa_d937b19d.jpg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5;&#1072;&#1089;&#1090;&#1086;&#1083;&#1100;&#1085;&#1099;&#1081;%20&#1090;&#1077;&#1085;&#1085;&#1080;&#1089;%20&#1072;&#1085;&#1080;&#1084;&#1072;&#1094;&#1080;&#1103;&amp;fp=0&amp;pos=1&amp;uinfo=ww-1263-wh-682-fw-1038-fh-476-pd-1&amp;rpt=simage&amp;img_url=http%3A%2F%2Fs5.rimg.info%2Fa5ad1d63a964388b78f5be1f48d49643.gif" TargetMode="External"/><Relationship Id="rId2" Type="http://schemas.openxmlformats.org/officeDocument/2006/relationships/hyperlink" Target="http://images.yandex.ru/yandsearch?p=1&amp;text=&#1085;&#1072;&#1089;&#1090;&#1086;&#1083;&#1100;&#1085;&#1099;&#1081;%20&#1090;&#1077;&#1085;&#1085;&#1080;&#1089;%20&#1089;&#1095;&#1077;&#1090;&amp;fp=1&amp;pos=44&amp;uinfo=ww-1263-wh-682-fw-1038-fh-476-pd-1&amp;rpt=simage&amp;itype=gif&amp;img_url=http%3A%2F%2Fthethaohanoi.com%2Fimages%2Fstories%2Fvirtuemart%2Fproduct%2Fbang-lat-so-%2520f505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0920" y="4005360"/>
            <a:ext cx="442764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ыполнил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Хлебалин А.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дагог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2"/>
          <p:cNvSpPr/>
          <p:nvPr/>
        </p:nvSpPr>
        <p:spPr>
          <a:xfrm flipV="1">
            <a:off x="4284720" y="5949360"/>
            <a:ext cx="1655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100520" y="907920"/>
            <a:ext cx="68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Настольный тенн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авильный возвр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93760" y="2646360"/>
            <a:ext cx="438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нный или возвращенный мяч следует ударить так, чтобы он пролетел над или вокруг комплекта сетки и коснулся (один раз) половины стола соперника сразу или после касаний комплекта с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орядок иг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одиночных встречах подающий должен первым выполнить правильную подачу, принимающий должен затем выполнить правильный возврат, после чего подающий и принимающий поочередно выполняют правильный возв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826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ереигр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зыгрыш переигрываетс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одаче мяч, пролетая «над или вокруг» комплекта сетки, коснется его (при условии, что во всех других отношениях подача выполнена правильно) или принимающий (или его партнер) помешает мя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ча выполнена, когда принимающий (пара) не готов к приему мяча, при условии, что никто из принимающих не пытался отбить мя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шибка при выполнении правильной подачи, правильного возврата или какого-либо другого требования правил игры произошла помимо воли иг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прервана судьей или судьей-ассист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Оч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2599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гда розыгрыш не переигрывается, игрок выигрывает очко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ую пода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ый возв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его правильной подачи или правильного возврата мяч до удара его соперника коснётся чего-либо, кроме комплекта с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, после того, как он был отбит соперником, пролетит над концевой линией стороны игровой поверхности данного игрока, не коснувшис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мешает мя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дважды подря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стороной ракетки, поверхность которой не соответствует требов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ар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547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тию выигрывает игрок (пара), первым набравший 11 очков, если только оба игрока (пары) не набрали по 10 очков; в этом случае партия будет выиграна игроком (парой), который первым наберет на 2 очка больше соперника (па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5219640" y="3645000"/>
            <a:ext cx="3600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Выбор подачи, приема и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выбрать стартовый порядок подачи, приема и сторону определяют жребием; выигравший это право, может выбрать: подачу или прием первым, начать встречу на определенной им стороне 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532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Нарушение порядка подачи, приема или смены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 подает или принимает не в очередь, игра должна быть остановлена, как только ошибка обнаружена, а затем возобновлена с подачи и приема тех игроков, которым следовало подавать и принимать в соответствии с очередностью, установленной в начале встречи; в парных играх - в порядке очередности подач, определенных парой, получившей право первой подавать в партии, в течение которой обнаружена ошиб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и не поменялись сторо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 им следовало это сделать,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жна быть прервана суд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6588000" y="4508640"/>
            <a:ext cx="200664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tabletennis.hobby.ru/rule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source=wiz&amp;fp=0&amp;text=%D0%BD%D0%B0%D1%81%D1%82%D0%BE%D0%BB%D1%8C%D0%BD%D1%8B%D0%B9%20%D1%82%D0%B5%D0%BD%D0%BD%D0%B8%D1%81&amp;noreask=1&amp;pos=6&amp;lr=67&amp;rpt=simage&amp;uinfo=ww-1263-wh-682-fw-1021-fh-476-pd-1&amp;img_url=http%3A%2F%2Fcs405928.vk.me%2Fg42369493%2Fd_8bbed04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images.yandex.ru/yandsearch?text=%D0%BD%D0%B0%D1%81%D1%82%D0%BE%D0%BB%D1%8C%D0%BD%D1%8B%D0%B9%20%D1%82%D0%B5%D0%BD%D0%BD%D0%B8%D1%81%20%D1%80%D0%B0%D0%B7%D0%BC%D0%B5%D1%80%20%D1%81%D1%82%D0%BE%D0%BB%D0%B0&amp;fp=0&amp;pos=6&amp;uinfo=ww-1263-wh-682-fw-1038-fh-476-pd1&amp;rpt=simage&amp;img_url=http%3A%2F%2Fnews.bbcimg.co.uk%2Fmedia%2Fimages%2F41395000%2Fgif%2F_41395290_table_tennis2_416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images.yandex.ru/yandsearch?text=%D0%BD%D0%B0%D1%81%D1%82%D0%BE%D0%BB%D1%8C%D0%BD%D1%8B%D0%B9%20%D1%82%D0%B5%D0%BD%D0%BD%D0%B8%D1%81%20%D0%9A%D0%BE%D0%BC%D0%BF%D0%BB%D0%B5%D0%BA%D1%82%20%D1%81%D0%B5%D1%82%D0%BA%D0%B8&amp;fp=0&amp;pos=16&amp;uinfo=ww-1263-wh-682-fw-1038-fh-476-pd-1&amp;rpt=simage&amp;img_url=http%3A%2F%2Fimage.vcene.ua%2Fdata%2Fproducts%2F640946%2Fi-yashima-competiti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yandex.ru/yandsearch?text=%D0%BD%D0%B0%D1%81%D1%82%D0%BE%D0%BB%D1%8C%D0%BD%D1%8B%D0%B9%20%D1%82%D0%B5%D0%BD%D0%BD%D0%B8%D1%81%20%D0%BC%D1%8F%D1%87&amp;fp=0&amp;pos=1&amp;uinfo=ww-1263-wh-682-fw-1038-fh-476-pd-1&amp;rpt=simage&amp;img_url=http%3A%2F%2Fd.wikimart.ru%2Fce%2F9d%2Fb2aa32e9-4c0e-43da-9b47-8fce9d5aaddd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ages.yandex.ru/yandsearch?text=%D0%BD%D0%B0%D1%81%D1%82%D0%BE%D0%BB%D1%8C%D0%BD%D1%8B%D0%B9%20%D1%82%D0%B5%D0%BD%D0%BD%D0%B8%D1%81%20%D1%80%D0%B0%D0%BA%D0%B5%D1%82%D0%BA%D0%B0&amp;fp=0&amp;pos=3&amp;uinfo=ww-1263-wh-682-fw-1038-fh-476-pd-1&amp;rpt=simage&amp;img_url=http%3A%2F%2Fpics.mobilluck.com.ua%2Fphoto%2Ftennis_rackets%2Fgiantdragon%2FGiant_Dragon_Diamond_ND692_111642_1752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p=1&amp;text=%D0%BD%D0%B0%D1%81%D1%82%D0%BE%D0%BB%D1%8C%D0%BD%D1%8B%D0%B9%20%D1%82%D0%B5%D0%BD%D0%BD%D0%B8%D1%81%20%D1%80%D0%B0%D0%BA%D0%B5%D1%82%D0%BA%D0%B0&amp;fp=1&amp;pos=58&amp;uinfo=ww-1263-wh-682-fw-1038-fh-476-pd-1&amp;rpt=simage&amp;img_url=http%3A%2F%2Fsuperprices.ru%2Fpublished%2Fpublicdata%2FSUPERDVDPRICES%2Fattachments%2FSC%2Fproducts_pictures%2FHLA88R-1_th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images.yandex.ru/yandsearch?text=%D0%BD%D0%B0%D1%81%D1%82%D0%BE%D0%BB%D1%8C%D0%BD%D1%8B%D0%B9%20%D1%82%D0%B5%D0%BD%D0%BD%D0%B8%D1%81%20%D0%BF%D0%BE%D0%B4%D0%B0%D1%87%D0%B0&amp;fp=0&amp;pos=19&amp;uinfo=ww-1263-wh-682-fw-1038-fh-476-pd-1&amp;rpt=simage&amp;img_url=http%3A%2F%2Fbookz.ru%2Fauthors%2Fgalina-bar4ukova%2Fu4is_-ig_728%2Fany2fbimgloader1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images.yandex.ru/yandsearch?text=%D0%BD%D0%B0%D1%81%D1%82%D0%BE%D0%BB%D1%8C%D0%BD%D1%8B%D0%B9%20%D1%82%D0%B5%D0%BD%D0%BD%D0%B8%D1%81&amp;fp=0&amp;pos=28&amp;uinfo=ww-1263-wh-682-fw-1038-fh-476-pd-1&amp;rpt=simage&amp;img_url=http%3A%2F%2Fcs4228.vk.me%2Fg34088264%2Fa_d937b19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ages.yandex.ru/yandsearch?text=%D0%BD%D0%B0%D1%81%D1%82%D0%BE%D0%BB%D1%8C%D0%BD%D1%8B%D0%B9%20%D1%82%D0%B5%D0%BD%D0%BD%D0%B8%D1%81%20%D0%B0%D0%BD%D0%B8%D0%BC%D0%B0%D1%86%D0%B8%D1%8F&amp;fp=0&amp;pos=1&amp;uinfo=ww-1263-wh-682-fw-1038-fh-476-pd-1&amp;rpt=simage&amp;img_url=http%3A%2F%2Fs5.rimg.info%2Fa5ad1d63a964388b78f5be1f48d49643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p=1&amp;text=%D0%BD%D0%B0%D1%81%D1%82%D0%BE%D0%BB%D1%8C%D0%BD%D1%8B%D0%B9%20%D1%82%D0%B5%D0%BD%D0%BD%D0%B8%D1%81%20%D1%81%D1%87%D0%B5%D1%82&amp;fp=1&amp;pos=44&amp;uinfo=ww-1263-wh-682-fw-1038-fh-476-pd-1&amp;rpt=simage&amp;itype=gif&amp;img_url=http%3A%2F%2Fthethaohanoi.com%2Fimages%2Fstories%2Fvirtuemart%2Fproduct%2Fbang-lat-so-%2520f505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http://images.yandex.ru/yandsearch?text=%D0%BD%D0%B0%D1%81%D1%82%D0%BE%D0%BB%D1%8C%D0%BD%D1%8B%D0%B9%20%D1%82%D0%B5%D0%BD%D0%BD%D0%B8%D1%81%20%D0%B0%D0%BD%D0%B8%D0%BC%D0%B0%D1%86%D0%B8%D1%8F&amp;fp=0&amp;pos=6&amp;uinfo=ww-1263-wh-682-fw-1038-fh-476-pd-1&amp;rpt=simage&amp;itype=gif&amp;img_url=http%3A%2F%2Fpingipong.sourceforge.net%2Findexphp%2Fimages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http://images.yandex.ru/yandsearch?text=%D0%BD%D0%B0%D1%81%D1%82%D0%BE%D0%BB%D1%8C%D0%BD%D1%8B%D0%B9%20%D1%82%D0%B5%D0%BD%D0%BD%D0%B8%D1%81%20%D0%B0%D0%BD%D0%B8%D0%BC%D0%B0%D1%86%D0%B8%D1%8F&amp;fp=0&amp;pos=6&amp;uinfo=ww-1263-wh-682-fw-1038-fh-476-pd-1&amp;rpt=simage&amp;itype=gif&amp;img_url=http%3A%2F%2Fpingipong.sourceforge.net%2Findexphp%2Fimages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мплект с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к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авильная по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возв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рядок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ереиг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ар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ыбор подачи, приема 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ушение порядка подачи, приема или сме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9225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то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рхняя поверхность стола, называем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гровой поверхностью», длиной 2,74 м и шириной 1,525 м, должна быть прямоугольной и лежать в горизонтальной плоскости на высоте 76 см от п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1835280" y="3408480"/>
            <a:ext cx="536256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Комплект се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лект сетки состоит из собственно сетки, подвесного шнура и опорных сто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тку подвешивают на шнур, привязанный с каждого конца к вертикальной части стоек высотой 15,25 см; длина выступающих частей стоек не должна превышать 15,25 см в сторону от боковых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4484520" y="3589200"/>
            <a:ext cx="4629240" cy="294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Мя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48592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сферическим, диаметром 40 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 мяча должна быть 2,7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изготовлен из целлулоида или подобной пластмассы белого или оранжевого цвета, матов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4795920" y="2565360"/>
            <a:ext cx="434808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Раке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етка может быть любого размера, формы и массы, но ее лопасть должна быть плоской и жес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крайней мере, 85% лопасти по толщине должно быть из натурального дер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539640" y="3481560"/>
            <a:ext cx="4500720" cy="3019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4653000" y="3444840"/>
            <a:ext cx="393372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озыгрыш» - период времени, когда мяч находится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ереигровка» - розыгрыш, результат которого не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Очко» - розыгрыш, результат которого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ука с ракеткой» - рука, держащая раке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ободная рука» - рука без рак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ок «ударяет» мяч, если он касается мяча своей ракеткой, держа ее рукой, или своей рукой (с ракеткой) ниже запя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дающий» - игрок, который должен перв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нимающий» - игрок, который должен втор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» - лицо, назначенное контролировать встре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-ассистент» - лицо, назначенное содействовать судье в принятии определен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нятие игрок «надевает или носит» включает в себя все, что на нем было надето или что он носил в начале розыгр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считается прошедшим «над или вокруг» комплекта сетки, если он пролетел как угодно, но не между сеткой и стойкой сетки или между сеткой и игров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Концевую линию» следует рассматривать продолжающейся неопределенно долго в обоих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равильная пода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ющий должен подбросить мяч только рукой так, чтобы мяч  взлетел  не менее чем на 16см после того, как он покинул ладонь свободной руки подающего и опустился, не коснувшись чего-либо до удара по нему рак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38020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218</cp:lastModifiedBy>
  <dcterms:modified xsi:type="dcterms:W3CDTF">2017-09-25T07:44:32Z</dcterms:modified>
  <cp:revision>692</cp:revision>
  <dc:subject/>
  <dc:title>Diapositiva 1</dc:title>
</cp:coreProperties>
</file>