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E6B-90AF-41D3-B444-93353DD2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EAC-D9BD-4AC0-B6BA-77D2F02D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8BE-C0E5-4BFD-9767-68B2BB18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C0E-E38E-4B45-B7B4-305FC2CA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ECB2-E388-43B6-9D63-A7F806AF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9CB0-C9FE-41D1-8472-87C1ED57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47CE-787A-4195-BC3A-ADCA60B3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4E5D-65F5-42D7-93D9-203F8D2B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D6B9-A003-49A1-A85B-0D68C9CB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5DAE-E298-447F-83F6-FDF213D2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C217-7FEC-4083-A6D4-6FA4B133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D2D-5FB2-46D2-A376-55BD7435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62B7-6EB7-41BF-9B21-877E646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3CB9-4B3D-4088-BD74-8246058A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C3F4-0B23-478C-9549-BAA34AD2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AB60-A92E-454D-ACDE-2128B93D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F7A4-CCA0-403F-8D42-0A72CE98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12E-9613-489B-8D77-3FEA59C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26F-B758-4651-B3CD-1881BC62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EF3-32AF-4449-B65F-BED05D94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BE6-F1E0-410E-AB87-011892B8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724-0BEF-4FFF-AA35-1D92B68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1E6-79B8-4A6F-83A0-CF3ABC8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108-0630-44FF-99BC-16EA95E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2D87-013F-4EC2-95E2-F2B51C3B2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D377-95FC-4B5A-8EE2-BBF87C5B0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снование Москв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арины глубо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чется знать старину, какова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была она, даже и чужую, а своя еще ми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М. Карам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. начиналася матушка каменна Моск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ая русская пе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куда пошла земля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несколько версия происхождений названия города. По одной из версий название состояло из корней "моск" (на древнеславянском языке - кремень) и "ков" (то есть прятаться). Т.е. слово "Москва" означало "каменное укрытие" и от города это название перешло и на реку. Но большинство историков считает, что город получил своё название от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лавянский посел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147 год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летописным сведениям, 28 марта 1147 года на Боровицком холме состоялась встреча Юрия Владимировича с его союзниками в междоусобной борьбе. Эта дата считается днем основания Моск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648320" y="1600200"/>
            <a:ext cx="4316400" cy="4419720"/>
            <a:chOff x="4648320" y="1600200"/>
            <a:chExt cx="4316400" cy="44197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31640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4648320" y="1600200"/>
              <a:ext cx="431640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6666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Юрий Долгорук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осковского храмостроительства связано с именем Юрия Владимировича Долгорукого, признанного учеными основателем будущей столицы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язь Юрий Долгорукий знаменит в русской истории еще и тем, что, активно участвуя в распре, он в последние годы жизни много сил и энергии уделял хозяйственному обустройству, архитектурному убранству старых, а также основанию новых горо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157 год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мая Юрий Долгорукий умер — по-видимому, отравленный киевскими боярами. Он был крайне непопулярен среди киевлян; сразу же после смерти хозяина его двор был разграблен наро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амятник Юрию Долгоруком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954 году на Советской площади (ныне Тверской) в Москве был установлен памятник Юрию Долгорукому скульпторов А. П. Антропова, Н. Л. Штамма и С. М. Ор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427640" y="1628640"/>
            <a:ext cx="4105080" cy="4392720"/>
            <a:chOff x="4427640" y="1628640"/>
            <a:chExt cx="4105080" cy="43927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427640" y="1628640"/>
              <a:ext cx="410508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4427640" y="1628640"/>
              <a:ext cx="4105080" cy="439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996666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рковь Спаса на Берестов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78520" cy="4419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х Юрия погребён в ныне существующей церкви Спаса на Берестове на территории современной Киево-Печерской лав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3:50:41Z</dcterms:created>
  <dc:creator>1</dc:creator>
  <dc:description/>
  <dc:language>en-US</dc:language>
  <cp:lastModifiedBy>1</cp:lastModifiedBy>
  <dcterms:modified xsi:type="dcterms:W3CDTF">2010-08-19T14:37:41Z</dcterms:modified>
  <cp:revision>2</cp:revision>
  <dc:subject/>
  <dc:title>     Основание Москвы</dc:title>
</cp:coreProperties>
</file>