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EBA0-8291-4498-9421-54DEFF73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A19E-E5F1-46DC-8B1E-1F5A22C6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E895-2688-418D-BDCF-C320E9320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9952-410B-4663-9813-DA665B6ED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01C0-E22D-4DA2-B691-49781A68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BE5A-ECCB-4DCC-936E-321C157B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6870-6CCD-4575-AB1F-AB1AC9C1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8D77-9875-452E-88CB-73596F32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7A5D-1DBF-40EA-B256-DF7D2C78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13AD-2ABD-4B3E-9162-7A052965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A77B-2BD1-4989-BC14-2AB8E65C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C223-B818-4D5B-9613-66BACA4E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10A6-4B66-471A-880C-A51C9B97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280D-1DE1-4E66-A3B0-2B41EB1F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AF47-864F-4F6F-9FA5-DEFB43C4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3753-921C-4D2C-B909-9977FDB4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9584-9AFE-4B26-A866-998AE8F9A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25C0-DAAF-4CD0-AF37-3C24C720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E56A-3148-49A4-9A0C-533236BD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5EB1-3774-4708-94AD-1FDC9D6F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22CE-E807-4207-A98D-A3549A8F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F7F1-242B-4AA8-8836-85633B23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18ED-D487-4D7B-A31B-E339FD8B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11A2-6216-48EC-A85B-7BF2FC7B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45EA-1BF8-4A40-94D6-ADBA53CAF7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C0C3-E3EF-45CE-BBAB-0A2A648254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8844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Основы</a:t>
            </a:r>
            <a:br>
              <a:rPr sz="4400"/>
            </a:b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защиты  информации  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9280" y="3865320"/>
            <a:ext cx="8280360" cy="27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формационная безопасность и её составляющ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ные методы и средства защиты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пьютерные вирусы и средства защиты от н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роприятия по защите информ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тевая информационная безопас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1171440" y="189000"/>
            <a:ext cx="7703640" cy="6479640"/>
            <a:chOff x="1171440" y="189000"/>
            <a:chExt cx="7703640" cy="6479640"/>
          </a:xfrm>
        </p:grpSpPr>
        <p:cxnSp>
          <p:nvCxnSpPr>
            <p:cNvPr id="166" name="_s365588"/>
            <p:cNvCxnSpPr>
              <a:stCxn id="167" idx="1"/>
              <a:endCxn id="168" idx="2"/>
            </p:cNvCxnSpPr>
            <p:nvPr/>
          </p:nvCxnSpPr>
          <p:spPr>
            <a:xfrm rot="10800000">
              <a:off x="5022360" y="3753000"/>
              <a:ext cx="550800" cy="2591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365586"/>
            <p:cNvCxnSpPr>
              <a:stCxn id="170" idx="1"/>
              <a:endCxn id="168" idx="2"/>
            </p:cNvCxnSpPr>
            <p:nvPr/>
          </p:nvCxnSpPr>
          <p:spPr>
            <a:xfrm rot="10800000">
              <a:off x="5022360" y="3753000"/>
              <a:ext cx="550800" cy="1618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365584"/>
            <p:cNvCxnSpPr>
              <a:stCxn id="172" idx="1"/>
              <a:endCxn id="168" idx="2"/>
            </p:cNvCxnSpPr>
            <p:nvPr/>
          </p:nvCxnSpPr>
          <p:spPr>
            <a:xfrm rot="10800000">
              <a:off x="5022360" y="3753720"/>
              <a:ext cx="550800" cy="6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365582"/>
            <p:cNvCxnSpPr>
              <a:stCxn id="168" idx="1"/>
              <a:endCxn id="174" idx="2"/>
            </p:cNvCxnSpPr>
            <p:nvPr/>
          </p:nvCxnSpPr>
          <p:spPr>
            <a:xfrm rot="10800000">
              <a:off x="2821320" y="836280"/>
              <a:ext cx="550800" cy="259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5" name="_s365581"/>
            <p:cNvCxnSpPr>
              <a:stCxn id="176" idx="1"/>
              <a:endCxn id="174" idx="2"/>
            </p:cNvCxnSpPr>
            <p:nvPr/>
          </p:nvCxnSpPr>
          <p:spPr>
            <a:xfrm rot="10800000">
              <a:off x="2821320" y="836280"/>
              <a:ext cx="550800" cy="1621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7" name="_s365580"/>
            <p:cNvCxnSpPr>
              <a:stCxn id="178" idx="1"/>
              <a:endCxn id="174" idx="2"/>
            </p:cNvCxnSpPr>
            <p:nvPr/>
          </p:nvCxnSpPr>
          <p:spPr>
            <a:xfrm rot="10800000">
              <a:off x="2821320" y="837000"/>
              <a:ext cx="550800" cy="6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4" name="_s365576"/>
            <p:cNvSpPr/>
            <p:nvPr/>
          </p:nvSpPr>
          <p:spPr>
            <a:xfrm>
              <a:off x="1171440" y="189000"/>
              <a:ext cx="3301560" cy="6480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300" spc="-1" strike="noStrike">
                  <a:solidFill>
                    <a:srgbClr val="ffffff"/>
                  </a:solidFill>
                  <a:latin typeface="Arial"/>
                </a:rPr>
                <a:t>шифрование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_s365577"/>
            <p:cNvSpPr/>
            <p:nvPr/>
          </p:nvSpPr>
          <p:spPr>
            <a:xfrm>
              <a:off x="3372480" y="1161000"/>
              <a:ext cx="3301560" cy="6480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ffffff"/>
                  </a:solidFill>
                  <a:latin typeface="Times New Roman"/>
                </a:rPr>
                <a:t>шифрование заменой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_s365578"/>
            <p:cNvSpPr/>
            <p:nvPr/>
          </p:nvSpPr>
          <p:spPr>
            <a:xfrm>
              <a:off x="3372480" y="2133360"/>
              <a:ext cx="3301560" cy="6480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ffffff"/>
                  </a:solidFill>
                  <a:latin typeface="Times New Roman"/>
                </a:rPr>
                <a:t>шифрование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ffffff"/>
                  </a:solidFill>
                  <a:latin typeface="Times New Roman"/>
                </a:rPr>
                <a:t>методом перестановки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_s365579"/>
            <p:cNvSpPr/>
            <p:nvPr/>
          </p:nvSpPr>
          <p:spPr>
            <a:xfrm>
              <a:off x="3372480" y="3105720"/>
              <a:ext cx="3301560" cy="6480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ffffff"/>
                  </a:solidFill>
                  <a:latin typeface="Times New Roman"/>
                </a:rPr>
                <a:t>шифрование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ffffff"/>
                  </a:solidFill>
                  <a:latin typeface="Times New Roman"/>
                </a:rPr>
                <a:t>с использованием ключей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_s365583"/>
            <p:cNvSpPr/>
            <p:nvPr/>
          </p:nvSpPr>
          <p:spPr>
            <a:xfrm>
              <a:off x="5573520" y="4078080"/>
              <a:ext cx="3301560" cy="64584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1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симметричное</a:t>
              </a:r>
              <a:r>
                <a:rPr b="1" lang="ru-RU" sz="21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ffffff"/>
                  </a:solidFill>
                  <a:latin typeface="Times New Roman"/>
                </a:rPr>
                <a:t>DES</a:t>
              </a: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 (Data Encryption Standard)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_s365585"/>
            <p:cNvSpPr/>
            <p:nvPr/>
          </p:nvSpPr>
          <p:spPr>
            <a:xfrm>
              <a:off x="5573520" y="5048280"/>
              <a:ext cx="3301560" cy="6480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1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несимметричное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ffffff"/>
                  </a:solidFill>
                  <a:latin typeface="Times New Roman"/>
                </a:rPr>
                <a:t>RSA</a:t>
              </a: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 (Rivest, Shamir, Adleman)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_s365587"/>
            <p:cNvSpPr/>
            <p:nvPr/>
          </p:nvSpPr>
          <p:spPr>
            <a:xfrm>
              <a:off x="5573520" y="6020640"/>
              <a:ext cx="3301560" cy="6480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комбинированное(гибридное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RSA digital envelope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1944720" y="1000080"/>
            <a:ext cx="499680" cy="797040"/>
            <a:chOff x="1944720" y="1000080"/>
            <a:chExt cx="499680" cy="797040"/>
          </a:xfrm>
        </p:grpSpPr>
        <p:sp>
          <p:nvSpPr>
            <p:cNvPr id="180" name=""/>
            <p:cNvSpPr/>
            <p:nvPr/>
          </p:nvSpPr>
          <p:spPr>
            <a:xfrm>
              <a:off x="2208240" y="1135800"/>
              <a:ext cx="0" cy="48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21920" y="1292040"/>
              <a:ext cx="194760" cy="15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1999080" y="1292040"/>
              <a:ext cx="180360" cy="15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1944720" y="1563840"/>
              <a:ext cx="263520" cy="21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21920" y="1563840"/>
              <a:ext cx="22248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125800" y="1000080"/>
              <a:ext cx="120960" cy="169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1652760" y="712800"/>
            <a:ext cx="1056960" cy="27144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тправит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37640" y="981000"/>
            <a:ext cx="499680" cy="794880"/>
            <a:chOff x="7937640" y="981000"/>
            <a:chExt cx="499680" cy="794880"/>
          </a:xfrm>
        </p:grpSpPr>
        <p:sp>
          <p:nvSpPr>
            <p:cNvPr id="188" name=""/>
            <p:cNvSpPr/>
            <p:nvPr/>
          </p:nvSpPr>
          <p:spPr>
            <a:xfrm>
              <a:off x="8201160" y="1116720"/>
              <a:ext cx="0" cy="48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214840" y="1272240"/>
              <a:ext cx="194760" cy="15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7992000" y="1272240"/>
              <a:ext cx="180360" cy="15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7937640" y="1543320"/>
              <a:ext cx="263520" cy="213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214840" y="1543320"/>
              <a:ext cx="222480" cy="23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18720" y="981000"/>
              <a:ext cx="120960" cy="1688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7645320" y="693720"/>
            <a:ext cx="1055880" cy="27144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олучат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80000" y="1116000"/>
            <a:ext cx="2376360" cy="620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екретный клю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141600" y="1406520"/>
            <a:ext cx="1876680" cy="0"/>
          </a:xfrm>
          <a:prstGeom prst="line">
            <a:avLst/>
          </a:prstGeom>
          <a:ln w="9360">
            <a:solidFill>
              <a:srgbClr val="3366cc"/>
            </a:solidFill>
            <a:miter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417760" y="1407960"/>
            <a:ext cx="1362240" cy="0"/>
          </a:xfrm>
          <a:prstGeom prst="line">
            <a:avLst/>
          </a:prstGeom>
          <a:ln w="9360">
            <a:solidFill>
              <a:srgbClr val="3366cc"/>
            </a:solidFill>
            <a:miter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55920" y="2222640"/>
            <a:ext cx="1083960" cy="73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сходный текс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95640" y="1776240"/>
            <a:ext cx="0" cy="4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11640" y="2259000"/>
            <a:ext cx="1611360" cy="73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шифрованн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екс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53360" y="2259000"/>
            <a:ext cx="1611360" cy="73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Расшифрованный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екс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8170920" y="1757160"/>
            <a:ext cx="0" cy="44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2533680"/>
            <a:ext cx="155736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35600" y="2592360"/>
            <a:ext cx="155736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59160" y="1562040"/>
            <a:ext cx="888840" cy="990720"/>
          </a:xfrm>
          <a:prstGeom prst="line">
            <a:avLst/>
          </a:prstGeom>
          <a:ln w="9360">
            <a:solidFill>
              <a:srgbClr val="3366cc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335400" y="1757520"/>
            <a:ext cx="1388880" cy="736560"/>
          </a:xfrm>
          <a:prstGeom prst="line">
            <a:avLst/>
          </a:prstGeom>
          <a:ln w="9360">
            <a:solidFill>
              <a:srgbClr val="3366cc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516720" y="1504800"/>
            <a:ext cx="1542960" cy="1086120"/>
          </a:xfrm>
          <a:prstGeom prst="line">
            <a:avLst/>
          </a:prstGeom>
          <a:ln w="9360">
            <a:solidFill>
              <a:srgbClr val="3366cc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08560" y="1698480"/>
            <a:ext cx="1265400" cy="873360"/>
          </a:xfrm>
          <a:prstGeom prst="line">
            <a:avLst/>
          </a:prstGeom>
          <a:ln w="9360">
            <a:solidFill>
              <a:srgbClr val="3366cc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40360" y="234000"/>
            <a:ext cx="54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ИММЕТРИЧНОЕ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ШИФРОВ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99080" y="3356640"/>
            <a:ext cx="55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СИММЕТРИЧНОЕ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ШИФ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476360" y="3932280"/>
            <a:ext cx="7345440" cy="2376360"/>
            <a:chOff x="1476360" y="3932280"/>
            <a:chExt cx="7345440" cy="2376360"/>
          </a:xfrm>
        </p:grpSpPr>
        <p:grpSp>
          <p:nvGrpSpPr>
            <p:cNvPr id="212" name=""/>
            <p:cNvGrpSpPr/>
            <p:nvPr/>
          </p:nvGrpSpPr>
          <p:grpSpPr>
            <a:xfrm>
              <a:off x="1803240" y="4437000"/>
              <a:ext cx="419040" cy="571680"/>
              <a:chOff x="1803240" y="4437000"/>
              <a:chExt cx="419040" cy="571680"/>
            </a:xfrm>
          </p:grpSpPr>
          <p:sp>
            <p:nvSpPr>
              <p:cNvPr id="213" name=""/>
              <p:cNvSpPr/>
              <p:nvPr/>
            </p:nvSpPr>
            <p:spPr>
              <a:xfrm>
                <a:off x="2024280" y="4534560"/>
                <a:ext cx="0" cy="349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035800" y="4646520"/>
                <a:ext cx="16344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1849320" y="4646520"/>
                <a:ext cx="151200" cy="11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1803240" y="4841280"/>
                <a:ext cx="221040" cy="15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035800" y="4841280"/>
                <a:ext cx="186480" cy="167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955160" y="4437000"/>
                <a:ext cx="101160" cy="121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1557360" y="4138560"/>
              <a:ext cx="1162080" cy="227160"/>
            </a:xfrm>
            <a:prstGeom prst="rect">
              <a:avLst/>
            </a:prstGeom>
            <a:solidFill>
              <a:srgbClr val="e1e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</a:rPr>
                <a:t>Отправител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6588000" y="4422600"/>
              <a:ext cx="419040" cy="571680"/>
              <a:chOff x="6588000" y="4422600"/>
              <a:chExt cx="419040" cy="571680"/>
            </a:xfrm>
          </p:grpSpPr>
          <p:sp>
            <p:nvSpPr>
              <p:cNvPr id="221" name=""/>
              <p:cNvSpPr/>
              <p:nvPr/>
            </p:nvSpPr>
            <p:spPr>
              <a:xfrm>
                <a:off x="6809040" y="4520160"/>
                <a:ext cx="0" cy="349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820560" y="4632120"/>
                <a:ext cx="16344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6634080" y="4632120"/>
                <a:ext cx="151200" cy="11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6588000" y="4826880"/>
                <a:ext cx="221040" cy="15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820560" y="4826880"/>
                <a:ext cx="186480" cy="167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739920" y="4422600"/>
                <a:ext cx="101160" cy="121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6342120" y="4149720"/>
              <a:ext cx="1038240" cy="225360"/>
            </a:xfrm>
            <a:prstGeom prst="rect">
              <a:avLst/>
            </a:prstGeom>
            <a:solidFill>
              <a:srgbClr val="e1e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</a:rPr>
                <a:t>Получател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41520" y="4494240"/>
              <a:ext cx="2167200" cy="446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Открытый ключ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5324400" y="4727520"/>
              <a:ext cx="1363680" cy="0"/>
            </a:xfrm>
            <a:prstGeom prst="line">
              <a:avLst/>
            </a:prstGeom>
            <a:ln w="9360">
              <a:solidFill>
                <a:srgbClr val="3366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2198160" y="4728960"/>
              <a:ext cx="1143000" cy="0"/>
            </a:xfrm>
            <a:prstGeom prst="line">
              <a:avLst/>
            </a:prstGeom>
            <a:ln w="9360">
              <a:solidFill>
                <a:srgbClr val="3366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13120" y="4994280"/>
              <a:ext cx="0" cy="334800"/>
            </a:xfrm>
            <a:prstGeom prst="line">
              <a:avLst/>
            </a:prstGeom>
            <a:ln w="9360">
              <a:solidFill>
                <a:srgbClr val="3366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29280" y="5342040"/>
              <a:ext cx="1779480" cy="52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Расшифрованны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екс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853320" y="4979520"/>
              <a:ext cx="0" cy="320760"/>
            </a:xfrm>
            <a:prstGeom prst="line">
              <a:avLst/>
            </a:prstGeom>
            <a:ln w="9360">
              <a:solidFill>
                <a:srgbClr val="3366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08400" y="5537160"/>
              <a:ext cx="13064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67360" y="5580000"/>
              <a:ext cx="9446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97080" y="4797360"/>
              <a:ext cx="744480" cy="711360"/>
            </a:xfrm>
            <a:prstGeom prst="line">
              <a:avLst/>
            </a:prstGeom>
            <a:ln w="9360">
              <a:solidFill>
                <a:srgbClr val="3366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968200" y="4979880"/>
              <a:ext cx="1166760" cy="530280"/>
            </a:xfrm>
            <a:prstGeom prst="line">
              <a:avLst/>
            </a:prstGeom>
            <a:ln w="9360">
              <a:solidFill>
                <a:srgbClr val="3366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5430960" y="4743360"/>
              <a:ext cx="1247760" cy="793800"/>
            </a:xfrm>
            <a:prstGeom prst="line">
              <a:avLst/>
            </a:prstGeom>
            <a:ln w="9360">
              <a:solidFill>
                <a:srgbClr val="3366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36000" y="4449600"/>
              <a:ext cx="1585800" cy="62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екретный ключ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91200" y="4734000"/>
              <a:ext cx="244800" cy="0"/>
            </a:xfrm>
            <a:prstGeom prst="line">
              <a:avLst/>
            </a:prstGeom>
            <a:ln w="9360">
              <a:solidFill>
                <a:srgbClr val="3366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05400" y="5095800"/>
              <a:ext cx="2646360" cy="1212840"/>
            </a:xfrm>
            <a:custGeom>
              <a:avLst/>
              <a:gdLst/>
              <a:ahLst/>
              <a:rect l="l" t="t" r="r" b="b"/>
              <a:pathLst>
                <a:path w="3803" h="1568">
                  <a:moveTo>
                    <a:pt x="3803" y="0"/>
                  </a:moveTo>
                  <a:cubicBezTo>
                    <a:pt x="3781" y="108"/>
                    <a:pt x="3760" y="216"/>
                    <a:pt x="3738" y="324"/>
                  </a:cubicBezTo>
                  <a:cubicBezTo>
                    <a:pt x="3713" y="447"/>
                    <a:pt x="3731" y="567"/>
                    <a:pt x="3673" y="680"/>
                  </a:cubicBezTo>
                  <a:cubicBezTo>
                    <a:pt x="3657" y="777"/>
                    <a:pt x="3648" y="875"/>
                    <a:pt x="3625" y="971"/>
                  </a:cubicBezTo>
                  <a:cubicBezTo>
                    <a:pt x="3601" y="1072"/>
                    <a:pt x="3586" y="1276"/>
                    <a:pt x="3463" y="1343"/>
                  </a:cubicBezTo>
                  <a:cubicBezTo>
                    <a:pt x="3422" y="1365"/>
                    <a:pt x="3374" y="1371"/>
                    <a:pt x="3333" y="1392"/>
                  </a:cubicBezTo>
                  <a:cubicBezTo>
                    <a:pt x="3309" y="1404"/>
                    <a:pt x="3294" y="1432"/>
                    <a:pt x="3269" y="1440"/>
                  </a:cubicBezTo>
                  <a:cubicBezTo>
                    <a:pt x="3228" y="1454"/>
                    <a:pt x="3182" y="1449"/>
                    <a:pt x="3139" y="1456"/>
                  </a:cubicBezTo>
                  <a:cubicBezTo>
                    <a:pt x="3085" y="1465"/>
                    <a:pt x="3032" y="1479"/>
                    <a:pt x="2978" y="1489"/>
                  </a:cubicBezTo>
                  <a:cubicBezTo>
                    <a:pt x="2945" y="1495"/>
                    <a:pt x="2913" y="1500"/>
                    <a:pt x="2880" y="1505"/>
                  </a:cubicBezTo>
                  <a:cubicBezTo>
                    <a:pt x="1960" y="1497"/>
                    <a:pt x="1287" y="1568"/>
                    <a:pt x="470" y="1359"/>
                  </a:cubicBezTo>
                  <a:cubicBezTo>
                    <a:pt x="402" y="1293"/>
                    <a:pt x="477" y="1353"/>
                    <a:pt x="340" y="1311"/>
                  </a:cubicBezTo>
                  <a:cubicBezTo>
                    <a:pt x="301" y="1299"/>
                    <a:pt x="265" y="1278"/>
                    <a:pt x="227" y="1262"/>
                  </a:cubicBezTo>
                  <a:cubicBezTo>
                    <a:pt x="170" y="1205"/>
                    <a:pt x="126" y="1150"/>
                    <a:pt x="81" y="1084"/>
                  </a:cubicBezTo>
                  <a:cubicBezTo>
                    <a:pt x="44" y="934"/>
                    <a:pt x="0" y="786"/>
                    <a:pt x="0" y="631"/>
                  </a:cubicBezTo>
                </a:path>
              </a:pathLst>
            </a:custGeom>
            <a:noFill/>
            <a:ln w="12600">
              <a:solidFill>
                <a:srgbClr val="3366cc"/>
              </a:solidFill>
              <a:prstDash val="sysDot"/>
              <a:round/>
              <a:headEnd len="lg" type="stealth" w="sm"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543560" y="3932280"/>
              <a:ext cx="3519360" cy="606240"/>
            </a:xfrm>
            <a:custGeom>
              <a:avLst/>
              <a:gdLst/>
              <a:ahLst/>
              <a:rect l="l" t="t" r="r" b="b"/>
              <a:pathLst>
                <a:path w="4886" h="703">
                  <a:moveTo>
                    <a:pt x="4886" y="590"/>
                  </a:moveTo>
                  <a:cubicBezTo>
                    <a:pt x="4860" y="538"/>
                    <a:pt x="4853" y="477"/>
                    <a:pt x="4822" y="428"/>
                  </a:cubicBezTo>
                  <a:cubicBezTo>
                    <a:pt x="4812" y="411"/>
                    <a:pt x="4788" y="408"/>
                    <a:pt x="4773" y="396"/>
                  </a:cubicBezTo>
                  <a:cubicBezTo>
                    <a:pt x="4761" y="386"/>
                    <a:pt x="4755" y="370"/>
                    <a:pt x="4741" y="363"/>
                  </a:cubicBezTo>
                  <a:cubicBezTo>
                    <a:pt x="4711" y="348"/>
                    <a:pt x="4644" y="331"/>
                    <a:pt x="4644" y="331"/>
                  </a:cubicBezTo>
                  <a:cubicBezTo>
                    <a:pt x="4571" y="260"/>
                    <a:pt x="4445" y="265"/>
                    <a:pt x="4352" y="250"/>
                  </a:cubicBezTo>
                  <a:cubicBezTo>
                    <a:pt x="4094" y="208"/>
                    <a:pt x="3838" y="183"/>
                    <a:pt x="3576" y="169"/>
                  </a:cubicBezTo>
                  <a:cubicBezTo>
                    <a:pt x="2728" y="64"/>
                    <a:pt x="3404" y="138"/>
                    <a:pt x="1537" y="121"/>
                  </a:cubicBezTo>
                  <a:cubicBezTo>
                    <a:pt x="1196" y="0"/>
                    <a:pt x="814" y="68"/>
                    <a:pt x="469" y="153"/>
                  </a:cubicBezTo>
                  <a:cubicBezTo>
                    <a:pt x="406" y="195"/>
                    <a:pt x="375" y="246"/>
                    <a:pt x="324" y="299"/>
                  </a:cubicBezTo>
                  <a:cubicBezTo>
                    <a:pt x="305" y="355"/>
                    <a:pt x="259" y="423"/>
                    <a:pt x="210" y="460"/>
                  </a:cubicBezTo>
                  <a:cubicBezTo>
                    <a:pt x="179" y="483"/>
                    <a:pt x="145" y="503"/>
                    <a:pt x="113" y="525"/>
                  </a:cubicBezTo>
                  <a:cubicBezTo>
                    <a:pt x="97" y="536"/>
                    <a:pt x="65" y="557"/>
                    <a:pt x="65" y="557"/>
                  </a:cubicBezTo>
                  <a:cubicBezTo>
                    <a:pt x="54" y="590"/>
                    <a:pt x="51" y="626"/>
                    <a:pt x="32" y="655"/>
                  </a:cubicBezTo>
                  <a:cubicBezTo>
                    <a:pt x="21" y="671"/>
                    <a:pt x="0" y="703"/>
                    <a:pt x="0" y="703"/>
                  </a:cubicBezTo>
                </a:path>
              </a:pathLst>
            </a:custGeom>
            <a:noFill/>
            <a:ln w="12600">
              <a:solidFill>
                <a:srgbClr val="3366cc"/>
              </a:solidFill>
              <a:prstDash val="sysDot"/>
              <a:round/>
              <a:headEnd len="lg" type="stealth" w="sm"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76360" y="5315040"/>
              <a:ext cx="1068480" cy="52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Исходный текс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705120" y="5342040"/>
              <a:ext cx="1582920" cy="52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Зашифрованны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екс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1171440" y="549360"/>
            <a:ext cx="7703280" cy="5757840"/>
            <a:chOff x="1171440" y="549360"/>
            <a:chExt cx="7703280" cy="5757840"/>
          </a:xfrm>
        </p:grpSpPr>
        <p:cxnSp>
          <p:nvCxnSpPr>
            <p:cNvPr id="246" name="_s367630"/>
            <p:cNvCxnSpPr>
              <a:stCxn id="247" idx="1"/>
              <a:endCxn id="248" idx="2"/>
            </p:cNvCxnSpPr>
            <p:nvPr/>
          </p:nvCxnSpPr>
          <p:spPr>
            <a:xfrm rot="10800000">
              <a:off x="3481560" y="1987920"/>
              <a:ext cx="770760" cy="3599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9" name="_s367629"/>
            <p:cNvCxnSpPr>
              <a:stCxn id="250" idx="1"/>
              <a:endCxn id="248" idx="2"/>
            </p:cNvCxnSpPr>
            <p:nvPr/>
          </p:nvCxnSpPr>
          <p:spPr>
            <a:xfrm rot="10800000">
              <a:off x="3481560" y="1987920"/>
              <a:ext cx="770760" cy="1440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8" name="_s367624"/>
            <p:cNvSpPr/>
            <p:nvPr/>
          </p:nvSpPr>
          <p:spPr>
            <a:xfrm>
              <a:off x="1171440" y="549360"/>
              <a:ext cx="4622040" cy="143928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700" spc="-1" strike="noStrike">
                  <a:solidFill>
                    <a:srgbClr val="ffffff"/>
                  </a:solidFill>
                  <a:latin typeface="Arial"/>
                </a:rPr>
                <a:t>Кодирование 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_s367626"/>
            <p:cNvSpPr/>
            <p:nvPr/>
          </p:nvSpPr>
          <p:spPr>
            <a:xfrm>
              <a:off x="4252680" y="2708640"/>
              <a:ext cx="4622040" cy="143928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100" spc="-1" strike="noStrike">
                  <a:solidFill>
                    <a:srgbClr val="ffffff"/>
                  </a:solidFill>
                  <a:latin typeface="Times New Roman"/>
                </a:rPr>
                <a:t>смысловое 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_s367627"/>
            <p:cNvSpPr/>
            <p:nvPr/>
          </p:nvSpPr>
          <p:spPr>
            <a:xfrm>
              <a:off x="4252680" y="4867920"/>
              <a:ext cx="4622040" cy="143928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100" spc="-1" strike="noStrike">
                  <a:solidFill>
                    <a:srgbClr val="ffffff"/>
                  </a:solidFill>
                  <a:latin typeface="Times New Roman"/>
                </a:rPr>
                <a:t>символьное 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72880" y="34092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66cc"/>
                </a:solidFill>
                <a:latin typeface="Times New Roman"/>
              </a:rPr>
              <a:t>Компьютерные вирусы</a:t>
            </a:r>
            <a:br>
              <a:rPr sz="4000"/>
            </a:br>
            <a:r>
              <a:rPr b="0" i="1" lang="ru-RU" sz="4000" spc="-1" strike="noStrike">
                <a:solidFill>
                  <a:srgbClr val="3366cc"/>
                </a:solidFill>
                <a:latin typeface="Times New Roman"/>
              </a:rPr>
              <a:t>и средства защиты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73240" y="1765440"/>
            <a:ext cx="777240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cc"/>
                </a:solidFill>
                <a:latin typeface="Arial"/>
              </a:rPr>
              <a:t>Компьютерный виру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большая программа, которая без ведома пользователя, приписывая себя к другим программам, проникает на жесткий диск через приносимые на компьютер носители или по компьютерной сети, распространяется на нем и производит любые вредные действия (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например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портит данные, нарушает нормальную работу программ и т.п.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173240" y="188640"/>
            <a:ext cx="77724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Исторически сложились четыре вида вирусов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99cc"/>
                </a:solidFill>
                <a:latin typeface="Arial"/>
              </a:rPr>
              <a:t>загрузочны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присоединяются к загрузочным модулям и  распространяются с помощью носителей, поэтому скорость их распространения не велик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99cc"/>
                </a:solidFill>
                <a:latin typeface="Arial"/>
              </a:rPr>
              <a:t>макровирус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используют недостатки системы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присоединяются к документам создаваемым офисными пакетами, имеют более высокую скорость распространения вместе с документами в т.ч. и по сет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99cc"/>
                </a:solidFill>
                <a:latin typeface="Arial"/>
              </a:rPr>
              <a:t>черв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репликаторы) присоединяются к любым письмам, циркулирующим в сети, и имеют очень высокую скорость распростран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99cc"/>
                </a:solidFill>
                <a:latin typeface="Arial"/>
              </a:rPr>
              <a:t>сетевые черв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рассылают себя сами, заражая все подключённые к сети компьютер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173240" y="457200"/>
          <a:ext cx="7772400" cy="5638680"/>
        </p:xfrm>
        <a:graphic>
          <a:graphicData uri="http://schemas.openxmlformats.org/drawingml/2006/table">
            <a:tbl>
              <a:tblPr/>
              <a:tblGrid>
                <a:gridCol w="1598400"/>
                <a:gridCol w="1871640"/>
                <a:gridCol w="1657440"/>
                <a:gridCol w="2644920"/>
              </a:tblGrid>
              <a:tr h="117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66cc"/>
                          </a:solidFill>
                          <a:latin typeface="Times New Roman"/>
                          <a:ea typeface="Times New Roman"/>
                        </a:rPr>
                        <a:t>Вид виру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cc"/>
                      </a:solidFill>
                    </a:lnL>
                    <a:lnR w="13680">
                      <a:solidFill>
                        <a:srgbClr val="3366cc"/>
                      </a:solidFill>
                    </a:lnR>
                    <a:lnT w="13680">
                      <a:solidFill>
                        <a:srgbClr val="3366cc"/>
                      </a:solidFill>
                    </a:lnT>
                    <a:lnB w="1368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66cc"/>
                          </a:solidFill>
                          <a:latin typeface="Times New Roman"/>
                          <a:ea typeface="Times New Roman"/>
                        </a:rPr>
                        <a:t>Нос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cc"/>
                      </a:solidFill>
                    </a:lnL>
                    <a:lnR w="13680">
                      <a:solidFill>
                        <a:srgbClr val="3366cc"/>
                      </a:solidFill>
                    </a:lnR>
                    <a:lnT w="13680">
                      <a:solidFill>
                        <a:srgbClr val="3366cc"/>
                      </a:solidFill>
                    </a:lnT>
                    <a:lnB w="1368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66cc"/>
                          </a:solidFill>
                          <a:latin typeface="Times New Roman"/>
                          <a:ea typeface="Times New Roman"/>
                        </a:rPr>
                        <a:t>Время появ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cc"/>
                      </a:solidFill>
                    </a:lnL>
                    <a:lnR w="13680">
                      <a:solidFill>
                        <a:srgbClr val="3366cc"/>
                      </a:solidFill>
                    </a:lnR>
                    <a:lnT w="13680">
                      <a:solidFill>
                        <a:srgbClr val="3366cc"/>
                      </a:solidFill>
                    </a:lnT>
                    <a:lnB w="1368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66cc"/>
                          </a:solidFill>
                          <a:latin typeface="Times New Roman"/>
                          <a:ea typeface="Times New Roman"/>
                        </a:rPr>
                        <a:t>Время глобального распростра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cc"/>
                      </a:solidFill>
                    </a:lnL>
                    <a:lnR w="13680">
                      <a:solidFill>
                        <a:srgbClr val="3366cc"/>
                      </a:solidFill>
                    </a:lnR>
                    <a:lnT w="13680">
                      <a:solidFill>
                        <a:srgbClr val="3366cc"/>
                      </a:solidFill>
                    </a:lnT>
                    <a:lnB w="13680">
                      <a:solidFill>
                        <a:srgbClr val="3366cc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узоч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cc"/>
                      </a:solidFill>
                    </a:lnL>
                    <a:lnR w="13680">
                      <a:solidFill>
                        <a:srgbClr val="3366cc"/>
                      </a:solidFill>
                    </a:lnR>
                    <a:lnT w="13680">
                      <a:solidFill>
                        <a:srgbClr val="3366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ма на дискет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cc"/>
                      </a:solidFill>
                    </a:lnL>
                    <a:lnR w="13680">
                      <a:solidFill>
                        <a:srgbClr val="3366cc"/>
                      </a:solidFill>
                    </a:lnR>
                    <a:lnT w="13680">
                      <a:solidFill>
                        <a:srgbClr val="3366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i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cc"/>
                      </a:solidFill>
                    </a:lnL>
                    <a:lnR w="13680">
                      <a:solidFill>
                        <a:srgbClr val="3366cc"/>
                      </a:solidFill>
                    </a:lnR>
                    <a:lnT w="13680">
                      <a:solidFill>
                        <a:srgbClr val="3366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cc"/>
                      </a:solidFill>
                    </a:lnL>
                    <a:lnR w="13680">
                      <a:solidFill>
                        <a:srgbClr val="3366cc"/>
                      </a:solidFill>
                    </a:lnR>
                    <a:lnT w="13680">
                      <a:solidFill>
                        <a:srgbClr val="3366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ровиру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cc"/>
                      </a:solidFill>
                    </a:lnL>
                    <a:lnR w="13680">
                      <a:solidFill>
                        <a:srgbClr val="3366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рокоман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документ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cc"/>
                      </a:solidFill>
                    </a:lnL>
                    <a:lnR w="13680">
                      <a:solidFill>
                        <a:srgbClr val="3366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cc"/>
                      </a:solidFill>
                    </a:lnL>
                    <a:lnR w="13680">
                      <a:solidFill>
                        <a:srgbClr val="3366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я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cc"/>
                      </a:solidFill>
                    </a:lnL>
                    <a:lnR w="13680">
                      <a:solidFill>
                        <a:srgbClr val="3366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в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cc"/>
                      </a:solidFill>
                    </a:lnL>
                    <a:lnR w="13680">
                      <a:solidFill>
                        <a:srgbClr val="3366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онное письм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cc"/>
                      </a:solidFill>
                    </a:lnL>
                    <a:lnR w="13680">
                      <a:solidFill>
                        <a:srgbClr val="3366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9 (Ilove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cc"/>
                      </a:solidFill>
                    </a:lnL>
                    <a:lnR w="13680">
                      <a:solidFill>
                        <a:srgbClr val="3366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cc"/>
                      </a:solidFill>
                    </a:lnL>
                    <a:lnR w="13680">
                      <a:solidFill>
                        <a:srgbClr val="3366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тевой черв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cc"/>
                      </a:solidFill>
                    </a:lnL>
                    <a:lnR w="13680">
                      <a:solidFill>
                        <a:srgbClr val="3366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cc"/>
                      </a:solidFill>
                    </a:lnL>
                    <a:lnR w="13680">
                      <a:solidFill>
                        <a:srgbClr val="3366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 (Blast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cc"/>
                      </a:solidFill>
                    </a:lnL>
                    <a:lnR w="13680">
                      <a:solidFill>
                        <a:srgbClr val="3366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cc"/>
                      </a:solidFill>
                    </a:lnL>
                    <a:lnR w="13680">
                      <a:solidFill>
                        <a:srgbClr val="3366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366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173240" y="216000"/>
            <a:ext cx="77724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cc"/>
                </a:solidFill>
                <a:latin typeface="Arial"/>
              </a:rPr>
              <a:t>Классификация вирусов по среде об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366cc"/>
                </a:solidFill>
                <a:latin typeface="Arial"/>
              </a:rPr>
              <a:t>Сетевые вирус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спользуют для своего распространения команды и протоколы телекоммуникационных се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366cc"/>
                </a:solidFill>
                <a:latin typeface="Arial"/>
              </a:rPr>
              <a:t>Файловые вирус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чаще всего внедряются в исполняемые файлы, имеющие расширение 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но могут внедряться и в файлы с компонентами операционных систем, драйверы внешних устройств, объективные файлы и библиотеки, в командные пакетные файл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366cc"/>
                </a:solidFill>
                <a:latin typeface="Arial"/>
              </a:rPr>
              <a:t>Загрузочные вирус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недряются в загрузочный сектор носителя или в главную загрузочную запись жесткого диска. Такой вирус изменяет программу начальной загрузки оперативной системы, запуская необходимые для нарушения конфиденциальности программ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366cc"/>
                </a:solidFill>
                <a:latin typeface="Arial"/>
              </a:rPr>
              <a:t>Документные вирус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макровирусы) заражают текстовые файлы редакторов или электронных таблиц, используя макросы, которые сопровождают такие документы. Вирус активизируется, когда документ загружается в соответствующее прилож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1173240" y="477360"/>
            <a:ext cx="7772400" cy="59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cc"/>
                </a:solidFill>
                <a:latin typeface="Arial"/>
              </a:rPr>
              <a:t>Классификация виру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cc"/>
                </a:solidFill>
                <a:latin typeface="Arial"/>
              </a:rPr>
              <a:t>по способу за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cc"/>
                </a:solidFill>
                <a:latin typeface="Arial"/>
              </a:rPr>
              <a:t>Резидентные виру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сле завершения работы инфицированной программы остаются в оперативной памяти и продолжают свои деструктивные действия, заражая другие исполняемые программы, вплоть до выключения компью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cc"/>
                </a:solidFill>
                <a:latin typeface="Arial"/>
              </a:rPr>
              <a:t>Нерезидентные виру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пускаются вместе с зараженной программой и удаляются из памяти вместе с 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117324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66cc"/>
                </a:solidFill>
                <a:latin typeface="Arial"/>
              </a:rPr>
              <a:t>Классификация вирус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66cc"/>
                </a:solidFill>
                <a:latin typeface="Arial"/>
              </a:rPr>
              <a:t>по алгоритмам функционировани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366cc"/>
                </a:solidFill>
                <a:latin typeface="Arial"/>
              </a:rPr>
              <a:t>Паразитирующи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изменяющие содержимое зараженных файлов. Легко удаляются из файл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366cc"/>
                </a:solidFill>
                <a:latin typeface="Arial"/>
              </a:rPr>
              <a:t>Троянские кон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маскируемые под полезные программы. Нарушают работу системы и собирают сведения, содержащиеся в н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366cc"/>
                </a:solidFill>
                <a:latin typeface="Arial"/>
              </a:rPr>
              <a:t>Вирусы-невидимки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( стелс (stealth) )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– способны прятаться при попытке их обнаружения. По типу маскировки вирусы делятся на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видимы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невидимы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366cc"/>
                </a:solidFill>
                <a:latin typeface="Arial"/>
              </a:rPr>
              <a:t>Мутирующие вирус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(полиморфные)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– периодически изменяют свой программный код, поэтому их обнаружение очень затруднитель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173240" y="189000"/>
            <a:ext cx="77724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cc"/>
                </a:solidFill>
                <a:latin typeface="Arial"/>
              </a:rPr>
              <a:t>Основные действ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фазы), выполняемые компьютерным вирусом это: </a:t>
            </a:r>
            <a:r>
              <a:rPr b="0" i="1" lang="ru-RU" sz="2800" spc="-1" strike="noStrike">
                <a:solidFill>
                  <a:srgbClr val="cc0000"/>
                </a:solidFill>
                <a:latin typeface="Arial"/>
              </a:rPr>
              <a:t>заражение, размножение,  проявлени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cc"/>
                </a:solidFill>
                <a:latin typeface="Arial"/>
              </a:rPr>
              <a:t>Симптомами зараж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являютс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аз в работе в работе компьютера или его отдельных компонен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аз в загрузке операционной систе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дление работы компьюте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ушение работы отдельных програм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кажение, увеличение размера или исчезновение файл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ьшение доступной оперативной памяти и свободного места на диске без видимых прич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943280" y="609480"/>
          <a:ext cx="6438600" cy="5816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43280" y="609480"/>
                    <a:ext cx="6438600" cy="581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cc"/>
                </a:solidFill>
                <a:latin typeface="Times New Roman"/>
              </a:rPr>
              <a:t>Основные понятия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cc"/>
                </a:solidFill>
                <a:latin typeface="Arial"/>
              </a:rPr>
              <a:t>информационная безопас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защищенность информации и поддерживающей инфраструктуры от случайных или преднамеренных воздействий естественного или искусственного характера, чреватых нанесением ущерба владельцам или пользователям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173240" y="54000"/>
            <a:ext cx="7927920" cy="62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cc"/>
                </a:solidFill>
                <a:latin typeface="Arial"/>
              </a:rPr>
              <a:t>Классификаци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cc"/>
                </a:solidFill>
                <a:latin typeface="Arial"/>
              </a:rPr>
              <a:t>антивирусных средств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етекторы (сканер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евизо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Фильт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(сторожа, блокираторы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октора (фаги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66cc"/>
                </a:solidFill>
                <a:latin typeface="Wingdings"/>
                <a:ea typeface="Wingdings"/>
              </a:rPr>
              <a:t>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лифа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cc"/>
                </a:solidFill>
                <a:latin typeface="Arial"/>
              </a:rPr>
              <a:t>Kaspersky AntiVirus, Kaspersky Internet Security, Symantec Norton AntiVirus,  Doctor Web (Dr.Web), </a:t>
            </a:r>
            <a:r>
              <a:rPr b="0" i="1" lang="en-US" sz="2400" spc="-1" strike="noStrike">
                <a:solidFill>
                  <a:srgbClr val="3366cc"/>
                </a:solidFill>
                <a:latin typeface="Arial"/>
              </a:rPr>
              <a:t>ESET NOD antivirus, AV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акц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73240" y="11592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66cc"/>
                </a:solidFill>
                <a:latin typeface="Times New Roman"/>
              </a:rPr>
              <a:t>Мероприятия по защите информации </a:t>
            </a:r>
            <a:r>
              <a:rPr b="0" i="1" lang="ru-RU" sz="3600" spc="-1" strike="noStrike">
                <a:solidFill>
                  <a:srgbClr val="cc0000"/>
                </a:solidFill>
                <a:latin typeface="Times New Roman"/>
              </a:rPr>
              <a:t>от компьютерных вирусов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73240" y="1125000"/>
            <a:ext cx="7935840" cy="56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едотвращение доступа к компьютеру посторонних лиц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3366cc"/>
                </a:solidFill>
                <a:uFillTx/>
                <a:latin typeface="Arial"/>
              </a:rPr>
              <a:t>идентифик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3366cc"/>
                </a:solidFill>
                <a:uFillTx/>
                <a:latin typeface="Arial"/>
              </a:rPr>
              <a:t>аутентиф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спользование только надежного лицензионного программного обеспеч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тслеживание любых изменений в работе компьютера для возможно более быстрого обнаружения компьютерного вирус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Размещение наиболее ценной информации на защищенных от записи диск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спользование антивирусных программ для постоянной и периодической проверки компьютера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7324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cc"/>
                </a:solidFill>
                <a:latin typeface="Times New Roman"/>
              </a:rPr>
              <a:t>Цифровая подпись</a:t>
            </a:r>
            <a:br>
              <a:rPr sz="3200"/>
            </a:br>
            <a:r>
              <a:rPr b="0" i="1" lang="ru-RU" sz="3200" spc="-1" strike="noStrike">
                <a:solidFill>
                  <a:srgbClr val="3366cc"/>
                </a:solidFill>
                <a:latin typeface="Times New Roman"/>
              </a:rPr>
              <a:t>(ЭЦП – электронная цифровая подпись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7324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66cc"/>
                </a:solidFill>
                <a:latin typeface="Arial"/>
              </a:rPr>
              <a:t>Задача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добавление к основному сообщению дополнительных данных так чтобы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арантировалось авторство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втор не мог отказаться, сославшись на отправку кем-то от его имен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арантировалась целостность сообщения (никто не изменил, перехватив «по дороге»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i="1" lang="ru-RU" sz="2600" spc="-1" strike="noStrike">
                <a:solidFill>
                  <a:srgbClr val="3366cc"/>
                </a:solidFill>
                <a:latin typeface="Arial"/>
              </a:rPr>
              <a:t>гарантии целостност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документа в дополнительную шифруемую секретным ключом информацию (цифровую подпись) включается дайджест (</a:t>
            </a:r>
            <a:r>
              <a:rPr b="0" i="1" lang="ru-RU" sz="2600" spc="-1" strike="noStrike">
                <a:solidFill>
                  <a:srgbClr val="3366cc"/>
                </a:solidFill>
                <a:latin typeface="Arial"/>
              </a:rPr>
              <a:t>сжатый обра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основного докумен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7324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66cc"/>
                </a:solidFill>
                <a:latin typeface="Times New Roman"/>
              </a:rPr>
              <a:t>Мероприятия по защите информации</a:t>
            </a:r>
            <a:br>
              <a:rPr sz="3600"/>
            </a:br>
            <a:r>
              <a:rPr b="0" i="1" lang="ru-RU" sz="3600" spc="-1" strike="noStrike">
                <a:solidFill>
                  <a:srgbClr val="cc0000"/>
                </a:solidFill>
                <a:latin typeface="Times New Roman"/>
              </a:rPr>
              <a:t>от случайного удаления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324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Аккуратность и внимательность при работ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Размещение наиболее ценной информации на защищенных от записи диска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Своевременное удаление ненужных файлов и рациональное размещение файлов по каталога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Быстрое восстановление ошибочно удаленных файлов при помощи специальных программ.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1116000" y="1268280"/>
            <a:ext cx="7961400" cy="3744720"/>
            <a:chOff x="1116000" y="1268280"/>
            <a:chExt cx="7961400" cy="3744720"/>
          </a:xfrm>
        </p:grpSpPr>
        <p:sp>
          <p:nvSpPr>
            <p:cNvPr id="267" name=""/>
            <p:cNvSpPr/>
            <p:nvPr/>
          </p:nvSpPr>
          <p:spPr>
            <a:xfrm>
              <a:off x="6558120" y="1268280"/>
              <a:ext cx="16556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Аутентификация Ц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85040" y="4365360"/>
              <a:ext cx="1800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Проверка целостности текст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3005280" y="2628720"/>
              <a:ext cx="439200" cy="499680"/>
              <a:chOff x="3005280" y="2628720"/>
              <a:chExt cx="439200" cy="499680"/>
            </a:xfrm>
          </p:grpSpPr>
          <p:sp>
            <p:nvSpPr>
              <p:cNvPr id="270" name=""/>
              <p:cNvSpPr/>
              <p:nvPr/>
            </p:nvSpPr>
            <p:spPr>
              <a:xfrm>
                <a:off x="3237120" y="2714040"/>
                <a:ext cx="0" cy="30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249000" y="2811960"/>
                <a:ext cx="171360" cy="9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3053520" y="2811960"/>
                <a:ext cx="158400" cy="9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3005280" y="2982240"/>
                <a:ext cx="231840" cy="13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249000" y="2982240"/>
                <a:ext cx="195480" cy="14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164760" y="2628720"/>
                <a:ext cx="106200" cy="106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2668680" y="2347920"/>
              <a:ext cx="1130400" cy="217440"/>
            </a:xfrm>
            <a:prstGeom prst="rect">
              <a:avLst/>
            </a:prstGeom>
            <a:solidFill>
              <a:srgbClr val="e1e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</a:rPr>
                <a:t>Отправител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7575840" y="2617560"/>
              <a:ext cx="438120" cy="499680"/>
              <a:chOff x="7575840" y="2617560"/>
              <a:chExt cx="438120" cy="499680"/>
            </a:xfrm>
          </p:grpSpPr>
          <p:sp>
            <p:nvSpPr>
              <p:cNvPr id="278" name=""/>
              <p:cNvSpPr/>
              <p:nvPr/>
            </p:nvSpPr>
            <p:spPr>
              <a:xfrm>
                <a:off x="7806960" y="2702880"/>
                <a:ext cx="0" cy="30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818840" y="2800800"/>
                <a:ext cx="170640" cy="9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7623360" y="2800800"/>
                <a:ext cx="158040" cy="9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7575840" y="2971080"/>
                <a:ext cx="231120" cy="13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818840" y="2971080"/>
                <a:ext cx="195120" cy="14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734600" y="2617560"/>
                <a:ext cx="105840" cy="106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7320240" y="2347920"/>
              <a:ext cx="1038240" cy="199800"/>
            </a:xfrm>
            <a:prstGeom prst="rect">
              <a:avLst/>
            </a:prstGeom>
            <a:solidFill>
              <a:srgbClr val="e1e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</a:rPr>
                <a:t>Получател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000480" y="2884320"/>
              <a:ext cx="1646280" cy="0"/>
            </a:xfrm>
            <a:prstGeom prst="line">
              <a:avLst/>
            </a:prstGeom>
            <a:ln w="9360">
              <a:solidFill>
                <a:srgbClr val="3366cc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3392640" y="2884320"/>
              <a:ext cx="536400" cy="0"/>
            </a:xfrm>
            <a:prstGeom prst="line">
              <a:avLst/>
            </a:prstGeom>
            <a:ln w="9360">
              <a:solidFill>
                <a:srgbClr val="3366cc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373400" y="3396960"/>
              <a:ext cx="1120680" cy="46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Дайджест текст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62840" y="3419280"/>
              <a:ext cx="1582920" cy="46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Расшифрованная ЦП с дайджестом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7780320" y="3105000"/>
              <a:ext cx="0" cy="279360"/>
            </a:xfrm>
            <a:prstGeom prst="line">
              <a:avLst/>
            </a:prstGeom>
            <a:ln w="9360">
              <a:solidFill>
                <a:srgbClr val="3366cc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14600" y="3592440"/>
              <a:ext cx="180360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32640" y="3628800"/>
              <a:ext cx="13651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3325680" y="3105000"/>
              <a:ext cx="1431720" cy="450720"/>
            </a:xfrm>
            <a:prstGeom prst="line">
              <a:avLst/>
            </a:prstGeom>
            <a:ln w="9360">
              <a:solidFill>
                <a:srgbClr val="3366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545160" y="2946240"/>
              <a:ext cx="1137960" cy="617400"/>
            </a:xfrm>
            <a:prstGeom prst="line">
              <a:avLst/>
            </a:prstGeom>
            <a:ln w="9360">
              <a:solidFill>
                <a:srgbClr val="3366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268960" y="3068640"/>
              <a:ext cx="1216080" cy="504720"/>
            </a:xfrm>
            <a:prstGeom prst="line">
              <a:avLst/>
            </a:prstGeom>
            <a:ln w="9360">
              <a:solidFill>
                <a:srgbClr val="3366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68960" y="4260600"/>
              <a:ext cx="1413000" cy="46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Передаваемы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екс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16000" y="2581200"/>
              <a:ext cx="1336680" cy="560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екретный клю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2452320" y="2903400"/>
              <a:ext cx="614520" cy="23760"/>
            </a:xfrm>
            <a:prstGeom prst="line">
              <a:avLst/>
            </a:prstGeom>
            <a:ln w="9360">
              <a:solidFill>
                <a:srgbClr val="3366cc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2020680" y="3931560"/>
              <a:ext cx="2338200" cy="543240"/>
            </a:xfrm>
            <a:prstGeom prst="line">
              <a:avLst/>
            </a:prstGeom>
            <a:ln w="9360">
              <a:solidFill>
                <a:srgbClr val="3366cc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49720" y="3060720"/>
              <a:ext cx="0" cy="512640"/>
            </a:xfrm>
            <a:prstGeom prst="line">
              <a:avLst/>
            </a:prstGeom>
            <a:ln w="9360">
              <a:solidFill>
                <a:srgbClr val="3366cc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774800" y="3159000"/>
              <a:ext cx="1325880" cy="361800"/>
            </a:xfrm>
            <a:prstGeom prst="line">
              <a:avLst/>
            </a:prstGeom>
            <a:ln w="9360">
              <a:solidFill>
                <a:srgbClr val="3366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5854680" y="3931920"/>
              <a:ext cx="1998720" cy="586080"/>
            </a:xfrm>
            <a:prstGeom prst="line">
              <a:avLst/>
            </a:prstGeom>
            <a:ln w="9360">
              <a:solidFill>
                <a:srgbClr val="3366cc"/>
              </a:solidFill>
              <a:prstDash val="dash"/>
              <a:miter/>
              <a:headEnd len="lg" type="stealth" w="sm"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810400" y="1796760"/>
              <a:ext cx="3267000" cy="1559160"/>
            </a:xfrm>
            <a:custGeom>
              <a:avLst/>
              <a:gdLst/>
              <a:ahLst/>
              <a:rect l="l" t="t" r="r" b="b"/>
              <a:pathLst>
                <a:path w="4335" h="2487">
                  <a:moveTo>
                    <a:pt x="3559" y="2487"/>
                  </a:moveTo>
                  <a:cubicBezTo>
                    <a:pt x="3640" y="2381"/>
                    <a:pt x="3728" y="2308"/>
                    <a:pt x="3834" y="2228"/>
                  </a:cubicBezTo>
                  <a:cubicBezTo>
                    <a:pt x="3900" y="1972"/>
                    <a:pt x="3815" y="2228"/>
                    <a:pt x="3996" y="1937"/>
                  </a:cubicBezTo>
                  <a:cubicBezTo>
                    <a:pt x="4115" y="1746"/>
                    <a:pt x="3967" y="1899"/>
                    <a:pt x="4061" y="1808"/>
                  </a:cubicBezTo>
                  <a:cubicBezTo>
                    <a:pt x="4155" y="1426"/>
                    <a:pt x="4335" y="909"/>
                    <a:pt x="4045" y="610"/>
                  </a:cubicBezTo>
                  <a:cubicBezTo>
                    <a:pt x="3967" y="390"/>
                    <a:pt x="3677" y="361"/>
                    <a:pt x="3478" y="335"/>
                  </a:cubicBezTo>
                  <a:cubicBezTo>
                    <a:pt x="3011" y="102"/>
                    <a:pt x="3549" y="347"/>
                    <a:pt x="3090" y="206"/>
                  </a:cubicBezTo>
                  <a:cubicBezTo>
                    <a:pt x="3011" y="182"/>
                    <a:pt x="2940" y="137"/>
                    <a:pt x="2863" y="109"/>
                  </a:cubicBezTo>
                  <a:cubicBezTo>
                    <a:pt x="2805" y="88"/>
                    <a:pt x="2744" y="79"/>
                    <a:pt x="2685" y="60"/>
                  </a:cubicBezTo>
                  <a:cubicBezTo>
                    <a:pt x="2422" y="65"/>
                    <a:pt x="1806" y="0"/>
                    <a:pt x="1488" y="157"/>
                  </a:cubicBezTo>
                  <a:cubicBezTo>
                    <a:pt x="1333" y="315"/>
                    <a:pt x="1538" y="113"/>
                    <a:pt x="1391" y="238"/>
                  </a:cubicBezTo>
                  <a:cubicBezTo>
                    <a:pt x="1368" y="258"/>
                    <a:pt x="1355" y="293"/>
                    <a:pt x="1326" y="303"/>
                  </a:cubicBezTo>
                  <a:cubicBezTo>
                    <a:pt x="1211" y="341"/>
                    <a:pt x="1101" y="390"/>
                    <a:pt x="987" y="432"/>
                  </a:cubicBezTo>
                  <a:cubicBezTo>
                    <a:pt x="911" y="508"/>
                    <a:pt x="1012" y="420"/>
                    <a:pt x="857" y="481"/>
                  </a:cubicBezTo>
                  <a:cubicBezTo>
                    <a:pt x="832" y="491"/>
                    <a:pt x="816" y="517"/>
                    <a:pt x="792" y="529"/>
                  </a:cubicBezTo>
                  <a:cubicBezTo>
                    <a:pt x="772" y="539"/>
                    <a:pt x="749" y="540"/>
                    <a:pt x="728" y="546"/>
                  </a:cubicBezTo>
                  <a:cubicBezTo>
                    <a:pt x="643" y="601"/>
                    <a:pt x="712" y="566"/>
                    <a:pt x="582" y="594"/>
                  </a:cubicBezTo>
                  <a:cubicBezTo>
                    <a:pt x="442" y="624"/>
                    <a:pt x="290" y="644"/>
                    <a:pt x="161" y="707"/>
                  </a:cubicBezTo>
                  <a:cubicBezTo>
                    <a:pt x="63" y="809"/>
                    <a:pt x="69" y="998"/>
                    <a:pt x="48" y="1128"/>
                  </a:cubicBezTo>
                  <a:cubicBezTo>
                    <a:pt x="44" y="1155"/>
                    <a:pt x="39" y="1182"/>
                    <a:pt x="32" y="1209"/>
                  </a:cubicBezTo>
                  <a:cubicBezTo>
                    <a:pt x="23" y="1242"/>
                    <a:pt x="0" y="1306"/>
                    <a:pt x="0" y="1306"/>
                  </a:cubicBezTo>
                </a:path>
              </a:pathLst>
            </a:custGeom>
            <a:noFill/>
            <a:ln w="12600">
              <a:solidFill>
                <a:srgbClr val="3366cc"/>
              </a:solidFill>
              <a:prstDash val="lg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51040" y="2084400"/>
              <a:ext cx="3243240" cy="634680"/>
            </a:xfrm>
            <a:custGeom>
              <a:avLst/>
              <a:gdLst/>
              <a:ahLst/>
              <a:rect l="l" t="t" r="r" b="b"/>
              <a:pathLst>
                <a:path w="4304" h="844">
                  <a:moveTo>
                    <a:pt x="0" y="634"/>
                  </a:moveTo>
                  <a:cubicBezTo>
                    <a:pt x="160" y="534"/>
                    <a:pt x="338" y="430"/>
                    <a:pt x="485" y="310"/>
                  </a:cubicBezTo>
                  <a:cubicBezTo>
                    <a:pt x="696" y="138"/>
                    <a:pt x="526" y="211"/>
                    <a:pt x="712" y="148"/>
                  </a:cubicBezTo>
                  <a:cubicBezTo>
                    <a:pt x="805" y="24"/>
                    <a:pt x="885" y="28"/>
                    <a:pt x="1035" y="3"/>
                  </a:cubicBezTo>
                  <a:cubicBezTo>
                    <a:pt x="1322" y="9"/>
                    <a:pt x="1716" y="0"/>
                    <a:pt x="2038" y="35"/>
                  </a:cubicBezTo>
                  <a:cubicBezTo>
                    <a:pt x="2223" y="55"/>
                    <a:pt x="2404" y="117"/>
                    <a:pt x="2588" y="148"/>
                  </a:cubicBezTo>
                  <a:cubicBezTo>
                    <a:pt x="2674" y="162"/>
                    <a:pt x="2761" y="167"/>
                    <a:pt x="2847" y="181"/>
                  </a:cubicBezTo>
                  <a:cubicBezTo>
                    <a:pt x="2949" y="231"/>
                    <a:pt x="3042" y="248"/>
                    <a:pt x="3155" y="262"/>
                  </a:cubicBezTo>
                  <a:cubicBezTo>
                    <a:pt x="3209" y="294"/>
                    <a:pt x="3259" y="334"/>
                    <a:pt x="3317" y="359"/>
                  </a:cubicBezTo>
                  <a:cubicBezTo>
                    <a:pt x="3347" y="372"/>
                    <a:pt x="3383" y="366"/>
                    <a:pt x="3414" y="375"/>
                  </a:cubicBezTo>
                  <a:cubicBezTo>
                    <a:pt x="3437" y="382"/>
                    <a:pt x="3455" y="401"/>
                    <a:pt x="3478" y="407"/>
                  </a:cubicBezTo>
                  <a:cubicBezTo>
                    <a:pt x="3701" y="463"/>
                    <a:pt x="3749" y="465"/>
                    <a:pt x="3931" y="488"/>
                  </a:cubicBezTo>
                  <a:cubicBezTo>
                    <a:pt x="4004" y="537"/>
                    <a:pt x="4090" y="541"/>
                    <a:pt x="4174" y="569"/>
                  </a:cubicBezTo>
                  <a:cubicBezTo>
                    <a:pt x="4247" y="642"/>
                    <a:pt x="4304" y="738"/>
                    <a:pt x="4304" y="844"/>
                  </a:cubicBezTo>
                </a:path>
              </a:pathLst>
            </a:custGeom>
            <a:noFill/>
            <a:ln cap="rnd" w="12600">
              <a:solidFill>
                <a:srgbClr val="3366cc"/>
              </a:solidFill>
              <a:custDash>
                <a:ds d="100000" sp="1000"/>
              </a:custDash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929040" y="2701800"/>
              <a:ext cx="2197080" cy="38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Открытый ключ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07040" y="3419280"/>
              <a:ext cx="1674720" cy="46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Зашифрованная Ц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 дайджестом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7324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66cc"/>
                </a:solidFill>
                <a:latin typeface="Times New Roman"/>
              </a:rPr>
              <a:t>Мероприятия по защите информации</a:t>
            </a:r>
            <a:br>
              <a:rPr sz="3600"/>
            </a:br>
            <a:r>
              <a:rPr b="0" i="1" lang="ru-RU" sz="3600" spc="-1" strike="noStrike">
                <a:solidFill>
                  <a:srgbClr val="cc0000"/>
                </a:solidFill>
                <a:latin typeface="Times New Roman"/>
              </a:rPr>
              <a:t>от  сбоев  в работе устройств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73240" y="1990800"/>
            <a:ext cx="77724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ериодическая проверка исправности оборуд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ериодическая оптимизация (дефрагментация) ди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личие загрузочных (системных диск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7324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66cc"/>
                </a:solidFill>
                <a:latin typeface="Times New Roman"/>
              </a:rPr>
              <a:t>Защита в сети</a:t>
            </a:r>
            <a:br>
              <a:rPr sz="4000"/>
            </a:br>
            <a:r>
              <a:rPr b="0" i="1" lang="ru-RU" sz="4000" spc="-1" strike="noStrike">
                <a:solidFill>
                  <a:srgbClr val="3366cc"/>
                </a:solidFill>
                <a:latin typeface="Times New Roman"/>
              </a:rPr>
              <a:t>(сетевая безопасность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73240" y="1484280"/>
            <a:ext cx="77724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етевой эк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cc"/>
                </a:solidFill>
                <a:latin typeface="Arial"/>
              </a:rPr>
              <a:t>(межсетевой экран, щит, брандмауэр, FireWall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етевой ауди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ередача данных по сети в защищенном режиме с использованием специального сетевого протокола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Secured Socket Layer (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SSL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72880" y="692280"/>
            <a:ext cx="7646760" cy="60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cc"/>
                </a:solidFill>
                <a:latin typeface="Arial"/>
              </a:rPr>
              <a:t>Безопасность данны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такое состояние хранимых, обрабатываемых и принимаемых данных, при которых невозможно их случайное или преднамеренное получение, изменение или уничт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cc"/>
                </a:solidFill>
                <a:latin typeface="Arial"/>
              </a:rPr>
              <a:t>Защита данны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овокупность целенаправленных действий и мероприятий по обеспечению безопасности да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73240" y="259920"/>
            <a:ext cx="7772400" cy="61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cc"/>
                </a:solidFill>
                <a:latin typeface="Arial"/>
              </a:rPr>
              <a:t>Метод (способ) защиты дан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овокупность приемов и операций, реализующих функции защиты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490a8"/>
                </a:solidFill>
                <a:latin typeface="Arial"/>
              </a:rPr>
              <a:t>Например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етоды шифрования и паролир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снове методов защиты создаются </a:t>
            </a:r>
            <a:r>
              <a:rPr b="1" i="1" lang="ru-RU" sz="2800" spc="-1" strike="noStrike">
                <a:solidFill>
                  <a:srgbClr val="3366cc"/>
                </a:solidFill>
                <a:latin typeface="Arial"/>
              </a:rPr>
              <a:t>средства защи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490a8"/>
                </a:solidFill>
                <a:latin typeface="Arial"/>
              </a:rPr>
              <a:t>Наприм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устройства шифрации/дешифрации, программы анализа пароля, датчики охранной сигнал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cc"/>
                </a:solidFill>
                <a:latin typeface="Arial"/>
              </a:rPr>
              <a:t>Механизм защи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овокупность средств защиты, функционирующих совместно для выполнения определенной задачи по защите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490a8"/>
                </a:solidFill>
                <a:latin typeface="Arial"/>
              </a:rPr>
              <a:t>Например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риптографические протоколы, механизмы защиты операционных сист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cc"/>
                </a:solidFill>
                <a:latin typeface="Arial"/>
              </a:rPr>
              <a:t>Система обеспечения безопасности дан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овокупность средств и механизмов защиты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2880" y="189000"/>
            <a:ext cx="79707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Концептуальная модель безопасности информации</a:t>
            </a: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116000" y="1127160"/>
          <a:ext cx="7920000" cy="474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127160"/>
                    <a:ext cx="792000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9707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Классификация угроз безопасности данных</a:t>
            </a: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258920" y="1844640"/>
          <a:ext cx="7800840" cy="30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1844640"/>
                    <a:ext cx="780084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66cc"/>
                </a:solidFill>
                <a:latin typeface="Times New Roman"/>
              </a:rPr>
              <a:t>по физической природе носителя</a:t>
            </a: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171440" y="1197000"/>
            <a:ext cx="7703280" cy="5471280"/>
            <a:chOff x="1171440" y="1197000"/>
            <a:chExt cx="7703280" cy="5471280"/>
          </a:xfrm>
        </p:grpSpPr>
        <p:cxnSp>
          <p:nvCxnSpPr>
            <p:cNvPr id="146" name="_s360464"/>
            <p:cNvCxnSpPr>
              <a:stCxn id="147" idx="1"/>
              <a:endCxn id="148" idx="2"/>
            </p:cNvCxnSpPr>
            <p:nvPr/>
          </p:nvCxnSpPr>
          <p:spPr>
            <a:xfrm rot="10800000">
              <a:off x="3481560" y="1977840"/>
              <a:ext cx="770760" cy="4302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360462"/>
            <p:cNvCxnSpPr>
              <a:stCxn id="150" idx="1"/>
              <a:endCxn id="148" idx="2"/>
            </p:cNvCxnSpPr>
            <p:nvPr/>
          </p:nvCxnSpPr>
          <p:spPr>
            <a:xfrm rot="10800000">
              <a:off x="3481560" y="1977840"/>
              <a:ext cx="770760" cy="3127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1" name="_s360461"/>
            <p:cNvCxnSpPr>
              <a:stCxn id="152" idx="1"/>
              <a:endCxn id="148" idx="2"/>
            </p:cNvCxnSpPr>
            <p:nvPr/>
          </p:nvCxnSpPr>
          <p:spPr>
            <a:xfrm rot="10800000">
              <a:off x="3481560" y="1977840"/>
              <a:ext cx="770760" cy="1954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3" name="_s360460"/>
            <p:cNvCxnSpPr>
              <a:stCxn id="154" idx="1"/>
              <a:endCxn id="148" idx="2"/>
            </p:cNvCxnSpPr>
            <p:nvPr/>
          </p:nvCxnSpPr>
          <p:spPr>
            <a:xfrm rot="10800000">
              <a:off x="3481560" y="1977840"/>
              <a:ext cx="770760" cy="782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8" name="_s360456"/>
            <p:cNvSpPr/>
            <p:nvPr/>
          </p:nvSpPr>
          <p:spPr>
            <a:xfrm>
              <a:off x="1171440" y="1197000"/>
              <a:ext cx="4622040" cy="7815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ccffff"/>
                  </a:solidFill>
                  <a:latin typeface="Times New Roman"/>
                </a:rPr>
                <a:t>Технические каналы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ccffff"/>
                  </a:solidFill>
                  <a:latin typeface="Times New Roman"/>
                </a:rPr>
                <a:t>утечки информации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_s360457"/>
            <p:cNvSpPr/>
            <p:nvPr/>
          </p:nvSpPr>
          <p:spPr>
            <a:xfrm>
              <a:off x="4252680" y="2369160"/>
              <a:ext cx="4622040" cy="7815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ffff"/>
                  </a:solidFill>
                  <a:latin typeface="Times New Roman"/>
                </a:rPr>
                <a:t>визуально-оптические</a:t>
              </a: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_s360458"/>
            <p:cNvSpPr/>
            <p:nvPr/>
          </p:nvSpPr>
          <p:spPr>
            <a:xfrm>
              <a:off x="4252680" y="3541680"/>
              <a:ext cx="4622040" cy="7815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ffff"/>
                  </a:solidFill>
                  <a:latin typeface="Times New Roman"/>
                </a:rPr>
                <a:t>акустические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_s360459"/>
            <p:cNvSpPr/>
            <p:nvPr/>
          </p:nvSpPr>
          <p:spPr>
            <a:xfrm>
              <a:off x="4252680" y="4714200"/>
              <a:ext cx="4622040" cy="7815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ffff"/>
                  </a:solidFill>
                  <a:latin typeface="Times New Roman"/>
                </a:rPr>
                <a:t>электромагнитные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_s360463"/>
            <p:cNvSpPr/>
            <p:nvPr/>
          </p:nvSpPr>
          <p:spPr>
            <a:xfrm>
              <a:off x="4252680" y="5886720"/>
              <a:ext cx="4617000" cy="7815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ffff"/>
                  </a:solidFill>
                  <a:latin typeface="Times New Roman"/>
                </a:rPr>
                <a:t>материально-вещественные</a:t>
              </a: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2880" y="53640"/>
            <a:ext cx="797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66cc"/>
                </a:solidFill>
                <a:latin typeface="Times New Roman"/>
              </a:rPr>
              <a:t>Основные методы и средства защиты данных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185840" y="1268280"/>
          <a:ext cx="7921800" cy="504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5840" y="1268280"/>
                    <a:ext cx="7921800" cy="50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1171440" y="620640"/>
            <a:ext cx="7703280" cy="5902920"/>
            <a:chOff x="1171440" y="620640"/>
            <a:chExt cx="7703280" cy="5902920"/>
          </a:xfrm>
        </p:grpSpPr>
        <p:cxnSp>
          <p:nvCxnSpPr>
            <p:cNvPr id="160" name="_s363544"/>
            <p:cNvCxnSpPr>
              <a:stCxn id="161" idx="1"/>
              <a:endCxn id="162" idx="2"/>
            </p:cNvCxnSpPr>
            <p:nvPr/>
          </p:nvCxnSpPr>
          <p:spPr>
            <a:xfrm rot="10800000">
              <a:off x="3481560" y="2095560"/>
              <a:ext cx="770760" cy="3690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363542"/>
            <p:cNvCxnSpPr>
              <a:stCxn id="164" idx="1"/>
              <a:endCxn id="162" idx="2"/>
            </p:cNvCxnSpPr>
            <p:nvPr/>
          </p:nvCxnSpPr>
          <p:spPr>
            <a:xfrm rot="10800000">
              <a:off x="3481560" y="2095560"/>
              <a:ext cx="770760" cy="147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2" name="_s363538"/>
            <p:cNvSpPr/>
            <p:nvPr/>
          </p:nvSpPr>
          <p:spPr>
            <a:xfrm>
              <a:off x="1171440" y="620640"/>
              <a:ext cx="4622040" cy="147564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400" spc="-1" strike="noStrike">
                  <a:solidFill>
                    <a:srgbClr val="ffffff"/>
                  </a:solidFill>
                  <a:latin typeface="Arial"/>
                </a:rPr>
                <a:t>Криптографические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400" spc="-1" strike="noStrike">
                  <a:solidFill>
                    <a:srgbClr val="ffffff"/>
                  </a:solidFill>
                  <a:latin typeface="Arial"/>
                </a:rPr>
                <a:t>преобразования 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_s363539"/>
            <p:cNvSpPr/>
            <p:nvPr/>
          </p:nvSpPr>
          <p:spPr>
            <a:xfrm>
              <a:off x="4252680" y="2834280"/>
              <a:ext cx="4622040" cy="147564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800" spc="-1" strike="noStrike">
                  <a:solidFill>
                    <a:srgbClr val="ffffff"/>
                  </a:solidFill>
                  <a:latin typeface="Times New Roman"/>
                </a:rPr>
                <a:t>шифрование</a:t>
              </a:r>
              <a:r>
                <a:rPr b="0" lang="ru-RU" sz="3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_s363541"/>
            <p:cNvSpPr/>
            <p:nvPr/>
          </p:nvSpPr>
          <p:spPr>
            <a:xfrm>
              <a:off x="4252680" y="5047920"/>
              <a:ext cx="4622040" cy="147564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800" spc="-1" strike="noStrike">
                  <a:solidFill>
                    <a:srgbClr val="ffffff"/>
                  </a:solidFill>
                  <a:latin typeface="Times New Roman"/>
                </a:rPr>
                <a:t>кодирование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6T13:50:36Z</dcterms:created>
  <dc:creator>Olifer</dc:creator>
  <dc:description/>
  <dc:language>en-US</dc:language>
  <cp:lastModifiedBy>init</cp:lastModifiedBy>
  <dcterms:modified xsi:type="dcterms:W3CDTF">2009-07-31T06:17:07Z</dcterms:modified>
  <cp:revision>60</cp:revision>
  <dc:subject/>
  <dc:title>Заголовок слайда отсутствует</dc:title>
</cp:coreProperties>
</file>