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453-183D-4FCB-994F-8A1173AD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5FC-567D-488E-9213-4395353B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BB1-7F67-4218-BD1A-7FF06E71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1A9-315F-41CE-88AB-0B0B059C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0BE-A7E0-4C93-B22A-E2EB60A5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662-9C49-44E6-8927-26D29D79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C18-D3AC-448C-94E1-DCE46E0C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224-F3B6-49D4-8410-6128ADCB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91B-A7D2-4CD2-8EFD-8FFB54EB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104-1D31-4874-B902-E6F15BA9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B80-6589-4FAD-9F36-308FD157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199-3333-426E-ADD7-F80509D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B230-77D4-4F20-B6D7-6E40AE78F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 совет по теме: «Здоровьесберегающие технологии  в системе работы учителя и классного руководителя по развитию творческого потенциала школьника»  </a:t>
            </a: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доровьесберегающие образовательн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сохранения и укреп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[10]"/>
          <p:cNvPicPr/>
          <p:nvPr/>
        </p:nvPicPr>
        <p:blipFill>
          <a:blip r:embed="rId1"/>
          <a:stretch/>
        </p:blipFill>
        <p:spPr>
          <a:xfrm>
            <a:off x="152280" y="3809880"/>
            <a:ext cx="3581640" cy="286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ecoles[1]"/>
          <p:cNvPicPr/>
          <p:nvPr/>
        </p:nvPicPr>
        <p:blipFill>
          <a:blip r:embed="rId2"/>
          <a:stretch/>
        </p:blipFill>
        <p:spPr>
          <a:xfrm>
            <a:off x="5486400" y="3809880"/>
            <a:ext cx="3124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здоровьесберегающих образовательных технологий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еспечить школьнику возможность сохранения здоровья за период обучения в школе, сформировать у него необходимые знания, умения и навыки по здоровому образу жизни, научить использовать полученные знания в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вы основные принципы здоровьесберегающей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не нанеси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приоритета действенной заботы о здоровье учащихся 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триединого представления о здоровье ( физическое, нравственное и психическое здоровь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непрерывности и преемственности (ежедневно и на каждом уро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субъект-субъектного взаимоотношения с учащимися (индивидуальный подход к учащим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соответствия содержания и организаци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инцип активных методов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_Принцип позитивных воздействий (подкреплений) над негативными (запретами, порицания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Медико-гигиенические технологии (МГТ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Физкультурно-оздоровительные технологии (ФОТ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Экологические здоровьесберегающие технологии (ЭЗТ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 обеспечения безопасности жизнедеятельности (ТОБ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доровьесберегающи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доровьесберегающие образовательные технологии (ЗОТ) подразде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ганизационно-педагогические технологии (ОПТ)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сихолого-педагогические технологии (ПП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ебно-воспитательные технологии (УВ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ы, связанные с образовательным процесс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ём учебной нагру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исание уроков, распределение нагрузки по дн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сть урока должна быть не менее 60%, не более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видов учебной деятельности должно быть от 4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видов деятельности не более 10 минут, а в первой ступени 5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видов преподавания не менее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физической или эмоциональной разрядки, минимум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дование позы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«УРОК» Требования к уроку с позиции  здоровьесберегающ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I. «Перемена» Требования к перемене с позиции  здоровьесберегающ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II. «Домашнее задание» Требования к домашнему заданию  с позиции  здоровьесберегающ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:(озвучивают методисты-технолог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ем на уроке должен осуществляться контроль  осанки учащихся, проводиться смена видов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учитываться индивидуальный темп и стиль учебной деятельности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оздавать для учеников ситуации выбора учебных заданий и форм их вы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следить за освещенностью рабочего места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ь физмин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ть сроки изучения сложных тем, проведения контрольных работ с учителями-предметниками, работающими в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:(озвучивают методисты-технолог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м начальных классов и учителям-предметникам не задерживать учащихся после зво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тривание классных комнат на пере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перемен горячие завтр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спортзал или комнату для игр, по желанию установить теннисный стол, шахматы, шашки и други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лушивать тихую спокойную музы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ридоре установить скамейки для отдыха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овать проводить на перемене занятия, комплексные упражнения с учащимися, которые имеют определен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ЖЕНИЯ:(озвучивают методисты-технолог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лях устранения перегрузки учащихся при выполнении домашнего задания:руководствоваться временными рамками, установленными СанПИНом. С этой целью координировать объем домашнего задания с другими учителями-предмет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упреждать излишнее увеличение объема домашнего задания, которое может привести к перегрузке учащихся. С этой целью избегать:а) заданий, рассчитанных лишь на механическую работу, нетворческ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громоздких заданий, отнимающих много времени (Д/з не должны превышать 1/3 классной р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рассчитывать только на те ЗуНы, которыми ученик реально влад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не переоценивать способностей учащихся работать в ускоренном тем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не давать заданий, о порядке и приемах, выполнения которых у учащихся нет ясных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пиграф к педагогическому сове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итель может сделать для здоровья школьников гораздо больше, чем врач”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К. Смир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1308477005_denmedika55[1]"/>
          <p:cNvPicPr/>
          <p:nvPr/>
        </p:nvPicPr>
        <p:blipFill>
          <a:blip r:embed="rId1"/>
          <a:stretch/>
        </p:blipFill>
        <p:spPr>
          <a:xfrm>
            <a:off x="544824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тор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аш сын (дочь, внук) по семейным обстоятельствам вынужден поменять школу (например, в связи с переездом в другой район, город). Каким вашим требованиям должна соответствовать новая школа, чтобы вы поверили, что она работает в здоровьесберегающем режиме?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ть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и каждой группы составляют 10 самых главных, на их взгляд, дел администрации школы и педагогического коллектива, направленных на сохранение и укрепление здоровья школьников, учителей и персонала образовательного учре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ект решения педсовета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0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Активно внедрять в практику принципы здоровьесберегающей педагогики, рационально организовывать урок с учётом работоспособ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общешкольных и классных родительских собраниях провести целенаправленную работу с родителями по вопросам охраны и укрепления здоровья детей и профилактике курения, употребления наркотиков и спиртных напи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Учителям физкультуры создать программу для занятий с детьми с ослабленным здоровь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Регулярно проводить Дни Здоровья с целью повышения уровня знаний учащихся по вопросам здоровья, приобщения их к здоровому образу жизни (ответственные – классные руководители, руководители спортивных секц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роводить профилактическую работу среди учащихся с целью снижения заболеваемости и искоренения вредных привычек (ответственные – педагог-психолог, классные руководители, общественный инспектор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Утвердить комплексно-целевую программу школы «Здоровье и здоровый образ жизни 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50849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за здоровый образ жиз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Здоровьесберегающие технологии в школе\картинки\89d445c6b74ecb84c6612bfc1622ae2f.jpg"/>
          <p:cNvPicPr/>
          <p:nvPr/>
        </p:nvPicPr>
        <p:blipFill>
          <a:blip r:embed="rId1"/>
          <a:stretch/>
        </p:blipFill>
        <p:spPr>
          <a:xfrm>
            <a:off x="250920" y="1341360"/>
            <a:ext cx="7821360" cy="520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834840" cy="85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User\Desktop\Здоровьесберегающие технологии в школе\картинки\золотые человечки+спорт\onpape.com-10002701.jpg"/>
          <p:cNvPicPr/>
          <p:nvPr/>
        </p:nvPicPr>
        <p:blipFill>
          <a:blip r:embed="rId3"/>
          <a:srcRect l="23882" t="0" r="26705" b="0"/>
          <a:stretch/>
        </p:blipFill>
        <p:spPr>
          <a:xfrm>
            <a:off x="179280" y="108000"/>
            <a:ext cx="10162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 педсовета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пути и способы формирования культуры здоровья у участников образовательного процесса, определить резервы и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я работы в данном направлен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Задачи пед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знакомить педагогов школы с сущностью понятия «здоровье», «культура здоровья» и возможностями его влияния на образовательный процесс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зучить и проанализировать опыт работы школы по использованию здоровьесберегающих подходов к организации образовательного процесса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пределить возможности, условия и основные направления совершенствования педагогической деятельности по формированию культуры здоровья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жидаемый результ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основ для методологического и технологического  моделирования различных видов  деятельности, направленных на укрепление здоровья  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критического мышления всех участников образовательного процесса по отношению к знаниям, навыкам и практическим действиям, направленным на сохранение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 пед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. Вступитель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I. Информационно-теоретическ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ыступление заместителя директора школы по УР Минизановой Ф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Выступление классных руководителей  анализом тестирования учащихся шко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Выступления педагогов школы с представлением опыта работы по теме пед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доровьесбрегающие технологии на уроках физкультуры-  Кузьмин Р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Здоровьесбрегающие технологии на уроках начальной школы – Куртымов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Здоровьесбрегающие технологии на уроках музыки и изо – Мифтахутдинова К.К., Глинская Л.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Работа педагогов в группах для решения проб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44000"/>
            <a:ext cx="4176720" cy="141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Данные НИИ физиологии детей и подростко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040" y="1773360"/>
            <a:ext cx="4545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-ся 1 кл - физиологические отклонения в здоровье до 30%, уч-ся 10-11 кл - 80-85%. Состояние школьной тревожности - у 67% школьников, выражающееся в агрессивности, депрессии, деструктивных и других реакциях, за счет чего у школьников снижается сопротивляемость организма, страдает иммунная система, что обуславливает повышение заболеваемости сред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User\Desktop\Здоровьесберегающие технологии в школе\картинки\big_37270.jpg"/>
          <p:cNvPicPr/>
          <p:nvPr/>
        </p:nvPicPr>
        <p:blipFill>
          <a:blip r:embed="rId1"/>
          <a:stretch/>
        </p:blipFill>
        <p:spPr>
          <a:xfrm>
            <a:off x="4694400" y="4708440"/>
            <a:ext cx="4476600" cy="184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User\Desktop\Здоровьесберегающие технологии в школе\картинки\10468230_385608558270303_8822560275800849982_o.jpg"/>
          <p:cNvPicPr/>
          <p:nvPr/>
        </p:nvPicPr>
        <p:blipFill>
          <a:blip r:embed="rId2"/>
          <a:stretch/>
        </p:blipFill>
        <p:spPr>
          <a:xfrm>
            <a:off x="4667400" y="1557360"/>
            <a:ext cx="447660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User\Desktop\Здоровьесберегающие технологии в школе\image94674258.jpg"/>
          <p:cNvPicPr/>
          <p:nvPr/>
        </p:nvPicPr>
        <p:blipFill>
          <a:blip r:embed="rId3"/>
          <a:stretch/>
        </p:blipFill>
        <p:spPr>
          <a:xfrm>
            <a:off x="7796160" y="144360"/>
            <a:ext cx="1135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же условия и факторы школьной жизни оказывают разрушающее воздействие на здоровье д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— это инструктивно-программирующие 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фактор, губительный для здоровья, - это продолжительное воздействие на детей шко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ий фактор. Словесно-информационный — вербальный принцип построения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ёртый фактор — это чрезмерное увлечение методиками «интеллектуального развит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276720" y="6172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этим факторам можно добавить следу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Интенсификация обуч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Ухудшение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Факторы социального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Факторы экологического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09-25T19:00:05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