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807-523B-4155-8F7E-636BD8D2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ACB5-4517-4392-B124-6309EDBA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282-E447-412F-B210-71E52E8C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5F3-ACA6-4AA1-90FA-4DA52259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AAE-BD71-4090-A616-967D6564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4705-F4DA-4FA6-9DA8-06F4DDBD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C07-C4BA-4785-84A1-64DE7E3A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C84-80C1-4667-8F23-19DAE378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77C-BC89-4ABC-BBB5-4611071B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64B-9390-4689-A373-FB10A1D2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40A-27C0-4DDC-92B5-A61E39F1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DF38-B278-4B65-A7A6-419211F7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C2C0-E3A2-4BC4-AAC8-FAE442DAC1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ический совет по теме: «Здоровьесберегающие технологии  в системе работы учителя и классного руководителя по развитию творческого потенциала школьника»  </a:t>
            </a:r>
            <a:br>
              <a:rPr sz="2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Здоровьесберегающие образовательные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сохранения и укрепл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доровья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[10]"/>
          <p:cNvPicPr/>
          <p:nvPr/>
        </p:nvPicPr>
        <p:blipFill>
          <a:blip r:embed="rId1"/>
          <a:stretch/>
        </p:blipFill>
        <p:spPr>
          <a:xfrm>
            <a:off x="152280" y="3809880"/>
            <a:ext cx="3581640" cy="2865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ecoles[1]"/>
          <p:cNvPicPr/>
          <p:nvPr/>
        </p:nvPicPr>
        <p:blipFill>
          <a:blip r:embed="rId2"/>
          <a:stretch/>
        </p:blipFill>
        <p:spPr>
          <a:xfrm>
            <a:off x="5486400" y="3809880"/>
            <a:ext cx="31240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здоровьесберегающих образовательных технологий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еспечить школьнику возможность сохранения здоровья за период обучения в школе, сформировать у него необходимые знания, умения и навыки по здоровому образу жизни, научить использовать полученные знания в повседнев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вы основные принципы здоровьесберегающей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ринцип не нанеси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ринцип приоритета действенной заботы о здоровье учащихся и педаг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ринцип триединого представления о здоровье ( физическое, нравственное и психическое здоровь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ринцип непрерывности и преемственности (ежедневно и на каждом уро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ринцип субъект-субъектного взаимоотношения с учащимися (индивидуальный подход к учащимс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ринцип соответствия содержания и организации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ринцип активных методов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_Принцип позитивных воздействий (подкреплений) над негативными (запретами, порицаниям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Медико-гигиенические технологии (МГТ)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Физкультурно-оздоровительные технологии (ФОТ)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Экологические здоровьесберегающие технологии (ЭЗТ)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и обеспечения безопасности жизнедеятельности (ТОБ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доровьесберегающие образовательн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доровьесберегающие образовательные технологии (ЗОТ) подраздел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рганизационно-педагогические технологии (ОПТ)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сихолого-педагогические технологии (ПП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ебно-воспитательные технологии (УВ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ы, связанные с образовательным процесс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ём учебной нагруз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исание уроков, распределение нагрузки по дн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циональность урока должна быть не менее 60%, не более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о видов учебной деятельности должно быть от 4 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олжительность видов деятельности не более 10 минут, а в первой ступени 5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о видов преподавания не менее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чие физической или эмоциональной разрядки, минимум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едование позы уче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«УРОК» Требования к уроку с позиции  здоровьесберегающи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I. «Перемена» Требования к перемене с позиции  здоровьесберегающи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II. «Домашнее задание» Требования к домашнему заданию  с позиции  здоровьесберегающи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:(озвучивают методисты-технолог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ем на уроке должен осуществляться контроль  осанки учащихся, проводиться смена видов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ен учитываться индивидуальный темп и стиль учебной деятельности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создавать для учеников ситуации выбора учебных заданий и форм их выпол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следить за освещенностью рабочего места шк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ь физмин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овывать сроки изучения сложных тем, проведения контрольных работ с учителями-предметниками, работающими в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ОЖЕНИЯ:(озвучивают методисты-технолог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ям начальных классов и учителям-предметникам не задерживать учащихся после зво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тривание классных комнат на перем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перемен горячие завтр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ть спортзал или комнату для игр, по желанию установить теннисный стол, шахматы, шашки и други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лушивать тихую спокойную музы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ридоре установить скамейки для отдыха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овать проводить на перемене занятия, комплексные упражнения с учащимися, которые имеют определенные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ЛОЖЕНИЯ:(озвучивают методисты-технолог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лях устранения перегрузки учащихся при выполнении домашнего задания:руководствоваться временными рамками, установленными СанПИНом. С этой целью координировать объем домашнего задания с другими учителями-предмет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упреждать излишнее увеличение объема домашнего задания, которое может привести к перегрузке учащихся. С этой целью избегать:а) заданий, рассчитанных лишь на механическую работу, нетворческого х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громоздких заданий, отнимающих много времени (Д/з не должны превышать 1/3 классной рабо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рассчитывать только на те ЗуНы, которыми ученик реально владе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не переоценивать способностей учащихся работать в ускоренном тем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 не давать заданий, о порядке и приемах, выполнения которых у учащихся нет ясных представ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пиграф к педагогическому сове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читель может сделать для здоровья школьников гораздо больше, чем врач”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К. Смир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1308477005_denmedika55[1]"/>
          <p:cNvPicPr/>
          <p:nvPr/>
        </p:nvPicPr>
        <p:blipFill>
          <a:blip r:embed="rId1"/>
          <a:stretch/>
        </p:blipFill>
        <p:spPr>
          <a:xfrm>
            <a:off x="5448240" y="26668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торо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аш сын (дочь, внук) по семейным обстоятельствам вынужден поменять школу (например, в связи с переездом в другой район, город). Каким вашим требованиям должна соответствовать новая школа, чтобы вы поверили, что она работает в здоровьесберегающем режиме?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еть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ники каждой группы составляют 10 самых главных, на их взгляд, дел администрации школы и педагогического коллектива, направленных на сохранение и укрепление здоровья школьников, учителей и персонала образовательного учрежд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ект решения педсовета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0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Активно внедрять в практику принципы здоровьесберегающей педагогики, рационально организовывать урок с учётом работоспособност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 общешкольных и классных родительских собраниях провести целенаправленную работу с родителями по вопросам охраны и укрепления здоровья детей и профилактике курения, употребления наркотиков и спиртных напи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Учителям физкультуры создать программу для занятий с детьми с ослабленным здоровь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Регулярно проводить Дни Здоровья с целью повышения уровня знаний учащихся по вопросам здоровья, приобщения их к здоровому образу жизни (ответственные – классные руководители, руководители спортивных секц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Проводить профилактическую работу среди учащихся с целью снижения заболеваемости и искоренения вредных привычек (ответственные – педагог-психолог, классные руководители, общественный инспектор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Утвердить комплексно-целевую программу школы «Здоровье и здоровый образ жизни 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50849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за здоровый образ жиз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User\Desktop\Здоровьесберегающие технологии в школе\картинки\89d445c6b74ecb84c6612bfc1622ae2f.jpg"/>
          <p:cNvPicPr/>
          <p:nvPr/>
        </p:nvPicPr>
        <p:blipFill>
          <a:blip r:embed="rId1"/>
          <a:stretch/>
        </p:blipFill>
        <p:spPr>
          <a:xfrm>
            <a:off x="250920" y="1341360"/>
            <a:ext cx="7821360" cy="5203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8028000" y="189000"/>
            <a:ext cx="834840" cy="85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User\Desktop\Здоровьесберегающие технологии в школе\картинки\золотые человечки+спорт\onpape.com-10002701.jpg"/>
          <p:cNvPicPr/>
          <p:nvPr/>
        </p:nvPicPr>
        <p:blipFill>
          <a:blip r:embed="rId3"/>
          <a:srcRect l="23882" t="0" r="26705" b="0"/>
          <a:stretch/>
        </p:blipFill>
        <p:spPr>
          <a:xfrm>
            <a:off x="179280" y="108000"/>
            <a:ext cx="101628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Цель педсовета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6002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пути и способы формирования культуры здоровья у участников образовательного процесса, определить резервы и возм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енствования работы в данном направлени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Задачи педсо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ознакомить педагогов школы с сущностью понятия «здоровье», «культура здоровья» и возможностями его влияния на образовательный процесс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изучить и проанализировать опыт работы школы по использованию здоровьесберегающих подходов к организации образовательного процесса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определить возможности, условия и основные направления совершенствования педагогической деятельности по формированию культуры здоровья в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жидаемый результа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основ для методологического и технологического  моделирования различных видов  деятельности, направленных на укрепление здоровья  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критического мышления всех участников образовательного процесса по отношению к знаниям, навыкам и практическим действиям, направленным на сохранение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д педсо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. Вступительная ча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I. Информационно-теоретическая ча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Выступление заместителя директора школы по УР Минизановой Ф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Выступление классных руководителей  анализом тестирования учащихся школ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Выступления педагогов школы с представлением опыта работы по теме педсов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Здоровьесбрегающие технологии на уроках физкультуры-  Кузьмин Р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Здоровьесбрегающие технологии на уроках начальной школы – Куртымова Л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Здоровьесбрегающие технологии на уроках музыки и изо – Мифтахутдинова К.К., Глинская Л.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Работа педагогов в группах для решения пробл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44000"/>
            <a:ext cx="4176720" cy="1413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Данные НИИ физиологии детей и подростков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2040" y="1773360"/>
            <a:ext cx="4545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-ся 1 кл - физиологические отклонения в здоровье до 30%, уч-ся 10-11 кл - 80-85%. Состояние школьной тревожности - у 67% школьников, выражающееся в агрессивности, депрессии, деструктивных и других реакциях, за счет чего у школьников снижается сопротивляемость организма, страдает иммунная система, что обуславливает повышение заболеваемости среди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User\Desktop\Здоровьесберегающие технологии в школе\картинки\big_37270.jpg"/>
          <p:cNvPicPr/>
          <p:nvPr/>
        </p:nvPicPr>
        <p:blipFill>
          <a:blip r:embed="rId1"/>
          <a:stretch/>
        </p:blipFill>
        <p:spPr>
          <a:xfrm>
            <a:off x="4694400" y="4708440"/>
            <a:ext cx="4476600" cy="1841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User\Desktop\Здоровьесберегающие технологии в школе\картинки\10468230_385608558270303_8822560275800849982_o.jpg"/>
          <p:cNvPicPr/>
          <p:nvPr/>
        </p:nvPicPr>
        <p:blipFill>
          <a:blip r:embed="rId2"/>
          <a:stretch/>
        </p:blipFill>
        <p:spPr>
          <a:xfrm>
            <a:off x="4667400" y="1557360"/>
            <a:ext cx="447660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User\Desktop\Здоровьесберегающие технологии в школе\image94674258.jpg"/>
          <p:cNvPicPr/>
          <p:nvPr/>
        </p:nvPicPr>
        <p:blipFill>
          <a:blip r:embed="rId3"/>
          <a:stretch/>
        </p:blipFill>
        <p:spPr>
          <a:xfrm>
            <a:off x="7796160" y="144360"/>
            <a:ext cx="1135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же условия и факторы школьной жизни оказывают разрушающее воздействие на здоровье дет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— это инструктивно-программирующие метод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ой фактор, губительный для здоровья, - это продолжительное воздействие на детей школь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тий фактор. Словесно-информационный — вербальный принцип построения учеб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вёртый фактор — это чрезмерное увлечение методиками «интеллектуального развит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276720" y="6172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 этим факторам можно добавить следу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Интенсификация обуч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Ухудшение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Факторы социального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Факторы экологического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7-09-25T19:00:05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