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896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инистерство образования РМ</a:t>
            </a:r>
            <a:br>
              <a:rPr sz="4000"/>
            </a:b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77300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5800" indent="-3258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тфолио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згуновой Кристины Сергеев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я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БОУ «Атюрьевская средняя общеобразовательная школа №2»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тюрьевского муниципального рай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5508720" y="2133720"/>
            <a:ext cx="320040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5"/>
          <p:cNvSpPr/>
          <p:nvPr/>
        </p:nvSpPr>
        <p:spPr>
          <a:xfrm>
            <a:off x="714240" y="214200"/>
            <a:ext cx="80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частие в инновационной (экспериментальной)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Реализация программ углубленного изучения предмета и профильного обучени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1040" y="1906200"/>
            <a:ext cx="77900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Результаты участия обучающихся во Всероссийской предметной олимпиад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773360"/>
          <a:ext cx="8640720" cy="4773600"/>
        </p:xfrm>
        <a:graphic>
          <a:graphicData uri="http://schemas.openxmlformats.org/drawingml/2006/table">
            <a:tbl>
              <a:tblPr/>
              <a:tblGrid>
                <a:gridCol w="1352520"/>
                <a:gridCol w="1587600"/>
                <a:gridCol w="898200"/>
                <a:gridCol w="1725840"/>
                <a:gridCol w="2027160"/>
                <a:gridCol w="1049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е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кина Анаст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ё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ише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ё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ё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нк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ё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шк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ё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Результаты участия обучающихся во Всероссийской предметной олимпиад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3" name="Содержимое 6" descr="Рисунок7.jpg"/>
          <p:cNvPicPr/>
          <p:nvPr/>
        </p:nvPicPr>
        <p:blipFill>
          <a:blip r:embed="rId1"/>
          <a:stretch/>
        </p:blipFill>
        <p:spPr>
          <a:xfrm>
            <a:off x="1042920" y="2133720"/>
            <a:ext cx="3191040" cy="426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Рисунок8.jpg"/>
          <p:cNvPicPr/>
          <p:nvPr/>
        </p:nvPicPr>
        <p:blipFill>
          <a:blip r:embed="rId2"/>
          <a:stretch/>
        </p:blipFill>
        <p:spPr>
          <a:xfrm>
            <a:off x="4643280" y="2133720"/>
            <a:ext cx="32004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Результаты участия обучающихся во Всероссийской предметной олимпиад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Рисунок 6" descr="Рисунок9.jpg"/>
          <p:cNvPicPr/>
          <p:nvPr/>
        </p:nvPicPr>
        <p:blipFill>
          <a:blip r:embed="rId1"/>
          <a:stretch/>
        </p:blipFill>
        <p:spPr>
          <a:xfrm>
            <a:off x="1042920" y="2060640"/>
            <a:ext cx="3313080" cy="424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Рисунок10.jpg"/>
          <p:cNvPicPr/>
          <p:nvPr/>
        </p:nvPicPr>
        <p:blipFill>
          <a:blip r:embed="rId2"/>
          <a:stretch/>
        </p:blipFill>
        <p:spPr>
          <a:xfrm>
            <a:off x="4859280" y="2060640"/>
            <a:ext cx="320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Результаты участия обучающихся во Всероссийской предметной олимпиад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Содержимое 4" descr="Рисунок11.jpg"/>
          <p:cNvPicPr/>
          <p:nvPr/>
        </p:nvPicPr>
        <p:blipFill>
          <a:blip r:embed="rId1"/>
          <a:stretch/>
        </p:blipFill>
        <p:spPr>
          <a:xfrm>
            <a:off x="2967120" y="2077920"/>
            <a:ext cx="32004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Результаты участия обучающихся во Всероссийской предметной олимпиад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Содержимое 5" descr="Рисунок12.jpg"/>
          <p:cNvPicPr/>
          <p:nvPr/>
        </p:nvPicPr>
        <p:blipFill>
          <a:blip r:embed="rId1"/>
          <a:stretch/>
        </p:blipFill>
        <p:spPr>
          <a:xfrm>
            <a:off x="2556000" y="1989000"/>
            <a:ext cx="3294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714240" y="21420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000" y="177300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2200" indent="-322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йонная олимпиада правовых знан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хся 8-11 классов общеобразовательных школ Атюрьевского района 2015 года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– Николаева Людмила (8 кл.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– Вешкина Анастасия (11 кл.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– Бабина Алина (11 кл.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– Мелишева Светлана (11 к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й конкурс на лучший рисунок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Мы будущие избиратели!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учащихся общеобразовательных школ Атюрьевского района 2015 года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– Полькина Анастасия (9 кл.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– Вешкина Ирина (9 к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Рисунок 7" descr="Рисунок1.jpg"/>
          <p:cNvPicPr/>
          <p:nvPr/>
        </p:nvPicPr>
        <p:blipFill>
          <a:blip r:embed="rId1"/>
          <a:stretch/>
        </p:blipFill>
        <p:spPr>
          <a:xfrm>
            <a:off x="468360" y="3789360"/>
            <a:ext cx="215892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Рисунок2.jpg"/>
          <p:cNvPicPr/>
          <p:nvPr/>
        </p:nvPicPr>
        <p:blipFill>
          <a:blip r:embed="rId2"/>
          <a:stretch/>
        </p:blipFill>
        <p:spPr>
          <a:xfrm>
            <a:off x="2627280" y="2708280"/>
            <a:ext cx="2082960" cy="2854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Рисунок3.jpg"/>
          <p:cNvPicPr/>
          <p:nvPr/>
        </p:nvPicPr>
        <p:blipFill>
          <a:blip r:embed="rId3"/>
          <a:stretch/>
        </p:blipFill>
        <p:spPr>
          <a:xfrm>
            <a:off x="4788000" y="3789360"/>
            <a:ext cx="2066760" cy="3068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Рисунок4.jpg"/>
          <p:cNvPicPr/>
          <p:nvPr/>
        </p:nvPicPr>
        <p:blipFill>
          <a:blip r:embed="rId4"/>
          <a:stretch/>
        </p:blipFill>
        <p:spPr>
          <a:xfrm>
            <a:off x="6804000" y="2708280"/>
            <a:ext cx="2141640" cy="288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Рисунок 6" descr="Рисунок5.jpg"/>
          <p:cNvPicPr/>
          <p:nvPr/>
        </p:nvPicPr>
        <p:blipFill>
          <a:blip r:embed="rId1"/>
          <a:stretch/>
        </p:blipFill>
        <p:spPr>
          <a:xfrm>
            <a:off x="1692360" y="2060640"/>
            <a:ext cx="294300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Рисунок6.jpg"/>
          <p:cNvPicPr/>
          <p:nvPr/>
        </p:nvPicPr>
        <p:blipFill>
          <a:blip r:embed="rId2"/>
          <a:stretch/>
        </p:blipFill>
        <p:spPr>
          <a:xfrm>
            <a:off x="5054760" y="2060640"/>
            <a:ext cx="29876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896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ие сведения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714680"/>
            <a:ext cx="8640720" cy="469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Дата рожде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.02.199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Профессиональное </a:t>
            </a:r>
            <a:r>
              <a:rPr b="0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, ФГБОУ ВО «НИ МГУ ИМ. Н.П. Огарёва»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 по направлению подготовки «Истор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№ </a:t>
            </a: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диплом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дата вы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01 июля 2017 года.</a:t>
            </a: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 (по специальности)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Общий трудовой стаж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районной конференции учебно-исследовательских и проектных работ учащихся школ Атюрьевского муниципального района «Шаг в будущее» 2016 года - Вешкина Ирина, учащая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ий конкурс научных и творческих работ среди обучающихся общеобразовательных учреждений Республики Мордовия «Права детей – забота государства – 2016» в номинации «Лучшая аналитическая работа» – 3 место, Вешкина Ирина, учащаяся 10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Рисунок 5" descr="Рисунок7.jpg"/>
          <p:cNvPicPr/>
          <p:nvPr/>
        </p:nvPicPr>
        <p:blipFill>
          <a:blip r:embed="rId1"/>
          <a:stretch/>
        </p:blipFill>
        <p:spPr>
          <a:xfrm>
            <a:off x="1476360" y="2060640"/>
            <a:ext cx="321480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Рисунок8.jpg"/>
          <p:cNvPicPr/>
          <p:nvPr/>
        </p:nvPicPr>
        <p:blipFill>
          <a:blip r:embed="rId2"/>
          <a:stretch/>
        </p:blipFill>
        <p:spPr>
          <a:xfrm>
            <a:off x="4932360" y="2060640"/>
            <a:ext cx="3162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906200"/>
            <a:ext cx="82803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региональная научно исследовательской конференция школьников по практическому краеведению «Историко-культурное и природное наследие родного края» 2017 года, номинация «Из истории родного края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– Николаева Людмила, учащая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Содержимое 4" descr="Рисунок9.jpg"/>
          <p:cNvPicPr/>
          <p:nvPr/>
        </p:nvPicPr>
        <p:blipFill>
          <a:blip r:embed="rId1"/>
          <a:stretch/>
        </p:blipFill>
        <p:spPr>
          <a:xfrm>
            <a:off x="2967120" y="2036880"/>
            <a:ext cx="3200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1040" y="1906200"/>
            <a:ext cx="80773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региональный профориентационный конкурс творческих работа «Я выбираю Мордовию!» – 20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минация «10 причин почему я выбрала Мордовию»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, Миркина Алина, учащаяся 9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минация «Мордовия в истории моей семьи» – призёр -  Вешкина Ирина, учащаяся 10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региональный конкурс творческих работ «Лучший кроссворд о жизни и подвиге легендарного лётчика, Героя Советского Союза, уроженца Мордовии Михаила Петровича Девятаева» 2017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минация «За творческий подход» – призёр - Ерцкина Екатерина, учащаяся 9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зёр -  Малькина Ольга, учащаяся 10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1476360" y="1989000"/>
            <a:ext cx="3100320" cy="4267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Рисунок3.jpg"/>
          <p:cNvPicPr/>
          <p:nvPr/>
        </p:nvPicPr>
        <p:blipFill>
          <a:blip r:embed="rId2"/>
          <a:stretch/>
        </p:blipFill>
        <p:spPr>
          <a:xfrm>
            <a:off x="4788000" y="1989000"/>
            <a:ext cx="3171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404640"/>
            <a:ext cx="779004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Рисунок 6" descr="Рисунок4.jpg"/>
          <p:cNvPicPr/>
          <p:nvPr/>
        </p:nvPicPr>
        <p:blipFill>
          <a:blip r:embed="rId1"/>
          <a:stretch/>
        </p:blipFill>
        <p:spPr>
          <a:xfrm>
            <a:off x="1908000" y="2060640"/>
            <a:ext cx="2971800" cy="4267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Рисунок5.jpg"/>
          <p:cNvPicPr/>
          <p:nvPr/>
        </p:nvPicPr>
        <p:blipFill>
          <a:blip r:embed="rId2"/>
          <a:stretch/>
        </p:blipFill>
        <p:spPr>
          <a:xfrm>
            <a:off x="5003640" y="2060640"/>
            <a:ext cx="3029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818676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Наличие публикац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Рисунок 3" descr="Рисунок6.jpg"/>
          <p:cNvPicPr/>
          <p:nvPr/>
        </p:nvPicPr>
        <p:blipFill>
          <a:blip r:embed="rId1"/>
          <a:stretch/>
        </p:blipFill>
        <p:spPr>
          <a:xfrm>
            <a:off x="2916360" y="1916280"/>
            <a:ext cx="3244680" cy="441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Наличие авторских программ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1040" y="1906200"/>
            <a:ext cx="7790040" cy="4506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ступления на научно-практических конференциях, педагогических чтениях,  семинарах, секциях, методических объедине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2133720"/>
          <a:ext cx="8219880" cy="2736720"/>
        </p:xfrm>
        <a:graphic>
          <a:graphicData uri="http://schemas.openxmlformats.org/drawingml/2006/table">
            <a:tbl>
              <a:tblPr/>
              <a:tblGrid>
                <a:gridCol w="1652400"/>
                <a:gridCol w="1927440"/>
                <a:gridCol w="2141280"/>
                <a:gridCol w="24987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меро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меро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а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со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тюрьевская СОШ №2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с докладом: «Мотивация учения – основное условие успешного обучения (обмен опыто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39680"/>
            <a:ext cx="86756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Качество знаний по итогам внутреннего мониторинга учебных достижений обучающихся за межаттестационный период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276640"/>
          <a:ext cx="7993080" cy="3078000"/>
        </p:xfrm>
        <a:graphic>
          <a:graphicData uri="http://schemas.openxmlformats.org/drawingml/2006/table">
            <a:tbl>
              <a:tblPr/>
              <a:tblGrid>
                <a:gridCol w="973080"/>
                <a:gridCol w="1271520"/>
                <a:gridCol w="923760"/>
                <a:gridCol w="792360"/>
                <a:gridCol w="1008000"/>
                <a:gridCol w="1224000"/>
                <a:gridCol w="863640"/>
                <a:gridCol w="9367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15-201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39680"/>
            <a:ext cx="84963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ступления на научно-практических конференциях, педагогических чтениях,  семинарах, секциях, методических объединениях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Содержимое 5" descr="Рисунок7.jpg"/>
          <p:cNvPicPr/>
          <p:nvPr/>
        </p:nvPicPr>
        <p:blipFill>
          <a:blip r:embed="rId1"/>
          <a:stretch/>
        </p:blipFill>
        <p:spPr>
          <a:xfrm>
            <a:off x="3090960" y="2027160"/>
            <a:ext cx="295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ступления на научно-практических конференциях, педагогических чтениях,  семинарах, секциях, методических объединениях</a:t>
            </a:r>
            <a:br>
              <a:rPr sz="28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916280"/>
          <a:ext cx="8425080" cy="4846320"/>
        </p:xfrm>
        <a:graphic>
          <a:graphicData uri="http://schemas.openxmlformats.org/drawingml/2006/table">
            <a:tbl>
              <a:tblPr/>
              <a:tblGrid>
                <a:gridCol w="1389240"/>
                <a:gridCol w="2049480"/>
                <a:gridCol w="1901880"/>
                <a:gridCol w="3084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меро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меро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ас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РМО учителей истории и обществозн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с докладом: «Основные направления методологической компетентности современного преподавателя истории и обществознания. Содержание методологической компетентности преподавателя истории в современной России (1992-2015 годы). Требования к методологической компетенции преподавателя истории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39680"/>
            <a:ext cx="88200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ступления на научно-практических конференциях, педагогических чтениях,  семинарах, секциях, методических объединениях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Содержимое 5" descr="Рисунок8.jpg"/>
          <p:cNvPicPr/>
          <p:nvPr/>
        </p:nvPicPr>
        <p:blipFill>
          <a:blip r:embed="rId1"/>
          <a:stretch/>
        </p:blipFill>
        <p:spPr>
          <a:xfrm>
            <a:off x="3081240" y="2027160"/>
            <a:ext cx="2971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139320"/>
            <a:ext cx="777708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Проведение открытых уроков, мастер-классов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00280"/>
          <a:ext cx="8640720" cy="5267160"/>
        </p:xfrm>
        <a:graphic>
          <a:graphicData uri="http://schemas.openxmlformats.org/drawingml/2006/table">
            <a:tbl>
              <a:tblPr/>
              <a:tblGrid>
                <a:gridCol w="1455480"/>
                <a:gridCol w="3549600"/>
                <a:gridCol w="363564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2.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ое мероприятие «День Героев Отечества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2.2016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«Северная вой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02.2017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«Конституция Российской Федераци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2.2017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ое мероприятие «80-летие Атюрьевского райо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2017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классное мероприятие «1917 год в истории России. Февральская революц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5. 2017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-класс «Изготовление броши из Георгиевской ленты ко Дню Побед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Атюрьевская СОШ №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Проведение открытых уроков, мастер-классов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Содержимое 5" descr="Рисунок9.jpg"/>
          <p:cNvPicPr/>
          <p:nvPr/>
        </p:nvPicPr>
        <p:blipFill>
          <a:blip r:embed="rId1"/>
          <a:stretch/>
        </p:blipFill>
        <p:spPr>
          <a:xfrm>
            <a:off x="3008160" y="2027160"/>
            <a:ext cx="3114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280" y="2133720"/>
            <a:ext cx="828036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жюри на муниципальном этапе Всероссийской предметной олимпиады по истории, обществознанию и праву в 2015-2016, 2016-2017 учебном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Содержимое 4" descr="Рисунок10.jpg"/>
          <p:cNvPicPr/>
          <p:nvPr/>
        </p:nvPicPr>
        <p:blipFill>
          <a:blip r:embed="rId1"/>
          <a:stretch/>
        </p:blipFill>
        <p:spPr>
          <a:xfrm>
            <a:off x="3100320" y="2027160"/>
            <a:ext cx="29336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.Общественная активность педагога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участие в работе экспертных комиссий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работа в составе жюри конкурсов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депутатская, профсоюзная деятельность и т.д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206064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енное лицо избирательного объединения «Мордовского регионального отделения Всероссийской политической партии «Единая Росс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местного отделения Всероссийской общественной организации «Молодая Гвардия Единой России» Республики Мордо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молодёжного образовательного форума «Инерка-2017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.Общественная активность педагога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участие в работе экспертных комиссий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работа в составе жюри конкурсов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депутатская, профсоюзная деятельность и т.д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Содержимое 3" descr="JI71H5PmIAY.jpg"/>
          <p:cNvPicPr/>
          <p:nvPr/>
        </p:nvPicPr>
        <p:blipFill>
          <a:blip r:embed="rId1"/>
          <a:stretch/>
        </p:blipFill>
        <p:spPr>
          <a:xfrm>
            <a:off x="1576440" y="2060640"/>
            <a:ext cx="6027840" cy="4137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Содержимое 3" descr="lNg1y1-uc_M.jpg"/>
          <p:cNvPicPr/>
          <p:nvPr/>
        </p:nvPicPr>
        <p:blipFill>
          <a:blip r:embed="rId1"/>
          <a:stretch/>
        </p:blipFill>
        <p:spPr>
          <a:xfrm>
            <a:off x="2411280" y="1844640"/>
            <a:ext cx="4321440" cy="30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Рисунок 9" descr="aazKVwOT9no.jpg"/>
          <p:cNvPicPr/>
          <p:nvPr/>
        </p:nvPicPr>
        <p:blipFill>
          <a:blip r:embed="rId2"/>
          <a:stretch/>
        </p:blipFill>
        <p:spPr>
          <a:xfrm>
            <a:off x="179280" y="3933720"/>
            <a:ext cx="3529080" cy="2708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0" descr="c5z7nZk0Hs4.jpg"/>
          <p:cNvPicPr/>
          <p:nvPr/>
        </p:nvPicPr>
        <p:blipFill>
          <a:blip r:embed="rId3"/>
          <a:stretch/>
        </p:blipFill>
        <p:spPr>
          <a:xfrm>
            <a:off x="5219640" y="3933720"/>
            <a:ext cx="367344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39680"/>
            <a:ext cx="86756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Качество знаний по итогам внутреннего мониторинга учебных достижений обучающихся за межаттестационный период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0" name="Содержимое 9" descr="Gc6FTEuNHQQ.jpg"/>
          <p:cNvPicPr/>
          <p:nvPr/>
        </p:nvPicPr>
        <p:blipFill>
          <a:blip r:embed="rId1"/>
          <a:stretch/>
        </p:blipFill>
        <p:spPr>
          <a:xfrm>
            <a:off x="2987640" y="2276640"/>
            <a:ext cx="278136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Содержимое 6" descr="VI_FqZuTLeM.jpg"/>
          <p:cNvPicPr/>
          <p:nvPr/>
        </p:nvPicPr>
        <p:blipFill>
          <a:blip r:embed="rId1"/>
          <a:stretch/>
        </p:blipFill>
        <p:spPr>
          <a:xfrm>
            <a:off x="468360" y="2349360"/>
            <a:ext cx="479880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7qMua287QM.jpg"/>
          <p:cNvPicPr/>
          <p:nvPr/>
        </p:nvPicPr>
        <p:blipFill>
          <a:blip r:embed="rId2"/>
          <a:stretch/>
        </p:blipFill>
        <p:spPr>
          <a:xfrm>
            <a:off x="5508720" y="1989000"/>
            <a:ext cx="3003480" cy="40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Рисунок 5" descr="Районный митинг 9 мая.JPG"/>
          <p:cNvPicPr/>
          <p:nvPr/>
        </p:nvPicPr>
        <p:blipFill>
          <a:blip r:embed="rId1"/>
          <a:stretch/>
        </p:blipFill>
        <p:spPr>
          <a:xfrm>
            <a:off x="2722680" y="1773360"/>
            <a:ext cx="35780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Рисунок 10" descr="hwdaftj-fbY.jpg"/>
          <p:cNvPicPr/>
          <p:nvPr/>
        </p:nvPicPr>
        <p:blipFill>
          <a:blip r:embed="rId2"/>
          <a:stretch/>
        </p:blipFill>
        <p:spPr>
          <a:xfrm>
            <a:off x="192240" y="3500280"/>
            <a:ext cx="265104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PQkTZpGJr0g.jpg"/>
          <p:cNvPicPr/>
          <p:nvPr/>
        </p:nvPicPr>
        <p:blipFill>
          <a:blip r:embed="rId3"/>
          <a:stretch/>
        </p:blipFill>
        <p:spPr>
          <a:xfrm>
            <a:off x="6243480" y="3716280"/>
            <a:ext cx="290052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Общественная активность педагог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стие в работе экспертных комисси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 в составе жюри конкурсов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путатская, профсоюзная деятельность и т.д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Рисунок 6" descr="mIDl9w5xxfk.jpg"/>
          <p:cNvPicPr/>
          <p:nvPr/>
        </p:nvPicPr>
        <p:blipFill>
          <a:blip r:embed="rId1"/>
          <a:stretch/>
        </p:blipFill>
        <p:spPr>
          <a:xfrm>
            <a:off x="2627280" y="1844640"/>
            <a:ext cx="3457440" cy="49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-7920"/>
            <a:ext cx="775008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Участие педагога в профессиональных конкурсах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4"/>
          <p:cNvSpPr/>
          <p:nvPr/>
        </p:nvSpPr>
        <p:spPr>
          <a:xfrm>
            <a:off x="971640" y="404640"/>
            <a:ext cx="77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Награды и поощрения  в межаттестационный пери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628640"/>
            <a:ext cx="874872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ственное письмо Главы Республики Мордовия В.Д. Вол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ственное письмо ректора Мордовского гуманитарного института Н.И. Лушенковой и председателя Государственного комитета РМ по делам юстиции М.П. Денисоваза консультативную и методическую помощь ученице в подготовк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ственное письмо Министерства образования 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победителя межрегионального профориентационного конкурса творческих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ыбираю Мордови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63452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Награды и поощрения  в межаттестационный период 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Рисунок 6" descr="Рисунок5.jpg"/>
          <p:cNvPicPr/>
          <p:nvPr/>
        </p:nvPicPr>
        <p:blipFill>
          <a:blip r:embed="rId1"/>
          <a:stretch/>
        </p:blipFill>
        <p:spPr>
          <a:xfrm>
            <a:off x="1258920" y="1844640"/>
            <a:ext cx="3149640" cy="4321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Рисунок6.jpg"/>
          <p:cNvPicPr/>
          <p:nvPr/>
        </p:nvPicPr>
        <p:blipFill>
          <a:blip r:embed="rId2"/>
          <a:stretch/>
        </p:blipFill>
        <p:spPr>
          <a:xfrm>
            <a:off x="4788000" y="1844640"/>
            <a:ext cx="3066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Награды и поощрения  в межаттестационный период </a:t>
            </a:r>
            <a:br>
              <a:rPr sz="28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Рисунок 5" descr="Рисунок3.jpg"/>
          <p:cNvPicPr/>
          <p:nvPr/>
        </p:nvPicPr>
        <p:blipFill>
          <a:blip r:embed="rId1"/>
          <a:stretch/>
        </p:blipFill>
        <p:spPr>
          <a:xfrm>
            <a:off x="1332000" y="198900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Рисунок4.jpg"/>
          <p:cNvPicPr/>
          <p:nvPr/>
        </p:nvPicPr>
        <p:blipFill>
          <a:blip r:embed="rId2"/>
          <a:stretch/>
        </p:blipFill>
        <p:spPr>
          <a:xfrm>
            <a:off x="4643280" y="2060640"/>
            <a:ext cx="311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Повышение квалификации, профессиональная переподготовка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2205000"/>
            <a:ext cx="76345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6.11.15 г. по 27.11.15 г. в ГБОУДПО(ПК)С МРИО «Новые подходы к преподаванию истории в условиях принятия Концепции нового учебно-методического комплекса по отечественной истор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Повышение квалификации, профессиональная переподготовка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2987640" y="2205000"/>
            <a:ext cx="30290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Повышение квалификации, профессиональная переподготовка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Содержимое 5" descr="Рисунок1.jpg"/>
          <p:cNvPicPr/>
          <p:nvPr/>
        </p:nvPicPr>
        <p:blipFill>
          <a:blip r:embed="rId1"/>
          <a:stretch/>
        </p:blipFill>
        <p:spPr>
          <a:xfrm>
            <a:off x="2195640" y="2565360"/>
            <a:ext cx="475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8472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чество знаний по итогам внешнего мониторинга учебных достижений обучающихся за межаттестационный период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2421000"/>
          <a:ext cx="7790040" cy="1493640"/>
        </p:xfrm>
        <a:graphic>
          <a:graphicData uri="http://schemas.openxmlformats.org/drawingml/2006/table">
            <a:tbl>
              <a:tblPr/>
              <a:tblGrid>
                <a:gridCol w="1557360"/>
                <a:gridCol w="1559160"/>
                <a:gridCol w="1557360"/>
                <a:gridCol w="1558800"/>
                <a:gridCol w="1557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а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solidFill>
                      <a:srgbClr val="3333c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 «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8472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чество знаний по итогам внешнего мониторинга учебных достижений обучающихся за межаттестационный период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" name="Содержимое 6" descr="Рисунок2.jpg"/>
          <p:cNvPicPr/>
          <p:nvPr/>
        </p:nvPicPr>
        <p:blipFill>
          <a:blip r:embed="rId1"/>
          <a:stretch/>
        </p:blipFill>
        <p:spPr>
          <a:xfrm>
            <a:off x="1222200" y="2276640"/>
            <a:ext cx="2759400" cy="3960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Рисунок3.jpg"/>
          <p:cNvPicPr/>
          <p:nvPr/>
        </p:nvPicPr>
        <p:blipFill>
          <a:blip r:embed="rId2"/>
          <a:stretch/>
        </p:blipFill>
        <p:spPr>
          <a:xfrm>
            <a:off x="4703760" y="2205000"/>
            <a:ext cx="2806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именение  информационно-коммуникационных технолог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19280" y="5300280"/>
            <a:ext cx="3241800" cy="111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08520" indent="-3085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частие в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Интернет-пор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https://infourok.ru/user/mozgunova-kristina-sergeevna/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00280"/>
            <a:ext cx="4392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9000"/>
          </a:bodyPr>
          <a:p>
            <a:pPr marL="202320" indent="-2023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частие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Интернет-пор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Социальная сеть работников</a:t>
            </a:r>
            <a:br>
              <a:rPr sz="1800"/>
            </a:br>
            <a:r>
              <a:rPr b="1" lang="ru-RU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образования nsportal.r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https://nsportal.ru/mozgunova-kristina-sergee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684360" y="2421000"/>
            <a:ext cx="3767040" cy="2657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Рисунок2.jpg"/>
          <p:cNvPicPr/>
          <p:nvPr/>
        </p:nvPicPr>
        <p:blipFill>
          <a:blip r:embed="rId2"/>
          <a:stretch/>
        </p:blipFill>
        <p:spPr>
          <a:xfrm>
            <a:off x="4716360" y="2421000"/>
            <a:ext cx="379260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именение информационно-коммуникационных технолог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Содержимое 8" descr="Рисунок3.jpg"/>
          <p:cNvPicPr/>
          <p:nvPr/>
        </p:nvPicPr>
        <p:blipFill>
          <a:blip r:embed="rId1"/>
          <a:stretch/>
        </p:blipFill>
        <p:spPr>
          <a:xfrm>
            <a:off x="2340000" y="18446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Рисунок4.jpg"/>
          <p:cNvPicPr/>
          <p:nvPr/>
        </p:nvPicPr>
        <p:blipFill>
          <a:blip r:embed="rId2"/>
          <a:stretch/>
        </p:blipFill>
        <p:spPr>
          <a:xfrm>
            <a:off x="611280" y="4292640"/>
            <a:ext cx="383040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Рисунок5.jpg"/>
          <p:cNvPicPr/>
          <p:nvPr/>
        </p:nvPicPr>
        <p:blipFill>
          <a:blip r:embed="rId3"/>
          <a:stretch/>
        </p:blipFill>
        <p:spPr>
          <a:xfrm>
            <a:off x="5003640" y="4398840"/>
            <a:ext cx="367200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4120"/>
            <a:ext cx="79408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именение  информационно-коммуникационных технолог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" name="Рисунок 3" descr="Рисунок6.jpg"/>
          <p:cNvPicPr/>
          <p:nvPr/>
        </p:nvPicPr>
        <p:blipFill>
          <a:blip r:embed="rId1"/>
          <a:stretch/>
        </p:blipFill>
        <p:spPr>
          <a:xfrm>
            <a:off x="2916360" y="2205000"/>
            <a:ext cx="2809800" cy="376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7-09-25T17:53:05Z</dcterms:modified>
  <cp:revision>222</cp:revision>
  <dc:subject/>
  <dc:title>Роль ПНПО в развитии (модернизации) образования страны</dc:title>
</cp:coreProperties>
</file>